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59EB-9C86-4903-91CE-33F23E37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474F-C870-4B6D-BD49-34AA7935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CE27-246C-425C-8272-A19C0C5B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76CE-5A5B-4509-8127-C1C000E3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972D-5F0B-44F0-8EE2-2F23AC24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C968-0E4B-467E-9EE2-F1211EEB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2F78-DD81-4E8E-8DC8-0992C131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2F2D-3740-43C0-883F-B9C09687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3AC6-2140-4B16-AF10-6713E59C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FDEE-E446-4BE9-B833-E563190F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EDDC-A730-4FE1-B87A-6926114A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8153-3736-492B-B2D6-868F9AC9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221C-71B3-4EE3-A88D-983D2FBA4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03640" y="404640"/>
            <a:ext cx="5616360" cy="590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4480" y="2924280"/>
            <a:ext cx="27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Funciones quí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7"/>
            </a:gs>
            <a:gs pos="100000">
              <a:srgbClr val="dadac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750960" y="698400"/>
          <a:ext cx="7643880" cy="54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960" y="698400"/>
                    <a:ext cx="7643880" cy="54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7"/>
            </a:gs>
            <a:gs pos="100000">
              <a:srgbClr val="c9c9b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48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b2b6"/>
            </a:gs>
            <a:gs pos="50000">
              <a:srgbClr val="dfd9de"/>
            </a:gs>
            <a:gs pos="100000">
              <a:srgbClr val="b6b2b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103640" cy="5329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54360" y="404640"/>
            <a:ext cx="39052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95280" y="446040"/>
          <a:ext cx="8353440" cy="596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46040"/>
                    <a:ext cx="8353440" cy="59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9de"/>
            </a:gs>
            <a:gs pos="100000">
              <a:srgbClr val="edea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916360" y="907920"/>
            <a:ext cx="5976720" cy="3384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708360" y="4292640"/>
            <a:ext cx="3672000" cy="1512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24000" y="907920"/>
            <a:ext cx="25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0c4"/>
            </a:gs>
            <a:gs pos="50000">
              <a:srgbClr val="dfd9de"/>
            </a:gs>
            <a:gs pos="100000">
              <a:srgbClr val="c5c0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788000" y="0"/>
            <a:ext cx="36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eee2"/>
            </a:gs>
            <a:gs pos="50000">
              <a:srgbClr val="eddbc1"/>
            </a:gs>
            <a:gs pos="100000">
              <a:srgbClr val="f6eee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2471760" y="71280"/>
            <a:ext cx="420048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9de"/>
            </a:gs>
            <a:gs pos="50000">
              <a:srgbClr val="a29da1"/>
            </a:gs>
            <a:gs pos="100000">
              <a:srgbClr val="dfd9d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4978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35280" y="620640"/>
            <a:ext cx="5184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11760" y="3807000"/>
            <a:ext cx="4405320" cy="2143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27040" y="1844640"/>
            <a:ext cx="3252960" cy="4118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33336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LAS BIOMOLÉCULAS TIENEN TAMAÑO Y ESTRUCTURA TRIDIMENSIONAL QUE RESULTA DE SU ESQUELETO Y GRUP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6985080" cy="3456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4120" y="655560"/>
            <a:ext cx="76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LA  MAYORÍA DE LAS BIOMOLÉCULAS SON ASIMÉT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4680000" cy="3311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24000" y="4005360"/>
            <a:ext cx="4535280" cy="2016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03640" y="1335240"/>
            <a:ext cx="392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99"/>
                </a:solidFill>
                <a:uFillTx/>
                <a:latin typeface="Georgia"/>
              </a:rPr>
              <a:t>Configuración</a:t>
            </a:r>
            <a:r>
              <a:rPr b="1" lang="es-ES" sz="2400" spc="-1" strike="noStrike">
                <a:solidFill>
                  <a:srgbClr val="333399"/>
                </a:solidFill>
                <a:latin typeface="Georgia"/>
              </a:rPr>
              <a:t>: Arreglo espacial de una molécula orgánica que depende de la presencia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eorgia"/>
              </a:rPr>
              <a:t>1- enlaces do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eorgia"/>
              </a:rPr>
              <a:t>2-centros quir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4969080" cy="4753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8000" y="479736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99"/>
                </a:solidFill>
                <a:uFillTx/>
                <a:latin typeface="Georgia"/>
              </a:rPr>
              <a:t>Conformación</a:t>
            </a:r>
            <a:r>
              <a:rPr b="1" lang="es-ES" sz="2400" spc="-1" strike="noStrike">
                <a:solidFill>
                  <a:srgbClr val="333399"/>
                </a:solidFill>
                <a:latin typeface="Georgia"/>
              </a:rPr>
              <a:t>: Arreglo espacial de grupos sustituyentes que estan libres para asumir diferente posición en el espacio, debido a la rotación libre de enl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250920" y="206280"/>
            <a:ext cx="8713800" cy="6319440"/>
            <a:chOff x="250920" y="206280"/>
            <a:chExt cx="8713800" cy="6319440"/>
          </a:xfrm>
        </p:grpSpPr>
        <p:sp>
          <p:nvSpPr>
            <p:cNvPr id="56" name=""/>
            <p:cNvSpPr/>
            <p:nvPr/>
          </p:nvSpPr>
          <p:spPr>
            <a:xfrm>
              <a:off x="781560" y="206280"/>
              <a:ext cx="755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ENERGÍA DE DISOCIACIÓN DE ENLACES COMUNES EN BIOMOLÉCULA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14600" y="615960"/>
              <a:ext cx="1924200" cy="54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Energí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enlace (kJ/mo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6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8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5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4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3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9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72000" y="4718160"/>
              <a:ext cx="2376360" cy="180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o coval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de hidróg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de Van der Wa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hidrof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ión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0920" y="549360"/>
              <a:ext cx="85690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5280" y="1268280"/>
              <a:ext cx="856944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5280" y="6524640"/>
              <a:ext cx="856944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00720" y="555480"/>
              <a:ext cx="238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Energí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enlace (kJ/mol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03960" y="3429000"/>
              <a:ext cx="5648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8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9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68320" y="543888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4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1028880" y="692280"/>
              <a:ext cx="1133280" cy="5468040"/>
              <a:chOff x="1028880" y="692280"/>
              <a:chExt cx="1133280" cy="5468040"/>
            </a:xfrm>
          </p:grpSpPr>
          <p:sp>
            <p:nvSpPr>
              <p:cNvPr id="66" name=""/>
              <p:cNvSpPr/>
              <p:nvPr/>
            </p:nvSpPr>
            <p:spPr>
              <a:xfrm>
                <a:off x="1028880" y="692280"/>
                <a:ext cx="1133280" cy="546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ENLA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333399"/>
                    </a:solidFill>
                    <a:uFillTx/>
                    <a:latin typeface="Georgia"/>
                  </a:rPr>
                  <a:t>Simp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O       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H       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P       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  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N       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 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  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S        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 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  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N      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S        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55760" y="2060640"/>
                <a:ext cx="287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355760" y="2421000"/>
                <a:ext cx="287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84120" y="278136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284120" y="314172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355760" y="3500280"/>
                <a:ext cx="287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284120" y="378936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284120" y="422100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84120" y="450864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84120" y="486900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355760" y="5229360"/>
                <a:ext cx="287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55760" y="5589720"/>
                <a:ext cx="287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284120" y="595008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5108760" y="692280"/>
              <a:ext cx="1133280" cy="2616840"/>
              <a:chOff x="5108760" y="692280"/>
              <a:chExt cx="1133280" cy="2616840"/>
            </a:xfrm>
          </p:grpSpPr>
          <p:sp>
            <p:nvSpPr>
              <p:cNvPr id="80" name=""/>
              <p:cNvSpPr/>
              <p:nvPr/>
            </p:nvSpPr>
            <p:spPr>
              <a:xfrm>
                <a:off x="5108760" y="692280"/>
                <a:ext cx="1133280" cy="26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ENLA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333399"/>
                    </a:solidFill>
                    <a:uFillTx/>
                    <a:latin typeface="Georgia"/>
                  </a:rPr>
                  <a:t>Dob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P    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" name=""/>
              <p:cNvGrpSpPr/>
              <p:nvPr/>
            </p:nvGrpSpPr>
            <p:grpSpPr>
              <a:xfrm>
                <a:off x="5327640" y="1989000"/>
                <a:ext cx="252360" cy="1150920"/>
                <a:chOff x="5327640" y="1989000"/>
                <a:chExt cx="252360" cy="1150920"/>
              </a:xfrm>
            </p:grpSpPr>
            <p:grpSp>
              <p:nvGrpSpPr>
                <p:cNvPr id="82" name=""/>
                <p:cNvGrpSpPr/>
                <p:nvPr/>
              </p:nvGrpSpPr>
              <p:grpSpPr>
                <a:xfrm>
                  <a:off x="5327640" y="2349360"/>
                  <a:ext cx="252360" cy="71640"/>
                  <a:chOff x="5327640" y="2349360"/>
                  <a:chExt cx="252360" cy="71640"/>
                </a:xfrm>
              </p:grpSpPr>
              <p:sp>
                <p:nvSpPr>
                  <p:cNvPr id="83" name=""/>
                  <p:cNvSpPr/>
                  <p:nvPr/>
                </p:nvSpPr>
                <p:spPr>
                  <a:xfrm>
                    <a:off x="5327640" y="242100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5327640" y="234936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" name=""/>
                <p:cNvGrpSpPr/>
                <p:nvPr/>
              </p:nvGrpSpPr>
              <p:grpSpPr>
                <a:xfrm>
                  <a:off x="5327640" y="2708280"/>
                  <a:ext cx="252360" cy="71280"/>
                  <a:chOff x="5327640" y="2708280"/>
                  <a:chExt cx="252360" cy="71280"/>
                </a:xfrm>
              </p:grpSpPr>
              <p:sp>
                <p:nvSpPr>
                  <p:cNvPr id="86" name=""/>
                  <p:cNvSpPr/>
                  <p:nvPr/>
                </p:nvSpPr>
                <p:spPr>
                  <a:xfrm>
                    <a:off x="5327640" y="277956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5327640" y="270828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5327640" y="3068640"/>
                  <a:ext cx="252360" cy="71280"/>
                  <a:chOff x="5327640" y="3068640"/>
                  <a:chExt cx="252360" cy="7128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5327640" y="313992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5327640" y="306864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5327640" y="1989000"/>
                  <a:ext cx="252360" cy="71640"/>
                  <a:chOff x="5327640" y="1989000"/>
                  <a:chExt cx="252360" cy="7164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5327640" y="206064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5327640" y="198900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4" name=""/>
            <p:cNvGrpSpPr/>
            <p:nvPr/>
          </p:nvGrpSpPr>
          <p:grpSpPr>
            <a:xfrm>
              <a:off x="5157360" y="3500280"/>
              <a:ext cx="1000800" cy="1081080"/>
              <a:chOff x="5157360" y="3500280"/>
              <a:chExt cx="1000800" cy="1081080"/>
            </a:xfrm>
          </p:grpSpPr>
          <p:sp>
            <p:nvSpPr>
              <p:cNvPr id="95" name=""/>
              <p:cNvSpPr/>
              <p:nvPr/>
            </p:nvSpPr>
            <p:spPr>
              <a:xfrm>
                <a:off x="5157360" y="3500280"/>
                <a:ext cx="100080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333399"/>
                    </a:solidFill>
                    <a:uFillTx/>
                    <a:latin typeface="Georgia"/>
                  </a:rPr>
                  <a:t>Trip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N     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5472000" y="4292640"/>
                <a:ext cx="252360" cy="142920"/>
                <a:chOff x="5472000" y="4292640"/>
                <a:chExt cx="252360" cy="1429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472000" y="443556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472000" y="436392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472000" y="429264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5435640" y="3933720"/>
                <a:ext cx="252360" cy="142920"/>
                <a:chOff x="5435640" y="3933720"/>
                <a:chExt cx="252360" cy="1429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435640" y="407664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435640" y="400500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435640" y="393372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" name=""/>
            <p:cNvSpPr/>
            <p:nvPr/>
          </p:nvSpPr>
          <p:spPr>
            <a:xfrm>
              <a:off x="6588000" y="4941720"/>
              <a:ext cx="360360" cy="144000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91280" y="1844640"/>
              <a:ext cx="792360" cy="14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7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6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6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5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30200" y="189000"/>
            <a:ext cx="83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Radios de Van der Waals y covalente (enlace simple), radio de algunos elemento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4760" y="10224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Ele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2920" y="81756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Radio de van der Waals     (n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35640" y="8175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Radio Covalente para enlace simple(n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54080" y="1379520"/>
            <a:ext cx="2764440" cy="4210200"/>
            <a:chOff x="1054080" y="1379520"/>
            <a:chExt cx="2764440" cy="4210200"/>
          </a:xfrm>
        </p:grpSpPr>
        <p:sp>
          <p:nvSpPr>
            <p:cNvPr id="111" name=""/>
            <p:cNvSpPr/>
            <p:nvPr/>
          </p:nvSpPr>
          <p:spPr>
            <a:xfrm>
              <a:off x="1054080" y="1380960"/>
              <a:ext cx="45360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86720" y="1379520"/>
              <a:ext cx="63180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429600" y="1379520"/>
            <a:ext cx="759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1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817560"/>
            <a:ext cx="856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484280"/>
            <a:ext cx="856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5661000"/>
            <a:ext cx="856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5722920"/>
            <a:ext cx="871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99"/>
                </a:solidFill>
                <a:latin typeface="Arial"/>
              </a:rPr>
              <a:t>El radio de van der Waals para cada elemento es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± dos veces el radio covalente.  La distancia entre núcleos en una interacción de van der Waals o un enlace covalente es ±  igual a la suma de los valores para los dos átomos. Así, la longitud de un enlace simple C-C es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± 0.077 + 0.077 = 0.154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18:54:16Z</dcterms:created>
  <dc:creator>INTA</dc:creator>
  <dc:description/>
  <dc:language>en-US</dc:language>
  <cp:lastModifiedBy>INTA</cp:lastModifiedBy>
  <dcterms:modified xsi:type="dcterms:W3CDTF">2007-07-25T17:33:45Z</dcterms:modified>
  <cp:revision>24</cp:revision>
  <dc:subject/>
  <dc:title>Diapositiva 1</dc:title>
</cp:coreProperties>
</file>