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53F-BB1E-4C05-916F-05730675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0EF-A60D-4B10-BBFF-5EDE9B6C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1E7-4EDA-45D0-A6F9-B6A9E8C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2E3-FD42-4025-95C9-4D290E1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A5A-2C88-4CBB-BA57-2E97381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868-C1AB-4232-A7DE-9829F9DE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E8C-39B4-4109-9E3D-CD07A4EE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B53-EE9A-47D0-94A1-C8C2E80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92B-487D-4648-93F5-0EC63E50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B37-346C-488E-AE31-F935137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7ED-1A0C-46EB-A93D-3F251A1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70A-8BF7-4A03-B3AC-2012E382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DD5-643F-4871-A837-2B35E52FA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32416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1080" y="62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3047760" cy="228600"/>
          </a:xfrm>
          <a:prstGeom prst="rect">
            <a:avLst/>
          </a:prstGeom>
          <a:solidFill>
            <a:srgbClr val="e3da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112536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incipal de las moléculas d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hesión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olucradas en interacciones déb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heterodímer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oce 17 tip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8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distintas combinaciones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élulas expresan distintas 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tas integrinas se unen a distintos ligand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943600"/>
            <a:ext cx="32004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e de la matriz extracelular (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5320" y="4322880"/>
            <a:ext cx="363600" cy="108252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38320" y="4309920"/>
            <a:ext cx="363600" cy="108288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06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48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40120" y="4919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1000" y="4995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1520" y="4441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2280" y="3657600"/>
            <a:ext cx="3530520" cy="252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gand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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C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itron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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inógeno, C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:    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ones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4520" y="260280"/>
            <a:ext cx="610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ÓLECULAS DE ADHESION CE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0000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47920" y="5638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5338800"/>
            <a:ext cx="2514600" cy="231840"/>
            <a:chOff x="1295280" y="5338800"/>
            <a:chExt cx="2514600" cy="231840"/>
          </a:xfrm>
        </p:grpSpPr>
        <p:sp>
          <p:nvSpPr>
            <p:cNvPr id="302" name=""/>
            <p:cNvSpPr/>
            <p:nvPr/>
          </p:nvSpPr>
          <p:spPr>
            <a:xfrm>
              <a:off x="1295280" y="5410080"/>
              <a:ext cx="2514600" cy="15264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5428800"/>
              <a:ext cx="1587600" cy="1270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899200">
              <a:off x="2925360" y="5428440"/>
              <a:ext cx="357120" cy="5220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5424120"/>
              <a:ext cx="2359440" cy="12492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4160" y="5421960"/>
              <a:ext cx="2297160" cy="12960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3062160"/>
          <a:ext cx="6858000" cy="4572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8360" y="0"/>
          <a:ext cx="5398920" cy="3645000"/>
        </p:xfrm>
        <a:graphic>
          <a:graphicData uri="http://schemas.openxmlformats.org/drawingml/2006/table">
            <a:tbl>
              <a:tblPr/>
              <a:tblGrid>
                <a:gridCol w="5398920"/>
              </a:tblGrid>
              <a:tr h="364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yoría de las integri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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n la matriz extracelular a los filamentos de actina en unas estructuras llamadas contactos foc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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 la matriz extracelular a l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, en estruct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das hemidesmoso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más adelan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676440" cy="1524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0" t="0" r="37565" b="0"/>
          <a:stretch/>
        </p:blipFill>
        <p:spPr>
          <a:xfrm>
            <a:off x="1295280" y="3429000"/>
            <a:ext cx="3657600" cy="1628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2987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9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2120" y="527040"/>
            <a:ext cx="7619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570960"/>
            <a:ext cx="7488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l de las integrin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más de su papel en las interacciones célula - matriz extracelular, las integrinas participan en transducción de señales hacia el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mbién desde el interior hacia el extra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ón de integrinas a componentes de la matriz  lleva a la agrupación de la integrinas en “parches” en la membrana plasmática. Esto favorece la asociación entre proteínas citoplasmáticas con en dominio intracelular de las integrinas, que gatilla cambios intracelulares, por ej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en la activación de quinasas o fosfa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pH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concentración intracelular de [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 que regulan procesos intra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en respuesta inmune, coagulación, diferenciación celular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50800" y="765000"/>
            <a:ext cx="3311640" cy="4824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62520" y="1368360"/>
            <a:ext cx="428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eñalización asociada a integ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fundamental en control de la supervivencia o muerte 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Cuando una célula epitelial pierde contacto con su lámina basal, se inicia el proceso de 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69080" cy="465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1640" y="476280"/>
            <a:ext cx="71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s integ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 control de las interacciones célula-célula en la progresión tum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25520" y="235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riz extracelular  (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0" y="1197000"/>
            <a:ext cx="80611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ibuye a las propiedades estructurales/mecánicas del tejid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cia a la t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ortiguación y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 en comunicación inter e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a la disponibilidad y concentración de moléculas solubles que actúan co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ñales para proliferación, diferenciación y otras funcion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 sustrato para movilización celular (organogénes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omponentes de la ME varía entre tipos celul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olág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Fibron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Cover Figure"/>
          <p:cNvPicPr/>
          <p:nvPr/>
        </p:nvPicPr>
        <p:blipFill>
          <a:blip r:embed="rId1"/>
          <a:srcRect l="0" t="52400" r="0" b="0"/>
          <a:stretch/>
        </p:blipFill>
        <p:spPr>
          <a:xfrm>
            <a:off x="5724360" y="1700280"/>
            <a:ext cx="1737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228600"/>
            <a:ext cx="78487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lico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isten 16 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os más abundantes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(piel , hueso, lig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(cartíla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(músculo, vasos sanguín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imeriza formado fibras o redes insolu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istencia a la t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06864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básica: triple 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8080" y="6049800"/>
            <a:ext cx="501840" cy="567000"/>
          </a:xfrm>
          <a:custGeom>
            <a:avLst/>
            <a:gdLst/>
            <a:ahLst/>
            <a:rect l="l" t="t" r="r" b="b"/>
            <a:pathLst>
              <a:path w="316" h="357">
                <a:moveTo>
                  <a:pt x="136" y="0"/>
                </a:moveTo>
                <a:cubicBezTo>
                  <a:pt x="109" y="7"/>
                  <a:pt x="84" y="23"/>
                  <a:pt x="60" y="36"/>
                </a:cubicBezTo>
                <a:cubicBezTo>
                  <a:pt x="52" y="41"/>
                  <a:pt x="44" y="47"/>
                  <a:pt x="36" y="52"/>
                </a:cubicBezTo>
                <a:cubicBezTo>
                  <a:pt x="32" y="55"/>
                  <a:pt x="24" y="60"/>
                  <a:pt x="24" y="60"/>
                </a:cubicBezTo>
                <a:cubicBezTo>
                  <a:pt x="14" y="75"/>
                  <a:pt x="8" y="87"/>
                  <a:pt x="4" y="104"/>
                </a:cubicBezTo>
                <a:cubicBezTo>
                  <a:pt x="6" y="157"/>
                  <a:pt x="0" y="228"/>
                  <a:pt x="32" y="276"/>
                </a:cubicBezTo>
                <a:cubicBezTo>
                  <a:pt x="40" y="307"/>
                  <a:pt x="81" y="330"/>
                  <a:pt x="112" y="336"/>
                </a:cubicBezTo>
                <a:cubicBezTo>
                  <a:pt x="130" y="348"/>
                  <a:pt x="151" y="352"/>
                  <a:pt x="172" y="356"/>
                </a:cubicBezTo>
                <a:cubicBezTo>
                  <a:pt x="199" y="355"/>
                  <a:pt x="226" y="357"/>
                  <a:pt x="252" y="352"/>
                </a:cubicBezTo>
                <a:cubicBezTo>
                  <a:pt x="261" y="350"/>
                  <a:pt x="269" y="330"/>
                  <a:pt x="272" y="324"/>
                </a:cubicBezTo>
                <a:cubicBezTo>
                  <a:pt x="288" y="296"/>
                  <a:pt x="298" y="267"/>
                  <a:pt x="308" y="236"/>
                </a:cubicBezTo>
                <a:cubicBezTo>
                  <a:pt x="306" y="200"/>
                  <a:pt x="316" y="160"/>
                  <a:pt x="300" y="128"/>
                </a:cubicBezTo>
                <a:cubicBezTo>
                  <a:pt x="287" y="103"/>
                  <a:pt x="242" y="81"/>
                  <a:pt x="216" y="72"/>
                </a:cubicBezTo>
                <a:cubicBezTo>
                  <a:pt x="206" y="57"/>
                  <a:pt x="191" y="42"/>
                  <a:pt x="176" y="32"/>
                </a:cubicBezTo>
                <a:cubicBezTo>
                  <a:pt x="166" y="18"/>
                  <a:pt x="155" y="0"/>
                  <a:pt x="136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64000" y="2905920"/>
            <a:ext cx="3887640" cy="451800"/>
            <a:chOff x="3564000" y="2905920"/>
            <a:chExt cx="3887640" cy="451800"/>
          </a:xfrm>
        </p:grpSpPr>
        <p:sp>
          <p:nvSpPr>
            <p:cNvPr id="328" name=""/>
            <p:cNvSpPr/>
            <p:nvPr/>
          </p:nvSpPr>
          <p:spPr>
            <a:xfrm>
              <a:off x="3564000" y="2997360"/>
              <a:ext cx="3887640" cy="36036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041640"/>
              <a:ext cx="2454480" cy="2998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899200">
              <a:off x="6084360" y="3041640"/>
              <a:ext cx="552600" cy="12384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3030480"/>
              <a:ext cx="3647880" cy="29520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4120" y="3025800"/>
              <a:ext cx="3551400" cy="30636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5400000">
            <a:off x="5508000" y="2923920"/>
            <a:ext cx="432000" cy="2737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4149720"/>
            <a:ext cx="8964720" cy="1511280"/>
            <a:chOff x="179280" y="4149720"/>
            <a:chExt cx="8964720" cy="1511280"/>
          </a:xfrm>
        </p:grpSpPr>
        <p:sp>
          <p:nvSpPr>
            <p:cNvPr id="335" name=""/>
            <p:cNvSpPr/>
            <p:nvPr/>
          </p:nvSpPr>
          <p:spPr>
            <a:xfrm>
              <a:off x="468360" y="4149720"/>
              <a:ext cx="33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ibrillas (50- 200 nm de diámet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4653000"/>
              <a:ext cx="8640720" cy="1008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>
                    <a:alpha val="36078"/>
                  </a:srgbClr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62240" y="4797360"/>
              <a:ext cx="29635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3720" y="4797360"/>
              <a:ext cx="2963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240" y="5157720"/>
              <a:ext cx="296388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7000" y="5157720"/>
              <a:ext cx="296352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5516640"/>
              <a:ext cx="263016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3200" y="5516640"/>
              <a:ext cx="2666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8480" y="5516640"/>
              <a:ext cx="29653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672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9542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4520" y="5227560"/>
              <a:ext cx="763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2040" y="5227560"/>
              <a:ext cx="7596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400440" y="522756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920" y="522756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9920" y="5157720"/>
              <a:ext cx="2224080" cy="698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14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68960" y="487044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280" y="4653000"/>
              <a:ext cx="324000" cy="1008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4720" y="4653000"/>
              <a:ext cx="179280" cy="1008000"/>
            </a:xfrm>
            <a:prstGeom prst="flowChartDelay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328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58560" y="371628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ena polipept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7640" y="3789360"/>
            <a:ext cx="6337440" cy="1224000"/>
          </a:xfrm>
          <a:prstGeom prst="parallelogram">
            <a:avLst>
              <a:gd name="adj" fmla="val 129441"/>
            </a:avLst>
          </a:prstGeom>
          <a:solidFill>
            <a:srgbClr val="c6c9bb"/>
          </a:solidFill>
          <a:ln w="57240">
            <a:solidFill>
              <a:srgbClr val="c6c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609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 de tip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1484280"/>
            <a:ext cx="100800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95640" y="1341360"/>
            <a:ext cx="936720" cy="432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1197000"/>
            <a:ext cx="216000" cy="217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79736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479736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19640" y="4581360"/>
            <a:ext cx="43164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65300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10920" y="4437000"/>
            <a:ext cx="2890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19640" y="4653000"/>
            <a:ext cx="0" cy="4316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436572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400536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11640" y="4221000"/>
            <a:ext cx="36036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22100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64000" y="386028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4437000"/>
            <a:ext cx="5763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43700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08720" y="4653000"/>
            <a:ext cx="7128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4076640"/>
            <a:ext cx="863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80000" y="386064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860640"/>
            <a:ext cx="5050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94172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67280" y="4076640"/>
            <a:ext cx="43344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564000" y="4076280"/>
            <a:ext cx="50328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64000" y="3789000"/>
            <a:ext cx="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400536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443700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386064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5084640"/>
            <a:ext cx="7272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508464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3789360"/>
            <a:ext cx="73080" cy="7128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371628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u hoja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724280"/>
            <a:ext cx="73080" cy="1152720"/>
          </a:xfrm>
          <a:prstGeom prst="downArrow">
            <a:avLst>
              <a:gd name="adj1" fmla="val 50000"/>
              <a:gd name="adj2" fmla="val 39433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602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C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3270000">
            <a:off x="3287880" y="3602520"/>
            <a:ext cx="1152720" cy="71640"/>
          </a:xfrm>
          <a:prstGeom prst="leftArrow">
            <a:avLst>
              <a:gd name="adj1" fmla="val 50000"/>
              <a:gd name="adj2" fmla="val 4022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2852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2060640"/>
            <a:ext cx="58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tipo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stituye la estructura básica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341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1413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2600" y="380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i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3235320"/>
            <a:ext cx="228600" cy="2895480"/>
          </a:xfrm>
          <a:prstGeom prst="rect">
            <a:avLst/>
          </a:prstGeom>
          <a:solidFill>
            <a:srgbClr val="7dc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149720"/>
            <a:ext cx="152640" cy="129528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986360" y="3654000"/>
            <a:ext cx="152280" cy="83844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0120" y="4149720"/>
            <a:ext cx="152280" cy="12952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767040" y="3654000"/>
            <a:ext cx="152280" cy="8380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2400" y="42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2400" y="5369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907920"/>
            <a:ext cx="916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soluble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trímero: Cadena A, cadena B y cade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isoformas de las cadenas, las que combinadas generan divers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onente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iene afinidad por receptores de superficie celular y componente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38720" y="293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7680" y="392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4480" y="3921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1520" y="825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67320" y="59022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01400">
            <a:off x="5271840" y="436860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542200">
            <a:off x="4643280" y="460692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424600">
            <a:off x="2356560" y="45306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45000">
            <a:off x="3541680" y="449244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57680" y="5749920"/>
            <a:ext cx="16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hepará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396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484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0160" y="508464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5880" y="4352760"/>
            <a:ext cx="24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colágen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1680" y="5056200"/>
            <a:ext cx="83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03480" y="506880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integ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87760" y="49417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colágeno  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1560" y="457200"/>
            <a:ext cx="2824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rganismos multi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7160" y="2565360"/>
            <a:ext cx="292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505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6160" y="1341360"/>
            <a:ext cx="4712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ción de los tejidos (interacción fís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2421000"/>
            <a:ext cx="7759440" cy="2160000"/>
            <a:chOff x="539640" y="2421000"/>
            <a:chExt cx="7759440" cy="2160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39640" y="2421000"/>
              <a:ext cx="7759440" cy="20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6920" y="3860640"/>
              <a:ext cx="792360" cy="72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31640" y="3931920"/>
              <a:ext cx="50328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486900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funcional entr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amiento integrado     (Comunicación inter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83480" y="476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MINA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209680"/>
            <a:ext cx="1676520" cy="381240"/>
          </a:xfrm>
          <a:prstGeom prst="parallelogram">
            <a:avLst>
              <a:gd name="adj" fmla="val 109939"/>
            </a:avLst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133720" y="1523880"/>
            <a:ext cx="3624480" cy="1427040"/>
            <a:chOff x="2133720" y="1523880"/>
            <a:chExt cx="3624480" cy="1427040"/>
          </a:xfrm>
        </p:grpSpPr>
        <p:sp>
          <p:nvSpPr>
            <p:cNvPr id="436" name=""/>
            <p:cNvSpPr/>
            <p:nvPr/>
          </p:nvSpPr>
          <p:spPr>
            <a:xfrm>
              <a:off x="2286000" y="1752480"/>
              <a:ext cx="3352680" cy="1066680"/>
            </a:xfrm>
            <a:prstGeom prst="parallelogram">
              <a:avLst>
                <a:gd name="adj" fmla="val 122784"/>
              </a:avLst>
            </a:prstGeom>
            <a:solidFill>
              <a:srgbClr val="bb8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0360" y="2670120"/>
              <a:ext cx="2032200" cy="84240"/>
            </a:xfrm>
            <a:custGeom>
              <a:avLst/>
              <a:gdLst/>
              <a:ahLst/>
              <a:rect l="l" t="t" r="r" b="b"/>
              <a:pathLst>
                <a:path w="1280" h="53">
                  <a:moveTo>
                    <a:pt x="0" y="30"/>
                  </a:moveTo>
                  <a:cubicBezTo>
                    <a:pt x="25" y="12"/>
                    <a:pt x="32" y="8"/>
                    <a:pt x="64" y="14"/>
                  </a:cubicBezTo>
                  <a:cubicBezTo>
                    <a:pt x="101" y="10"/>
                    <a:pt x="128" y="7"/>
                    <a:pt x="165" y="19"/>
                  </a:cubicBezTo>
                  <a:cubicBezTo>
                    <a:pt x="212" y="15"/>
                    <a:pt x="228" y="17"/>
                    <a:pt x="266" y="3"/>
                  </a:cubicBezTo>
                  <a:cubicBezTo>
                    <a:pt x="278" y="5"/>
                    <a:pt x="291" y="6"/>
                    <a:pt x="304" y="9"/>
                  </a:cubicBezTo>
                  <a:cubicBezTo>
                    <a:pt x="314" y="11"/>
                    <a:pt x="336" y="19"/>
                    <a:pt x="336" y="19"/>
                  </a:cubicBezTo>
                  <a:cubicBezTo>
                    <a:pt x="364" y="17"/>
                    <a:pt x="392" y="18"/>
                    <a:pt x="421" y="14"/>
                  </a:cubicBezTo>
                  <a:cubicBezTo>
                    <a:pt x="427" y="12"/>
                    <a:pt x="430" y="3"/>
                    <a:pt x="437" y="3"/>
                  </a:cubicBezTo>
                  <a:cubicBezTo>
                    <a:pt x="451" y="0"/>
                    <a:pt x="491" y="19"/>
                    <a:pt x="506" y="25"/>
                  </a:cubicBezTo>
                  <a:cubicBezTo>
                    <a:pt x="537" y="20"/>
                    <a:pt x="566" y="14"/>
                    <a:pt x="597" y="9"/>
                  </a:cubicBezTo>
                  <a:cubicBezTo>
                    <a:pt x="624" y="13"/>
                    <a:pt x="638" y="14"/>
                    <a:pt x="661" y="30"/>
                  </a:cubicBezTo>
                  <a:cubicBezTo>
                    <a:pt x="682" y="26"/>
                    <a:pt x="699" y="20"/>
                    <a:pt x="720" y="14"/>
                  </a:cubicBezTo>
                  <a:cubicBezTo>
                    <a:pt x="768" y="15"/>
                    <a:pt x="816" y="16"/>
                    <a:pt x="864" y="19"/>
                  </a:cubicBezTo>
                  <a:cubicBezTo>
                    <a:pt x="874" y="19"/>
                    <a:pt x="885" y="26"/>
                    <a:pt x="896" y="25"/>
                  </a:cubicBezTo>
                  <a:cubicBezTo>
                    <a:pt x="910" y="23"/>
                    <a:pt x="944" y="6"/>
                    <a:pt x="960" y="3"/>
                  </a:cubicBezTo>
                  <a:cubicBezTo>
                    <a:pt x="1006" y="20"/>
                    <a:pt x="984" y="19"/>
                    <a:pt x="1056" y="14"/>
                  </a:cubicBezTo>
                  <a:cubicBezTo>
                    <a:pt x="1072" y="10"/>
                    <a:pt x="1087" y="1"/>
                    <a:pt x="1104" y="3"/>
                  </a:cubicBezTo>
                  <a:cubicBezTo>
                    <a:pt x="1116" y="4"/>
                    <a:pt x="1141" y="14"/>
                    <a:pt x="1141" y="14"/>
                  </a:cubicBezTo>
                  <a:cubicBezTo>
                    <a:pt x="1168" y="53"/>
                    <a:pt x="1201" y="33"/>
                    <a:pt x="1253" y="30"/>
                  </a:cubicBezTo>
                  <a:cubicBezTo>
                    <a:pt x="1272" y="16"/>
                    <a:pt x="1262" y="19"/>
                    <a:pt x="128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09880" y="1688760"/>
              <a:ext cx="1948320" cy="1259280"/>
              <a:chOff x="3809880" y="1688760"/>
              <a:chExt cx="1948320" cy="1259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9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707800">
                <a:off x="3825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448400">
                <a:off x="3893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666880" y="2425680"/>
              <a:ext cx="2108160" cy="83880"/>
              <a:chOff x="2666880" y="2425680"/>
              <a:chExt cx="2108160" cy="8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666880" y="2438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2425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971800" y="2209680"/>
              <a:ext cx="2108160" cy="83880"/>
              <a:chOff x="2971800" y="2209680"/>
              <a:chExt cx="2108160" cy="83880"/>
            </a:xfrm>
          </p:grpSpPr>
          <p:sp>
            <p:nvSpPr>
              <p:cNvPr id="446" name=""/>
              <p:cNvSpPr/>
              <p:nvPr/>
            </p:nvSpPr>
            <p:spPr>
              <a:xfrm>
                <a:off x="2971800" y="2222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8120" y="2209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124080" y="2057400"/>
              <a:ext cx="2108160" cy="83880"/>
              <a:chOff x="3124080" y="2057400"/>
              <a:chExt cx="2108160" cy="83880"/>
            </a:xfrm>
          </p:grpSpPr>
          <p:sp>
            <p:nvSpPr>
              <p:cNvPr id="449" name=""/>
              <p:cNvSpPr/>
              <p:nvPr/>
            </p:nvSpPr>
            <p:spPr>
              <a:xfrm>
                <a:off x="3124080" y="207000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205740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2680" y="1904760"/>
              <a:ext cx="2108160" cy="83880"/>
              <a:chOff x="3352680" y="1904760"/>
              <a:chExt cx="2108160" cy="8388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191736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190476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05320" y="1752480"/>
              <a:ext cx="2108160" cy="83880"/>
              <a:chOff x="3505320" y="1752480"/>
              <a:chExt cx="2108160" cy="838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05320" y="17650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640" y="17524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62320" y="2666880"/>
              <a:ext cx="2108160" cy="83880"/>
              <a:chOff x="2362320" y="2666880"/>
              <a:chExt cx="2108160" cy="8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362320" y="26794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38640" y="26668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429000" y="1688760"/>
              <a:ext cx="1948320" cy="1259280"/>
              <a:chOff x="3429000" y="1688760"/>
              <a:chExt cx="1948320" cy="1259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42900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707800">
                <a:off x="344448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448400">
                <a:off x="351288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124080" y="1612800"/>
              <a:ext cx="1948320" cy="1259280"/>
              <a:chOff x="3124080" y="1612800"/>
              <a:chExt cx="1948320" cy="1259280"/>
            </a:xfrm>
          </p:grpSpPr>
          <p:sp>
            <p:nvSpPr>
              <p:cNvPr id="465" name=""/>
              <p:cNvSpPr/>
              <p:nvPr/>
            </p:nvSpPr>
            <p:spPr>
              <a:xfrm>
                <a:off x="312408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8707800">
                <a:off x="313956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448400">
                <a:off x="320796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62320" y="1688760"/>
              <a:ext cx="1948320" cy="1259280"/>
              <a:chOff x="2362320" y="1688760"/>
              <a:chExt cx="1948320" cy="125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8707800">
                <a:off x="237780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448400">
                <a:off x="244620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666880" y="1688760"/>
              <a:ext cx="1948320" cy="1259280"/>
              <a:chOff x="2666880" y="1688760"/>
              <a:chExt cx="1948320" cy="1259280"/>
            </a:xfrm>
          </p:grpSpPr>
          <p:sp>
            <p:nvSpPr>
              <p:cNvPr id="473" name=""/>
              <p:cNvSpPr/>
              <p:nvPr/>
            </p:nvSpPr>
            <p:spPr>
              <a:xfrm>
                <a:off x="2666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707800">
                <a:off x="2682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448400">
                <a:off x="2750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133720" y="1612800"/>
              <a:ext cx="1948320" cy="1259280"/>
              <a:chOff x="2133720" y="1612800"/>
              <a:chExt cx="1948320" cy="1259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13372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707800">
                <a:off x="214920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448400">
                <a:off x="221760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6668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52388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20574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18288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232884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9880" y="20574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0400" y="18288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4800" y="22860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1752480"/>
              <a:ext cx="24912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1676160"/>
              <a:ext cx="24948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880" y="16002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2590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198108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20574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25146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228600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198108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2590560"/>
              <a:ext cx="16020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18288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743200" y="304920"/>
            <a:ext cx="524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ructura básica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ma de colágeno IV y lamin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 Componente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lecan (proteoglica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ctina (proteína multiadhesiva de 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00640" y="3247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15024" t="9876" r="31564" b="20032"/>
          <a:stretch/>
        </p:blipFill>
        <p:spPr>
          <a:xfrm>
            <a:off x="5791320" y="1447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943600" y="2743200"/>
            <a:ext cx="1981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960" y="3251160"/>
            <a:ext cx="57736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pel de la lámina basal en distintos tej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itelios        filtro de las moléculas que pasan hacia la san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oteliales   filtro de las moléculas que pasan desde la sangre a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úscu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ecta células adyacentes, manteniendo  la integridad del tej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33520" y="4343400"/>
            <a:ext cx="7759440" cy="2160720"/>
            <a:chOff x="533520" y="4343400"/>
            <a:chExt cx="7759440" cy="216072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33520" y="4343400"/>
              <a:ext cx="77594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20800" y="5783400"/>
              <a:ext cx="79236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25520" y="5854320"/>
              <a:ext cx="50328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863720" y="257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48000" cy="3409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95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73760" y="588960"/>
            <a:ext cx="7264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onec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lu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 células a matrices extracelulares que contengan colágeno (I, II, III y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rededor de 20 monómeros (procesamiento alternativo de m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38080" y="3048120"/>
            <a:ext cx="6324840" cy="152280"/>
            <a:chOff x="838080" y="3048120"/>
            <a:chExt cx="6324840" cy="152280"/>
          </a:xfrm>
        </p:grpSpPr>
        <p:sp>
          <p:nvSpPr>
            <p:cNvPr id="515" name=""/>
            <p:cNvSpPr/>
            <p:nvPr/>
          </p:nvSpPr>
          <p:spPr>
            <a:xfrm>
              <a:off x="838080" y="30481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14600" y="30481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30481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38080" y="3505320"/>
            <a:ext cx="6324840" cy="152280"/>
            <a:chOff x="838080" y="3505320"/>
            <a:chExt cx="6324840" cy="152280"/>
          </a:xfrm>
        </p:grpSpPr>
        <p:sp>
          <p:nvSpPr>
            <p:cNvPr id="522" name=""/>
            <p:cNvSpPr/>
            <p:nvPr/>
          </p:nvSpPr>
          <p:spPr>
            <a:xfrm>
              <a:off x="838080" y="35053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4600" y="35053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2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35053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120" y="4373640"/>
            <a:ext cx="160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b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43120" y="4495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integ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2280" y="41148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colá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43120" y="4114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360" y="441972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fib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809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73392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7339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5084640"/>
            <a:ext cx="63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 la forma de las células y la organización del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l migración de células y desarrollo embr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87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í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s grandes, hidartadas, vis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rcionan amortig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nentes de la ME y de la superficie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constituidos por polímeros de disacáridos (glicosaminoglicanos 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) unidos a una 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1720" y="3500280"/>
            <a:ext cx="644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últipl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 penden de una proteí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ás comu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alurón (ácido hialurón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parán sulfato (hep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rm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atán o keratán 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en contener resíduos sulfato que confieren cargas neg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87880" y="3255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040" y="2133720"/>
            <a:ext cx="26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 -100 unidades del ti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1320" y="16286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92360" y="1700280"/>
            <a:ext cx="3517920" cy="1887120"/>
            <a:chOff x="3492360" y="1700280"/>
            <a:chExt cx="3517920" cy="1887120"/>
          </a:xfrm>
        </p:grpSpPr>
        <p:sp>
          <p:nvSpPr>
            <p:cNvPr id="550" name=""/>
            <p:cNvSpPr/>
            <p:nvPr/>
          </p:nvSpPr>
          <p:spPr>
            <a:xfrm>
              <a:off x="3851280" y="213228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203544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47840" y="22640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64000" y="2708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38560" y="18828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4320" y="195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1280" y="2347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0920" y="270828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492360" y="2924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76920" y="234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4120" y="211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2340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926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400800" y="2187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400440" y="218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4360" y="21877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2416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5880" y="2492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7760" y="2851200"/>
              <a:ext cx="58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728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036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328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000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0000" y="2635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8600" y="17002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CH2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92360" y="2132280"/>
              <a:ext cx="4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0720" y="306720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5640" y="241956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588000" y="688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77080" y="3213000"/>
            <a:ext cx="1079640" cy="1224000"/>
            <a:chOff x="6877080" y="3213000"/>
            <a:chExt cx="1079640" cy="1224000"/>
          </a:xfrm>
        </p:grpSpPr>
        <p:sp>
          <p:nvSpPr>
            <p:cNvPr id="580" name=""/>
            <p:cNvSpPr/>
            <p:nvPr/>
          </p:nvSpPr>
          <p:spPr>
            <a:xfrm>
              <a:off x="7380360" y="3213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2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1640" y="3357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164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51640" y="3502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6000" y="350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51640" y="35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51640" y="3645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3718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51640" y="3789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77080" y="378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37180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7080" y="3645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7708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708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7080" y="386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516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1640" y="400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51640" y="3933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51640" y="386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770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77080" y="41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70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1640" y="4365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16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16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4149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7080" y="4365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770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00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19280" y="3716280"/>
            <a:ext cx="1079640" cy="1224000"/>
            <a:chOff x="1619280" y="3716280"/>
            <a:chExt cx="1079640" cy="1224000"/>
          </a:xfrm>
        </p:grpSpPr>
        <p:sp>
          <p:nvSpPr>
            <p:cNvPr id="617" name=""/>
            <p:cNvSpPr/>
            <p:nvPr/>
          </p:nvSpPr>
          <p:spPr>
            <a:xfrm>
              <a:off x="212256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9384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78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384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78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384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8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384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78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8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384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38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38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192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1928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928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9384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9384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384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9384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928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928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9384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9384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384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9384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928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928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19280" y="3645000"/>
            <a:ext cx="5113440" cy="71280"/>
          </a:xfrm>
          <a:prstGeom prst="roundRect">
            <a:avLst>
              <a:gd name="adj" fmla="val 16667"/>
            </a:avLst>
          </a:prstGeom>
          <a:solidFill>
            <a:srgbClr val="fae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35640" y="2421000"/>
            <a:ext cx="1078920" cy="1224000"/>
            <a:chOff x="1835640" y="2421000"/>
            <a:chExt cx="1078920" cy="1224000"/>
          </a:xfrm>
        </p:grpSpPr>
        <p:sp>
          <p:nvSpPr>
            <p:cNvPr id="652" name=""/>
            <p:cNvSpPr/>
            <p:nvPr/>
          </p:nvSpPr>
          <p:spPr>
            <a:xfrm rot="10800000">
              <a:off x="234072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196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41200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96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1200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19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41200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96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41200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3564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83564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3564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3564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41020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41020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41020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41020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41020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41020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1020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83564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3564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835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83564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41020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41020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41020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3564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83564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83564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83564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41020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1020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556000" y="3716280"/>
            <a:ext cx="1078920" cy="1224000"/>
            <a:chOff x="2556000" y="3716280"/>
            <a:chExt cx="1078920" cy="1224000"/>
          </a:xfrm>
        </p:grpSpPr>
        <p:sp>
          <p:nvSpPr>
            <p:cNvPr id="686" name=""/>
            <p:cNvSpPr/>
            <p:nvPr/>
          </p:nvSpPr>
          <p:spPr>
            <a:xfrm>
              <a:off x="3058920" y="371628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30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3787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30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14560" y="3861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0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4560" y="39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0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4560" y="4005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3020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3020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020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3020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56000" y="429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6000" y="422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6000" y="414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6000" y="407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6000" y="450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6000" y="44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6000" y="436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020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20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3020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020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6000" y="472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6000" y="465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6000" y="457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020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3020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020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3020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6000" y="486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6000" y="4795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08360" y="3716280"/>
            <a:ext cx="1079640" cy="1224000"/>
            <a:chOff x="3708360" y="3716280"/>
            <a:chExt cx="1079640" cy="1224000"/>
          </a:xfrm>
        </p:grpSpPr>
        <p:sp>
          <p:nvSpPr>
            <p:cNvPr id="720" name=""/>
            <p:cNvSpPr/>
            <p:nvPr/>
          </p:nvSpPr>
          <p:spPr>
            <a:xfrm>
              <a:off x="4211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82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67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82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67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82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2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67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2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82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2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82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08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08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8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8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8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82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82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82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2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8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8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82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82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8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08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932360" y="3716280"/>
            <a:ext cx="1079640" cy="1224000"/>
            <a:chOff x="4932360" y="3716280"/>
            <a:chExt cx="1079640" cy="1224000"/>
          </a:xfrm>
        </p:grpSpPr>
        <p:sp>
          <p:nvSpPr>
            <p:cNvPr id="754" name=""/>
            <p:cNvSpPr/>
            <p:nvPr/>
          </p:nvSpPr>
          <p:spPr>
            <a:xfrm>
              <a:off x="5435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6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1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06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1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6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9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06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91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06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6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6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2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2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32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32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32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2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2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6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6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06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6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32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2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6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6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06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0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2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2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084720" y="3716280"/>
            <a:ext cx="1079640" cy="1224000"/>
            <a:chOff x="6084720" y="3716280"/>
            <a:chExt cx="1079640" cy="1224000"/>
          </a:xfrm>
        </p:grpSpPr>
        <p:sp>
          <p:nvSpPr>
            <p:cNvPr id="788" name=""/>
            <p:cNvSpPr/>
            <p:nvPr/>
          </p:nvSpPr>
          <p:spPr>
            <a:xfrm>
              <a:off x="658800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5928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364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28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4364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5928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4364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928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4364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5928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928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5928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5928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8472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472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472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472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5928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928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5928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5928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8472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8472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928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5928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928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928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131640" y="2421000"/>
            <a:ext cx="1079640" cy="1224000"/>
            <a:chOff x="3131640" y="2421000"/>
            <a:chExt cx="1079640" cy="1224000"/>
          </a:xfrm>
        </p:grpSpPr>
        <p:sp>
          <p:nvSpPr>
            <p:cNvPr id="822" name=""/>
            <p:cNvSpPr/>
            <p:nvPr/>
          </p:nvSpPr>
          <p:spPr>
            <a:xfrm rot="10800000">
              <a:off x="3636720" y="2421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492000" y="357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708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492000" y="3500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708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49200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08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492000" y="3355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708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131640" y="328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131640" y="321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131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13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70656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7065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70656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70656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70656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0656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70656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31640" y="278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31640" y="285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31640" y="292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31640" y="299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70656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7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70656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131640" y="2492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131640" y="256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31640" y="263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31640" y="270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0656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70656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285080" y="2421000"/>
            <a:ext cx="1078920" cy="1224000"/>
            <a:chOff x="4285080" y="2421000"/>
            <a:chExt cx="1078920" cy="1224000"/>
          </a:xfrm>
        </p:grpSpPr>
        <p:sp>
          <p:nvSpPr>
            <p:cNvPr id="856" name=""/>
            <p:cNvSpPr/>
            <p:nvPr/>
          </p:nvSpPr>
          <p:spPr>
            <a:xfrm rot="10800000">
              <a:off x="4790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645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61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645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861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645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861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645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61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285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85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85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85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859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859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9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859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859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859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859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285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85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285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285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859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859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859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85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285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285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85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59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859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09080" y="2421000"/>
            <a:ext cx="1078920" cy="1224000"/>
            <a:chOff x="5509080" y="2421000"/>
            <a:chExt cx="1078920" cy="1224000"/>
          </a:xfrm>
        </p:grpSpPr>
        <p:sp>
          <p:nvSpPr>
            <p:cNvPr id="890" name=""/>
            <p:cNvSpPr/>
            <p:nvPr/>
          </p:nvSpPr>
          <p:spPr>
            <a:xfrm rot="10800000">
              <a:off x="6014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69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085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9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085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869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085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869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085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09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509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509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509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083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83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083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083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083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083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083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509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509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509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509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083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083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83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509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9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509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509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083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083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H="1">
            <a:off x="2700000" y="4869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537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 agr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5164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7280" y="2347200"/>
            <a:ext cx="1338480" cy="1295280"/>
            <a:chOff x="467280" y="2347200"/>
            <a:chExt cx="1338480" cy="1295280"/>
          </a:xfrm>
        </p:grpSpPr>
        <p:sp>
          <p:nvSpPr>
            <p:cNvPr id="927" name=""/>
            <p:cNvSpPr/>
            <p:nvPr/>
          </p:nvSpPr>
          <p:spPr>
            <a:xfrm rot="8562000">
              <a:off x="1189080" y="24912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409040" y="35550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581120" y="342432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64760" y="349704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36840" y="336636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21560" y="344016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493640" y="330948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277280" y="33822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449360" y="325152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947520" y="332532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903960" y="326844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59680" y="321012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16480" y="315360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273680" y="280548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316880" y="28623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61160" y="292032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404720" y="29775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142640" y="263376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186200" y="26906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1230120" y="274860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2600" y="29250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5800" y="29818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29000" y="303876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3280" y="30967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011960" y="24620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055160" y="25189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099440" y="25772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7280" y="269496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1560" y="27532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4760" y="28098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98320" y="28670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924480" y="234720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968760" y="24051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10800000">
            <a:off x="7308360" y="407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800000">
            <a:off x="7019640" y="3573000"/>
            <a:ext cx="73080" cy="5050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5760" y="36450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2360" y="3141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6000" y="2781360"/>
            <a:ext cx="190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ialuron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79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1636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3573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4000" y="371628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000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3528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1636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43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4036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563868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ructura del cartí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6800" y="3620520"/>
            <a:ext cx="1317960" cy="1327680"/>
            <a:chOff x="316800" y="3620520"/>
            <a:chExt cx="1317960" cy="1327680"/>
          </a:xfrm>
        </p:grpSpPr>
        <p:sp>
          <p:nvSpPr>
            <p:cNvPr id="977" name=""/>
            <p:cNvSpPr/>
            <p:nvPr/>
          </p:nvSpPr>
          <p:spPr>
            <a:xfrm rot="2781600">
              <a:off x="1044000" y="357156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95080" y="3836520"/>
              <a:ext cx="997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6400" y="368064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42160" y="388728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3480" y="3731040"/>
              <a:ext cx="9936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90680" y="39362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42000" y="37803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7760" y="39866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9080" y="38307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86280" y="40359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34440" y="40852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81520" y="41356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0040" y="41850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680" y="37695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5160" y="37202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8080" y="36698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9920" y="36205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7440" y="391860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9280" y="38692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1840" y="38188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960" y="43833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73800" y="433404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25640" y="42847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78200" y="423432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1200" y="40676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3040" y="40183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5960" y="39679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800" y="45828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5720" y="45324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" y="448308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69400" y="443376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800" y="41673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9360" y="41169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19280" y="37162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87480" y="47628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oteoglicanos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83520" y="105264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grecán: componente mayoritario del cartíl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9640" y="2997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88000" y="765000"/>
            <a:ext cx="71640" cy="1224000"/>
          </a:xfrm>
          <a:prstGeom prst="flowChartTerminator">
            <a:avLst/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59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3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59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3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5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3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127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59640" y="134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84720" y="134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84720" y="127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4720" y="11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8472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84720" y="148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84720" y="141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5964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5964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59640" y="1486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59640" y="14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84720" y="17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84720" y="170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8472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9640" y="191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59640" y="170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84720" y="191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08472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55640" y="476280"/>
            <a:ext cx="5040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Hialuronán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límero de hasta 50.000 unidades del disacár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177336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4120" y="167652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98600" y="19890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132000" y="2059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8560" y="1523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14320" y="160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198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3492000" y="2276640"/>
            <a:ext cx="360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876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84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6920" y="1981080"/>
            <a:ext cx="27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19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6400440" y="1828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4360" y="18288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2057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27760" y="249228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HCO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4036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32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40120" y="13413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41320" y="12682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206064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27082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2205000"/>
            <a:ext cx="4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48000" y="3068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cido glucur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51640" y="3141720"/>
            <a:ext cx="30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43480" y="31082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-acetilglucosa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00000" y="4076640"/>
            <a:ext cx="648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orma un polímero hidratado con la consistencia de un gel visc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 turgencia y resistencia a la 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acilita la migración celular e impide adhesión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mportante durante desarrollo/morfogénes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58920" y="533520"/>
            <a:ext cx="846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oglicanos de superficie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más pequeñas que lo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ilitan interacciones de la ME con las célul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ilar a C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n moléculas involucrad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4941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479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502920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7040" y="5135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327480"/>
            <a:ext cx="533160" cy="168912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2880" y="3639960"/>
            <a:ext cx="681120" cy="7632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9564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68360" y="3284640"/>
            <a:ext cx="640080" cy="20772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0920" y="501336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763640" y="3213000"/>
            <a:ext cx="390600" cy="184176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5892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3141720"/>
            <a:ext cx="640080" cy="2080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8000" y="3500280"/>
            <a:ext cx="470160" cy="5580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2276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ímero de sind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45086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76360" y="4941720"/>
            <a:ext cx="1513080" cy="287640"/>
          </a:xfrm>
          <a:prstGeom prst="rect">
            <a:avLst/>
          </a:prstGeom>
          <a:gradFill rotWithShape="0">
            <a:gsLst>
              <a:gs pos="0">
                <a:srgbClr val="fcf5c3"/>
              </a:gs>
              <a:gs pos="50000">
                <a:srgbClr val="fae33c">
                  <a:alpha val="0"/>
                </a:srgbClr>
              </a:gs>
              <a:gs pos="100000">
                <a:srgbClr val="fcf5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00000" y="378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360" y="42210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epar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8760800">
            <a:off x="3131280" y="285372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15160" y="26370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orción que un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colágenos y fibronec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58920" y="537372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5400000">
            <a:off x="2122920" y="558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6920" y="61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acción con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3280" y="3789360"/>
            <a:ext cx="450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decán: más abundant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os tipos (sindecán 1, 2, 3 y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ieren en la proteína y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860760" y="54936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pel de proteoglicanos de superficie celular en señalización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8200" y="914400"/>
            <a:ext cx="436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orio de fact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l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trol de la concentración de factor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066680" y="2286000"/>
            <a:ext cx="6677280" cy="3822120"/>
            <a:chOff x="1066680" y="2286000"/>
            <a:chExt cx="6677280" cy="3822120"/>
          </a:xfrm>
        </p:grpSpPr>
        <p:sp>
          <p:nvSpPr>
            <p:cNvPr id="1112" name=""/>
            <p:cNvSpPr/>
            <p:nvPr/>
          </p:nvSpPr>
          <p:spPr>
            <a:xfrm>
              <a:off x="2271600" y="4951440"/>
              <a:ext cx="3673440" cy="215640"/>
            </a:xfrm>
            <a:prstGeom prst="rect">
              <a:avLst/>
            </a:prstGeom>
            <a:solidFill>
              <a:srgbClr val="fae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00320" y="4951440"/>
              <a:ext cx="142920" cy="647640"/>
            </a:xfrm>
            <a:custGeom>
              <a:avLst/>
              <a:gdLst/>
              <a:ahLst/>
              <a:rect l="l" t="t" r="r" b="b"/>
              <a:pathLst>
                <a:path w="95" h="514">
                  <a:moveTo>
                    <a:pt x="54" y="514"/>
                  </a:moveTo>
                  <a:cubicBezTo>
                    <a:pt x="49" y="464"/>
                    <a:pt x="33" y="410"/>
                    <a:pt x="46" y="362"/>
                  </a:cubicBezTo>
                  <a:cubicBezTo>
                    <a:pt x="43" y="303"/>
                    <a:pt x="48" y="243"/>
                    <a:pt x="38" y="186"/>
                  </a:cubicBezTo>
                  <a:cubicBezTo>
                    <a:pt x="34" y="167"/>
                    <a:pt x="6" y="138"/>
                    <a:pt x="6" y="138"/>
                  </a:cubicBezTo>
                  <a:cubicBezTo>
                    <a:pt x="16" y="96"/>
                    <a:pt x="23" y="76"/>
                    <a:pt x="54" y="122"/>
                  </a:cubicBezTo>
                  <a:cubicBezTo>
                    <a:pt x="46" y="124"/>
                    <a:pt x="37" y="133"/>
                    <a:pt x="30" y="130"/>
                  </a:cubicBezTo>
                  <a:cubicBezTo>
                    <a:pt x="11" y="122"/>
                    <a:pt x="9" y="94"/>
                    <a:pt x="22" y="82"/>
                  </a:cubicBezTo>
                  <a:cubicBezTo>
                    <a:pt x="27" y="76"/>
                    <a:pt x="38" y="76"/>
                    <a:pt x="46" y="74"/>
                  </a:cubicBezTo>
                  <a:cubicBezTo>
                    <a:pt x="78" y="122"/>
                    <a:pt x="66" y="124"/>
                    <a:pt x="14" y="114"/>
                  </a:cubicBezTo>
                  <a:cubicBezTo>
                    <a:pt x="0" y="73"/>
                    <a:pt x="6" y="37"/>
                    <a:pt x="30" y="2"/>
                  </a:cubicBezTo>
                  <a:cubicBezTo>
                    <a:pt x="40" y="4"/>
                    <a:pt x="57" y="0"/>
                    <a:pt x="62" y="10"/>
                  </a:cubicBezTo>
                  <a:cubicBezTo>
                    <a:pt x="95" y="76"/>
                    <a:pt x="19" y="39"/>
                    <a:pt x="6" y="26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422600">
              <a:off x="2739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422600">
              <a:off x="3171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47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79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422600">
              <a:off x="4971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422600">
              <a:off x="5403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9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11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03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27600" y="379872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35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0400" y="3537000"/>
              <a:ext cx="1551240" cy="1409400"/>
            </a:xfrm>
            <a:custGeom>
              <a:avLst/>
              <a:gdLst/>
              <a:ahLst/>
              <a:rect l="l" t="t" r="r" b="b"/>
              <a:pathLst>
                <a:path w="977" h="888">
                  <a:moveTo>
                    <a:pt x="9" y="888"/>
                  </a:moveTo>
                  <a:cubicBezTo>
                    <a:pt x="12" y="824"/>
                    <a:pt x="0" y="758"/>
                    <a:pt x="17" y="696"/>
                  </a:cubicBezTo>
                  <a:cubicBezTo>
                    <a:pt x="21" y="680"/>
                    <a:pt x="65" y="680"/>
                    <a:pt x="65" y="680"/>
                  </a:cubicBezTo>
                  <a:cubicBezTo>
                    <a:pt x="86" y="648"/>
                    <a:pt x="76" y="636"/>
                    <a:pt x="113" y="624"/>
                  </a:cubicBezTo>
                  <a:cubicBezTo>
                    <a:pt x="141" y="583"/>
                    <a:pt x="192" y="564"/>
                    <a:pt x="209" y="512"/>
                  </a:cubicBezTo>
                  <a:cubicBezTo>
                    <a:pt x="219" y="482"/>
                    <a:pt x="247" y="389"/>
                    <a:pt x="273" y="368"/>
                  </a:cubicBezTo>
                  <a:cubicBezTo>
                    <a:pt x="307" y="341"/>
                    <a:pt x="358" y="355"/>
                    <a:pt x="401" y="352"/>
                  </a:cubicBezTo>
                  <a:cubicBezTo>
                    <a:pt x="444" y="338"/>
                    <a:pt x="436" y="311"/>
                    <a:pt x="449" y="272"/>
                  </a:cubicBezTo>
                  <a:cubicBezTo>
                    <a:pt x="453" y="261"/>
                    <a:pt x="466" y="257"/>
                    <a:pt x="473" y="248"/>
                  </a:cubicBezTo>
                  <a:cubicBezTo>
                    <a:pt x="512" y="202"/>
                    <a:pt x="525" y="204"/>
                    <a:pt x="585" y="192"/>
                  </a:cubicBezTo>
                  <a:cubicBezTo>
                    <a:pt x="624" y="134"/>
                    <a:pt x="645" y="78"/>
                    <a:pt x="721" y="56"/>
                  </a:cubicBezTo>
                  <a:cubicBezTo>
                    <a:pt x="758" y="46"/>
                    <a:pt x="833" y="32"/>
                    <a:pt x="833" y="32"/>
                  </a:cubicBezTo>
                  <a:cubicBezTo>
                    <a:pt x="850" y="21"/>
                    <a:pt x="860" y="11"/>
                    <a:pt x="881" y="8"/>
                  </a:cubicBezTo>
                  <a:cubicBezTo>
                    <a:pt x="913" y="4"/>
                    <a:pt x="977" y="0"/>
                    <a:pt x="977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76920" y="3917880"/>
              <a:ext cx="266400" cy="546120"/>
            </a:xfrm>
            <a:custGeom>
              <a:avLst/>
              <a:gdLst/>
              <a:ahLst/>
              <a:rect l="l" t="t" r="r" b="b"/>
              <a:pathLst>
                <a:path w="168" h="344">
                  <a:moveTo>
                    <a:pt x="0" y="0"/>
                  </a:moveTo>
                  <a:cubicBezTo>
                    <a:pt x="16" y="11"/>
                    <a:pt x="32" y="21"/>
                    <a:pt x="48" y="32"/>
                  </a:cubicBezTo>
                  <a:cubicBezTo>
                    <a:pt x="62" y="41"/>
                    <a:pt x="64" y="80"/>
                    <a:pt x="64" y="80"/>
                  </a:cubicBezTo>
                  <a:cubicBezTo>
                    <a:pt x="67" y="123"/>
                    <a:pt x="63" y="166"/>
                    <a:pt x="72" y="208"/>
                  </a:cubicBezTo>
                  <a:cubicBezTo>
                    <a:pt x="74" y="217"/>
                    <a:pt x="91" y="216"/>
                    <a:pt x="96" y="224"/>
                  </a:cubicBezTo>
                  <a:cubicBezTo>
                    <a:pt x="125" y="270"/>
                    <a:pt x="102" y="284"/>
                    <a:pt x="144" y="312"/>
                  </a:cubicBezTo>
                  <a:cubicBezTo>
                    <a:pt x="154" y="342"/>
                    <a:pt x="144" y="332"/>
                    <a:pt x="168" y="344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1160" y="3612960"/>
              <a:ext cx="330480" cy="43200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0" y="0"/>
                  </a:moveTo>
                  <a:cubicBezTo>
                    <a:pt x="8" y="33"/>
                    <a:pt x="17" y="51"/>
                    <a:pt x="32" y="80"/>
                  </a:cubicBezTo>
                  <a:cubicBezTo>
                    <a:pt x="36" y="88"/>
                    <a:pt x="35" y="97"/>
                    <a:pt x="40" y="104"/>
                  </a:cubicBezTo>
                  <a:cubicBezTo>
                    <a:pt x="55" y="123"/>
                    <a:pt x="92" y="131"/>
                    <a:pt x="112" y="144"/>
                  </a:cubicBezTo>
                  <a:cubicBezTo>
                    <a:pt x="117" y="152"/>
                    <a:pt x="124" y="159"/>
                    <a:pt x="128" y="168"/>
                  </a:cubicBezTo>
                  <a:cubicBezTo>
                    <a:pt x="132" y="178"/>
                    <a:pt x="131" y="190"/>
                    <a:pt x="136" y="200"/>
                  </a:cubicBezTo>
                  <a:cubicBezTo>
                    <a:pt x="153" y="230"/>
                    <a:pt x="185" y="249"/>
                    <a:pt x="208" y="272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0" y="3092400"/>
              <a:ext cx="495360" cy="596880"/>
            </a:xfrm>
            <a:custGeom>
              <a:avLst/>
              <a:gdLst/>
              <a:ahLst/>
              <a:rect l="l" t="t" r="r" b="b"/>
              <a:pathLst>
                <a:path w="312" h="376">
                  <a:moveTo>
                    <a:pt x="312" y="376"/>
                  </a:moveTo>
                  <a:cubicBezTo>
                    <a:pt x="254" y="318"/>
                    <a:pt x="304" y="286"/>
                    <a:pt x="264" y="200"/>
                  </a:cubicBezTo>
                  <a:cubicBezTo>
                    <a:pt x="260" y="191"/>
                    <a:pt x="187" y="178"/>
                    <a:pt x="176" y="176"/>
                  </a:cubicBezTo>
                  <a:cubicBezTo>
                    <a:pt x="144" y="179"/>
                    <a:pt x="112" y="180"/>
                    <a:pt x="80" y="184"/>
                  </a:cubicBezTo>
                  <a:cubicBezTo>
                    <a:pt x="72" y="185"/>
                    <a:pt x="64" y="196"/>
                    <a:pt x="56" y="192"/>
                  </a:cubicBezTo>
                  <a:cubicBezTo>
                    <a:pt x="48" y="188"/>
                    <a:pt x="51" y="176"/>
                    <a:pt x="48" y="168"/>
                  </a:cubicBezTo>
                  <a:cubicBezTo>
                    <a:pt x="40" y="38"/>
                    <a:pt x="62" y="62"/>
                    <a:pt x="0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65360" y="4146480"/>
              <a:ext cx="33804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52" y="168"/>
                  </a:moveTo>
                  <a:cubicBezTo>
                    <a:pt x="213" y="76"/>
                    <a:pt x="60" y="99"/>
                    <a:pt x="16" y="96"/>
                  </a:cubicBezTo>
                  <a:cubicBezTo>
                    <a:pt x="0" y="49"/>
                    <a:pt x="8" y="80"/>
                    <a:pt x="8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2469960"/>
              <a:ext cx="1726920" cy="1473120"/>
            </a:xfrm>
            <a:custGeom>
              <a:avLst/>
              <a:gdLst/>
              <a:ahLst/>
              <a:rect l="l" t="t" r="r" b="b"/>
              <a:pathLst>
                <a:path w="1088" h="928">
                  <a:moveTo>
                    <a:pt x="0" y="928"/>
                  </a:moveTo>
                  <a:cubicBezTo>
                    <a:pt x="59" y="908"/>
                    <a:pt x="60" y="907"/>
                    <a:pt x="80" y="848"/>
                  </a:cubicBezTo>
                  <a:cubicBezTo>
                    <a:pt x="83" y="800"/>
                    <a:pt x="84" y="752"/>
                    <a:pt x="88" y="704"/>
                  </a:cubicBezTo>
                  <a:cubicBezTo>
                    <a:pt x="107" y="499"/>
                    <a:pt x="349" y="525"/>
                    <a:pt x="488" y="520"/>
                  </a:cubicBezTo>
                  <a:cubicBezTo>
                    <a:pt x="538" y="507"/>
                    <a:pt x="606" y="498"/>
                    <a:pt x="648" y="464"/>
                  </a:cubicBezTo>
                  <a:cubicBezTo>
                    <a:pt x="689" y="431"/>
                    <a:pt x="718" y="390"/>
                    <a:pt x="752" y="352"/>
                  </a:cubicBezTo>
                  <a:cubicBezTo>
                    <a:pt x="767" y="335"/>
                    <a:pt x="787" y="323"/>
                    <a:pt x="800" y="304"/>
                  </a:cubicBezTo>
                  <a:cubicBezTo>
                    <a:pt x="833" y="255"/>
                    <a:pt x="854" y="186"/>
                    <a:pt x="896" y="144"/>
                  </a:cubicBezTo>
                  <a:cubicBezTo>
                    <a:pt x="912" y="128"/>
                    <a:pt x="922" y="101"/>
                    <a:pt x="944" y="96"/>
                  </a:cubicBezTo>
                  <a:cubicBezTo>
                    <a:pt x="990" y="85"/>
                    <a:pt x="1018" y="81"/>
                    <a:pt x="1056" y="56"/>
                  </a:cubicBezTo>
                  <a:cubicBezTo>
                    <a:pt x="1074" y="2"/>
                    <a:pt x="1057" y="16"/>
                    <a:pt x="1088" y="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66960" y="2368440"/>
              <a:ext cx="546120" cy="876240"/>
            </a:xfrm>
            <a:custGeom>
              <a:avLst/>
              <a:gdLst/>
              <a:ahLst/>
              <a:rect l="l" t="t" r="r" b="b"/>
              <a:pathLst>
                <a:path w="344" h="552">
                  <a:moveTo>
                    <a:pt x="344" y="552"/>
                  </a:moveTo>
                  <a:cubicBezTo>
                    <a:pt x="333" y="497"/>
                    <a:pt x="312" y="463"/>
                    <a:pt x="280" y="416"/>
                  </a:cubicBezTo>
                  <a:cubicBezTo>
                    <a:pt x="263" y="391"/>
                    <a:pt x="228" y="383"/>
                    <a:pt x="208" y="360"/>
                  </a:cubicBezTo>
                  <a:cubicBezTo>
                    <a:pt x="171" y="317"/>
                    <a:pt x="135" y="271"/>
                    <a:pt x="104" y="224"/>
                  </a:cubicBezTo>
                  <a:cubicBezTo>
                    <a:pt x="95" y="186"/>
                    <a:pt x="89" y="138"/>
                    <a:pt x="72" y="104"/>
                  </a:cubicBezTo>
                  <a:cubicBezTo>
                    <a:pt x="57" y="74"/>
                    <a:pt x="54" y="83"/>
                    <a:pt x="32" y="56"/>
                  </a:cubicBezTo>
                  <a:cubicBezTo>
                    <a:pt x="17" y="38"/>
                    <a:pt x="16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448080"/>
              <a:ext cx="507960" cy="838080"/>
            </a:xfrm>
            <a:custGeom>
              <a:avLst/>
              <a:gdLst/>
              <a:ahLst/>
              <a:rect l="l" t="t" r="r" b="b"/>
              <a:pathLst>
                <a:path w="320" h="528">
                  <a:moveTo>
                    <a:pt x="0" y="0"/>
                  </a:moveTo>
                  <a:cubicBezTo>
                    <a:pt x="83" y="10"/>
                    <a:pt x="61" y="12"/>
                    <a:pt x="120" y="56"/>
                  </a:cubicBezTo>
                  <a:cubicBezTo>
                    <a:pt x="129" y="84"/>
                    <a:pt x="143" y="108"/>
                    <a:pt x="152" y="136"/>
                  </a:cubicBezTo>
                  <a:cubicBezTo>
                    <a:pt x="164" y="244"/>
                    <a:pt x="198" y="346"/>
                    <a:pt x="232" y="448"/>
                  </a:cubicBezTo>
                  <a:cubicBezTo>
                    <a:pt x="236" y="461"/>
                    <a:pt x="305" y="513"/>
                    <a:pt x="320" y="528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6680" y="3092400"/>
              <a:ext cx="571680" cy="560160"/>
            </a:xfrm>
            <a:custGeom>
              <a:avLst/>
              <a:gdLst/>
              <a:ahLst/>
              <a:rect l="l" t="t" r="r" b="b"/>
              <a:pathLst>
                <a:path w="360" h="353">
                  <a:moveTo>
                    <a:pt x="360" y="352"/>
                  </a:moveTo>
                  <a:cubicBezTo>
                    <a:pt x="317" y="349"/>
                    <a:pt x="274" y="353"/>
                    <a:pt x="232" y="344"/>
                  </a:cubicBezTo>
                  <a:cubicBezTo>
                    <a:pt x="213" y="340"/>
                    <a:pt x="184" y="312"/>
                    <a:pt x="184" y="312"/>
                  </a:cubicBezTo>
                  <a:cubicBezTo>
                    <a:pt x="163" y="249"/>
                    <a:pt x="179" y="183"/>
                    <a:pt x="160" y="120"/>
                  </a:cubicBezTo>
                  <a:cubicBezTo>
                    <a:pt x="144" y="69"/>
                    <a:pt x="37" y="37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70080" y="3943080"/>
              <a:ext cx="266760" cy="317520"/>
            </a:xfrm>
            <a:custGeom>
              <a:avLst/>
              <a:gdLst/>
              <a:ahLst/>
              <a:rect l="l" t="t" r="r" b="b"/>
              <a:pathLst>
                <a:path w="168" h="200">
                  <a:moveTo>
                    <a:pt x="168" y="0"/>
                  </a:moveTo>
                  <a:cubicBezTo>
                    <a:pt x="142" y="9"/>
                    <a:pt x="96" y="40"/>
                    <a:pt x="96" y="40"/>
                  </a:cubicBezTo>
                  <a:cubicBezTo>
                    <a:pt x="73" y="74"/>
                    <a:pt x="68" y="104"/>
                    <a:pt x="32" y="128"/>
                  </a:cubicBezTo>
                  <a:cubicBezTo>
                    <a:pt x="27" y="136"/>
                    <a:pt x="20" y="143"/>
                    <a:pt x="16" y="152"/>
                  </a:cubicBezTo>
                  <a:cubicBezTo>
                    <a:pt x="9" y="167"/>
                    <a:pt x="0" y="200"/>
                    <a:pt x="0" y="20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5600" y="2558880"/>
              <a:ext cx="597240" cy="149400"/>
            </a:xfrm>
            <a:custGeom>
              <a:avLst/>
              <a:gdLst/>
              <a:ahLst/>
              <a:rect l="l" t="t" r="r" b="b"/>
              <a:pathLst>
                <a:path w="376" h="94">
                  <a:moveTo>
                    <a:pt x="0" y="0"/>
                  </a:moveTo>
                  <a:cubicBezTo>
                    <a:pt x="37" y="12"/>
                    <a:pt x="71" y="18"/>
                    <a:pt x="104" y="40"/>
                  </a:cubicBezTo>
                  <a:cubicBezTo>
                    <a:pt x="140" y="94"/>
                    <a:pt x="151" y="79"/>
                    <a:pt x="224" y="72"/>
                  </a:cubicBezTo>
                  <a:cubicBezTo>
                    <a:pt x="271" y="41"/>
                    <a:pt x="318" y="40"/>
                    <a:pt x="376" y="4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63960" y="329400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58880" y="2286000"/>
              <a:ext cx="28764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1960" y="2430360"/>
              <a:ext cx="292320" cy="2602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3600" y="3006720"/>
              <a:ext cx="507960" cy="40464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8880" y="55274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Receptor de 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84680" y="3870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4320" y="372744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parán sulf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071960" y="32940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84680" y="293508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5656320" y="3151080"/>
              <a:ext cx="718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48320" y="293508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sindecá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1600" y="235872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Proteoglicano de 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415908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5240" y="4086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19760" y="5383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539640" y="0"/>
            <a:ext cx="8209080" cy="5911920"/>
            <a:chOff x="539640" y="0"/>
            <a:chExt cx="8209080" cy="59119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rcRect l="0" t="0" r="0" b="17467"/>
            <a:stretch/>
          </p:blipFill>
          <p:spPr>
            <a:xfrm>
              <a:off x="539640" y="0"/>
              <a:ext cx="80661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900000" y="220500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-receptores en transducción de señ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76360" y="765000"/>
              <a:ext cx="1152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-cé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1640" y="1413000"/>
              <a:ext cx="79200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resenta-ción y transpor-te de quimio-qu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51640" y="2276640"/>
              <a:ext cx="1297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–matríz  extra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4360" y="189000"/>
              <a:ext cx="1008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arrera fisio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80000" y="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cuestro/ almacenamiento de liga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300600" y="6093000"/>
            <a:ext cx="85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versas funciones de los proteoglicanos de heparán sulfato en la fisiología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75040" y="568008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Nature 446:1030-37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372360" y="292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27920" y="333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ahoma"/>
              </a:rPr>
              <a:t>Papel de las proteasas de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256760" y="836640"/>
            <a:ext cx="6151680" cy="7941240"/>
            <a:chOff x="1256760" y="836640"/>
            <a:chExt cx="6151680" cy="7941240"/>
          </a:xfrm>
        </p:grpSpPr>
        <p:sp>
          <p:nvSpPr>
            <p:cNvPr id="1166" name=""/>
            <p:cNvSpPr/>
            <p:nvPr/>
          </p:nvSpPr>
          <p:spPr>
            <a:xfrm flipH="1" rot="1870800">
              <a:off x="1614960" y="5356080"/>
              <a:ext cx="4126680" cy="253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20" y="81"/>
                  </a:moveTo>
                  <a:arcTo wR="10800" hR="10800" stAng="-4978857" swAng="4978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20" y="81"/>
                  </a:moveTo>
                  <a:arcTo wR="10800" hR="10800" stAng="-4978857" swAng="4978857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01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99200">
              <a:off x="4313160" y="160488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1200">
              <a:off x="2103120" y="16045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512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49800">
              <a:off x="24843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870800">
              <a:off x="2093400" y="2354760"/>
              <a:ext cx="3977280" cy="297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38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38010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40000" y="1492200"/>
              <a:ext cx="26820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13160" y="114768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41560" y="1071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160" y="1452600"/>
              <a:ext cx="267840" cy="43632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24080" y="836640"/>
              <a:ext cx="14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ahoma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46320" y="221436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4845960" y="1928520"/>
              <a:ext cx="19332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581000" y="1147680"/>
              <a:ext cx="264600" cy="13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42840" y="489744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23720" y="4699080"/>
              <a:ext cx="328320" cy="522000"/>
            </a:xfrm>
            <a:custGeom>
              <a:avLst/>
              <a:gdLst/>
              <a:ahLst/>
              <a:rect l="l" t="t" r="r" b="b"/>
              <a:pathLst>
                <a:path w="207" h="329">
                  <a:moveTo>
                    <a:pt x="1" y="57"/>
                  </a:moveTo>
                  <a:cubicBezTo>
                    <a:pt x="16" y="64"/>
                    <a:pt x="0" y="69"/>
                    <a:pt x="17" y="73"/>
                  </a:cubicBezTo>
                  <a:cubicBezTo>
                    <a:pt x="57" y="81"/>
                    <a:pt x="7" y="12"/>
                    <a:pt x="25" y="65"/>
                  </a:cubicBezTo>
                  <a:cubicBezTo>
                    <a:pt x="65" y="179"/>
                    <a:pt x="71" y="215"/>
                    <a:pt x="110" y="329"/>
                  </a:cubicBezTo>
                  <a:cubicBezTo>
                    <a:pt x="125" y="317"/>
                    <a:pt x="144" y="309"/>
                    <a:pt x="156" y="294"/>
                  </a:cubicBezTo>
                  <a:cubicBezTo>
                    <a:pt x="207" y="233"/>
                    <a:pt x="153" y="256"/>
                    <a:pt x="195" y="241"/>
                  </a:cubicBezTo>
                  <a:cubicBezTo>
                    <a:pt x="125" y="242"/>
                    <a:pt x="157" y="244"/>
                    <a:pt x="98" y="237"/>
                  </a:cubicBezTo>
                  <a:cubicBezTo>
                    <a:pt x="82" y="192"/>
                    <a:pt x="66" y="145"/>
                    <a:pt x="50" y="100"/>
                  </a:cubicBezTo>
                  <a:cubicBezTo>
                    <a:pt x="72" y="88"/>
                    <a:pt x="43" y="118"/>
                    <a:pt x="57" y="97"/>
                  </a:cubicBezTo>
                  <a:cubicBezTo>
                    <a:pt x="70" y="75"/>
                    <a:pt x="41" y="129"/>
                    <a:pt x="33" y="105"/>
                  </a:cubicBezTo>
                  <a:cubicBezTo>
                    <a:pt x="61" y="48"/>
                    <a:pt x="23" y="100"/>
                    <a:pt x="65" y="57"/>
                  </a:cubicBezTo>
                  <a:cubicBezTo>
                    <a:pt x="53" y="23"/>
                    <a:pt x="19" y="90"/>
                    <a:pt x="57" y="65"/>
                  </a:cubicBezTo>
                  <a:lnTo>
                    <a:pt x="57" y="81"/>
                  </a:lnTo>
                  <a:cubicBezTo>
                    <a:pt x="96" y="0"/>
                    <a:pt x="63" y="81"/>
                    <a:pt x="65" y="81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6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0800" y="386064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39720" y="3573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92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84440" y="2925720"/>
              <a:ext cx="1904760" cy="358560"/>
            </a:xfrm>
            <a:prstGeom prst="rightArrow">
              <a:avLst>
                <a:gd name="adj1" fmla="val 50000"/>
                <a:gd name="adj2" fmla="val 132806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79720" y="5734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spue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76360" y="47638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42840" y="45590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99000">
              <a:off x="2807640" y="459576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84600">
              <a:off x="2551680" y="43603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563800">
              <a:off x="3371400" y="468468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38200" y="4440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563800">
              <a:off x="3753720" y="4817880"/>
              <a:ext cx="325080" cy="536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20880" y="4592520"/>
              <a:ext cx="45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08080" y="45082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Tahoma"/>
                </a:rPr>
                <a:t>Proteasas de M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3040" y="2286000"/>
              <a:ext cx="304560" cy="295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8f6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2000" y="2581200"/>
              <a:ext cx="217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señalización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65240" y="5221080"/>
              <a:ext cx="304560" cy="295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23720" y="5589360"/>
              <a:ext cx="21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ahoma"/>
                </a:rPr>
                <a:t>señalización 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184440" y="5734080"/>
              <a:ext cx="380520" cy="600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6080" y="5734080"/>
              <a:ext cx="380880" cy="51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79720" y="5949720"/>
              <a:ext cx="1584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4080" y="5734080"/>
              <a:ext cx="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219320"/>
            <a:ext cx="236232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971800"/>
            <a:ext cx="236196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4922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81280"/>
            <a:ext cx="76212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600200"/>
            <a:ext cx="76212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1676520"/>
            <a:ext cx="2210040" cy="838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505320"/>
            <a:ext cx="1981080" cy="6858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13372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65760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1337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0574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971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0574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481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6668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4387800">
            <a:off x="613404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387800">
            <a:off x="6286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387800">
            <a:off x="552420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87800">
            <a:off x="666720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387800">
            <a:off x="590544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387800">
            <a:off x="5143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387800">
            <a:off x="69721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387800">
            <a:off x="727704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387800">
            <a:off x="765792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9360" y="5423040"/>
            <a:ext cx="83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493200">
            <a:off x="5105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493200">
            <a:off x="6248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2493200">
            <a:off x="68576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2493200">
            <a:off x="75434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8160" y="249408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6000" y="1219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b7be"/>
                </a:solidFill>
                <a:latin typeface="Tahoma"/>
              </a:rPr>
              <a:t>Matriz extra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05360" y="16002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492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3560" y="90792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Moléculas de 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268280"/>
            <a:ext cx="68904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3879720"/>
            <a:ext cx="127080" cy="19872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5480" y="390852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2672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86200"/>
            <a:ext cx="16812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2200" y="190512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1905120"/>
            <a:ext cx="8280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000" y="3857760"/>
            <a:ext cx="12708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8620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288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19051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40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10080" y="1828800"/>
            <a:ext cx="8280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9200" y="1828800"/>
            <a:ext cx="8244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8680" y="19051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76600" y="39625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153280" y="39625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005360"/>
            <a:ext cx="302400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076640"/>
            <a:ext cx="3166920" cy="7308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739880"/>
            <a:ext cx="259056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676520"/>
            <a:ext cx="259092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5562720"/>
            <a:ext cx="69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cional (procesos de desarrollo, diferenciación, reparación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0120" y="441972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Molécu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adapt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224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1520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85264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0640" y="40464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2050920" y="1844640"/>
            <a:ext cx="4751640" cy="3598920"/>
            <a:chOff x="2050920" y="1844640"/>
            <a:chExt cx="4751640" cy="3598920"/>
          </a:xfrm>
        </p:grpSpPr>
        <p:sp>
          <p:nvSpPr>
            <p:cNvPr id="1207" name=""/>
            <p:cNvSpPr/>
            <p:nvPr/>
          </p:nvSpPr>
          <p:spPr>
            <a:xfrm>
              <a:off x="3564000" y="3500280"/>
              <a:ext cx="1657080" cy="19432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50000">
                  <a:srgbClr val="727272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3600" y="2379600"/>
              <a:ext cx="368280" cy="1851120"/>
            </a:xfrm>
            <a:custGeom>
              <a:avLst/>
              <a:gdLst/>
              <a:ahLst/>
              <a:rect l="l" t="t" r="r" b="b"/>
              <a:pathLst>
                <a:path w="232" h="1166">
                  <a:moveTo>
                    <a:pt x="0" y="1156"/>
                  </a:moveTo>
                  <a:cubicBezTo>
                    <a:pt x="50" y="1166"/>
                    <a:pt x="102" y="1086"/>
                    <a:pt x="162" y="1041"/>
                  </a:cubicBezTo>
                  <a:cubicBezTo>
                    <a:pt x="202" y="977"/>
                    <a:pt x="200" y="925"/>
                    <a:pt x="200" y="925"/>
                  </a:cubicBezTo>
                  <a:cubicBezTo>
                    <a:pt x="232" y="833"/>
                    <a:pt x="213" y="648"/>
                    <a:pt x="216" y="573"/>
                  </a:cubicBezTo>
                  <a:cubicBezTo>
                    <a:pt x="219" y="498"/>
                    <a:pt x="218" y="572"/>
                    <a:pt x="216" y="477"/>
                  </a:cubicBezTo>
                  <a:cubicBezTo>
                    <a:pt x="214" y="382"/>
                    <a:pt x="206" y="130"/>
                    <a:pt x="2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5092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2124000" y="3571920"/>
              <a:ext cx="180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3924360" y="2131920"/>
              <a:ext cx="8388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26000" y="2171880"/>
              <a:ext cx="361800" cy="2079360"/>
            </a:xfrm>
            <a:custGeom>
              <a:avLst/>
              <a:gdLst/>
              <a:ahLst/>
              <a:rect l="l" t="t" r="r" b="b"/>
              <a:pathLst>
                <a:path w="228" h="1310">
                  <a:moveTo>
                    <a:pt x="228" y="1301"/>
                  </a:moveTo>
                  <a:cubicBezTo>
                    <a:pt x="181" y="1310"/>
                    <a:pt x="149" y="1284"/>
                    <a:pt x="92" y="1269"/>
                  </a:cubicBezTo>
                  <a:cubicBezTo>
                    <a:pt x="36" y="1197"/>
                    <a:pt x="30" y="1088"/>
                    <a:pt x="30" y="1088"/>
                  </a:cubicBezTo>
                  <a:cubicBezTo>
                    <a:pt x="0" y="1008"/>
                    <a:pt x="20" y="947"/>
                    <a:pt x="14" y="792"/>
                  </a:cubicBezTo>
                  <a:cubicBezTo>
                    <a:pt x="11" y="611"/>
                    <a:pt x="18" y="132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485928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932360" y="3571920"/>
              <a:ext cx="1800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 flipH="1">
              <a:off x="4860720" y="2131920"/>
              <a:ext cx="8424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22560" y="5229360"/>
              <a:ext cx="1076400" cy="25200"/>
            </a:xfrm>
            <a:custGeom>
              <a:avLst/>
              <a:gdLst/>
              <a:ahLst/>
              <a:rect l="l" t="t" r="r" b="b"/>
              <a:pathLst>
                <a:path w="678" h="16">
                  <a:moveTo>
                    <a:pt x="0" y="16"/>
                  </a:moveTo>
                  <a:cubicBezTo>
                    <a:pt x="140" y="0"/>
                    <a:pt x="276" y="2"/>
                    <a:pt x="416" y="14"/>
                  </a:cubicBezTo>
                  <a:cubicBezTo>
                    <a:pt x="514" y="2"/>
                    <a:pt x="580" y="16"/>
                    <a:pt x="678" y="16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51280" y="5156280"/>
              <a:ext cx="1218960" cy="38160"/>
            </a:xfrm>
            <a:custGeom>
              <a:avLst/>
              <a:gdLst/>
              <a:ahLst/>
              <a:rect l="l" t="t" r="r" b="b"/>
              <a:pathLst>
                <a:path w="768" h="24">
                  <a:moveTo>
                    <a:pt x="0" y="9"/>
                  </a:moveTo>
                  <a:cubicBezTo>
                    <a:pt x="159" y="0"/>
                    <a:pt x="299" y="18"/>
                    <a:pt x="461" y="6"/>
                  </a:cubicBezTo>
                  <a:cubicBezTo>
                    <a:pt x="581" y="24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9640" y="5288040"/>
              <a:ext cx="1219320" cy="30240"/>
            </a:xfrm>
            <a:custGeom>
              <a:avLst/>
              <a:gdLst/>
              <a:ahLst/>
              <a:rect l="l" t="t" r="r" b="b"/>
              <a:pathLst>
                <a:path w="768" h="19">
                  <a:moveTo>
                    <a:pt x="0" y="17"/>
                  </a:moveTo>
                  <a:cubicBezTo>
                    <a:pt x="71" y="19"/>
                    <a:pt x="351" y="4"/>
                    <a:pt x="428" y="7"/>
                  </a:cubicBezTo>
                  <a:cubicBezTo>
                    <a:pt x="512" y="5"/>
                    <a:pt x="449" y="5"/>
                    <a:pt x="506" y="7"/>
                  </a:cubicBezTo>
                  <a:cubicBezTo>
                    <a:pt x="617" y="0"/>
                    <a:pt x="657" y="17"/>
                    <a:pt x="768" y="17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5084640"/>
              <a:ext cx="1218960" cy="39960"/>
            </a:xfrm>
            <a:custGeom>
              <a:avLst/>
              <a:gdLst/>
              <a:ahLst/>
              <a:rect l="l" t="t" r="r" b="b"/>
              <a:pathLst>
                <a:path w="768" h="25">
                  <a:moveTo>
                    <a:pt x="0" y="9"/>
                  </a:moveTo>
                  <a:cubicBezTo>
                    <a:pt x="159" y="0"/>
                    <a:pt x="306" y="18"/>
                    <a:pt x="464" y="25"/>
                  </a:cubicBezTo>
                  <a:cubicBezTo>
                    <a:pt x="575" y="18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2360" y="3139920"/>
              <a:ext cx="144360" cy="287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82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9200" y="2973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6720" y="321156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076720" y="335268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003640" y="335520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419280" y="328284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9280" y="342756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0920" y="3498840"/>
              <a:ext cx="360360" cy="14436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490920" y="313992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32360" y="256392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51280" y="2706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9200" y="2397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6720" y="263520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076720" y="277596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5003640" y="277884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419280" y="270612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19280" y="285120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90920" y="292248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564000" y="2492280"/>
              <a:ext cx="287280" cy="2160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06920" y="1987560"/>
              <a:ext cx="563400" cy="2217600"/>
            </a:xfrm>
            <a:custGeom>
              <a:avLst/>
              <a:gdLst/>
              <a:ahLst/>
              <a:rect l="l" t="t" r="r" b="b"/>
              <a:pathLst>
                <a:path w="355" h="1397">
                  <a:moveTo>
                    <a:pt x="88" y="1297"/>
                  </a:moveTo>
                  <a:cubicBezTo>
                    <a:pt x="96" y="1292"/>
                    <a:pt x="130" y="1281"/>
                    <a:pt x="135" y="1273"/>
                  </a:cubicBezTo>
                  <a:cubicBezTo>
                    <a:pt x="158" y="1237"/>
                    <a:pt x="174" y="1163"/>
                    <a:pt x="183" y="1120"/>
                  </a:cubicBezTo>
                  <a:cubicBezTo>
                    <a:pt x="198" y="874"/>
                    <a:pt x="183" y="634"/>
                    <a:pt x="183" y="391"/>
                  </a:cubicBezTo>
                  <a:cubicBezTo>
                    <a:pt x="183" y="9"/>
                    <a:pt x="42" y="48"/>
                    <a:pt x="184" y="1"/>
                  </a:cubicBezTo>
                  <a:cubicBezTo>
                    <a:pt x="219" y="4"/>
                    <a:pt x="254" y="0"/>
                    <a:pt x="288" y="9"/>
                  </a:cubicBezTo>
                  <a:cubicBezTo>
                    <a:pt x="355" y="27"/>
                    <a:pt x="283" y="432"/>
                    <a:pt x="301" y="610"/>
                  </a:cubicBezTo>
                  <a:cubicBezTo>
                    <a:pt x="303" y="780"/>
                    <a:pt x="312" y="959"/>
                    <a:pt x="312" y="1030"/>
                  </a:cubicBezTo>
                  <a:cubicBezTo>
                    <a:pt x="314" y="1108"/>
                    <a:pt x="316" y="1050"/>
                    <a:pt x="312" y="1081"/>
                  </a:cubicBezTo>
                  <a:cubicBezTo>
                    <a:pt x="308" y="1112"/>
                    <a:pt x="298" y="1181"/>
                    <a:pt x="288" y="1216"/>
                  </a:cubicBezTo>
                  <a:cubicBezTo>
                    <a:pt x="278" y="1251"/>
                    <a:pt x="264" y="1271"/>
                    <a:pt x="249" y="1291"/>
                  </a:cubicBezTo>
                  <a:cubicBezTo>
                    <a:pt x="234" y="1311"/>
                    <a:pt x="219" y="1320"/>
                    <a:pt x="199" y="1336"/>
                  </a:cubicBezTo>
                  <a:cubicBezTo>
                    <a:pt x="184" y="1358"/>
                    <a:pt x="157" y="1387"/>
                    <a:pt x="130" y="1390"/>
                  </a:cubicBezTo>
                  <a:cubicBezTo>
                    <a:pt x="100" y="1397"/>
                    <a:pt x="78" y="1370"/>
                    <a:pt x="48" y="1377"/>
                  </a:cubicBezTo>
                  <a:cubicBezTo>
                    <a:pt x="0" y="1361"/>
                    <a:pt x="16" y="1371"/>
                    <a:pt x="16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73440" y="2060640"/>
              <a:ext cx="571680" cy="2176560"/>
            </a:xfrm>
            <a:custGeom>
              <a:avLst/>
              <a:gdLst/>
              <a:ahLst/>
              <a:rect l="l" t="t" r="r" b="b"/>
              <a:pathLst>
                <a:path w="360" h="1371">
                  <a:moveTo>
                    <a:pt x="267" y="1297"/>
                  </a:moveTo>
                  <a:cubicBezTo>
                    <a:pt x="259" y="1292"/>
                    <a:pt x="266" y="1271"/>
                    <a:pt x="261" y="1263"/>
                  </a:cubicBezTo>
                  <a:cubicBezTo>
                    <a:pt x="238" y="1227"/>
                    <a:pt x="207" y="1168"/>
                    <a:pt x="198" y="1125"/>
                  </a:cubicBezTo>
                  <a:cubicBezTo>
                    <a:pt x="195" y="1092"/>
                    <a:pt x="186" y="1154"/>
                    <a:pt x="183" y="1032"/>
                  </a:cubicBezTo>
                  <a:cubicBezTo>
                    <a:pt x="180" y="910"/>
                    <a:pt x="182" y="563"/>
                    <a:pt x="180" y="391"/>
                  </a:cubicBezTo>
                  <a:cubicBezTo>
                    <a:pt x="180" y="9"/>
                    <a:pt x="313" y="48"/>
                    <a:pt x="171" y="1"/>
                  </a:cubicBezTo>
                  <a:cubicBezTo>
                    <a:pt x="136" y="4"/>
                    <a:pt x="101" y="0"/>
                    <a:pt x="67" y="9"/>
                  </a:cubicBezTo>
                  <a:cubicBezTo>
                    <a:pt x="0" y="27"/>
                    <a:pt x="72" y="432"/>
                    <a:pt x="54" y="610"/>
                  </a:cubicBezTo>
                  <a:cubicBezTo>
                    <a:pt x="54" y="782"/>
                    <a:pt x="50" y="938"/>
                    <a:pt x="54" y="1039"/>
                  </a:cubicBezTo>
                  <a:cubicBezTo>
                    <a:pt x="58" y="1140"/>
                    <a:pt x="69" y="1172"/>
                    <a:pt x="78" y="1216"/>
                  </a:cubicBezTo>
                  <a:cubicBezTo>
                    <a:pt x="87" y="1260"/>
                    <a:pt x="100" y="1284"/>
                    <a:pt x="111" y="1302"/>
                  </a:cubicBezTo>
                  <a:cubicBezTo>
                    <a:pt x="122" y="1320"/>
                    <a:pt x="123" y="1313"/>
                    <a:pt x="144" y="1323"/>
                  </a:cubicBezTo>
                  <a:cubicBezTo>
                    <a:pt x="159" y="1345"/>
                    <a:pt x="210" y="1359"/>
                    <a:pt x="237" y="1362"/>
                  </a:cubicBezTo>
                  <a:cubicBezTo>
                    <a:pt x="267" y="1369"/>
                    <a:pt x="282" y="1358"/>
                    <a:pt x="312" y="1365"/>
                  </a:cubicBezTo>
                  <a:cubicBezTo>
                    <a:pt x="360" y="1349"/>
                    <a:pt x="339" y="1371"/>
                    <a:pt x="339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2637000"/>
              <a:ext cx="57600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95640" y="2779560"/>
              <a:ext cx="57636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54560" y="3213000"/>
              <a:ext cx="57600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95640" y="3355920"/>
              <a:ext cx="57636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87640" y="454644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33" y="49"/>
                    <a:pt x="92" y="59"/>
                    <a:pt x="138" y="90"/>
                  </a:cubicBezTo>
                  <a:cubicBezTo>
                    <a:pt x="140" y="96"/>
                    <a:pt x="141" y="102"/>
                    <a:pt x="144" y="108"/>
                  </a:cubicBezTo>
                  <a:cubicBezTo>
                    <a:pt x="147" y="114"/>
                    <a:pt x="153" y="119"/>
                    <a:pt x="156" y="126"/>
                  </a:cubicBezTo>
                  <a:cubicBezTo>
                    <a:pt x="170" y="157"/>
                    <a:pt x="168" y="168"/>
                    <a:pt x="192" y="192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6240" y="4584600"/>
              <a:ext cx="279360" cy="247680"/>
            </a:xfrm>
            <a:custGeom>
              <a:avLst/>
              <a:gdLst/>
              <a:ahLst/>
              <a:rect l="l" t="t" r="r" b="b"/>
              <a:pathLst>
                <a:path w="176" h="156">
                  <a:moveTo>
                    <a:pt x="176" y="0"/>
                  </a:moveTo>
                  <a:cubicBezTo>
                    <a:pt x="170" y="6"/>
                    <a:pt x="165" y="13"/>
                    <a:pt x="158" y="18"/>
                  </a:cubicBezTo>
                  <a:cubicBezTo>
                    <a:pt x="147" y="27"/>
                    <a:pt x="122" y="42"/>
                    <a:pt x="122" y="42"/>
                  </a:cubicBezTo>
                  <a:cubicBezTo>
                    <a:pt x="100" y="75"/>
                    <a:pt x="69" y="102"/>
                    <a:pt x="38" y="126"/>
                  </a:cubicBezTo>
                  <a:cubicBezTo>
                    <a:pt x="0" y="155"/>
                    <a:pt x="2" y="135"/>
                    <a:pt x="2" y="15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21040" y="4413240"/>
              <a:ext cx="438120" cy="76320"/>
            </a:xfrm>
            <a:custGeom>
              <a:avLst/>
              <a:gdLst/>
              <a:ahLst/>
              <a:rect l="l" t="t" r="r" b="b"/>
              <a:pathLst>
                <a:path w="276" h="48">
                  <a:moveTo>
                    <a:pt x="48" y="12"/>
                  </a:moveTo>
                  <a:cubicBezTo>
                    <a:pt x="49" y="13"/>
                    <a:pt x="0" y="0"/>
                    <a:pt x="15" y="6"/>
                  </a:cubicBezTo>
                  <a:cubicBezTo>
                    <a:pt x="30" y="12"/>
                    <a:pt x="97" y="45"/>
                    <a:pt x="138" y="48"/>
                  </a:cubicBezTo>
                  <a:cubicBezTo>
                    <a:pt x="233" y="42"/>
                    <a:pt x="206" y="43"/>
                    <a:pt x="264" y="24"/>
                  </a:cubicBezTo>
                  <a:cubicBezTo>
                    <a:pt x="271" y="3"/>
                    <a:pt x="266" y="10"/>
                    <a:pt x="2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02080" y="4870440"/>
              <a:ext cx="552600" cy="133200"/>
            </a:xfrm>
            <a:custGeom>
              <a:avLst/>
              <a:gdLst/>
              <a:ahLst/>
              <a:rect l="l" t="t" r="r" b="b"/>
              <a:pathLst>
                <a:path w="348" h="84">
                  <a:moveTo>
                    <a:pt x="348" y="0"/>
                  </a:moveTo>
                  <a:cubicBezTo>
                    <a:pt x="308" y="60"/>
                    <a:pt x="241" y="59"/>
                    <a:pt x="180" y="64"/>
                  </a:cubicBezTo>
                  <a:cubicBezTo>
                    <a:pt x="118" y="70"/>
                    <a:pt x="62" y="84"/>
                    <a:pt x="0" y="84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98920" y="4427640"/>
              <a:ext cx="512640" cy="144360"/>
            </a:xfrm>
            <a:custGeom>
              <a:avLst/>
              <a:gdLst/>
              <a:ahLst/>
              <a:rect l="l" t="t" r="r" b="b"/>
              <a:pathLst>
                <a:path w="323" h="91">
                  <a:moveTo>
                    <a:pt x="323" y="0"/>
                  </a:moveTo>
                  <a:cubicBezTo>
                    <a:pt x="304" y="5"/>
                    <a:pt x="267" y="41"/>
                    <a:pt x="234" y="54"/>
                  </a:cubicBezTo>
                  <a:cubicBezTo>
                    <a:pt x="201" y="67"/>
                    <a:pt x="165" y="75"/>
                    <a:pt x="126" y="78"/>
                  </a:cubicBezTo>
                  <a:cubicBezTo>
                    <a:pt x="88" y="91"/>
                    <a:pt x="40" y="72"/>
                    <a:pt x="0" y="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6720" y="5330880"/>
              <a:ext cx="1057320" cy="15840"/>
            </a:xfrm>
            <a:custGeom>
              <a:avLst/>
              <a:gdLst/>
              <a:ahLst/>
              <a:rect l="l" t="t" r="r" b="b"/>
              <a:pathLst>
                <a:path w="666" h="10">
                  <a:moveTo>
                    <a:pt x="0" y="10"/>
                  </a:moveTo>
                  <a:cubicBezTo>
                    <a:pt x="222" y="0"/>
                    <a:pt x="442" y="4"/>
                    <a:pt x="666" y="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948360" y="371628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429080" y="105192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1337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11280" y="2205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4360" y="4076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 -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51280" y="1052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84720" y="5300640"/>
            <a:ext cx="93528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00720" y="6093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35640" y="2637000"/>
            <a:ext cx="151272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48360" y="278136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12000" y="3068280"/>
            <a:ext cx="93636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076720" y="4797360"/>
            <a:ext cx="2872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11640" y="5805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s multiadhes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95560" y="4857840"/>
            <a:ext cx="214560" cy="162000"/>
          </a:xfrm>
          <a:custGeom>
            <a:avLst/>
            <a:gdLst/>
            <a:ahLst/>
            <a:rect l="l" t="t" r="r" b="b"/>
            <a:pathLst>
              <a:path w="135" h="102">
                <a:moveTo>
                  <a:pt x="0" y="0"/>
                </a:moveTo>
                <a:cubicBezTo>
                  <a:pt x="5" y="16"/>
                  <a:pt x="0" y="7"/>
                  <a:pt x="21" y="21"/>
                </a:cubicBezTo>
                <a:cubicBezTo>
                  <a:pt x="24" y="23"/>
                  <a:pt x="30" y="27"/>
                  <a:pt x="30" y="27"/>
                </a:cubicBezTo>
                <a:cubicBezTo>
                  <a:pt x="35" y="34"/>
                  <a:pt x="60" y="65"/>
                  <a:pt x="66" y="69"/>
                </a:cubicBezTo>
                <a:cubicBezTo>
                  <a:pt x="82" y="79"/>
                  <a:pt x="104" y="79"/>
                  <a:pt x="120" y="90"/>
                </a:cubicBezTo>
                <a:cubicBezTo>
                  <a:pt x="122" y="93"/>
                  <a:pt x="123" y="97"/>
                  <a:pt x="126" y="99"/>
                </a:cubicBezTo>
                <a:cubicBezTo>
                  <a:pt x="128" y="101"/>
                  <a:pt x="135" y="102"/>
                  <a:pt x="135" y="10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402920" y="4508640"/>
            <a:ext cx="108108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1128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908000" y="2852640"/>
            <a:ext cx="2159280" cy="21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1834920" y="3213000"/>
            <a:ext cx="6490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4360" y="2924280"/>
            <a:ext cx="9349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léculas de adhes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280" y="48690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samin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979280" y="4221000"/>
            <a:ext cx="1655640" cy="1440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276720" y="4797360"/>
            <a:ext cx="503280" cy="935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836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superfi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440080" y="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pecializadas célula-célul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07648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78" name=""/>
          <p:cNvGrpSpPr/>
          <p:nvPr/>
        </p:nvGrpSpPr>
        <p:grpSpPr>
          <a:xfrm>
            <a:off x="4932360" y="4437000"/>
            <a:ext cx="2441520" cy="2067120"/>
            <a:chOff x="4932360" y="4437000"/>
            <a:chExt cx="2441520" cy="2067120"/>
          </a:xfrm>
        </p:grpSpPr>
        <p:pic>
          <p:nvPicPr>
            <p:cNvPr id="1279" name="" descr=""/>
            <p:cNvPicPr/>
            <p:nvPr/>
          </p:nvPicPr>
          <p:blipFill>
            <a:blip r:embed="rId2"/>
            <a:stretch/>
          </p:blipFill>
          <p:spPr>
            <a:xfrm>
              <a:off x="5221440" y="4437000"/>
              <a:ext cx="215244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932360" y="4437000"/>
              <a:ext cx="720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975280" y="304920"/>
            <a:ext cx="3168720" cy="1780920"/>
            <a:chOff x="5975280" y="304920"/>
            <a:chExt cx="3168720" cy="1780920"/>
          </a:xfrm>
        </p:grpSpPr>
        <p:pic>
          <p:nvPicPr>
            <p:cNvPr id="1282" name="" descr=""/>
            <p:cNvPicPr/>
            <p:nvPr/>
          </p:nvPicPr>
          <p:blipFill>
            <a:blip r:embed="rId3"/>
            <a:stretch/>
          </p:blipFill>
          <p:spPr>
            <a:xfrm>
              <a:off x="5975280" y="304920"/>
              <a:ext cx="216216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7343640" y="1501560"/>
              <a:ext cx="180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Unión estrec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791320" y="22096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 de adhesión o banda adh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58000" y="365760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95280" y="1473480"/>
            <a:ext cx="4495680" cy="4614480"/>
            <a:chOff x="1295280" y="1473480"/>
            <a:chExt cx="4495680" cy="4614480"/>
          </a:xfrm>
        </p:grpSpPr>
        <p:sp>
          <p:nvSpPr>
            <p:cNvPr id="1287" name=""/>
            <p:cNvSpPr/>
            <p:nvPr/>
          </p:nvSpPr>
          <p:spPr>
            <a:xfrm>
              <a:off x="1295280" y="2560680"/>
              <a:ext cx="1368360" cy="352728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70">
                  <a:moveTo>
                    <a:pt x="3600" y="0"/>
                  </a:moveTo>
                  <a:arcTo wR="3600" hR="3600" stAng="16200000" swAng="-5400000"/>
                  <a:lnTo>
                    <a:pt x="0" y="52070"/>
                  </a:lnTo>
                  <a:arcTo wR="3600" hR="3600" stAng="10800000" swAng="-5400000"/>
                  <a:lnTo>
                    <a:pt x="18000" y="55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4920" y="2560680"/>
              <a:ext cx="1368720" cy="3527280"/>
            </a:xfrm>
            <a:custGeom>
              <a:avLst/>
              <a:gdLst>
                <a:gd name="textAreaLeft" fmla="*/ 66600 w 1368720"/>
                <a:gd name="textAreaRight" fmla="*/ 1302120 w 136872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56">
                  <a:moveTo>
                    <a:pt x="3600" y="0"/>
                  </a:moveTo>
                  <a:arcTo wR="3600" hR="3600" stAng="16200000" swAng="-5400000"/>
                  <a:lnTo>
                    <a:pt x="0" y="52056"/>
                  </a:lnTo>
                  <a:arcTo wR="3600" hR="3600" stAng="10800000" swAng="-5400000"/>
                  <a:lnTo>
                    <a:pt x="18000" y="556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2920" y="306360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662920" y="2921040"/>
              <a:ext cx="73080" cy="144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662920" y="277632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4920" y="3208320"/>
              <a:ext cx="71640" cy="14436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2040" y="2927160"/>
              <a:ext cx="16020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4920" y="277632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4920" y="263196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4920" y="3855960"/>
              <a:ext cx="71640" cy="2160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0800000">
              <a:off x="2590200" y="3855960"/>
              <a:ext cx="71640" cy="21600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161800">
              <a:off x="2879640" y="2057400"/>
              <a:ext cx="2936880" cy="287280"/>
            </a:xfrm>
            <a:prstGeom prst="rightArrow">
              <a:avLst>
                <a:gd name="adj1" fmla="val 50000"/>
                <a:gd name="adj2" fmla="val 255576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663640" y="3208320"/>
              <a:ext cx="71280" cy="273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63640" y="39290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63640" y="400032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95280" y="3929040"/>
              <a:ext cx="2087640" cy="215640"/>
            </a:xfrm>
            <a:prstGeom prst="rightArrow">
              <a:avLst>
                <a:gd name="adj1" fmla="val 50000"/>
                <a:gd name="adj2" fmla="val 24202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87800">
              <a:off x="3095280" y="5225760"/>
              <a:ext cx="2016360" cy="287640"/>
            </a:xfrm>
            <a:prstGeom prst="rightArrow">
              <a:avLst>
                <a:gd name="adj1" fmla="val 50000"/>
                <a:gd name="adj2" fmla="val 17525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598600">
              <a:off x="3011040" y="2702520"/>
              <a:ext cx="2808000" cy="216000"/>
            </a:xfrm>
            <a:prstGeom prst="rightArrow">
              <a:avLst>
                <a:gd name="adj1" fmla="val 50000"/>
                <a:gd name="adj2" fmla="val 3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560" y="5153040"/>
              <a:ext cx="289080" cy="14760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590560" y="5153040"/>
              <a:ext cx="216000" cy="144360"/>
              <a:chOff x="2590560" y="5153040"/>
              <a:chExt cx="216000" cy="1443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590560" y="520128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6769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590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19800" y="520128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806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71980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90560" y="5249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19800" y="524916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26769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71980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806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590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2806560" y="5153040"/>
              <a:ext cx="73080" cy="14436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77080" y="5805360"/>
            <a:ext cx="122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nión en hendi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1905120"/>
            <a:ext cx="1368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00200" y="63244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81520" y="114300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67120" y="28195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772400" y="5410080"/>
            <a:ext cx="304920" cy="33732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4"/>
          <a:srcRect l="7066" t="19887" r="4638" b="18238"/>
          <a:stretch/>
        </p:blipFill>
        <p:spPr>
          <a:xfrm>
            <a:off x="457200" y="457200"/>
            <a:ext cx="3276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rcRect l="5369" t="51043" r="46314" b="0"/>
          <a:stretch/>
        </p:blipFill>
        <p:spPr>
          <a:xfrm>
            <a:off x="533520" y="9144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52749" t="25588" r="6811" b="11624"/>
          <a:stretch/>
        </p:blipFill>
        <p:spPr>
          <a:xfrm>
            <a:off x="685800" y="42670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615200" y="838080"/>
            <a:ext cx="4156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tight j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aras externas de la membrana pl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ática de dos células adyacentes se 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dejar espacio entre 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unión ocurre en todo el perí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ntorno) de las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restringen el mov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ento de la mayoría de las moléculas o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ánicas, pero permiten el paso de 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no se asocia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oesque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3"/>
          <a:srcRect l="60856" t="32649" r="3356" b="7777"/>
          <a:stretch/>
        </p:blipFill>
        <p:spPr>
          <a:xfrm>
            <a:off x="2666880" y="3124080"/>
            <a:ext cx="1524240" cy="17528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43268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rcRect l="28850" t="5753" r="28159" b="59408"/>
          <a:stretch/>
        </p:blipFill>
        <p:spPr>
          <a:xfrm>
            <a:off x="395280" y="1268280"/>
            <a:ext cx="4464000" cy="431964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 rot="18927600">
            <a:off x="3850920" y="17730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549360"/>
            <a:ext cx="3564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llos entre 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bicación próxima a superficie a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tinge la difusión de solutos por espacio 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mpide libre difusión de lípidos en cara externa de l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76360" y="609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35280" y="5589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basole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5280" y="1268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a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2708280"/>
            <a:ext cx="1440000" cy="367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093">
                <a:moveTo>
                  <a:pt x="3600" y="0"/>
                </a:moveTo>
                <a:arcTo wR="3600" hR="3600" stAng="16200000" swAng="-5400000"/>
                <a:lnTo>
                  <a:pt x="0" y="51493"/>
                </a:lnTo>
                <a:arcTo wR="3600" hR="3600" stAng="10800000" swAng="-5400000"/>
                <a:lnTo>
                  <a:pt x="18000" y="55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0800000">
            <a:off x="6659280" y="2708280"/>
            <a:ext cx="1439640" cy="367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107">
                <a:moveTo>
                  <a:pt x="3600" y="0"/>
                </a:moveTo>
                <a:arcTo wR="3600" hR="3600" stAng="16200000" swAng="-5400000"/>
                <a:lnTo>
                  <a:pt x="0" y="51507"/>
                </a:lnTo>
                <a:arcTo wR="3600" hR="3600" stAng="10800000" swAng="-5400000"/>
                <a:lnTo>
                  <a:pt x="18000" y="5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ef1f2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59640" y="3573360"/>
            <a:ext cx="792000" cy="28728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59640" y="3933720"/>
            <a:ext cx="865080" cy="67464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516720" y="2852640"/>
            <a:ext cx="216000" cy="14472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233400">
            <a:off x="7164360" y="3715920"/>
            <a:ext cx="216000" cy="501840"/>
          </a:xfrm>
          <a:custGeom>
            <a:avLst/>
            <a:gdLst/>
            <a:ahLst/>
            <a:rect l="l" t="t" r="r" b="b"/>
            <a:pathLst>
              <a:path w="105" h="410">
                <a:moveTo>
                  <a:pt x="44" y="369"/>
                </a:moveTo>
                <a:cubicBezTo>
                  <a:pt x="52" y="392"/>
                  <a:pt x="56" y="394"/>
                  <a:pt x="80" y="389"/>
                </a:cubicBezTo>
                <a:cubicBezTo>
                  <a:pt x="83" y="306"/>
                  <a:pt x="105" y="207"/>
                  <a:pt x="56" y="133"/>
                </a:cubicBezTo>
                <a:cubicBezTo>
                  <a:pt x="57" y="122"/>
                  <a:pt x="58" y="112"/>
                  <a:pt x="60" y="101"/>
                </a:cubicBezTo>
                <a:cubicBezTo>
                  <a:pt x="62" y="93"/>
                  <a:pt x="68" y="77"/>
                  <a:pt x="68" y="77"/>
                </a:cubicBezTo>
                <a:cubicBezTo>
                  <a:pt x="66" y="42"/>
                  <a:pt x="75" y="19"/>
                  <a:pt x="48" y="1"/>
                </a:cubicBezTo>
                <a:cubicBezTo>
                  <a:pt x="33" y="2"/>
                  <a:pt x="18" y="0"/>
                  <a:pt x="4" y="5"/>
                </a:cubicBezTo>
                <a:cubicBezTo>
                  <a:pt x="0" y="6"/>
                  <a:pt x="0" y="13"/>
                  <a:pt x="0" y="17"/>
                </a:cubicBezTo>
                <a:cubicBezTo>
                  <a:pt x="0" y="48"/>
                  <a:pt x="2" y="83"/>
                  <a:pt x="20" y="109"/>
                </a:cubicBezTo>
                <a:cubicBezTo>
                  <a:pt x="23" y="180"/>
                  <a:pt x="26" y="251"/>
                  <a:pt x="32" y="321"/>
                </a:cubicBezTo>
                <a:cubicBezTo>
                  <a:pt x="35" y="349"/>
                  <a:pt x="31" y="380"/>
                  <a:pt x="52" y="401"/>
                </a:cubicBezTo>
                <a:cubicBezTo>
                  <a:pt x="105" y="395"/>
                  <a:pt x="84" y="410"/>
                  <a:pt x="84" y="361"/>
                </a:cubicBezTo>
                <a:cubicBezTo>
                  <a:pt x="84" y="355"/>
                  <a:pt x="88" y="351"/>
                  <a:pt x="88" y="345"/>
                </a:cubicBezTo>
              </a:path>
            </a:pathLst>
          </a:custGeom>
          <a:solidFill>
            <a:srgbClr val="ffb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516720" y="3789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16720" y="4581360"/>
            <a:ext cx="299880" cy="84168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16720" y="2997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16720" y="5300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fe0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516720" y="4508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cdb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16720" y="371628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ddd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96360" y="4653000"/>
            <a:ext cx="107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olímeros de las proteínas ocludina      y clau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7164360" y="42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48480" y="2727360"/>
            <a:ext cx="539640" cy="312840"/>
          </a:xfrm>
          <a:custGeom>
            <a:avLst/>
            <a:gdLst/>
            <a:ahLst/>
            <a:rect l="l" t="t" r="r" b="b"/>
            <a:pathLst>
              <a:path w="340" h="197">
                <a:moveTo>
                  <a:pt x="0" y="74"/>
                </a:moveTo>
                <a:cubicBezTo>
                  <a:pt x="16" y="78"/>
                  <a:pt x="26" y="81"/>
                  <a:pt x="40" y="90"/>
                </a:cubicBezTo>
                <a:cubicBezTo>
                  <a:pt x="50" y="121"/>
                  <a:pt x="67" y="140"/>
                  <a:pt x="24" y="154"/>
                </a:cubicBezTo>
                <a:cubicBezTo>
                  <a:pt x="10" y="197"/>
                  <a:pt x="74" y="156"/>
                  <a:pt x="84" y="150"/>
                </a:cubicBezTo>
                <a:cubicBezTo>
                  <a:pt x="116" y="129"/>
                  <a:pt x="160" y="122"/>
                  <a:pt x="196" y="110"/>
                </a:cubicBezTo>
                <a:cubicBezTo>
                  <a:pt x="205" y="107"/>
                  <a:pt x="212" y="99"/>
                  <a:pt x="220" y="94"/>
                </a:cubicBezTo>
                <a:cubicBezTo>
                  <a:pt x="241" y="80"/>
                  <a:pt x="280" y="62"/>
                  <a:pt x="304" y="54"/>
                </a:cubicBezTo>
                <a:cubicBezTo>
                  <a:pt x="340" y="0"/>
                  <a:pt x="224" y="32"/>
                  <a:pt x="148" y="34"/>
                </a:cubicBezTo>
                <a:cubicBezTo>
                  <a:pt x="114" y="45"/>
                  <a:pt x="107" y="46"/>
                  <a:pt x="68" y="50"/>
                </a:cubicBezTo>
                <a:cubicBezTo>
                  <a:pt x="60" y="53"/>
                  <a:pt x="50" y="52"/>
                  <a:pt x="44" y="58"/>
                </a:cubicBezTo>
                <a:cubicBezTo>
                  <a:pt x="19" y="83"/>
                  <a:pt x="9" y="82"/>
                  <a:pt x="24" y="82"/>
                </a:cubicBezTo>
              </a:path>
            </a:pathLst>
          </a:cu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77080" y="5373720"/>
            <a:ext cx="28872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32720" y="5516640"/>
            <a:ext cx="28872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b4d8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88000" y="5661000"/>
            <a:ext cx="28908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dbee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79720" y="2826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rcRect l="34471" t="8023" r="13772" b="23181"/>
          <a:stretch/>
        </p:blipFill>
        <p:spPr>
          <a:xfrm>
            <a:off x="7812000" y="2924280"/>
            <a:ext cx="865440" cy="122544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4406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38512" t="5767" r="6502" b="7377"/>
          <a:stretch/>
        </p:blipFill>
        <p:spPr>
          <a:xfrm>
            <a:off x="1295280" y="144792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165640" y="112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03680" y="990720"/>
            <a:ext cx="413712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Belt desm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anillo alrededor de la 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do  más abajo que las un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adhe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asociados con fila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jan espacio entre las membr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ón de ancl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94920" y="14479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28600" y="2057400"/>
            <a:ext cx="28796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s proteicas en la cara citoplasmática de las membranas que unen la cadherina con citoesquele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n rigidez a los tejidos y confieren resistencia a las fuerzas me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22800" y="905040"/>
            <a:ext cx="792000" cy="122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24240" y="123840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7080" y="105552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14800" y="83196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240" y="116532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59080" y="98280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06800" y="760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08600" y="1093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1440" y="91116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55880" y="1192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57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0520" y="1343160"/>
            <a:ext cx="71424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48240" y="119232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49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92520" y="134316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87880" y="155268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89320" y="188604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170352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79880" y="155268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64120" y="1697040"/>
            <a:ext cx="628560" cy="1092240"/>
          </a:xfrm>
          <a:custGeom>
            <a:avLst/>
            <a:gdLst/>
            <a:ahLst/>
            <a:rect l="l" t="t" r="r" b="b"/>
            <a:pathLst>
              <a:path w="396" h="688">
                <a:moveTo>
                  <a:pt x="64" y="112"/>
                </a:moveTo>
                <a:cubicBezTo>
                  <a:pt x="65" y="116"/>
                  <a:pt x="66" y="120"/>
                  <a:pt x="67" y="124"/>
                </a:cubicBezTo>
                <a:cubicBezTo>
                  <a:pt x="69" y="128"/>
                  <a:pt x="72" y="132"/>
                  <a:pt x="74" y="136"/>
                </a:cubicBezTo>
                <a:cubicBezTo>
                  <a:pt x="76" y="144"/>
                  <a:pt x="80" y="160"/>
                  <a:pt x="80" y="160"/>
                </a:cubicBezTo>
                <a:cubicBezTo>
                  <a:pt x="81" y="180"/>
                  <a:pt x="84" y="200"/>
                  <a:pt x="84" y="220"/>
                </a:cubicBezTo>
                <a:cubicBezTo>
                  <a:pt x="88" y="502"/>
                  <a:pt x="5" y="634"/>
                  <a:pt x="190" y="666"/>
                </a:cubicBezTo>
                <a:cubicBezTo>
                  <a:pt x="244" y="688"/>
                  <a:pt x="198" y="661"/>
                  <a:pt x="334" y="654"/>
                </a:cubicBezTo>
                <a:cubicBezTo>
                  <a:pt x="346" y="634"/>
                  <a:pt x="370" y="634"/>
                  <a:pt x="370" y="634"/>
                </a:cubicBezTo>
                <a:cubicBezTo>
                  <a:pt x="394" y="590"/>
                  <a:pt x="382" y="537"/>
                  <a:pt x="387" y="480"/>
                </a:cubicBezTo>
                <a:cubicBezTo>
                  <a:pt x="390" y="367"/>
                  <a:pt x="394" y="266"/>
                  <a:pt x="390" y="152"/>
                </a:cubicBezTo>
                <a:cubicBezTo>
                  <a:pt x="390" y="142"/>
                  <a:pt x="396" y="93"/>
                  <a:pt x="381" y="76"/>
                </a:cubicBezTo>
                <a:cubicBezTo>
                  <a:pt x="365" y="59"/>
                  <a:pt x="360" y="60"/>
                  <a:pt x="341" y="52"/>
                </a:cubicBezTo>
                <a:cubicBezTo>
                  <a:pt x="338" y="51"/>
                  <a:pt x="332" y="48"/>
                  <a:pt x="332" y="48"/>
                </a:cubicBezTo>
                <a:cubicBezTo>
                  <a:pt x="0" y="54"/>
                  <a:pt x="170" y="0"/>
                  <a:pt x="77" y="76"/>
                </a:cubicBezTo>
                <a:cubicBezTo>
                  <a:pt x="76" y="80"/>
                  <a:pt x="72" y="112"/>
                  <a:pt x="64" y="11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5880" y="1913040"/>
            <a:ext cx="0" cy="86364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00600" y="1839960"/>
            <a:ext cx="0" cy="8636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13520" y="2503440"/>
            <a:ext cx="466560" cy="42840"/>
          </a:xfrm>
          <a:custGeom>
            <a:avLst/>
            <a:gdLst/>
            <a:ahLst/>
            <a:rect l="l" t="t" r="r" b="b"/>
            <a:pathLst>
              <a:path w="294" h="27">
                <a:moveTo>
                  <a:pt x="0" y="27"/>
                </a:moveTo>
                <a:cubicBezTo>
                  <a:pt x="29" y="23"/>
                  <a:pt x="62" y="9"/>
                  <a:pt x="92" y="6"/>
                </a:cubicBezTo>
                <a:cubicBezTo>
                  <a:pt x="128" y="3"/>
                  <a:pt x="176" y="0"/>
                  <a:pt x="210" y="3"/>
                </a:cubicBezTo>
                <a:cubicBezTo>
                  <a:pt x="244" y="6"/>
                  <a:pt x="277" y="22"/>
                  <a:pt x="294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37120" y="1697040"/>
            <a:ext cx="730440" cy="130320"/>
          </a:xfrm>
          <a:custGeom>
            <a:avLst/>
            <a:gdLst/>
            <a:ahLst/>
            <a:rect l="l" t="t" r="r" b="b"/>
            <a:pathLst>
              <a:path w="460" h="82">
                <a:moveTo>
                  <a:pt x="0" y="82"/>
                </a:moveTo>
                <a:cubicBezTo>
                  <a:pt x="7" y="78"/>
                  <a:pt x="20" y="54"/>
                  <a:pt x="39" y="43"/>
                </a:cubicBezTo>
                <a:cubicBezTo>
                  <a:pt x="58" y="32"/>
                  <a:pt x="79" y="20"/>
                  <a:pt x="112" y="13"/>
                </a:cubicBezTo>
                <a:cubicBezTo>
                  <a:pt x="160" y="6"/>
                  <a:pt x="199" y="2"/>
                  <a:pt x="238" y="1"/>
                </a:cubicBezTo>
                <a:cubicBezTo>
                  <a:pt x="277" y="0"/>
                  <a:pt x="318" y="6"/>
                  <a:pt x="346" y="10"/>
                </a:cubicBezTo>
                <a:cubicBezTo>
                  <a:pt x="374" y="14"/>
                  <a:pt x="390" y="18"/>
                  <a:pt x="409" y="28"/>
                </a:cubicBezTo>
                <a:cubicBezTo>
                  <a:pt x="416" y="28"/>
                  <a:pt x="460" y="61"/>
                  <a:pt x="460" y="6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08480" y="20574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4280" y="1946160"/>
            <a:ext cx="214200" cy="182520"/>
          </a:xfrm>
          <a:custGeom>
            <a:avLst/>
            <a:gdLst/>
            <a:ahLst/>
            <a:rect l="l" t="t" r="r" b="b"/>
            <a:pathLst>
              <a:path w="108" h="93">
                <a:moveTo>
                  <a:pt x="108" y="93"/>
                </a:moveTo>
                <a:cubicBezTo>
                  <a:pt x="88" y="86"/>
                  <a:pt x="87" y="78"/>
                  <a:pt x="57" y="69"/>
                </a:cubicBezTo>
                <a:cubicBezTo>
                  <a:pt x="48" y="64"/>
                  <a:pt x="36" y="54"/>
                  <a:pt x="36" y="54"/>
                </a:cubicBezTo>
                <a:cubicBezTo>
                  <a:pt x="28" y="42"/>
                  <a:pt x="14" y="44"/>
                  <a:pt x="9" y="30"/>
                </a:cubicBezTo>
                <a:cubicBezTo>
                  <a:pt x="8" y="2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0600" y="1951200"/>
            <a:ext cx="71640" cy="9036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cubicBezTo>
                  <a:pt x="5" y="31"/>
                  <a:pt x="26" y="0"/>
                  <a:pt x="27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700600" y="198432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38440" y="4287960"/>
            <a:ext cx="3529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5224320"/>
            <a:ext cx="367200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880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43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8608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30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5160" y="4719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1808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2752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70440" y="4503600"/>
            <a:ext cx="14472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1516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59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20244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46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970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11480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5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40208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546440" y="5152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69116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69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84352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86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41844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7552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130800" y="4144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608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7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2752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0244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43520" y="4145040"/>
            <a:ext cx="1425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330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1808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7044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5952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46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7044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5952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34680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703760" y="47214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1480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10342800">
            <a:off x="555408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0342800">
            <a:off x="591444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0342800">
            <a:off x="6202080" y="5511600"/>
            <a:ext cx="21600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402080" y="3568320"/>
            <a:ext cx="7164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469116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89880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18608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475160" y="5511960"/>
            <a:ext cx="7128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40120" y="6162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556240" y="6089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29000" y="3200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56240" y="3137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1193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403880" y="212868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95760" y="2273400"/>
            <a:ext cx="56376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24480" y="2201760"/>
            <a:ext cx="73080" cy="71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6480" y="652140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5280120" y="63054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559040" y="63781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" y="83808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NILLOS ADHERE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4320" y="2080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rcRect l="0" t="46760" r="56064" b="0"/>
          <a:stretch/>
        </p:blipFill>
        <p:spPr>
          <a:xfrm>
            <a:off x="7086600" y="2743200"/>
            <a:ext cx="1657440" cy="156204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4578840" y="533520"/>
            <a:ext cx="362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MI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s asimé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clan la cara basal de la célula a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ene filamentos de qu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190400" y="3808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3200400"/>
            <a:ext cx="2819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762120" y="838080"/>
            <a:ext cx="2807640" cy="2316240"/>
            <a:chOff x="762120" y="838080"/>
            <a:chExt cx="2807640" cy="2316240"/>
          </a:xfrm>
        </p:grpSpPr>
        <p:sp>
          <p:nvSpPr>
            <p:cNvPr id="1466" name=""/>
            <p:cNvSpPr/>
            <p:nvPr/>
          </p:nvSpPr>
          <p:spPr>
            <a:xfrm>
              <a:off x="76212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0176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130120" y="116856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2130120" y="107460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2130120" y="97992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1760" y="1263240"/>
              <a:ext cx="70920" cy="9468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98520" y="1078920"/>
              <a:ext cx="159840" cy="1674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01760" y="97992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1760" y="88488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01760" y="1688400"/>
              <a:ext cx="70920" cy="1418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2057040" y="1688400"/>
              <a:ext cx="71280" cy="14184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30120" y="1263240"/>
              <a:ext cx="71280" cy="1797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0120" y="17366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120" y="17834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7040" y="2540160"/>
              <a:ext cx="288720" cy="9684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057040" y="2540160"/>
              <a:ext cx="215640" cy="94680"/>
              <a:chOff x="2057040" y="2540160"/>
              <a:chExt cx="215640" cy="94680"/>
            </a:xfrm>
          </p:grpSpPr>
          <p:sp>
            <p:nvSpPr>
              <p:cNvPr id="1482" name=""/>
              <p:cNvSpPr/>
              <p:nvPr/>
            </p:nvSpPr>
            <p:spPr>
              <a:xfrm>
                <a:off x="205704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1434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0570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8592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7268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18592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05704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8592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1434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218592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27268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0570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2273040" y="2540160"/>
              <a:ext cx="72720" cy="9468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1371600" y="3124080"/>
            <a:ext cx="228600" cy="76320"/>
          </a:xfrm>
          <a:prstGeom prst="ellipse">
            <a:avLst/>
          </a:prstGeom>
          <a:gradFill rotWithShape="0">
            <a:gsLst>
              <a:gs pos="0">
                <a:srgbClr val="8c8113">
                  <a:alpha val="32156"/>
                </a:srgbClr>
              </a:gs>
              <a:gs pos="100000">
                <a:srgbClr val="808080">
                  <a:alpha val="23137"/>
                </a:srgbClr>
              </a:gs>
            </a:gsLst>
            <a:lin ang="5400000"/>
          </a:gradFill>
          <a:ln w="6480">
            <a:solidFill>
              <a:srgbClr val="8c680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90680" y="3073320"/>
            <a:ext cx="31680" cy="7632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48"/>
                </a:moveTo>
                <a:cubicBezTo>
                  <a:pt x="15" y="35"/>
                  <a:pt x="0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3079800"/>
            <a:ext cx="33120" cy="82440"/>
          </a:xfrm>
          <a:custGeom>
            <a:avLst/>
            <a:gdLst/>
            <a:ahLst/>
            <a:rect l="l" t="t" r="r" b="b"/>
            <a:pathLst>
              <a:path w="21" h="52">
                <a:moveTo>
                  <a:pt x="0" y="52"/>
                </a:moveTo>
                <a:cubicBezTo>
                  <a:pt x="21" y="30"/>
                  <a:pt x="12" y="45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42960" y="3086280"/>
            <a:ext cx="4932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0" y="40"/>
                </a:moveTo>
                <a:cubicBezTo>
                  <a:pt x="15" y="17"/>
                  <a:pt x="31" y="35"/>
                  <a:pt x="16" y="12"/>
                </a:cubicBezTo>
                <a:cubicBezTo>
                  <a:pt x="17" y="8"/>
                  <a:pt x="20" y="0"/>
                  <a:pt x="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06600" y="3079800"/>
            <a:ext cx="23760" cy="76320"/>
          </a:xfrm>
          <a:custGeom>
            <a:avLst/>
            <a:gdLst/>
            <a:ahLst/>
            <a:rect l="l" t="t" r="r" b="b"/>
            <a:pathLst>
              <a:path w="15" h="48">
                <a:moveTo>
                  <a:pt x="7" y="48"/>
                </a:moveTo>
                <a:cubicBezTo>
                  <a:pt x="11" y="2"/>
                  <a:pt x="0" y="14"/>
                  <a:pt x="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2819520"/>
            <a:ext cx="9144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219800">
            <a:off x="2209320" y="365724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1338120" y="189000"/>
            <a:ext cx="6467760" cy="640872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209680" y="22860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IONES EN H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Gap jun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9280" y="1413000"/>
            <a:ext cx="1081080" cy="2592360"/>
          </a:xfrm>
          <a:prstGeom prst="flowChartCollate">
            <a:avLst/>
          </a:prstGeom>
          <a:gradFill rotWithShape="0">
            <a:gsLst>
              <a:gs pos="0">
                <a:srgbClr val="fef9f4"/>
              </a:gs>
              <a:gs pos="50000">
                <a:srgbClr val="ffcc99">
                  <a:alpha val="70196"/>
                </a:srgbClr>
              </a:gs>
              <a:gs pos="100000">
                <a:srgbClr val="fef9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765440" y="1413000"/>
            <a:ext cx="403200" cy="2692440"/>
            <a:chOff x="1765440" y="1413000"/>
            <a:chExt cx="403200" cy="2692440"/>
          </a:xfrm>
        </p:grpSpPr>
        <p:sp>
          <p:nvSpPr>
            <p:cNvPr id="1507" name=""/>
            <p:cNvSpPr/>
            <p:nvPr/>
          </p:nvSpPr>
          <p:spPr>
            <a:xfrm>
              <a:off x="1765440" y="1413000"/>
              <a:ext cx="35064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7640" y="1425600"/>
              <a:ext cx="351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195640" y="1413000"/>
            <a:ext cx="475920" cy="2692440"/>
            <a:chOff x="2195640" y="1413000"/>
            <a:chExt cx="475920" cy="2692440"/>
          </a:xfrm>
        </p:grpSpPr>
        <p:sp>
          <p:nvSpPr>
            <p:cNvPr id="1510" name=""/>
            <p:cNvSpPr/>
            <p:nvPr/>
          </p:nvSpPr>
          <p:spPr>
            <a:xfrm flipH="1">
              <a:off x="2257560" y="1413000"/>
              <a:ext cx="414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195280" y="1425600"/>
              <a:ext cx="41436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rot="21336000">
            <a:off x="1978200" y="256392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1336000">
            <a:off x="2195640" y="256536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21336000">
            <a:off x="2266560" y="22014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21336000">
            <a:off x="241092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336000">
            <a:off x="1834920" y="206028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21336000">
            <a:off x="176328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1336000">
            <a:off x="2195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21336000">
            <a:off x="1979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21336000">
            <a:off x="2410920" y="335736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21336000">
            <a:off x="1692000" y="364464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979640" y="263700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979640" y="299736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5640" y="2276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27280" y="2349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57800" y="1066680"/>
            <a:ext cx="32767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conectan el citosol 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ticipan en el traspaso de señales químicas entre células, coordinando la actividad de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en el paso de moleculas pequeñas (Ca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AMP, K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luyen moléculas gr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gración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63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63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720" y="208080"/>
            <a:ext cx="296640" cy="337320"/>
          </a:xfrm>
          <a:prstGeom prst="rect">
            <a:avLst/>
          </a:prstGeom>
          <a:solidFill>
            <a:srgbClr val="00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1800" y="2743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95480" y="2895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714680" cy="21718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791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276560" y="310680"/>
            <a:ext cx="2967840" cy="4283640"/>
            <a:chOff x="1276560" y="310680"/>
            <a:chExt cx="2967840" cy="4283640"/>
          </a:xfrm>
        </p:grpSpPr>
        <p:sp>
          <p:nvSpPr>
            <p:cNvPr id="1539" name=""/>
            <p:cNvSpPr/>
            <p:nvPr/>
          </p:nvSpPr>
          <p:spPr>
            <a:xfrm rot="3120000">
              <a:off x="2324880" y="214560"/>
              <a:ext cx="792360" cy="25189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2518920"/>
                <a:gd name="textAreaBottom" fmla="*/ 2480400 h 2518920"/>
              </a:gdLst>
              <a:ahLst/>
              <a:rect l="textAreaLeft" t="textAreaTop" r="textAreaRight" b="textAreaBottom"/>
              <a:pathLst>
                <a:path w="21600" h="68645">
                  <a:moveTo>
                    <a:pt x="3600" y="0"/>
                  </a:moveTo>
                  <a:arcTo wR="3600" hR="3600" stAng="16200000" swAng="-5400000"/>
                  <a:lnTo>
                    <a:pt x="0" y="65045"/>
                  </a:lnTo>
                  <a:arcTo wR="3600" hR="3600" stAng="10800000" swAng="-5400000"/>
                  <a:lnTo>
                    <a:pt x="18000" y="686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3c9"/>
                </a:gs>
                <a:gs pos="100000">
                  <a:srgbClr val="ffcc99">
                    <a:alpha val="5098"/>
                  </a:srgbClr>
                </a:gs>
              </a:gsLst>
              <a:lin ang="7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441800">
              <a:off x="2981880" y="1458720"/>
              <a:ext cx="14472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4441800">
              <a:off x="2550600" y="1027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9603200">
              <a:off x="1143000" y="1065240"/>
              <a:ext cx="2860560" cy="368280"/>
            </a:xfrm>
            <a:prstGeom prst="parallelogram">
              <a:avLst>
                <a:gd name="adj" fmla="val 194184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a79828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603200">
              <a:off x="1578960" y="1568160"/>
              <a:ext cx="2795400" cy="360360"/>
            </a:xfrm>
            <a:prstGeom prst="parallelogram">
              <a:avLst>
                <a:gd name="adj" fmla="val 193931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73681b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441800">
              <a:off x="2406240" y="88272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4441800">
              <a:off x="2839320" y="131436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4441800">
              <a:off x="1974240" y="196380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4441800">
              <a:off x="1974240" y="1243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00040" y="2360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95320" y="279252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mica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579320" y="3368880"/>
              <a:ext cx="1223280" cy="1225440"/>
              <a:chOff x="1579320" y="3368880"/>
              <a:chExt cx="1223280" cy="1225440"/>
            </a:xfrm>
          </p:grpSpPr>
          <p:sp>
            <p:nvSpPr>
              <p:cNvPr id="1551" name=""/>
              <p:cNvSpPr/>
              <p:nvPr/>
            </p:nvSpPr>
            <p:spPr>
              <a:xfrm>
                <a:off x="1579320" y="3368880"/>
                <a:ext cx="1007640" cy="100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650240" y="3586320"/>
                <a:ext cx="86472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010600" y="3441960"/>
                <a:ext cx="72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23320" y="3729240"/>
                <a:ext cx="7189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39320" y="3802320"/>
                <a:ext cx="21528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42600" y="4089600"/>
                <a:ext cx="36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2010600" y="4378320"/>
                <a:ext cx="288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527280" y="4114800"/>
            <a:ext cx="561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6 unidades de cone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stintos genes para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xpresan uno o varios genes de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omo o heteroligómeros (distinta permea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27920" y="2819520"/>
            <a:ext cx="267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x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lindro con por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es un canal hidrofí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1640" y="304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4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9943400">
            <a:off x="3809880" y="38052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30556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oléculas de adhesión celular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  (CAMs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o de 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adhe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célul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Ms tipo inmunoglobuli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matriz celula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Uniones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(“junction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echas o “tight junctions” (sellos inter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hendidura o “gap junctions” (canales para el paso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pequeñas entre célul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atriz extracelular (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triz de multiadhes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11280" y="1484280"/>
            <a:ext cx="144360" cy="914400"/>
          </a:xfrm>
          <a:custGeom>
            <a:avLst/>
            <a:gdLst>
              <a:gd name="textAreaLeft" fmla="*/ 0 w 144360"/>
              <a:gd name="textAreaRight" fmla="*/ 5220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06280" y="-1857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003320" y="71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1928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292640"/>
            <a:ext cx="1808280" cy="231840"/>
          </a:xfrm>
          <a:custGeom>
            <a:avLst/>
            <a:gdLst/>
            <a:ahLst/>
            <a:rect l="l" t="t" r="r" b="b"/>
            <a:pathLst>
              <a:path w="1139" h="146">
                <a:moveTo>
                  <a:pt x="0" y="64"/>
                </a:moveTo>
                <a:cubicBezTo>
                  <a:pt x="68" y="19"/>
                  <a:pt x="29" y="30"/>
                  <a:pt x="120" y="40"/>
                </a:cubicBezTo>
                <a:cubicBezTo>
                  <a:pt x="153" y="51"/>
                  <a:pt x="163" y="43"/>
                  <a:pt x="192" y="24"/>
                </a:cubicBezTo>
                <a:cubicBezTo>
                  <a:pt x="275" y="32"/>
                  <a:pt x="282" y="15"/>
                  <a:pt x="304" y="80"/>
                </a:cubicBezTo>
                <a:cubicBezTo>
                  <a:pt x="320" y="75"/>
                  <a:pt x="336" y="69"/>
                  <a:pt x="352" y="64"/>
                </a:cubicBezTo>
                <a:cubicBezTo>
                  <a:pt x="360" y="61"/>
                  <a:pt x="354" y="46"/>
                  <a:pt x="360" y="40"/>
                </a:cubicBezTo>
                <a:cubicBezTo>
                  <a:pt x="366" y="34"/>
                  <a:pt x="376" y="35"/>
                  <a:pt x="384" y="32"/>
                </a:cubicBezTo>
                <a:cubicBezTo>
                  <a:pt x="403" y="35"/>
                  <a:pt x="422" y="36"/>
                  <a:pt x="440" y="40"/>
                </a:cubicBezTo>
                <a:cubicBezTo>
                  <a:pt x="448" y="42"/>
                  <a:pt x="458" y="54"/>
                  <a:pt x="464" y="48"/>
                </a:cubicBezTo>
                <a:cubicBezTo>
                  <a:pt x="476" y="36"/>
                  <a:pt x="480" y="0"/>
                  <a:pt x="480" y="0"/>
                </a:cubicBezTo>
                <a:cubicBezTo>
                  <a:pt x="572" y="23"/>
                  <a:pt x="564" y="19"/>
                  <a:pt x="576" y="112"/>
                </a:cubicBezTo>
                <a:cubicBezTo>
                  <a:pt x="605" y="93"/>
                  <a:pt x="603" y="75"/>
                  <a:pt x="632" y="56"/>
                </a:cubicBezTo>
                <a:cubicBezTo>
                  <a:pt x="695" y="62"/>
                  <a:pt x="754" y="71"/>
                  <a:pt x="816" y="80"/>
                </a:cubicBezTo>
                <a:cubicBezTo>
                  <a:pt x="838" y="146"/>
                  <a:pt x="928" y="107"/>
                  <a:pt x="984" y="104"/>
                </a:cubicBezTo>
                <a:cubicBezTo>
                  <a:pt x="999" y="58"/>
                  <a:pt x="1026" y="73"/>
                  <a:pt x="1072" y="80"/>
                </a:cubicBezTo>
                <a:cubicBezTo>
                  <a:pt x="1094" y="89"/>
                  <a:pt x="1113" y="104"/>
                  <a:pt x="1136" y="112"/>
                </a:cubicBezTo>
                <a:cubicBezTo>
                  <a:pt x="1139" y="113"/>
                  <a:pt x="1136" y="107"/>
                  <a:pt x="1136" y="10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221000"/>
            <a:ext cx="1727280" cy="30672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92200" y="394488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23" y="43"/>
                </a:moveTo>
                <a:cubicBezTo>
                  <a:pt x="35" y="143"/>
                  <a:pt x="31" y="125"/>
                  <a:pt x="135" y="115"/>
                </a:cubicBezTo>
                <a:cubicBezTo>
                  <a:pt x="132" y="96"/>
                  <a:pt x="144" y="67"/>
                  <a:pt x="127" y="59"/>
                </a:cubicBezTo>
                <a:cubicBezTo>
                  <a:pt x="0" y="0"/>
                  <a:pt x="47" y="115"/>
                  <a:pt x="23" y="43"/>
                </a:cubicBezTo>
                <a:close/>
              </a:path>
            </a:pathLst>
          </a:custGeom>
          <a:solidFill>
            <a:srgbClr val="48b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8920" y="3141360"/>
            <a:ext cx="129708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000" y="3645000"/>
            <a:ext cx="115092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0920" y="4508280"/>
            <a:ext cx="865440" cy="8650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000" y="2060640"/>
            <a:ext cx="2089080" cy="93492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781360"/>
            <a:ext cx="1584360" cy="15112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500280"/>
            <a:ext cx="215640" cy="28764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3573360"/>
            <a:ext cx="216000" cy="28728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1727280" cy="30636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52560" y="1413000"/>
            <a:ext cx="5319720" cy="417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erspectivas Bio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1"/>
          <a:srcRect l="0" t="40906" r="0" b="5162"/>
          <a:stretch/>
        </p:blipFill>
        <p:spPr>
          <a:xfrm>
            <a:off x="611280" y="907920"/>
            <a:ext cx="3960720" cy="2089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148360" y="981000"/>
            <a:ext cx="35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ahoma"/>
              </a:rPr>
              <a:t>La molécula sintética se usa para la generación de anticuerpos destinados a la detección de las esporas del antrax y para el desarrollo de una vac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6760" y="292428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etrasacárido de la superficie del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</a:rPr>
              <a:t>Bacillus anthra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208440" y="3971880"/>
            <a:ext cx="864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drogas para enfermedades ocasionadas por parásitos. 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ishman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vacunas antitum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que reconozcan glicoproteínas y glipolípidos específ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la superficie de las células malig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00600" y="162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134040" cy="246708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1304640" y="1916280"/>
            <a:ext cx="72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fí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ar vacuna contra carbohidratos específicos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r glicanos comunes con células humanas y aquellos prop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68200" y="836640"/>
            <a:ext cx="722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irus HIV esta recubierto por glicanos que imitan a los del hosped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operancia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hibidores de la biosíntesis de glica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neutralización mediante 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69120" y="1778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arrollo de vacunas anti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3811" r="0" b="0"/>
          <a:stretch/>
        </p:blipFill>
        <p:spPr>
          <a:xfrm>
            <a:off x="285840" y="1295280"/>
            <a:ext cx="8572320" cy="508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1600" y="260280"/>
            <a:ext cx="711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ínas de adehe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n en interacciones célula-célula y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156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damental en uniones homofílic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glicoproteínas integrales de membr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úan con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el mismo tipo de cadhe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xpresada por otra 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nión cabeza-cabez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iente de Ca+2 (remoción del Ca+2 causa disociación 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a+2 promueve formación de dímeros de cadhe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moléculas de cadherina se concentran en regiones especializadas de la superficie celular “las uniones adheren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unos 40 tipos estructuralmente sim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tisular característ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:  E-cadherina (epitel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cadherina (tejido nervioso y mus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716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4648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414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4365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581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5029200"/>
            <a:ext cx="60120" cy="646200"/>
          </a:xfrm>
          <a:custGeom>
            <a:avLst/>
            <a:gdLst/>
            <a:ahLst/>
            <a:rect l="l" t="t" r="r" b="b"/>
            <a:pathLst>
              <a:path w="38" h="407">
                <a:moveTo>
                  <a:pt x="38" y="407"/>
                </a:moveTo>
                <a:cubicBezTo>
                  <a:pt x="26" y="319"/>
                  <a:pt x="21" y="287"/>
                  <a:pt x="29" y="194"/>
                </a:cubicBezTo>
                <a:cubicBezTo>
                  <a:pt x="26" y="164"/>
                  <a:pt x="25" y="134"/>
                  <a:pt x="20" y="105"/>
                </a:cubicBezTo>
                <a:cubicBezTo>
                  <a:pt x="0" y="0"/>
                  <a:pt x="2" y="85"/>
                  <a:pt x="2" y="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5013360"/>
            <a:ext cx="152280" cy="609480"/>
          </a:xfrm>
          <a:custGeom>
            <a:avLst/>
            <a:gdLst/>
            <a:ahLst/>
            <a:rect l="l" t="t" r="r" b="b"/>
            <a:pathLst>
              <a:path w="75" h="409">
                <a:moveTo>
                  <a:pt x="46" y="409"/>
                </a:moveTo>
                <a:cubicBezTo>
                  <a:pt x="35" y="290"/>
                  <a:pt x="75" y="130"/>
                  <a:pt x="10" y="36"/>
                </a:cubicBezTo>
                <a:cubicBezTo>
                  <a:pt x="0" y="6"/>
                  <a:pt x="1" y="18"/>
                  <a:pt x="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4797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682560" y="5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960" y="4876920"/>
            <a:ext cx="23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uencias repetidas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ienen los sitios de un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a Ca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8320" y="441972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de dime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840" y="571500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gmento de transmembr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280" y="6021360"/>
            <a:ext cx="213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citoplas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 se une al citoesque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48360" y="5562360"/>
            <a:ext cx="12812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2276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602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760" y="5923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14046" t="30483" r="15906" b="13048"/>
          <a:stretch/>
        </p:blipFill>
        <p:spPr>
          <a:xfrm>
            <a:off x="7956720" y="260280"/>
            <a:ext cx="88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990720"/>
            <a:ext cx="8436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-CA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Nerve-cell adhesion molec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undantes en tejido nervi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la unión entre células que expresan N-CAM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uniones homofílic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s integrales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enecen a la superfamilia  de las inmunoglubilinas (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es independiente de Ca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ácido siálico modula las propiedades de las N-CAMs, debili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teracciones (por repulsión de cargas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o de un gen ún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procesamiento alternativo de m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mediante diferente  glicosil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900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s de tipo inmunoglobulina (IgG)  N-CAMs, IC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0384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53341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562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5780160"/>
            <a:ext cx="73080" cy="60624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8240" y="5130720"/>
            <a:ext cx="206280" cy="169920"/>
          </a:xfrm>
          <a:custGeom>
            <a:avLst/>
            <a:gdLst/>
            <a:ahLst/>
            <a:rect l="l" t="t" r="r" b="b"/>
            <a:pathLst>
              <a:path w="130" h="107">
                <a:moveTo>
                  <a:pt x="15" y="107"/>
                </a:moveTo>
                <a:cubicBezTo>
                  <a:pt x="28" y="0"/>
                  <a:pt x="0" y="36"/>
                  <a:pt x="130" y="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2640" y="4241880"/>
            <a:ext cx="254160" cy="19692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0" y="124"/>
                </a:moveTo>
                <a:cubicBezTo>
                  <a:pt x="11" y="106"/>
                  <a:pt x="14" y="76"/>
                  <a:pt x="35" y="71"/>
                </a:cubicBezTo>
                <a:cubicBezTo>
                  <a:pt x="70" y="62"/>
                  <a:pt x="106" y="55"/>
                  <a:pt x="142" y="44"/>
                </a:cubicBezTo>
                <a:cubicBezTo>
                  <a:pt x="153" y="11"/>
                  <a:pt x="146" y="26"/>
                  <a:pt x="1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726200">
            <a:off x="7695360" y="3200040"/>
            <a:ext cx="73080" cy="60660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36200">
            <a:off x="6588000" y="41493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4680" y="43657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ipo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9400" y="573408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25880" y="624852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citoplas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52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90480" y="33336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440" y="642960"/>
            <a:ext cx="8698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interacciones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heterofílica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integral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e carbohidratos de proteínas (glicoproteínas) y glico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unión es dependiente d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-selectina se localiza en las células endo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 en el proceso de extravasación (interacciones celulares transitori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 paso de los glóbulos blancos a través de los vasos sangui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9680" y="4195800"/>
            <a:ext cx="304560" cy="304920"/>
          </a:xfrm>
          <a:prstGeom prst="ellipse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65300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1960" y="4500720"/>
            <a:ext cx="76320" cy="152280"/>
          </a:xfrm>
          <a:prstGeom prst="rect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7400" y="409896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5280" y="570060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4811400">
            <a:off x="3815280" y="3609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43280" y="386028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93372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proteína de tipo mu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867280"/>
            <a:ext cx="1905120" cy="152640"/>
          </a:xfrm>
          <a:prstGeom prst="rect">
            <a:avLst/>
          </a:prstGeom>
          <a:gradFill rotWithShape="0">
            <a:gsLst>
              <a:gs pos="0">
                <a:srgbClr val="fadebf"/>
              </a:gs>
              <a:gs pos="50000">
                <a:srgbClr val="d5bda3"/>
              </a:gs>
              <a:gs pos="100000">
                <a:srgbClr val="fade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5715000"/>
            <a:ext cx="76320" cy="533520"/>
          </a:xfrm>
          <a:custGeom>
            <a:avLst/>
            <a:gdLst/>
            <a:ahLst/>
            <a:rect l="l" t="t" r="r" b="b"/>
            <a:pathLst>
              <a:path w="76" h="663">
                <a:moveTo>
                  <a:pt x="44" y="307"/>
                </a:moveTo>
                <a:cubicBezTo>
                  <a:pt x="76" y="310"/>
                  <a:pt x="69" y="0"/>
                  <a:pt x="69" y="56"/>
                </a:cubicBezTo>
                <a:cubicBezTo>
                  <a:pt x="69" y="98"/>
                  <a:pt x="27" y="472"/>
                  <a:pt x="16" y="512"/>
                </a:cubicBezTo>
                <a:cubicBezTo>
                  <a:pt x="10" y="529"/>
                  <a:pt x="0" y="565"/>
                  <a:pt x="0" y="565"/>
                </a:cubicBezTo>
                <a:cubicBezTo>
                  <a:pt x="3" y="595"/>
                  <a:pt x="1" y="638"/>
                  <a:pt x="24" y="66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22560" y="763560"/>
            <a:ext cx="720720" cy="504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907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3709080" y="-748440"/>
            <a:ext cx="934920" cy="338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18039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2133720"/>
            <a:ext cx="115272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244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2997360"/>
            <a:ext cx="14292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3141720"/>
            <a:ext cx="7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560" y="2854440"/>
            <a:ext cx="216000" cy="215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4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71640" y="3141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270972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34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igando de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afafa"/>
                </a:solidFill>
                <a:latin typeface="Tahoma"/>
              </a:rPr>
              <a:t>Leuco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4005360"/>
            <a:ext cx="3527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ndoteliales activ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exponen P selectina en cara lumi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célula endotel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49228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2278080"/>
            <a:ext cx="115236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1280" y="2567160"/>
            <a:ext cx="2174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0920" y="2998800"/>
            <a:ext cx="21564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99600">
            <a:off x="5722560" y="2854440"/>
            <a:ext cx="268200" cy="252360"/>
          </a:xfrm>
          <a:custGeom>
            <a:avLst/>
            <a:gdLst/>
            <a:ahLst/>
            <a:rect l="l" t="t" r="r" b="b"/>
            <a:pathLst>
              <a:path w="169" h="159">
                <a:moveTo>
                  <a:pt x="45" y="39"/>
                </a:moveTo>
                <a:cubicBezTo>
                  <a:pt x="56" y="42"/>
                  <a:pt x="66" y="44"/>
                  <a:pt x="77" y="47"/>
                </a:cubicBezTo>
                <a:cubicBezTo>
                  <a:pt x="85" y="49"/>
                  <a:pt x="93" y="58"/>
                  <a:pt x="101" y="55"/>
                </a:cubicBezTo>
                <a:cubicBezTo>
                  <a:pt x="110" y="51"/>
                  <a:pt x="109" y="37"/>
                  <a:pt x="117" y="31"/>
                </a:cubicBezTo>
                <a:cubicBezTo>
                  <a:pt x="124" y="26"/>
                  <a:pt x="133" y="26"/>
                  <a:pt x="141" y="23"/>
                </a:cubicBezTo>
                <a:cubicBezTo>
                  <a:pt x="149" y="28"/>
                  <a:pt x="162" y="30"/>
                  <a:pt x="165" y="39"/>
                </a:cubicBezTo>
                <a:cubicBezTo>
                  <a:pt x="169" y="53"/>
                  <a:pt x="130" y="140"/>
                  <a:pt x="117" y="151"/>
                </a:cubicBezTo>
                <a:cubicBezTo>
                  <a:pt x="110" y="156"/>
                  <a:pt x="101" y="156"/>
                  <a:pt x="93" y="159"/>
                </a:cubicBezTo>
                <a:cubicBezTo>
                  <a:pt x="77" y="62"/>
                  <a:pt x="107" y="150"/>
                  <a:pt x="13" y="103"/>
                </a:cubicBezTo>
                <a:cubicBezTo>
                  <a:pt x="0" y="96"/>
                  <a:pt x="84" y="0"/>
                  <a:pt x="45" y="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38920" y="1989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ctivación de integrin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25653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0920" y="3070080"/>
            <a:ext cx="14256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0920" y="3214800"/>
            <a:ext cx="72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rot="2498400">
            <a:off x="5866920" y="2997000"/>
            <a:ext cx="71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141720"/>
            <a:ext cx="0" cy="2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278136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Unión a ICAM-1  (tipo IgG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1640" y="30700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5002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39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4941720"/>
            <a:ext cx="115272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523080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4292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9480" y="591660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pel de CAMs en el proceso de 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9242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um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844640"/>
            <a:ext cx="8605800" cy="1944720"/>
          </a:xfrm>
          <a:prstGeom prst="rect">
            <a:avLst/>
          </a:prstGeom>
          <a:gradFill rotWithShape="0">
            <a:gsLst>
              <a:gs pos="0">
                <a:srgbClr val="c0c0c0">
                  <a:alpha val="56078"/>
                </a:srgbClr>
              </a:gs>
              <a:gs pos="50000">
                <a:srgbClr val="ececec">
                  <a:alpha val="39215"/>
                </a:srgbClr>
              </a:gs>
              <a:gs pos="100000">
                <a:srgbClr val="c0c0c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22:53:08Z</dcterms:created>
  <dc:creator>Cecilia Rojas</dc:creator>
  <dc:description/>
  <dc:language>en-US</dc:language>
  <cp:lastModifiedBy>Gina Madariaga</cp:lastModifiedBy>
  <dcterms:modified xsi:type="dcterms:W3CDTF">2007-10-01T15:09:07Z</dcterms:modified>
  <cp:revision>171</cp:revision>
  <dc:subject/>
  <dc:title>PowerPoint Presentation</dc:title>
</cp:coreProperties>
</file>