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101-C639-4AF8-AEA9-2164FC25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D09-8D78-429D-A938-1B041892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DBD-7A6C-44AF-9EE7-551B35AE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73A-832B-4FA1-A1AC-EEB38BCE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B31-74E0-4FA1-9C95-7C54C75C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55C-513D-4036-882E-43E85FC2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1B0-F718-4BAD-A3F2-A8478F5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6B2-13B9-4E3A-A926-AAB3458D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2AE-B272-49E7-B446-E73F7497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210-C6EF-4028-8128-C4784C2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8D3-7F7B-45D5-A278-4495F74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83A-D57C-4837-8392-CE34E0C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EEA-9809-4B6D-9D26-BBA1223C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32416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1080" y="62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3047760" cy="228600"/>
          </a:xfrm>
          <a:prstGeom prst="rect">
            <a:avLst/>
          </a:prstGeom>
          <a:solidFill>
            <a:srgbClr val="e3da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112536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incipal de las moléculas d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hesión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olucradas en interacciones déb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heterodímer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oce 17 tipos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8 de subunida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distintas combinaciones d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élulas expresan distintas 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tas integrinas se unen a distintos ligando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943600"/>
            <a:ext cx="32004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e de la matriz extracelular (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5320" y="4322880"/>
            <a:ext cx="363600" cy="108252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38320" y="4309920"/>
            <a:ext cx="363600" cy="1082880"/>
          </a:xfrm>
          <a:custGeom>
            <a:avLst/>
            <a:gdLst/>
            <a:ahLst/>
            <a:rect l="l" t="t" r="r" b="b"/>
            <a:pathLst>
              <a:path w="229" h="682">
                <a:moveTo>
                  <a:pt x="85" y="13"/>
                </a:moveTo>
                <a:cubicBezTo>
                  <a:pt x="116" y="5"/>
                  <a:pt x="128" y="0"/>
                  <a:pt x="170" y="13"/>
                </a:cubicBezTo>
                <a:cubicBezTo>
                  <a:pt x="181" y="16"/>
                  <a:pt x="179" y="34"/>
                  <a:pt x="186" y="45"/>
                </a:cubicBezTo>
                <a:cubicBezTo>
                  <a:pt x="197" y="126"/>
                  <a:pt x="199" y="205"/>
                  <a:pt x="218" y="285"/>
                </a:cubicBezTo>
                <a:cubicBezTo>
                  <a:pt x="214" y="413"/>
                  <a:pt x="224" y="436"/>
                  <a:pt x="197" y="525"/>
                </a:cubicBezTo>
                <a:cubicBezTo>
                  <a:pt x="209" y="578"/>
                  <a:pt x="190" y="525"/>
                  <a:pt x="218" y="552"/>
                </a:cubicBezTo>
                <a:cubicBezTo>
                  <a:pt x="219" y="553"/>
                  <a:pt x="228" y="581"/>
                  <a:pt x="229" y="584"/>
                </a:cubicBezTo>
                <a:cubicBezTo>
                  <a:pt x="227" y="596"/>
                  <a:pt x="228" y="609"/>
                  <a:pt x="224" y="621"/>
                </a:cubicBezTo>
                <a:cubicBezTo>
                  <a:pt x="221" y="626"/>
                  <a:pt x="212" y="627"/>
                  <a:pt x="208" y="632"/>
                </a:cubicBezTo>
                <a:cubicBezTo>
                  <a:pt x="200" y="638"/>
                  <a:pt x="187" y="655"/>
                  <a:pt x="176" y="659"/>
                </a:cubicBezTo>
                <a:cubicBezTo>
                  <a:pt x="149" y="666"/>
                  <a:pt x="122" y="665"/>
                  <a:pt x="96" y="675"/>
                </a:cubicBezTo>
                <a:cubicBezTo>
                  <a:pt x="69" y="672"/>
                  <a:pt x="35" y="682"/>
                  <a:pt x="16" y="664"/>
                </a:cubicBezTo>
                <a:cubicBezTo>
                  <a:pt x="3" y="652"/>
                  <a:pt x="0" y="616"/>
                  <a:pt x="0" y="616"/>
                </a:cubicBezTo>
                <a:cubicBezTo>
                  <a:pt x="9" y="584"/>
                  <a:pt x="32" y="561"/>
                  <a:pt x="64" y="552"/>
                </a:cubicBezTo>
                <a:cubicBezTo>
                  <a:pt x="93" y="504"/>
                  <a:pt x="69" y="435"/>
                  <a:pt x="64" y="381"/>
                </a:cubicBezTo>
                <a:cubicBezTo>
                  <a:pt x="60" y="296"/>
                  <a:pt x="53" y="218"/>
                  <a:pt x="42" y="136"/>
                </a:cubicBezTo>
                <a:cubicBezTo>
                  <a:pt x="50" y="65"/>
                  <a:pt x="50" y="8"/>
                  <a:pt x="138" y="8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06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494800" y="3852720"/>
            <a:ext cx="42840" cy="457200"/>
          </a:xfrm>
          <a:custGeom>
            <a:avLst/>
            <a:gdLst/>
            <a:ahLst/>
            <a:rect l="l" t="t" r="r" b="b"/>
            <a:pathLst>
              <a:path w="27" h="288">
                <a:moveTo>
                  <a:pt x="16" y="288"/>
                </a:moveTo>
                <a:cubicBezTo>
                  <a:pt x="0" y="235"/>
                  <a:pt x="8" y="235"/>
                  <a:pt x="27" y="187"/>
                </a:cubicBezTo>
                <a:cubicBezTo>
                  <a:pt x="22" y="175"/>
                  <a:pt x="12" y="166"/>
                  <a:pt x="11" y="155"/>
                </a:cubicBezTo>
                <a:cubicBezTo>
                  <a:pt x="6" y="103"/>
                  <a:pt x="5" y="0"/>
                  <a:pt x="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40120" y="4919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1000" y="4995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1520" y="4441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2280" y="3657600"/>
            <a:ext cx="3530520" cy="252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g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gand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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ágenos, lam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C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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onectina, vitron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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inógeno, C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:    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ones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4520" y="260280"/>
            <a:ext cx="610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ÓLECULAS DE ADHESION CE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0000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47920" y="5638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5338800"/>
            <a:ext cx="2514600" cy="231840"/>
            <a:chOff x="1295280" y="5338800"/>
            <a:chExt cx="2514600" cy="231840"/>
          </a:xfrm>
        </p:grpSpPr>
        <p:sp>
          <p:nvSpPr>
            <p:cNvPr id="302" name=""/>
            <p:cNvSpPr/>
            <p:nvPr/>
          </p:nvSpPr>
          <p:spPr>
            <a:xfrm>
              <a:off x="1295280" y="5410080"/>
              <a:ext cx="2514600" cy="15264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5428800"/>
              <a:ext cx="1587600" cy="1270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899200">
              <a:off x="2925360" y="5428440"/>
              <a:ext cx="357120" cy="5220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5424120"/>
              <a:ext cx="2359440" cy="12492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4160" y="5421960"/>
              <a:ext cx="2297160" cy="12960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143000" y="3062160"/>
          <a:ext cx="6858000" cy="4572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8360" y="0"/>
          <a:ext cx="5398920" cy="3645000"/>
        </p:xfrm>
        <a:graphic>
          <a:graphicData uri="http://schemas.openxmlformats.org/drawingml/2006/table">
            <a:tbl>
              <a:tblPr/>
              <a:tblGrid>
                <a:gridCol w="5398920"/>
              </a:tblGrid>
              <a:tr h="364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yoría de las integri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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n la matriz extracelular a los filamentos de actina en unas estructuras llamadas contactos foc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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 la matriz extracelular a l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, en estruct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das hemidesmoso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más adelan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676440" cy="1524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rcRect l="0" t="0" r="37565" b="0"/>
          <a:stretch/>
        </p:blipFill>
        <p:spPr>
          <a:xfrm>
            <a:off x="1295280" y="3429000"/>
            <a:ext cx="3657600" cy="1628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2987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9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2120" y="527040"/>
            <a:ext cx="7619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570960"/>
            <a:ext cx="74880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l de las integrin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más de su papel en las interacciones célula - matriz extracelular, las integrinas participan en transducción de señales hacia el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mbién desde el interior hacia el extra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ón de integrinas a componentes de la matriz  lleva a la agrupación de la integrinas en “parches” en la membrana plasmática. Esto favorece la asociación entre proteínas citoplasmáticas con en dominio intracelular de las integrinas, que gatilla cambios intracelulares, por ej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en la activación de quinasas o fosfa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pH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concentración intracelular de [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] que regulan procesos intra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en respuesta inmune, coagulación, diferenciación celular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50800" y="765000"/>
            <a:ext cx="3311640" cy="4824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62520" y="1368360"/>
            <a:ext cx="428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eñalización asociada a integ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fundamental en control de la supervivencia o muerte 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Cuando una célula epitelial pierde contacto con su lámina basal, se inicia el proceso de 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69080" cy="465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1640" y="476280"/>
            <a:ext cx="71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s integ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 control de las interacciones célula-célula en la progresión tum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25520" y="235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riz extracelular  (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0" y="1197000"/>
            <a:ext cx="80611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ibuye a las propiedades estructurales/mecánicas del tejid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cia a la t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ortiguación y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 en comunicación inter e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mina la disponibilidad y concentración de moléculas solubles que actúan co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ñales para proliferación, diferenciación y otras funcion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l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 sustrato para movilización celular (organogénes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omponentes de la ME varía entre tipos celula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olág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Fibron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Cover Figure"/>
          <p:cNvPicPr/>
          <p:nvPr/>
        </p:nvPicPr>
        <p:blipFill>
          <a:blip r:embed="rId1"/>
          <a:srcRect l="0" t="52400" r="0" b="0"/>
          <a:stretch/>
        </p:blipFill>
        <p:spPr>
          <a:xfrm>
            <a:off x="5724360" y="1700280"/>
            <a:ext cx="1737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228600"/>
            <a:ext cx="78487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lico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isten 16 t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os más abundantes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(piel , hueso, lig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(cartíla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tipo III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(músculo, vasos sanguín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imeriza formado fibras o redes insolu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istencia a la t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06864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básica: triple 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88080" y="6049800"/>
            <a:ext cx="501840" cy="567000"/>
          </a:xfrm>
          <a:custGeom>
            <a:avLst/>
            <a:gdLst/>
            <a:ahLst/>
            <a:rect l="l" t="t" r="r" b="b"/>
            <a:pathLst>
              <a:path w="316" h="357">
                <a:moveTo>
                  <a:pt x="136" y="0"/>
                </a:moveTo>
                <a:cubicBezTo>
                  <a:pt x="109" y="7"/>
                  <a:pt x="84" y="23"/>
                  <a:pt x="60" y="36"/>
                </a:cubicBezTo>
                <a:cubicBezTo>
                  <a:pt x="52" y="41"/>
                  <a:pt x="44" y="47"/>
                  <a:pt x="36" y="52"/>
                </a:cubicBezTo>
                <a:cubicBezTo>
                  <a:pt x="32" y="55"/>
                  <a:pt x="24" y="60"/>
                  <a:pt x="24" y="60"/>
                </a:cubicBezTo>
                <a:cubicBezTo>
                  <a:pt x="14" y="75"/>
                  <a:pt x="8" y="87"/>
                  <a:pt x="4" y="104"/>
                </a:cubicBezTo>
                <a:cubicBezTo>
                  <a:pt x="6" y="157"/>
                  <a:pt x="0" y="228"/>
                  <a:pt x="32" y="276"/>
                </a:cubicBezTo>
                <a:cubicBezTo>
                  <a:pt x="40" y="307"/>
                  <a:pt x="81" y="330"/>
                  <a:pt x="112" y="336"/>
                </a:cubicBezTo>
                <a:cubicBezTo>
                  <a:pt x="130" y="348"/>
                  <a:pt x="151" y="352"/>
                  <a:pt x="172" y="356"/>
                </a:cubicBezTo>
                <a:cubicBezTo>
                  <a:pt x="199" y="355"/>
                  <a:pt x="226" y="357"/>
                  <a:pt x="252" y="352"/>
                </a:cubicBezTo>
                <a:cubicBezTo>
                  <a:pt x="261" y="350"/>
                  <a:pt x="269" y="330"/>
                  <a:pt x="272" y="324"/>
                </a:cubicBezTo>
                <a:cubicBezTo>
                  <a:pt x="288" y="296"/>
                  <a:pt x="298" y="267"/>
                  <a:pt x="308" y="236"/>
                </a:cubicBezTo>
                <a:cubicBezTo>
                  <a:pt x="306" y="200"/>
                  <a:pt x="316" y="160"/>
                  <a:pt x="300" y="128"/>
                </a:cubicBezTo>
                <a:cubicBezTo>
                  <a:pt x="287" y="103"/>
                  <a:pt x="242" y="81"/>
                  <a:pt x="216" y="72"/>
                </a:cubicBezTo>
                <a:cubicBezTo>
                  <a:pt x="206" y="57"/>
                  <a:pt x="191" y="42"/>
                  <a:pt x="176" y="32"/>
                </a:cubicBezTo>
                <a:cubicBezTo>
                  <a:pt x="166" y="18"/>
                  <a:pt x="155" y="0"/>
                  <a:pt x="136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64000" y="2905920"/>
            <a:ext cx="3887640" cy="451800"/>
            <a:chOff x="3564000" y="2905920"/>
            <a:chExt cx="3887640" cy="451800"/>
          </a:xfrm>
        </p:grpSpPr>
        <p:sp>
          <p:nvSpPr>
            <p:cNvPr id="328" name=""/>
            <p:cNvSpPr/>
            <p:nvPr/>
          </p:nvSpPr>
          <p:spPr>
            <a:xfrm>
              <a:off x="3564000" y="2997360"/>
              <a:ext cx="3887640" cy="360360"/>
            </a:xfrm>
            <a:prstGeom prst="flowChartMagneticDrum">
              <a:avLst/>
            </a:prstGeom>
            <a:gradFill rotWithShape="0">
              <a:gsLst>
                <a:gs pos="0">
                  <a:srgbClr val="98b6b9"/>
                </a:gs>
                <a:gs pos="50000">
                  <a:srgbClr val="bbe0e3"/>
                </a:gs>
                <a:gs pos="100000">
                  <a:srgbClr val="98b6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041640"/>
              <a:ext cx="2454480" cy="299880"/>
            </a:xfrm>
            <a:custGeom>
              <a:avLst/>
              <a:gdLst/>
              <a:ahLst/>
              <a:rect l="l" t="t" r="r" b="b"/>
              <a:pathLst>
                <a:path w="1546" h="301">
                  <a:moveTo>
                    <a:pt x="0" y="93"/>
                  </a:moveTo>
                  <a:cubicBezTo>
                    <a:pt x="61" y="78"/>
                    <a:pt x="116" y="49"/>
                    <a:pt x="176" y="29"/>
                  </a:cubicBezTo>
                  <a:cubicBezTo>
                    <a:pt x="207" y="19"/>
                    <a:pt x="241" y="21"/>
                    <a:pt x="272" y="13"/>
                  </a:cubicBezTo>
                  <a:cubicBezTo>
                    <a:pt x="287" y="14"/>
                    <a:pt x="509" y="0"/>
                    <a:pt x="576" y="45"/>
                  </a:cubicBezTo>
                  <a:cubicBezTo>
                    <a:pt x="629" y="80"/>
                    <a:pt x="688" y="110"/>
                    <a:pt x="744" y="141"/>
                  </a:cubicBezTo>
                  <a:cubicBezTo>
                    <a:pt x="808" y="177"/>
                    <a:pt x="875" y="220"/>
                    <a:pt x="936" y="261"/>
                  </a:cubicBezTo>
                  <a:cubicBezTo>
                    <a:pt x="974" y="286"/>
                    <a:pt x="1053" y="295"/>
                    <a:pt x="1096" y="301"/>
                  </a:cubicBezTo>
                  <a:cubicBezTo>
                    <a:pt x="1179" y="298"/>
                    <a:pt x="1262" y="300"/>
                    <a:pt x="1344" y="293"/>
                  </a:cubicBezTo>
                  <a:cubicBezTo>
                    <a:pt x="1388" y="289"/>
                    <a:pt x="1429" y="260"/>
                    <a:pt x="1464" y="237"/>
                  </a:cubicBezTo>
                  <a:cubicBezTo>
                    <a:pt x="1472" y="232"/>
                    <a:pt x="1488" y="221"/>
                    <a:pt x="1488" y="221"/>
                  </a:cubicBezTo>
                  <a:cubicBezTo>
                    <a:pt x="1493" y="213"/>
                    <a:pt x="1546" y="157"/>
                    <a:pt x="1546" y="15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899200">
              <a:off x="6084360" y="3041640"/>
              <a:ext cx="552600" cy="123840"/>
            </a:xfrm>
            <a:custGeom>
              <a:avLst/>
              <a:gdLst/>
              <a:ahLst/>
              <a:rect l="l" t="t" r="r" b="b"/>
              <a:pathLst>
                <a:path w="348" h="139">
                  <a:moveTo>
                    <a:pt x="0" y="0"/>
                  </a:moveTo>
                  <a:cubicBezTo>
                    <a:pt x="9" y="27"/>
                    <a:pt x="5" y="21"/>
                    <a:pt x="28" y="32"/>
                  </a:cubicBezTo>
                  <a:cubicBezTo>
                    <a:pt x="48" y="42"/>
                    <a:pt x="64" y="66"/>
                    <a:pt x="84" y="76"/>
                  </a:cubicBezTo>
                  <a:cubicBezTo>
                    <a:pt x="117" y="92"/>
                    <a:pt x="165" y="111"/>
                    <a:pt x="200" y="120"/>
                  </a:cubicBezTo>
                  <a:cubicBezTo>
                    <a:pt x="232" y="128"/>
                    <a:pt x="260" y="126"/>
                    <a:pt x="292" y="136"/>
                  </a:cubicBezTo>
                  <a:cubicBezTo>
                    <a:pt x="295" y="137"/>
                    <a:pt x="348" y="139"/>
                    <a:pt x="348" y="12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3030480"/>
              <a:ext cx="3647880" cy="295200"/>
            </a:xfrm>
            <a:custGeom>
              <a:avLst/>
              <a:gdLst/>
              <a:ahLst/>
              <a:rect l="l" t="t" r="r" b="b"/>
              <a:pathLst>
                <a:path w="2298" h="296">
                  <a:moveTo>
                    <a:pt x="0" y="128"/>
                  </a:moveTo>
                  <a:cubicBezTo>
                    <a:pt x="8" y="131"/>
                    <a:pt x="0" y="128"/>
                    <a:pt x="8" y="132"/>
                  </a:cubicBezTo>
                  <a:cubicBezTo>
                    <a:pt x="17" y="136"/>
                    <a:pt x="27" y="172"/>
                    <a:pt x="36" y="176"/>
                  </a:cubicBezTo>
                  <a:cubicBezTo>
                    <a:pt x="51" y="183"/>
                    <a:pt x="28" y="168"/>
                    <a:pt x="28" y="168"/>
                  </a:cubicBezTo>
                  <a:cubicBezTo>
                    <a:pt x="44" y="184"/>
                    <a:pt x="9" y="116"/>
                    <a:pt x="16" y="137"/>
                  </a:cubicBezTo>
                  <a:cubicBezTo>
                    <a:pt x="19" y="145"/>
                    <a:pt x="19" y="154"/>
                    <a:pt x="24" y="161"/>
                  </a:cubicBezTo>
                  <a:cubicBezTo>
                    <a:pt x="30" y="169"/>
                    <a:pt x="40" y="172"/>
                    <a:pt x="48" y="177"/>
                  </a:cubicBezTo>
                  <a:cubicBezTo>
                    <a:pt x="70" y="210"/>
                    <a:pt x="102" y="216"/>
                    <a:pt x="136" y="233"/>
                  </a:cubicBezTo>
                  <a:cubicBezTo>
                    <a:pt x="218" y="274"/>
                    <a:pt x="232" y="273"/>
                    <a:pt x="328" y="281"/>
                  </a:cubicBezTo>
                  <a:cubicBezTo>
                    <a:pt x="387" y="278"/>
                    <a:pt x="446" y="279"/>
                    <a:pt x="504" y="273"/>
                  </a:cubicBezTo>
                  <a:cubicBezTo>
                    <a:pt x="568" y="266"/>
                    <a:pt x="627" y="217"/>
                    <a:pt x="680" y="185"/>
                  </a:cubicBezTo>
                  <a:cubicBezTo>
                    <a:pt x="696" y="175"/>
                    <a:pt x="710" y="159"/>
                    <a:pt x="728" y="153"/>
                  </a:cubicBezTo>
                  <a:cubicBezTo>
                    <a:pt x="770" y="139"/>
                    <a:pt x="808" y="109"/>
                    <a:pt x="848" y="89"/>
                  </a:cubicBezTo>
                  <a:cubicBezTo>
                    <a:pt x="871" y="77"/>
                    <a:pt x="952" y="34"/>
                    <a:pt x="952" y="34"/>
                  </a:cubicBezTo>
                  <a:cubicBezTo>
                    <a:pt x="993" y="19"/>
                    <a:pt x="1041" y="15"/>
                    <a:pt x="1090" y="10"/>
                  </a:cubicBezTo>
                  <a:cubicBezTo>
                    <a:pt x="1140" y="5"/>
                    <a:pt x="1211" y="0"/>
                    <a:pt x="1252" y="4"/>
                  </a:cubicBezTo>
                  <a:cubicBezTo>
                    <a:pt x="1294" y="22"/>
                    <a:pt x="1280" y="10"/>
                    <a:pt x="1336" y="34"/>
                  </a:cubicBezTo>
                  <a:cubicBezTo>
                    <a:pt x="1342" y="52"/>
                    <a:pt x="1468" y="94"/>
                    <a:pt x="1468" y="94"/>
                  </a:cubicBezTo>
                  <a:cubicBezTo>
                    <a:pt x="1522" y="118"/>
                    <a:pt x="1578" y="167"/>
                    <a:pt x="1612" y="178"/>
                  </a:cubicBezTo>
                  <a:cubicBezTo>
                    <a:pt x="1636" y="186"/>
                    <a:pt x="1702" y="218"/>
                    <a:pt x="1726" y="226"/>
                  </a:cubicBezTo>
                  <a:cubicBezTo>
                    <a:pt x="1734" y="229"/>
                    <a:pt x="1834" y="256"/>
                    <a:pt x="1822" y="262"/>
                  </a:cubicBezTo>
                  <a:cubicBezTo>
                    <a:pt x="1930" y="268"/>
                    <a:pt x="1924" y="296"/>
                    <a:pt x="2056" y="268"/>
                  </a:cubicBezTo>
                  <a:cubicBezTo>
                    <a:pt x="2073" y="267"/>
                    <a:pt x="2135" y="227"/>
                    <a:pt x="2135" y="227"/>
                  </a:cubicBezTo>
                  <a:cubicBezTo>
                    <a:pt x="2157" y="195"/>
                    <a:pt x="2181" y="174"/>
                    <a:pt x="2215" y="151"/>
                  </a:cubicBezTo>
                  <a:cubicBezTo>
                    <a:pt x="2276" y="110"/>
                    <a:pt x="2178" y="136"/>
                    <a:pt x="2270" y="96"/>
                  </a:cubicBezTo>
                  <a:cubicBezTo>
                    <a:pt x="2287" y="77"/>
                    <a:pt x="2279" y="83"/>
                    <a:pt x="2294" y="80"/>
                  </a:cubicBezTo>
                  <a:cubicBezTo>
                    <a:pt x="2298" y="77"/>
                    <a:pt x="2281" y="80"/>
                    <a:pt x="2294" y="8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4120" y="3025800"/>
              <a:ext cx="3551400" cy="306360"/>
            </a:xfrm>
            <a:custGeom>
              <a:avLst/>
              <a:gdLst/>
              <a:ahLst/>
              <a:rect l="l" t="t" r="r" b="b"/>
              <a:pathLst>
                <a:path w="2237" h="307">
                  <a:moveTo>
                    <a:pt x="16" y="205"/>
                  </a:moveTo>
                  <a:cubicBezTo>
                    <a:pt x="24" y="208"/>
                    <a:pt x="0" y="193"/>
                    <a:pt x="8" y="197"/>
                  </a:cubicBezTo>
                  <a:cubicBezTo>
                    <a:pt x="17" y="201"/>
                    <a:pt x="23" y="209"/>
                    <a:pt x="32" y="213"/>
                  </a:cubicBezTo>
                  <a:cubicBezTo>
                    <a:pt x="47" y="220"/>
                    <a:pt x="16" y="213"/>
                    <a:pt x="16" y="213"/>
                  </a:cubicBezTo>
                  <a:cubicBezTo>
                    <a:pt x="32" y="229"/>
                    <a:pt x="1" y="176"/>
                    <a:pt x="8" y="197"/>
                  </a:cubicBezTo>
                  <a:cubicBezTo>
                    <a:pt x="11" y="205"/>
                    <a:pt x="27" y="214"/>
                    <a:pt x="32" y="221"/>
                  </a:cubicBezTo>
                  <a:cubicBezTo>
                    <a:pt x="38" y="229"/>
                    <a:pt x="8" y="208"/>
                    <a:pt x="16" y="213"/>
                  </a:cubicBezTo>
                  <a:cubicBezTo>
                    <a:pt x="38" y="246"/>
                    <a:pt x="32" y="221"/>
                    <a:pt x="48" y="221"/>
                  </a:cubicBezTo>
                  <a:cubicBezTo>
                    <a:pt x="130" y="262"/>
                    <a:pt x="80" y="229"/>
                    <a:pt x="24" y="237"/>
                  </a:cubicBezTo>
                  <a:cubicBezTo>
                    <a:pt x="83" y="234"/>
                    <a:pt x="91" y="238"/>
                    <a:pt x="149" y="232"/>
                  </a:cubicBezTo>
                  <a:cubicBezTo>
                    <a:pt x="213" y="225"/>
                    <a:pt x="272" y="176"/>
                    <a:pt x="325" y="144"/>
                  </a:cubicBezTo>
                  <a:cubicBezTo>
                    <a:pt x="341" y="134"/>
                    <a:pt x="355" y="118"/>
                    <a:pt x="373" y="112"/>
                  </a:cubicBezTo>
                  <a:cubicBezTo>
                    <a:pt x="415" y="98"/>
                    <a:pt x="440" y="77"/>
                    <a:pt x="480" y="57"/>
                  </a:cubicBezTo>
                  <a:cubicBezTo>
                    <a:pt x="503" y="45"/>
                    <a:pt x="606" y="15"/>
                    <a:pt x="606" y="15"/>
                  </a:cubicBezTo>
                  <a:cubicBezTo>
                    <a:pt x="726" y="18"/>
                    <a:pt x="805" y="17"/>
                    <a:pt x="925" y="24"/>
                  </a:cubicBezTo>
                  <a:cubicBezTo>
                    <a:pt x="949" y="25"/>
                    <a:pt x="1011" y="47"/>
                    <a:pt x="1037" y="56"/>
                  </a:cubicBezTo>
                  <a:cubicBezTo>
                    <a:pt x="1045" y="59"/>
                    <a:pt x="1061" y="64"/>
                    <a:pt x="1061" y="64"/>
                  </a:cubicBezTo>
                  <a:cubicBezTo>
                    <a:pt x="1084" y="87"/>
                    <a:pt x="1190" y="142"/>
                    <a:pt x="1224" y="153"/>
                  </a:cubicBezTo>
                  <a:cubicBezTo>
                    <a:pt x="1248" y="161"/>
                    <a:pt x="1253" y="184"/>
                    <a:pt x="1277" y="192"/>
                  </a:cubicBezTo>
                  <a:cubicBezTo>
                    <a:pt x="1285" y="195"/>
                    <a:pt x="1404" y="249"/>
                    <a:pt x="1404" y="249"/>
                  </a:cubicBezTo>
                  <a:cubicBezTo>
                    <a:pt x="1564" y="289"/>
                    <a:pt x="1584" y="307"/>
                    <a:pt x="1716" y="279"/>
                  </a:cubicBezTo>
                  <a:cubicBezTo>
                    <a:pt x="1748" y="279"/>
                    <a:pt x="1854" y="225"/>
                    <a:pt x="1854" y="225"/>
                  </a:cubicBezTo>
                  <a:cubicBezTo>
                    <a:pt x="1876" y="193"/>
                    <a:pt x="1916" y="164"/>
                    <a:pt x="1950" y="141"/>
                  </a:cubicBezTo>
                  <a:cubicBezTo>
                    <a:pt x="2022" y="87"/>
                    <a:pt x="2026" y="73"/>
                    <a:pt x="2118" y="33"/>
                  </a:cubicBezTo>
                  <a:cubicBezTo>
                    <a:pt x="2166" y="1"/>
                    <a:pt x="2189" y="6"/>
                    <a:pt x="2202" y="3"/>
                  </a:cubicBezTo>
                  <a:cubicBezTo>
                    <a:pt x="2215" y="0"/>
                    <a:pt x="2237" y="8"/>
                    <a:pt x="2196" y="15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5400000">
            <a:off x="5508000" y="2923920"/>
            <a:ext cx="432000" cy="2737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4149720"/>
            <a:ext cx="8964720" cy="1511280"/>
            <a:chOff x="179280" y="4149720"/>
            <a:chExt cx="8964720" cy="1511280"/>
          </a:xfrm>
        </p:grpSpPr>
        <p:sp>
          <p:nvSpPr>
            <p:cNvPr id="335" name=""/>
            <p:cNvSpPr/>
            <p:nvPr/>
          </p:nvSpPr>
          <p:spPr>
            <a:xfrm>
              <a:off x="468360" y="4149720"/>
              <a:ext cx="33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ibrillas (50- 200 nm de diámet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000" y="4653000"/>
              <a:ext cx="8640720" cy="1008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>
                    <a:alpha val="36078"/>
                  </a:srgbClr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62240" y="4797360"/>
              <a:ext cx="29635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3720" y="4797360"/>
              <a:ext cx="2963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240" y="5157720"/>
              <a:ext cx="296388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7000" y="5157720"/>
              <a:ext cx="2963520" cy="716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5516640"/>
              <a:ext cx="263016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53200" y="5516640"/>
              <a:ext cx="266688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8480" y="5516640"/>
              <a:ext cx="2965320" cy="7308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672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9542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4520" y="5227560"/>
              <a:ext cx="763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362040" y="5227560"/>
              <a:ext cx="7596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400440" y="522756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2920" y="522756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19920" y="5157720"/>
              <a:ext cx="2224080" cy="6984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1440" y="4870440"/>
              <a:ext cx="7452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68960" y="4870440"/>
              <a:ext cx="74880" cy="287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280" y="4653000"/>
              <a:ext cx="324000" cy="10080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64720" y="4653000"/>
              <a:ext cx="179280" cy="1008000"/>
            </a:xfrm>
            <a:prstGeom prst="flowChartDelay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328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58560" y="371628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ena polipept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47640" y="3789360"/>
            <a:ext cx="6337440" cy="1224000"/>
          </a:xfrm>
          <a:prstGeom prst="parallelogram">
            <a:avLst>
              <a:gd name="adj" fmla="val 129441"/>
            </a:avLst>
          </a:prstGeom>
          <a:solidFill>
            <a:srgbClr val="c6c9bb"/>
          </a:solidFill>
          <a:ln w="57240">
            <a:solidFill>
              <a:srgbClr val="c6c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609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lágeno de tip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1484280"/>
            <a:ext cx="1008000" cy="28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95640" y="1341360"/>
            <a:ext cx="936720" cy="432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1197000"/>
            <a:ext cx="216000" cy="217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79736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479736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19640" y="4581360"/>
            <a:ext cx="43164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4653000"/>
            <a:ext cx="7192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410920" y="4437000"/>
            <a:ext cx="2890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19640" y="4653000"/>
            <a:ext cx="0" cy="4316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436572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700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4005360"/>
            <a:ext cx="14472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11640" y="4221000"/>
            <a:ext cx="36036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22100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64000" y="3860280"/>
            <a:ext cx="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4437000"/>
            <a:ext cx="57636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43700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508720" y="4653000"/>
            <a:ext cx="71280" cy="360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4076640"/>
            <a:ext cx="86364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580000" y="3860640"/>
            <a:ext cx="287280" cy="21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860640"/>
            <a:ext cx="5050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94172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67280" y="4076640"/>
            <a:ext cx="43344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564000" y="4076280"/>
            <a:ext cx="50328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564000" y="3789000"/>
            <a:ext cx="0" cy="289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4005360"/>
            <a:ext cx="144360" cy="14292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443700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3860640"/>
            <a:ext cx="7308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5084640"/>
            <a:ext cx="72720" cy="7164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00360" y="508464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3789360"/>
            <a:ext cx="73080" cy="71280"/>
          </a:xfrm>
          <a:prstGeom prst="ellipse">
            <a:avLst/>
          </a:prstGeom>
          <a:solidFill>
            <a:srgbClr val="0066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0" y="3716280"/>
            <a:ext cx="7308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u hoja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4724280"/>
            <a:ext cx="73080" cy="1152720"/>
          </a:xfrm>
          <a:prstGeom prst="downArrow">
            <a:avLst>
              <a:gd name="adj1" fmla="val 50000"/>
              <a:gd name="adj2" fmla="val 39433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602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C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3270000">
            <a:off x="3287880" y="3602520"/>
            <a:ext cx="1152720" cy="71640"/>
          </a:xfrm>
          <a:prstGeom prst="leftArrow">
            <a:avLst>
              <a:gd name="adj1" fmla="val 50000"/>
              <a:gd name="adj2" fmla="val 4022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2852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ón 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2060640"/>
            <a:ext cx="58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tipo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stituye la estructura básica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341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1413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72600" y="380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i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3235320"/>
            <a:ext cx="228600" cy="2895480"/>
          </a:xfrm>
          <a:prstGeom prst="rect">
            <a:avLst/>
          </a:prstGeom>
          <a:solidFill>
            <a:srgbClr val="7dc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4149720"/>
            <a:ext cx="152640" cy="129528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986360" y="3654000"/>
            <a:ext cx="152280" cy="838440"/>
          </a:xfrm>
          <a:prstGeom prst="rect">
            <a:avLst/>
          </a:prstGeom>
          <a:solidFill>
            <a:srgbClr val="59ba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0120" y="4149720"/>
            <a:ext cx="152280" cy="12952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767040" y="3654000"/>
            <a:ext cx="152280" cy="838080"/>
          </a:xfrm>
          <a:prstGeom prst="rect">
            <a:avLst/>
          </a:prstGeom>
          <a:solidFill>
            <a:srgbClr val="26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2400" y="42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2400" y="5369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907920"/>
            <a:ext cx="916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soluble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trímero: Cadena A, cadena B y cade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isoformas de las cadenas, las que combinadas generan divers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onente de la 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Tiene afinidad por receptores de superficie celular y componente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38720" y="293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7680" y="392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4480" y="3921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71520" y="825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67320" y="59022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01400">
            <a:off x="5271840" y="436860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542200">
            <a:off x="4643280" y="460692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424600">
            <a:off x="2356560" y="45306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445000">
            <a:off x="3541680" y="449244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57680" y="5749920"/>
            <a:ext cx="16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hepará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396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84840" y="5500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20160" y="508464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85880" y="4352760"/>
            <a:ext cx="24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colágen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ípidos sulfa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1680" y="5056200"/>
            <a:ext cx="83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03480" y="506880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 a integ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87760" y="494172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tio de un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colágeno  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81560" y="457200"/>
            <a:ext cx="2824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c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rganismos multi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7160" y="2565360"/>
            <a:ext cx="2925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164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505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6160" y="1341360"/>
            <a:ext cx="4712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ción de los tejidos (interacción fís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9640" y="2421000"/>
            <a:ext cx="7759440" cy="2160000"/>
            <a:chOff x="539640" y="2421000"/>
            <a:chExt cx="7759440" cy="2160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39640" y="2421000"/>
              <a:ext cx="7759440" cy="20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6920" y="3860640"/>
              <a:ext cx="792360" cy="72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31640" y="3931920"/>
              <a:ext cx="50328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486900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funcional entr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amiento integrado     (Comunicación inter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83480" y="476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MINA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209680"/>
            <a:ext cx="1676520" cy="381240"/>
          </a:xfrm>
          <a:prstGeom prst="parallelogram">
            <a:avLst>
              <a:gd name="adj" fmla="val 109939"/>
            </a:avLst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76520"/>
            <a:ext cx="609480" cy="838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838080"/>
              <a:gd name="textAreaBottom" fmla="*/ 808560 h 838080"/>
            </a:gdLst>
            <a:ahLst/>
            <a:rect l="textAreaLeft" t="textAreaTop" r="textAreaRight" b="textAreaBottom"/>
            <a:pathLst>
              <a:path w="21600" h="29697">
                <a:moveTo>
                  <a:pt x="3600" y="0"/>
                </a:moveTo>
                <a:arcTo wR="3600" hR="3600" stAng="16200000" swAng="-5400000"/>
                <a:lnTo>
                  <a:pt x="0" y="26097"/>
                </a:lnTo>
                <a:arcTo wR="3600" hR="3600" stAng="10800000" swAng="-5400000"/>
                <a:lnTo>
                  <a:pt x="18000" y="29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c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133720" y="1523880"/>
            <a:ext cx="3624480" cy="1427040"/>
            <a:chOff x="2133720" y="1523880"/>
            <a:chExt cx="3624480" cy="1427040"/>
          </a:xfrm>
        </p:grpSpPr>
        <p:sp>
          <p:nvSpPr>
            <p:cNvPr id="436" name=""/>
            <p:cNvSpPr/>
            <p:nvPr/>
          </p:nvSpPr>
          <p:spPr>
            <a:xfrm>
              <a:off x="2286000" y="1752480"/>
              <a:ext cx="3352680" cy="1066680"/>
            </a:xfrm>
            <a:prstGeom prst="parallelogram">
              <a:avLst>
                <a:gd name="adj" fmla="val 122784"/>
              </a:avLst>
            </a:prstGeom>
            <a:solidFill>
              <a:srgbClr val="bb8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0360" y="2670120"/>
              <a:ext cx="2032200" cy="84240"/>
            </a:xfrm>
            <a:custGeom>
              <a:avLst/>
              <a:gdLst/>
              <a:ahLst/>
              <a:rect l="l" t="t" r="r" b="b"/>
              <a:pathLst>
                <a:path w="1280" h="53">
                  <a:moveTo>
                    <a:pt x="0" y="30"/>
                  </a:moveTo>
                  <a:cubicBezTo>
                    <a:pt x="25" y="12"/>
                    <a:pt x="32" y="8"/>
                    <a:pt x="64" y="14"/>
                  </a:cubicBezTo>
                  <a:cubicBezTo>
                    <a:pt x="101" y="10"/>
                    <a:pt x="128" y="7"/>
                    <a:pt x="165" y="19"/>
                  </a:cubicBezTo>
                  <a:cubicBezTo>
                    <a:pt x="212" y="15"/>
                    <a:pt x="228" y="17"/>
                    <a:pt x="266" y="3"/>
                  </a:cubicBezTo>
                  <a:cubicBezTo>
                    <a:pt x="278" y="5"/>
                    <a:pt x="291" y="6"/>
                    <a:pt x="304" y="9"/>
                  </a:cubicBezTo>
                  <a:cubicBezTo>
                    <a:pt x="314" y="11"/>
                    <a:pt x="336" y="19"/>
                    <a:pt x="336" y="19"/>
                  </a:cubicBezTo>
                  <a:cubicBezTo>
                    <a:pt x="364" y="17"/>
                    <a:pt x="392" y="18"/>
                    <a:pt x="421" y="14"/>
                  </a:cubicBezTo>
                  <a:cubicBezTo>
                    <a:pt x="427" y="12"/>
                    <a:pt x="430" y="3"/>
                    <a:pt x="437" y="3"/>
                  </a:cubicBezTo>
                  <a:cubicBezTo>
                    <a:pt x="451" y="0"/>
                    <a:pt x="491" y="19"/>
                    <a:pt x="506" y="25"/>
                  </a:cubicBezTo>
                  <a:cubicBezTo>
                    <a:pt x="537" y="20"/>
                    <a:pt x="566" y="14"/>
                    <a:pt x="597" y="9"/>
                  </a:cubicBezTo>
                  <a:cubicBezTo>
                    <a:pt x="624" y="13"/>
                    <a:pt x="638" y="14"/>
                    <a:pt x="661" y="30"/>
                  </a:cubicBezTo>
                  <a:cubicBezTo>
                    <a:pt x="682" y="26"/>
                    <a:pt x="699" y="20"/>
                    <a:pt x="720" y="14"/>
                  </a:cubicBezTo>
                  <a:cubicBezTo>
                    <a:pt x="768" y="15"/>
                    <a:pt x="816" y="16"/>
                    <a:pt x="864" y="19"/>
                  </a:cubicBezTo>
                  <a:cubicBezTo>
                    <a:pt x="874" y="19"/>
                    <a:pt x="885" y="26"/>
                    <a:pt x="896" y="25"/>
                  </a:cubicBezTo>
                  <a:cubicBezTo>
                    <a:pt x="910" y="23"/>
                    <a:pt x="944" y="6"/>
                    <a:pt x="960" y="3"/>
                  </a:cubicBezTo>
                  <a:cubicBezTo>
                    <a:pt x="1006" y="20"/>
                    <a:pt x="984" y="19"/>
                    <a:pt x="1056" y="14"/>
                  </a:cubicBezTo>
                  <a:cubicBezTo>
                    <a:pt x="1072" y="10"/>
                    <a:pt x="1087" y="1"/>
                    <a:pt x="1104" y="3"/>
                  </a:cubicBezTo>
                  <a:cubicBezTo>
                    <a:pt x="1116" y="4"/>
                    <a:pt x="1141" y="14"/>
                    <a:pt x="1141" y="14"/>
                  </a:cubicBezTo>
                  <a:cubicBezTo>
                    <a:pt x="1168" y="53"/>
                    <a:pt x="1201" y="33"/>
                    <a:pt x="1253" y="30"/>
                  </a:cubicBezTo>
                  <a:cubicBezTo>
                    <a:pt x="1272" y="16"/>
                    <a:pt x="1262" y="19"/>
                    <a:pt x="128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09880" y="1688760"/>
              <a:ext cx="1948320" cy="1259280"/>
              <a:chOff x="3809880" y="1688760"/>
              <a:chExt cx="1948320" cy="1259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809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8707800">
                <a:off x="3825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448400">
                <a:off x="3893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666880" y="2425680"/>
              <a:ext cx="2108160" cy="83880"/>
              <a:chOff x="2666880" y="2425680"/>
              <a:chExt cx="2108160" cy="8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666880" y="2438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2425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971800" y="2209680"/>
              <a:ext cx="2108160" cy="83880"/>
              <a:chOff x="2971800" y="2209680"/>
              <a:chExt cx="2108160" cy="83880"/>
            </a:xfrm>
          </p:grpSpPr>
          <p:sp>
            <p:nvSpPr>
              <p:cNvPr id="446" name=""/>
              <p:cNvSpPr/>
              <p:nvPr/>
            </p:nvSpPr>
            <p:spPr>
              <a:xfrm>
                <a:off x="2971800" y="22222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48120" y="22096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124080" y="2057400"/>
              <a:ext cx="2108160" cy="83880"/>
              <a:chOff x="3124080" y="2057400"/>
              <a:chExt cx="2108160" cy="83880"/>
            </a:xfrm>
          </p:grpSpPr>
          <p:sp>
            <p:nvSpPr>
              <p:cNvPr id="449" name=""/>
              <p:cNvSpPr/>
              <p:nvPr/>
            </p:nvSpPr>
            <p:spPr>
              <a:xfrm>
                <a:off x="3124080" y="207000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205740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2680" y="1904760"/>
              <a:ext cx="2108160" cy="83880"/>
              <a:chOff x="3352680" y="1904760"/>
              <a:chExt cx="2108160" cy="8388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191736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190476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05320" y="1752480"/>
              <a:ext cx="2108160" cy="83880"/>
              <a:chOff x="3505320" y="1752480"/>
              <a:chExt cx="2108160" cy="838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05320" y="17650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640" y="17524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362320" y="2666880"/>
              <a:ext cx="2108160" cy="83880"/>
              <a:chOff x="2362320" y="2666880"/>
              <a:chExt cx="2108160" cy="8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362320" y="2679480"/>
                <a:ext cx="2030400" cy="71280"/>
              </a:xfrm>
              <a:custGeom>
                <a:avLst/>
                <a:gdLst/>
                <a:ahLst/>
                <a:rect l="l" t="t" r="r" b="b"/>
                <a:pathLst>
                  <a:path w="1279" h="45">
                    <a:moveTo>
                      <a:pt x="1279" y="0"/>
                    </a:moveTo>
                    <a:cubicBezTo>
                      <a:pt x="1255" y="18"/>
                      <a:pt x="1248" y="22"/>
                      <a:pt x="1216" y="17"/>
                    </a:cubicBezTo>
                    <a:cubicBezTo>
                      <a:pt x="1179" y="22"/>
                      <a:pt x="1152" y="26"/>
                      <a:pt x="1115" y="15"/>
                    </a:cubicBezTo>
                    <a:cubicBezTo>
                      <a:pt x="1068" y="20"/>
                      <a:pt x="1052" y="18"/>
                      <a:pt x="1014" y="33"/>
                    </a:cubicBezTo>
                    <a:cubicBezTo>
                      <a:pt x="1002" y="31"/>
                      <a:pt x="989" y="31"/>
                      <a:pt x="976" y="28"/>
                    </a:cubicBezTo>
                    <a:cubicBezTo>
                      <a:pt x="966" y="26"/>
                      <a:pt x="944" y="19"/>
                      <a:pt x="944" y="19"/>
                    </a:cubicBezTo>
                    <a:cubicBezTo>
                      <a:pt x="916" y="22"/>
                      <a:pt x="888" y="21"/>
                      <a:pt x="859" y="26"/>
                    </a:cubicBezTo>
                    <a:cubicBezTo>
                      <a:pt x="853" y="28"/>
                      <a:pt x="850" y="37"/>
                      <a:pt x="843" y="37"/>
                    </a:cubicBezTo>
                    <a:cubicBezTo>
                      <a:pt x="829" y="41"/>
                      <a:pt x="789" y="23"/>
                      <a:pt x="774" y="17"/>
                    </a:cubicBezTo>
                    <a:cubicBezTo>
                      <a:pt x="743" y="23"/>
                      <a:pt x="714" y="30"/>
                      <a:pt x="683" y="35"/>
                    </a:cubicBezTo>
                    <a:cubicBezTo>
                      <a:pt x="656" y="32"/>
                      <a:pt x="642" y="31"/>
                      <a:pt x="618" y="16"/>
                    </a:cubicBezTo>
                    <a:cubicBezTo>
                      <a:pt x="598" y="21"/>
                      <a:pt x="581" y="27"/>
                      <a:pt x="560" y="33"/>
                    </a:cubicBezTo>
                    <a:cubicBezTo>
                      <a:pt x="512" y="34"/>
                      <a:pt x="459" y="21"/>
                      <a:pt x="411" y="19"/>
                    </a:cubicBezTo>
                    <a:cubicBezTo>
                      <a:pt x="401" y="19"/>
                      <a:pt x="395" y="26"/>
                      <a:pt x="384" y="27"/>
                    </a:cubicBezTo>
                    <a:cubicBezTo>
                      <a:pt x="370" y="29"/>
                      <a:pt x="347" y="32"/>
                      <a:pt x="331" y="35"/>
                    </a:cubicBezTo>
                    <a:cubicBezTo>
                      <a:pt x="285" y="20"/>
                      <a:pt x="296" y="1"/>
                      <a:pt x="224" y="8"/>
                    </a:cubicBezTo>
                    <a:cubicBezTo>
                      <a:pt x="203" y="7"/>
                      <a:pt x="221" y="5"/>
                      <a:pt x="213" y="13"/>
                    </a:cubicBezTo>
                    <a:cubicBezTo>
                      <a:pt x="205" y="16"/>
                      <a:pt x="188" y="24"/>
                      <a:pt x="176" y="29"/>
                    </a:cubicBezTo>
                    <a:cubicBezTo>
                      <a:pt x="164" y="28"/>
                      <a:pt x="139" y="44"/>
                      <a:pt x="139" y="44"/>
                    </a:cubicBezTo>
                    <a:cubicBezTo>
                      <a:pt x="111" y="6"/>
                      <a:pt x="79" y="27"/>
                      <a:pt x="27" y="31"/>
                    </a:cubicBezTo>
                    <a:cubicBezTo>
                      <a:pt x="8" y="45"/>
                      <a:pt x="18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38640" y="2666880"/>
                <a:ext cx="2031840" cy="8388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429000" y="1688760"/>
              <a:ext cx="1948320" cy="1259280"/>
              <a:chOff x="3429000" y="1688760"/>
              <a:chExt cx="1948320" cy="1259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42900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707800">
                <a:off x="344448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448400">
                <a:off x="351288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124080" y="1612800"/>
              <a:ext cx="1948320" cy="1259280"/>
              <a:chOff x="3124080" y="1612800"/>
              <a:chExt cx="1948320" cy="1259280"/>
            </a:xfrm>
          </p:grpSpPr>
          <p:sp>
            <p:nvSpPr>
              <p:cNvPr id="465" name=""/>
              <p:cNvSpPr/>
              <p:nvPr/>
            </p:nvSpPr>
            <p:spPr>
              <a:xfrm>
                <a:off x="312408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8707800">
                <a:off x="313956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448400">
                <a:off x="320796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62320" y="1688760"/>
              <a:ext cx="1948320" cy="1259280"/>
              <a:chOff x="2362320" y="1688760"/>
              <a:chExt cx="1948320" cy="125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8707800">
                <a:off x="237780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448400">
                <a:off x="244620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666880" y="1688760"/>
              <a:ext cx="1948320" cy="1259280"/>
              <a:chOff x="2666880" y="1688760"/>
              <a:chExt cx="1948320" cy="1259280"/>
            </a:xfrm>
          </p:grpSpPr>
          <p:sp>
            <p:nvSpPr>
              <p:cNvPr id="473" name=""/>
              <p:cNvSpPr/>
              <p:nvPr/>
            </p:nvSpPr>
            <p:spPr>
              <a:xfrm>
                <a:off x="2666880" y="21333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707800">
                <a:off x="2682360" y="227304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448400">
                <a:off x="2750760" y="227592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133720" y="1612800"/>
              <a:ext cx="1948320" cy="1259280"/>
              <a:chOff x="2133720" y="1612800"/>
              <a:chExt cx="1948320" cy="1259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133720" y="205740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707800">
                <a:off x="2149200" y="2197080"/>
                <a:ext cx="203184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448400">
                <a:off x="2217600" y="2199960"/>
                <a:ext cx="2032200" cy="84240"/>
              </a:xfrm>
              <a:custGeom>
                <a:avLst/>
                <a:gdLst/>
                <a:ahLst/>
                <a:rect l="l" t="t" r="r" b="b"/>
                <a:pathLst>
                  <a:path w="1280" h="53">
                    <a:moveTo>
                      <a:pt x="0" y="30"/>
                    </a:moveTo>
                    <a:cubicBezTo>
                      <a:pt x="25" y="12"/>
                      <a:pt x="32" y="8"/>
                      <a:pt x="64" y="14"/>
                    </a:cubicBezTo>
                    <a:cubicBezTo>
                      <a:pt x="101" y="10"/>
                      <a:pt x="128" y="7"/>
                      <a:pt x="165" y="19"/>
                    </a:cubicBezTo>
                    <a:cubicBezTo>
                      <a:pt x="212" y="15"/>
                      <a:pt x="228" y="17"/>
                      <a:pt x="266" y="3"/>
                    </a:cubicBezTo>
                    <a:cubicBezTo>
                      <a:pt x="278" y="5"/>
                      <a:pt x="291" y="6"/>
                      <a:pt x="304" y="9"/>
                    </a:cubicBezTo>
                    <a:cubicBezTo>
                      <a:pt x="314" y="11"/>
                      <a:pt x="336" y="19"/>
                      <a:pt x="336" y="19"/>
                    </a:cubicBezTo>
                    <a:cubicBezTo>
                      <a:pt x="364" y="17"/>
                      <a:pt x="392" y="18"/>
                      <a:pt x="421" y="14"/>
                    </a:cubicBezTo>
                    <a:cubicBezTo>
                      <a:pt x="427" y="12"/>
                      <a:pt x="430" y="3"/>
                      <a:pt x="437" y="3"/>
                    </a:cubicBezTo>
                    <a:cubicBezTo>
                      <a:pt x="451" y="0"/>
                      <a:pt x="491" y="19"/>
                      <a:pt x="506" y="25"/>
                    </a:cubicBezTo>
                    <a:cubicBezTo>
                      <a:pt x="537" y="20"/>
                      <a:pt x="566" y="14"/>
                      <a:pt x="597" y="9"/>
                    </a:cubicBezTo>
                    <a:cubicBezTo>
                      <a:pt x="624" y="13"/>
                      <a:pt x="638" y="14"/>
                      <a:pt x="661" y="30"/>
                    </a:cubicBezTo>
                    <a:cubicBezTo>
                      <a:pt x="682" y="26"/>
                      <a:pt x="699" y="20"/>
                      <a:pt x="720" y="14"/>
                    </a:cubicBezTo>
                    <a:cubicBezTo>
                      <a:pt x="768" y="15"/>
                      <a:pt x="816" y="16"/>
                      <a:pt x="864" y="19"/>
                    </a:cubicBezTo>
                    <a:cubicBezTo>
                      <a:pt x="874" y="19"/>
                      <a:pt x="885" y="26"/>
                      <a:pt x="896" y="25"/>
                    </a:cubicBezTo>
                    <a:cubicBezTo>
                      <a:pt x="910" y="23"/>
                      <a:pt x="944" y="6"/>
                      <a:pt x="960" y="3"/>
                    </a:cubicBezTo>
                    <a:cubicBezTo>
                      <a:pt x="1006" y="20"/>
                      <a:pt x="984" y="19"/>
                      <a:pt x="1056" y="14"/>
                    </a:cubicBezTo>
                    <a:cubicBezTo>
                      <a:pt x="1072" y="10"/>
                      <a:pt x="1087" y="1"/>
                      <a:pt x="1104" y="3"/>
                    </a:cubicBezTo>
                    <a:cubicBezTo>
                      <a:pt x="1116" y="4"/>
                      <a:pt x="1141" y="14"/>
                      <a:pt x="1141" y="14"/>
                    </a:cubicBezTo>
                    <a:cubicBezTo>
                      <a:pt x="1168" y="53"/>
                      <a:pt x="1201" y="33"/>
                      <a:pt x="1253" y="30"/>
                    </a:cubicBezTo>
                    <a:cubicBezTo>
                      <a:pt x="1272" y="16"/>
                      <a:pt x="1262" y="19"/>
                      <a:pt x="1280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6668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05320" y="152388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1280" y="2361960"/>
              <a:ext cx="122256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20574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1828800"/>
              <a:ext cx="1222200" cy="588960"/>
            </a:xfrm>
            <a:custGeom>
              <a:avLst/>
              <a:gdLst/>
              <a:ahLst/>
              <a:rect l="l" t="t" r="r" b="b"/>
              <a:pathLst>
                <a:path w="770" h="371">
                  <a:moveTo>
                    <a:pt x="60" y="5"/>
                  </a:moveTo>
                  <a:cubicBezTo>
                    <a:pt x="78" y="17"/>
                    <a:pt x="90" y="29"/>
                    <a:pt x="103" y="48"/>
                  </a:cubicBezTo>
                  <a:cubicBezTo>
                    <a:pt x="110" y="70"/>
                    <a:pt x="116" y="92"/>
                    <a:pt x="130" y="112"/>
                  </a:cubicBezTo>
                  <a:cubicBezTo>
                    <a:pt x="141" y="150"/>
                    <a:pt x="133" y="134"/>
                    <a:pt x="151" y="160"/>
                  </a:cubicBezTo>
                  <a:cubicBezTo>
                    <a:pt x="152" y="165"/>
                    <a:pt x="150" y="176"/>
                    <a:pt x="156" y="176"/>
                  </a:cubicBezTo>
                  <a:cubicBezTo>
                    <a:pt x="157" y="176"/>
                    <a:pt x="166" y="144"/>
                    <a:pt x="167" y="144"/>
                  </a:cubicBezTo>
                  <a:cubicBezTo>
                    <a:pt x="175" y="132"/>
                    <a:pt x="189" y="126"/>
                    <a:pt x="199" y="117"/>
                  </a:cubicBezTo>
                  <a:cubicBezTo>
                    <a:pt x="205" y="95"/>
                    <a:pt x="215" y="84"/>
                    <a:pt x="231" y="69"/>
                  </a:cubicBezTo>
                  <a:cubicBezTo>
                    <a:pt x="249" y="8"/>
                    <a:pt x="219" y="101"/>
                    <a:pt x="247" y="37"/>
                  </a:cubicBezTo>
                  <a:cubicBezTo>
                    <a:pt x="249" y="30"/>
                    <a:pt x="252" y="8"/>
                    <a:pt x="252" y="16"/>
                  </a:cubicBezTo>
                  <a:cubicBezTo>
                    <a:pt x="252" y="63"/>
                    <a:pt x="216" y="113"/>
                    <a:pt x="178" y="138"/>
                  </a:cubicBezTo>
                  <a:cubicBezTo>
                    <a:pt x="165" y="172"/>
                    <a:pt x="164" y="169"/>
                    <a:pt x="124" y="176"/>
                  </a:cubicBezTo>
                  <a:cubicBezTo>
                    <a:pt x="86" y="196"/>
                    <a:pt x="57" y="216"/>
                    <a:pt x="23" y="240"/>
                  </a:cubicBezTo>
                  <a:cubicBezTo>
                    <a:pt x="0" y="272"/>
                    <a:pt x="24" y="283"/>
                    <a:pt x="50" y="309"/>
                  </a:cubicBezTo>
                  <a:cubicBezTo>
                    <a:pt x="55" y="314"/>
                    <a:pt x="66" y="325"/>
                    <a:pt x="66" y="325"/>
                  </a:cubicBezTo>
                  <a:cubicBezTo>
                    <a:pt x="80" y="371"/>
                    <a:pt x="86" y="358"/>
                    <a:pt x="146" y="346"/>
                  </a:cubicBezTo>
                  <a:cubicBezTo>
                    <a:pt x="156" y="343"/>
                    <a:pt x="178" y="336"/>
                    <a:pt x="178" y="336"/>
                  </a:cubicBezTo>
                  <a:cubicBezTo>
                    <a:pt x="193" y="325"/>
                    <a:pt x="215" y="293"/>
                    <a:pt x="215" y="293"/>
                  </a:cubicBezTo>
                  <a:cubicBezTo>
                    <a:pt x="229" y="246"/>
                    <a:pt x="220" y="145"/>
                    <a:pt x="258" y="117"/>
                  </a:cubicBezTo>
                  <a:cubicBezTo>
                    <a:pt x="295" y="88"/>
                    <a:pt x="336" y="63"/>
                    <a:pt x="375" y="37"/>
                  </a:cubicBezTo>
                  <a:cubicBezTo>
                    <a:pt x="395" y="22"/>
                    <a:pt x="384" y="27"/>
                    <a:pt x="407" y="21"/>
                  </a:cubicBezTo>
                  <a:cubicBezTo>
                    <a:pt x="421" y="22"/>
                    <a:pt x="438" y="17"/>
                    <a:pt x="450" y="26"/>
                  </a:cubicBezTo>
                  <a:cubicBezTo>
                    <a:pt x="464" y="35"/>
                    <a:pt x="459" y="60"/>
                    <a:pt x="471" y="74"/>
                  </a:cubicBezTo>
                  <a:cubicBezTo>
                    <a:pt x="488" y="94"/>
                    <a:pt x="548" y="144"/>
                    <a:pt x="578" y="154"/>
                  </a:cubicBezTo>
                  <a:cubicBezTo>
                    <a:pt x="592" y="152"/>
                    <a:pt x="607" y="154"/>
                    <a:pt x="620" y="149"/>
                  </a:cubicBezTo>
                  <a:cubicBezTo>
                    <a:pt x="625" y="146"/>
                    <a:pt x="621" y="136"/>
                    <a:pt x="626" y="133"/>
                  </a:cubicBezTo>
                  <a:cubicBezTo>
                    <a:pt x="631" y="128"/>
                    <a:pt x="640" y="129"/>
                    <a:pt x="647" y="128"/>
                  </a:cubicBezTo>
                  <a:cubicBezTo>
                    <a:pt x="653" y="106"/>
                    <a:pt x="654" y="98"/>
                    <a:pt x="674" y="85"/>
                  </a:cubicBezTo>
                  <a:cubicBezTo>
                    <a:pt x="681" y="34"/>
                    <a:pt x="714" y="0"/>
                    <a:pt x="77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232884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9880" y="20574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0400" y="18288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4800" y="2286000"/>
              <a:ext cx="24912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1752480"/>
              <a:ext cx="24912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1676160"/>
              <a:ext cx="249480" cy="44784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2880" y="1600200"/>
              <a:ext cx="249480" cy="447480"/>
            </a:xfrm>
            <a:custGeom>
              <a:avLst/>
              <a:gdLst/>
              <a:ahLst/>
              <a:rect l="l" t="t" r="r" b="b"/>
              <a:pathLst>
                <a:path w="157" h="282">
                  <a:moveTo>
                    <a:pt x="149" y="282"/>
                  </a:moveTo>
                  <a:cubicBezTo>
                    <a:pt x="146" y="255"/>
                    <a:pt x="157" y="220"/>
                    <a:pt x="138" y="202"/>
                  </a:cubicBezTo>
                  <a:cubicBezTo>
                    <a:pt x="128" y="193"/>
                    <a:pt x="116" y="188"/>
                    <a:pt x="106" y="181"/>
                  </a:cubicBezTo>
                  <a:cubicBezTo>
                    <a:pt x="100" y="177"/>
                    <a:pt x="90" y="170"/>
                    <a:pt x="90" y="170"/>
                  </a:cubicBezTo>
                  <a:cubicBezTo>
                    <a:pt x="85" y="142"/>
                    <a:pt x="89" y="89"/>
                    <a:pt x="64" y="69"/>
                  </a:cubicBezTo>
                  <a:cubicBezTo>
                    <a:pt x="54" y="61"/>
                    <a:pt x="28" y="56"/>
                    <a:pt x="16" y="53"/>
                  </a:cubicBezTo>
                  <a:cubicBezTo>
                    <a:pt x="12" y="35"/>
                    <a:pt x="0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2590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67080" y="198108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20574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25146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2286000"/>
              <a:ext cx="16056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198108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2590560"/>
              <a:ext cx="16020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1828800"/>
              <a:ext cx="160200" cy="152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7" y="64"/>
                    <a:pt x="29" y="53"/>
                    <a:pt x="59" y="42"/>
                  </a:cubicBezTo>
                  <a:cubicBezTo>
                    <a:pt x="69" y="37"/>
                    <a:pt x="91" y="32"/>
                    <a:pt x="91" y="32"/>
                  </a:cubicBezTo>
                  <a:cubicBezTo>
                    <a:pt x="94" y="21"/>
                    <a:pt x="101" y="0"/>
                    <a:pt x="101" y="0"/>
                  </a:cubicBezTo>
                </a:path>
              </a:pathLst>
            </a:custGeom>
            <a:solidFill>
              <a:srgbClr val="e3c087"/>
            </a:solidFill>
            <a:ln w="38160">
              <a:solidFill>
                <a:srgbClr val="e3c0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743200" y="304920"/>
            <a:ext cx="524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ructura básica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ma de colágeno IV y lamin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ros Componente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lecan (proteoglica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ctina (proteína multiadhesiva de 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00640" y="3247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15024" t="9876" r="31564" b="20032"/>
          <a:stretch/>
        </p:blipFill>
        <p:spPr>
          <a:xfrm>
            <a:off x="5791320" y="1447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943600" y="2743200"/>
            <a:ext cx="1981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960" y="3251160"/>
            <a:ext cx="57736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pel de la lámina basal en distintos tej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pitelios        filtro de las moléculas que pasan hacia la san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oteliales   filtro de las moléculas que pasan desde la sangre a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úscul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ecta células adyacentes, manteniendo  la integridad del tej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33520" y="4343400"/>
            <a:ext cx="7759440" cy="2160720"/>
            <a:chOff x="533520" y="4343400"/>
            <a:chExt cx="7759440" cy="216072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533520" y="4343400"/>
              <a:ext cx="775944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620800" y="5783400"/>
              <a:ext cx="79236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325520" y="5854320"/>
              <a:ext cx="50328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863720" y="257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48000" cy="3409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955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73760" y="588960"/>
            <a:ext cx="7264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ronect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adhe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lu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 células a matrices extracelulares que contengan colágeno (I, II, III y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rededor de 20 monómeros (procesamiento alternativo de m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38080" y="3048120"/>
            <a:ext cx="6324840" cy="152280"/>
            <a:chOff x="838080" y="3048120"/>
            <a:chExt cx="6324840" cy="152280"/>
          </a:xfrm>
        </p:grpSpPr>
        <p:sp>
          <p:nvSpPr>
            <p:cNvPr id="515" name=""/>
            <p:cNvSpPr/>
            <p:nvPr/>
          </p:nvSpPr>
          <p:spPr>
            <a:xfrm>
              <a:off x="838080" y="30481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14600" y="30481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52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30481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38080" y="3505320"/>
            <a:ext cx="6324840" cy="152280"/>
            <a:chOff x="838080" y="3505320"/>
            <a:chExt cx="6324840" cy="152280"/>
          </a:xfrm>
        </p:grpSpPr>
        <p:sp>
          <p:nvSpPr>
            <p:cNvPr id="522" name=""/>
            <p:cNvSpPr/>
            <p:nvPr/>
          </p:nvSpPr>
          <p:spPr>
            <a:xfrm>
              <a:off x="838080" y="3505320"/>
              <a:ext cx="8384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6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4600" y="3505320"/>
              <a:ext cx="144792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252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3505320"/>
              <a:ext cx="152424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505320"/>
              <a:ext cx="838080" cy="152280"/>
            </a:xfrm>
            <a:prstGeom prst="rect">
              <a:avLst/>
            </a:prstGeom>
            <a:solidFill>
              <a:srgbClr val="00dc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120" y="4373640"/>
            <a:ext cx="160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b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43120" y="4495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integ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2280" y="41148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colá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43120" y="4114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heparánsulf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360" y="441972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e fib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809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373392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7339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733920"/>
            <a:ext cx="76320" cy="304560"/>
          </a:xfrm>
          <a:prstGeom prst="down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a1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5084640"/>
            <a:ext cx="63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 la forma de las células y la organización del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l migración de células y desarrollo embr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87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í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s grandes, hidartadas, vis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rcionan amortig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nentes de la ME y de la superficie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constituidos por polímeros de disacáridos (glicosaminoglicanos 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) unidos a una 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1720" y="3500280"/>
            <a:ext cx="644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últiple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 penden de una proteí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ás comu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alurón (ácido hialurón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parán sulfato (hep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rm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ratán o keratán 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en contener resíduos sulfato que confieren cargas neg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87880" y="3255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040" y="2133720"/>
            <a:ext cx="26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 -100 unidades del ti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1320" y="16286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92360" y="1700280"/>
            <a:ext cx="3517920" cy="1887120"/>
            <a:chOff x="3492360" y="1700280"/>
            <a:chExt cx="3517920" cy="1887120"/>
          </a:xfrm>
        </p:grpSpPr>
        <p:sp>
          <p:nvSpPr>
            <p:cNvPr id="550" name=""/>
            <p:cNvSpPr/>
            <p:nvPr/>
          </p:nvSpPr>
          <p:spPr>
            <a:xfrm>
              <a:off x="3851280" y="213228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34120" y="2035440"/>
              <a:ext cx="1057320" cy="685800"/>
            </a:xfrm>
            <a:prstGeom prst="hexagon">
              <a:avLst>
                <a:gd name="adj" fmla="val 38543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47840" y="22640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64000" y="2708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38560" y="18828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4320" y="195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1280" y="2347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0920" y="270828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492360" y="2924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876920" y="2340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4120" y="2111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2340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926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400800" y="2187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400440" y="2187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4360" y="21877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2416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5880" y="2492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7760" y="2851200"/>
              <a:ext cx="58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6728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036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3280" y="270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0000" y="1916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0000" y="2635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8600" y="17002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CH2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92360" y="2132280"/>
              <a:ext cx="4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0720" y="306720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5640" y="2419560"/>
              <a:ext cx="45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588000" y="688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877080" y="3213000"/>
            <a:ext cx="1079640" cy="1224000"/>
            <a:chOff x="6877080" y="3213000"/>
            <a:chExt cx="1079640" cy="1224000"/>
          </a:xfrm>
        </p:grpSpPr>
        <p:sp>
          <p:nvSpPr>
            <p:cNvPr id="580" name=""/>
            <p:cNvSpPr/>
            <p:nvPr/>
          </p:nvSpPr>
          <p:spPr>
            <a:xfrm>
              <a:off x="7380360" y="3213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2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1640" y="33577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164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51640" y="3502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6000" y="350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51640" y="3573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51640" y="3645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3718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51640" y="3789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77080" y="378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37180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7080" y="3645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77080" y="40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77080" y="3933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7080" y="386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516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1640" y="400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51640" y="3933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51640" y="386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770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77080" y="41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770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1640" y="4365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16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16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41497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7080" y="4365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770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00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19280" y="3716280"/>
            <a:ext cx="1079640" cy="1224000"/>
            <a:chOff x="1619280" y="3716280"/>
            <a:chExt cx="1079640" cy="1224000"/>
          </a:xfrm>
        </p:grpSpPr>
        <p:sp>
          <p:nvSpPr>
            <p:cNvPr id="617" name=""/>
            <p:cNvSpPr/>
            <p:nvPr/>
          </p:nvSpPr>
          <p:spPr>
            <a:xfrm>
              <a:off x="212256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9384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78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384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78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9384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8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384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78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84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384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384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384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1928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1928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1928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928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9384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9384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384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9384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928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928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9384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9384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9384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9384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928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928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619280" y="3645000"/>
            <a:ext cx="5113440" cy="71280"/>
          </a:xfrm>
          <a:prstGeom prst="roundRect">
            <a:avLst>
              <a:gd name="adj" fmla="val 16667"/>
            </a:avLst>
          </a:prstGeom>
          <a:solidFill>
            <a:srgbClr val="fae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35640" y="2421000"/>
            <a:ext cx="1078920" cy="1224000"/>
            <a:chOff x="1835640" y="2421000"/>
            <a:chExt cx="1078920" cy="1224000"/>
          </a:xfrm>
        </p:grpSpPr>
        <p:sp>
          <p:nvSpPr>
            <p:cNvPr id="652" name=""/>
            <p:cNvSpPr/>
            <p:nvPr/>
          </p:nvSpPr>
          <p:spPr>
            <a:xfrm rot="10800000">
              <a:off x="234072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196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41200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96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1200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196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41200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96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41200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3564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83564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3564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3564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41020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41020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41020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41020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41020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41020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1020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83564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83564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835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83564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41020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41020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41020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3564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83564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83564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83564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41020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41020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556000" y="3716280"/>
            <a:ext cx="1078920" cy="1224000"/>
            <a:chOff x="2556000" y="3716280"/>
            <a:chExt cx="1078920" cy="1224000"/>
          </a:xfrm>
        </p:grpSpPr>
        <p:sp>
          <p:nvSpPr>
            <p:cNvPr id="686" name=""/>
            <p:cNvSpPr/>
            <p:nvPr/>
          </p:nvSpPr>
          <p:spPr>
            <a:xfrm>
              <a:off x="3058920" y="371628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3020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3787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3020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14560" y="3861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020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4560" y="39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3020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4560" y="4005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3020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3020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020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3020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56000" y="429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56000" y="422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56000" y="414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6000" y="407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6000" y="450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6000" y="44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6000" y="436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020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20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3020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020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6000" y="472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6000" y="465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6000" y="457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020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3020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020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3020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6000" y="486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6000" y="4795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08360" y="3716280"/>
            <a:ext cx="1079640" cy="1224000"/>
            <a:chOff x="3708360" y="3716280"/>
            <a:chExt cx="1079640" cy="1224000"/>
          </a:xfrm>
        </p:grpSpPr>
        <p:sp>
          <p:nvSpPr>
            <p:cNvPr id="720" name=""/>
            <p:cNvSpPr/>
            <p:nvPr/>
          </p:nvSpPr>
          <p:spPr>
            <a:xfrm>
              <a:off x="4211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82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67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82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67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82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82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67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2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82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2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82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08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08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8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8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8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82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82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82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82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8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8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8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82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82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8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08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932360" y="3716280"/>
            <a:ext cx="1079640" cy="1224000"/>
            <a:chOff x="4932360" y="3716280"/>
            <a:chExt cx="1079640" cy="1224000"/>
          </a:xfrm>
        </p:grpSpPr>
        <p:sp>
          <p:nvSpPr>
            <p:cNvPr id="754" name=""/>
            <p:cNvSpPr/>
            <p:nvPr/>
          </p:nvSpPr>
          <p:spPr>
            <a:xfrm>
              <a:off x="543564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692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128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0692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128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692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9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0692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9128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0692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0692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692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236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3236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3236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3236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3236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236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3236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0692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692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0692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692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3236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236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692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692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0692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0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236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236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084720" y="3716280"/>
            <a:ext cx="1079640" cy="1224000"/>
            <a:chOff x="6084720" y="3716280"/>
            <a:chExt cx="1079640" cy="1224000"/>
          </a:xfrm>
        </p:grpSpPr>
        <p:sp>
          <p:nvSpPr>
            <p:cNvPr id="788" name=""/>
            <p:cNvSpPr/>
            <p:nvPr/>
          </p:nvSpPr>
          <p:spPr>
            <a:xfrm>
              <a:off x="6588000" y="371628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59280" y="3787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3640" y="378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280" y="386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43640" y="386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59280" y="3932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4364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9280" y="4005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43640" y="400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59280" y="407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59280" y="414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59280" y="422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59280" y="429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84720" y="429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4720" y="422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4720" y="414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84720" y="407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4720" y="450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84720" y="44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84720" y="436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59280" y="457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9280" y="450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59280" y="44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59280" y="436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472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84720" y="465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84720" y="457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9280" y="4869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659280" y="4795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9280" y="472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928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4720" y="486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84720" y="4795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131640" y="2421000"/>
            <a:ext cx="1079640" cy="1224000"/>
            <a:chOff x="3131640" y="2421000"/>
            <a:chExt cx="1079640" cy="1224000"/>
          </a:xfrm>
        </p:grpSpPr>
        <p:sp>
          <p:nvSpPr>
            <p:cNvPr id="822" name=""/>
            <p:cNvSpPr/>
            <p:nvPr/>
          </p:nvSpPr>
          <p:spPr>
            <a:xfrm rot="10800000">
              <a:off x="3636720" y="2421000"/>
              <a:ext cx="7128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492000" y="357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70800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492000" y="3500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70800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492000" y="342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0800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492000" y="33559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70800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131640" y="3284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131640" y="321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131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13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70656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70656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70656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70656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70656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0656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70656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31640" y="2781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31640" y="2852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31640" y="2924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31640" y="299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70656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7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70656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131640" y="2492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131640" y="2565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31640" y="2636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31640" y="27082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0656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70656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285080" y="2421000"/>
            <a:ext cx="1078920" cy="1224000"/>
            <a:chOff x="4285080" y="2421000"/>
            <a:chExt cx="1078920" cy="1224000"/>
          </a:xfrm>
        </p:grpSpPr>
        <p:sp>
          <p:nvSpPr>
            <p:cNvPr id="856" name=""/>
            <p:cNvSpPr/>
            <p:nvPr/>
          </p:nvSpPr>
          <p:spPr>
            <a:xfrm rot="10800000">
              <a:off x="4790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645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61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645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861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645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861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645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61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285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85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85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85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859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859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859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859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859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859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859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285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85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285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285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859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859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859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285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285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285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85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59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859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09080" y="2421000"/>
            <a:ext cx="1078920" cy="1224000"/>
            <a:chOff x="5509080" y="2421000"/>
            <a:chExt cx="1078920" cy="1224000"/>
          </a:xfrm>
        </p:grpSpPr>
        <p:sp>
          <p:nvSpPr>
            <p:cNvPr id="890" name=""/>
            <p:cNvSpPr/>
            <p:nvPr/>
          </p:nvSpPr>
          <p:spPr>
            <a:xfrm rot="10800000">
              <a:off x="6014160" y="24210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6944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085440" y="35733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9440" y="3500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085440" y="3500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869440" y="342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085440" y="342900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869440" y="3355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085440" y="3355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09080" y="3284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509080" y="32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509080" y="31399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509080" y="30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083640" y="3068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83640" y="313992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083640" y="321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6083640" y="3284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083640" y="2852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6083640" y="292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6083640" y="299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5509080" y="2781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509080" y="2852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50908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50908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083640" y="2636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083640" y="2708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083640" y="2781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509080" y="2492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9080" y="256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509080" y="2636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50908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083640" y="2492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083640" y="2565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H="1">
            <a:off x="2700000" y="486900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537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 agr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45164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roití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7280" y="2347200"/>
            <a:ext cx="1338480" cy="1295280"/>
            <a:chOff x="467280" y="2347200"/>
            <a:chExt cx="1338480" cy="1295280"/>
          </a:xfrm>
        </p:grpSpPr>
        <p:sp>
          <p:nvSpPr>
            <p:cNvPr id="927" name=""/>
            <p:cNvSpPr/>
            <p:nvPr/>
          </p:nvSpPr>
          <p:spPr>
            <a:xfrm rot="8562000">
              <a:off x="1189080" y="249120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409040" y="35550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581120" y="342432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64760" y="349704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36840" y="336636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21560" y="344016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493640" y="3309480"/>
              <a:ext cx="1144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277280" y="3382200"/>
              <a:ext cx="1148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449360" y="3251520"/>
              <a:ext cx="114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947520" y="332532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903960" y="326844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59680" y="321012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16480" y="315360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273680" y="280548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316880" y="28623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61160" y="292032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404720" y="29775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142640" y="263376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186200" y="26906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1230120" y="274860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2600" y="29250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5800" y="29818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29000" y="3038760"/>
              <a:ext cx="401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3280" y="30967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011960" y="246204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055160" y="251892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1099440" y="25772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7280" y="269496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11560" y="275328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4760" y="2809800"/>
              <a:ext cx="4014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98320" y="2867040"/>
              <a:ext cx="40140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924480" y="234720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968760" y="2405160"/>
              <a:ext cx="40104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10800000">
            <a:off x="7308360" y="407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0800000">
            <a:off x="7019640" y="3573000"/>
            <a:ext cx="73080" cy="5050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5760" y="36450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2360" y="3141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6000" y="2781360"/>
            <a:ext cx="190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ialuron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79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1636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6728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357336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64000" y="371628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000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3528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16360" y="3573360"/>
            <a:ext cx="144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43640" y="371628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40360" y="3573360"/>
            <a:ext cx="14436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563868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ructura del cartíl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16800" y="3620520"/>
            <a:ext cx="1317960" cy="1327680"/>
            <a:chOff x="316800" y="3620520"/>
            <a:chExt cx="1317960" cy="1327680"/>
          </a:xfrm>
        </p:grpSpPr>
        <p:sp>
          <p:nvSpPr>
            <p:cNvPr id="977" name=""/>
            <p:cNvSpPr/>
            <p:nvPr/>
          </p:nvSpPr>
          <p:spPr>
            <a:xfrm rot="2781600">
              <a:off x="1044000" y="3571560"/>
              <a:ext cx="70920" cy="1224000"/>
            </a:xfrm>
            <a:prstGeom prst="flowChartTerminator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95080" y="3836520"/>
              <a:ext cx="9972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6400" y="368064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42160" y="388728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3480" y="3731040"/>
              <a:ext cx="9936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90680" y="39362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42000" y="37803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7760" y="3986640"/>
              <a:ext cx="9972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9080" y="3830760"/>
              <a:ext cx="993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86280" y="40359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34440" y="40852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81520" y="413568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0040" y="41850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680" y="37695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5160" y="37202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8080" y="36698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9920" y="36205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7440" y="391860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9280" y="38692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1840" y="381888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960" y="4383360"/>
              <a:ext cx="34848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73800" y="433404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25640" y="42847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78200" y="423432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1200" y="406764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3040" y="40183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5960" y="396792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800" y="45828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5720" y="4532400"/>
              <a:ext cx="3484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7560" y="448308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69400" y="4433760"/>
              <a:ext cx="3481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800" y="41673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9360" y="4116960"/>
              <a:ext cx="3481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19280" y="37162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87480" y="47628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oteoglicanos de 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83520" y="105264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grecán: componente mayoritario del cartíl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9640" y="2997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88000" y="765000"/>
            <a:ext cx="71640" cy="1224000"/>
          </a:xfrm>
          <a:prstGeom prst="flowChartTerminator">
            <a:avLst/>
          </a:prstGeom>
          <a:solidFill>
            <a:srgbClr val="8f6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59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3640" y="83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59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3640" y="90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65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3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105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59640" y="127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59640" y="134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84720" y="134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84720" y="127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4720" y="11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8472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8472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84720" y="148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84720" y="141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59640" y="162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5964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59640" y="1486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59640" y="14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84720" y="17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84720" y="170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8472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9640" y="191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59640" y="170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84720" y="191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08472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55640" y="476280"/>
            <a:ext cx="50403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Hialuronán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ácido hialur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límero de hasta 50.000 unidades del disacár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177336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4120" y="1676520"/>
            <a:ext cx="1057320" cy="685800"/>
          </a:xfrm>
          <a:prstGeom prst="hexagon">
            <a:avLst>
              <a:gd name="adj" fmla="val 385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98600" y="19890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132000" y="2059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38560" y="1523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14320" y="16002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198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3492000" y="2276640"/>
            <a:ext cx="360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876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844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6920" y="1981080"/>
            <a:ext cx="27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19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6400440" y="1828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624360" y="182880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2057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27760" y="249228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HCO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4036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32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1557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40120" y="13413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41320" y="12682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H2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206064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00720" y="2708280"/>
            <a:ext cx="4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19640" y="2205000"/>
            <a:ext cx="4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48000" y="3068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ácido glucur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51640" y="3141720"/>
            <a:ext cx="30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43480" y="31082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-acetilglucosa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00000" y="4076640"/>
            <a:ext cx="648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orma un polímero hidratado con la consistencia de un gel visc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 turgencia y resistencia a la 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acilita la migración celular e impide adhesión célula-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mportante durante desarrollo/morfogénes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58920" y="533520"/>
            <a:ext cx="846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oglicanos de superficie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más pequeñas que los de la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one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ilitan interacciones de la ME con las célul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ilar a C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en moléculas involucradas en señaliz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4941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479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502920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7040" y="5135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13080" y="3327480"/>
            <a:ext cx="533160" cy="168912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2880" y="3639960"/>
            <a:ext cx="681120" cy="7632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9564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68360" y="3284640"/>
            <a:ext cx="640080" cy="20772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0920" y="5013360"/>
            <a:ext cx="115920" cy="838080"/>
          </a:xfrm>
          <a:custGeom>
            <a:avLst/>
            <a:gdLst/>
            <a:ahLst/>
            <a:rect l="l" t="t" r="r" b="b"/>
            <a:pathLst>
              <a:path w="95" h="514">
                <a:moveTo>
                  <a:pt x="54" y="514"/>
                </a:moveTo>
                <a:cubicBezTo>
                  <a:pt x="49" y="464"/>
                  <a:pt x="33" y="410"/>
                  <a:pt x="46" y="362"/>
                </a:cubicBezTo>
                <a:cubicBezTo>
                  <a:pt x="43" y="303"/>
                  <a:pt x="48" y="243"/>
                  <a:pt x="38" y="186"/>
                </a:cubicBezTo>
                <a:cubicBezTo>
                  <a:pt x="34" y="167"/>
                  <a:pt x="6" y="138"/>
                  <a:pt x="6" y="138"/>
                </a:cubicBezTo>
                <a:cubicBezTo>
                  <a:pt x="16" y="96"/>
                  <a:pt x="23" y="76"/>
                  <a:pt x="54" y="122"/>
                </a:cubicBezTo>
                <a:cubicBezTo>
                  <a:pt x="46" y="124"/>
                  <a:pt x="37" y="133"/>
                  <a:pt x="30" y="130"/>
                </a:cubicBezTo>
                <a:cubicBezTo>
                  <a:pt x="11" y="122"/>
                  <a:pt x="9" y="94"/>
                  <a:pt x="22" y="82"/>
                </a:cubicBezTo>
                <a:cubicBezTo>
                  <a:pt x="27" y="76"/>
                  <a:pt x="38" y="76"/>
                  <a:pt x="46" y="74"/>
                </a:cubicBezTo>
                <a:cubicBezTo>
                  <a:pt x="78" y="122"/>
                  <a:pt x="66" y="124"/>
                  <a:pt x="14" y="114"/>
                </a:cubicBezTo>
                <a:cubicBezTo>
                  <a:pt x="0" y="73"/>
                  <a:pt x="6" y="37"/>
                  <a:pt x="30" y="2"/>
                </a:cubicBezTo>
                <a:cubicBezTo>
                  <a:pt x="40" y="4"/>
                  <a:pt x="57" y="0"/>
                  <a:pt x="62" y="10"/>
                </a:cubicBezTo>
                <a:cubicBezTo>
                  <a:pt x="95" y="76"/>
                  <a:pt x="19" y="39"/>
                  <a:pt x="6" y="2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763640" y="3213000"/>
            <a:ext cx="390600" cy="1841760"/>
          </a:xfrm>
          <a:custGeom>
            <a:avLst/>
            <a:gdLst/>
            <a:ahLst/>
            <a:rect l="l" t="t" r="r" b="b"/>
            <a:pathLst>
              <a:path w="336" h="1064">
                <a:moveTo>
                  <a:pt x="0" y="1064"/>
                </a:moveTo>
                <a:cubicBezTo>
                  <a:pt x="13" y="1023"/>
                  <a:pt x="47" y="1005"/>
                  <a:pt x="64" y="968"/>
                </a:cubicBezTo>
                <a:cubicBezTo>
                  <a:pt x="70" y="952"/>
                  <a:pt x="80" y="920"/>
                  <a:pt x="80" y="920"/>
                </a:cubicBezTo>
                <a:cubicBezTo>
                  <a:pt x="82" y="901"/>
                  <a:pt x="83" y="882"/>
                  <a:pt x="88" y="864"/>
                </a:cubicBezTo>
                <a:cubicBezTo>
                  <a:pt x="91" y="852"/>
                  <a:pt x="103" y="843"/>
                  <a:pt x="104" y="832"/>
                </a:cubicBezTo>
                <a:cubicBezTo>
                  <a:pt x="107" y="768"/>
                  <a:pt x="98" y="734"/>
                  <a:pt x="88" y="680"/>
                </a:cubicBezTo>
                <a:cubicBezTo>
                  <a:pt x="93" y="632"/>
                  <a:pt x="95" y="575"/>
                  <a:pt x="128" y="536"/>
                </a:cubicBezTo>
                <a:cubicBezTo>
                  <a:pt x="171" y="483"/>
                  <a:pt x="131" y="540"/>
                  <a:pt x="184" y="488"/>
                </a:cubicBezTo>
                <a:cubicBezTo>
                  <a:pt x="237" y="434"/>
                  <a:pt x="160" y="490"/>
                  <a:pt x="224" y="448"/>
                </a:cubicBezTo>
                <a:cubicBezTo>
                  <a:pt x="260" y="392"/>
                  <a:pt x="232" y="327"/>
                  <a:pt x="280" y="280"/>
                </a:cubicBezTo>
                <a:cubicBezTo>
                  <a:pt x="289" y="236"/>
                  <a:pt x="297" y="194"/>
                  <a:pt x="312" y="152"/>
                </a:cubicBezTo>
                <a:cubicBezTo>
                  <a:pt x="316" y="83"/>
                  <a:pt x="310" y="51"/>
                  <a:pt x="336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58920" y="3716280"/>
            <a:ext cx="596880" cy="114480"/>
          </a:xfrm>
          <a:custGeom>
            <a:avLst/>
            <a:gdLst/>
            <a:ahLst/>
            <a:rect l="l" t="t" r="r" b="b"/>
            <a:pathLst>
              <a:path w="376" h="72">
                <a:moveTo>
                  <a:pt x="376" y="72"/>
                </a:moveTo>
                <a:cubicBezTo>
                  <a:pt x="254" y="47"/>
                  <a:pt x="125" y="0"/>
                  <a:pt x="0" y="0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3141720"/>
            <a:ext cx="640080" cy="208080"/>
          </a:xfrm>
          <a:custGeom>
            <a:avLst/>
            <a:gdLst/>
            <a:ahLst/>
            <a:rect l="l" t="t" r="r" b="b"/>
            <a:pathLst>
              <a:path w="120" h="28">
                <a:moveTo>
                  <a:pt x="120" y="28"/>
                </a:moveTo>
                <a:cubicBezTo>
                  <a:pt x="78" y="0"/>
                  <a:pt x="52" y="4"/>
                  <a:pt x="0" y="4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8000" y="3500280"/>
            <a:ext cx="470160" cy="55800"/>
          </a:xfrm>
          <a:custGeom>
            <a:avLst/>
            <a:gdLst/>
            <a:ahLst/>
            <a:rect l="l" t="t" r="r" b="b"/>
            <a:pathLst>
              <a:path w="296" h="35">
                <a:moveTo>
                  <a:pt x="0" y="35"/>
                </a:moveTo>
                <a:cubicBezTo>
                  <a:pt x="104" y="0"/>
                  <a:pt x="152" y="19"/>
                  <a:pt x="296" y="19"/>
                </a:cubicBezTo>
              </a:path>
            </a:pathLst>
          </a:custGeom>
          <a:noFill/>
          <a:ln w="9360">
            <a:solidFill>
              <a:srgbClr val="fa18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2276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ímero de sindec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03640" y="45086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76360" y="4941720"/>
            <a:ext cx="1513080" cy="287640"/>
          </a:xfrm>
          <a:prstGeom prst="rect">
            <a:avLst/>
          </a:prstGeom>
          <a:gradFill rotWithShape="0">
            <a:gsLst>
              <a:gs pos="0">
                <a:srgbClr val="fcf5c3"/>
              </a:gs>
              <a:gs pos="50000">
                <a:srgbClr val="fae33c">
                  <a:alpha val="0"/>
                </a:srgbClr>
              </a:gs>
              <a:gs pos="100000">
                <a:srgbClr val="fcf5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900000" y="3789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360" y="42210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eparán sulf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8760800">
            <a:off x="3131280" y="285372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15160" y="26370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orción que un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colágenos y fibronec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58920" y="537372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5400000">
            <a:off x="2122920" y="558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26920" y="616572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acción con 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3280" y="3789360"/>
            <a:ext cx="450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decán: más abundant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os tipos (sindecán 1, 2, 3 y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ieren en la proteína y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samin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860760" y="54936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pel de proteoglicanos de superficie celular en señalización in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8200" y="914400"/>
            <a:ext cx="436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ervorio de fact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l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trol de la concentración de factor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066680" y="2286000"/>
            <a:ext cx="6677280" cy="3822120"/>
            <a:chOff x="1066680" y="2286000"/>
            <a:chExt cx="6677280" cy="3822120"/>
          </a:xfrm>
        </p:grpSpPr>
        <p:sp>
          <p:nvSpPr>
            <p:cNvPr id="1112" name=""/>
            <p:cNvSpPr/>
            <p:nvPr/>
          </p:nvSpPr>
          <p:spPr>
            <a:xfrm>
              <a:off x="2271600" y="4951440"/>
              <a:ext cx="3673440" cy="215640"/>
            </a:xfrm>
            <a:prstGeom prst="rect">
              <a:avLst/>
            </a:prstGeom>
            <a:solidFill>
              <a:srgbClr val="fae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00320" y="4951440"/>
              <a:ext cx="142920" cy="647640"/>
            </a:xfrm>
            <a:custGeom>
              <a:avLst/>
              <a:gdLst/>
              <a:ahLst/>
              <a:rect l="l" t="t" r="r" b="b"/>
              <a:pathLst>
                <a:path w="95" h="514">
                  <a:moveTo>
                    <a:pt x="54" y="514"/>
                  </a:moveTo>
                  <a:cubicBezTo>
                    <a:pt x="49" y="464"/>
                    <a:pt x="33" y="410"/>
                    <a:pt x="46" y="362"/>
                  </a:cubicBezTo>
                  <a:cubicBezTo>
                    <a:pt x="43" y="303"/>
                    <a:pt x="48" y="243"/>
                    <a:pt x="38" y="186"/>
                  </a:cubicBezTo>
                  <a:cubicBezTo>
                    <a:pt x="34" y="167"/>
                    <a:pt x="6" y="138"/>
                    <a:pt x="6" y="138"/>
                  </a:cubicBezTo>
                  <a:cubicBezTo>
                    <a:pt x="16" y="96"/>
                    <a:pt x="23" y="76"/>
                    <a:pt x="54" y="122"/>
                  </a:cubicBezTo>
                  <a:cubicBezTo>
                    <a:pt x="46" y="124"/>
                    <a:pt x="37" y="133"/>
                    <a:pt x="30" y="130"/>
                  </a:cubicBezTo>
                  <a:cubicBezTo>
                    <a:pt x="11" y="122"/>
                    <a:pt x="9" y="94"/>
                    <a:pt x="22" y="82"/>
                  </a:cubicBezTo>
                  <a:cubicBezTo>
                    <a:pt x="27" y="76"/>
                    <a:pt x="38" y="76"/>
                    <a:pt x="46" y="74"/>
                  </a:cubicBezTo>
                  <a:cubicBezTo>
                    <a:pt x="78" y="122"/>
                    <a:pt x="66" y="124"/>
                    <a:pt x="14" y="114"/>
                  </a:cubicBezTo>
                  <a:cubicBezTo>
                    <a:pt x="0" y="73"/>
                    <a:pt x="6" y="37"/>
                    <a:pt x="30" y="2"/>
                  </a:cubicBezTo>
                  <a:cubicBezTo>
                    <a:pt x="40" y="4"/>
                    <a:pt x="57" y="0"/>
                    <a:pt x="62" y="10"/>
                  </a:cubicBezTo>
                  <a:cubicBezTo>
                    <a:pt x="95" y="76"/>
                    <a:pt x="19" y="39"/>
                    <a:pt x="6" y="26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422600">
              <a:off x="2739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422600">
              <a:off x="3171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47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79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422600">
              <a:off x="4971960" y="4482360"/>
              <a:ext cx="21564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422600">
              <a:off x="5403960" y="448272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9960" y="4806720"/>
              <a:ext cx="7128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11600" y="4806720"/>
              <a:ext cx="71640" cy="647640"/>
            </a:xfrm>
            <a:prstGeom prst="rect">
              <a:avLst/>
            </a:prstGeom>
            <a:solidFill>
              <a:srgbClr val="8f67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03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27600" y="379872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35600" y="437508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00400" y="3537000"/>
              <a:ext cx="1551240" cy="1409400"/>
            </a:xfrm>
            <a:custGeom>
              <a:avLst/>
              <a:gdLst/>
              <a:ahLst/>
              <a:rect l="l" t="t" r="r" b="b"/>
              <a:pathLst>
                <a:path w="977" h="888">
                  <a:moveTo>
                    <a:pt x="9" y="888"/>
                  </a:moveTo>
                  <a:cubicBezTo>
                    <a:pt x="12" y="824"/>
                    <a:pt x="0" y="758"/>
                    <a:pt x="17" y="696"/>
                  </a:cubicBezTo>
                  <a:cubicBezTo>
                    <a:pt x="21" y="680"/>
                    <a:pt x="65" y="680"/>
                    <a:pt x="65" y="680"/>
                  </a:cubicBezTo>
                  <a:cubicBezTo>
                    <a:pt x="86" y="648"/>
                    <a:pt x="76" y="636"/>
                    <a:pt x="113" y="624"/>
                  </a:cubicBezTo>
                  <a:cubicBezTo>
                    <a:pt x="141" y="583"/>
                    <a:pt x="192" y="564"/>
                    <a:pt x="209" y="512"/>
                  </a:cubicBezTo>
                  <a:cubicBezTo>
                    <a:pt x="219" y="482"/>
                    <a:pt x="247" y="389"/>
                    <a:pt x="273" y="368"/>
                  </a:cubicBezTo>
                  <a:cubicBezTo>
                    <a:pt x="307" y="341"/>
                    <a:pt x="358" y="355"/>
                    <a:pt x="401" y="352"/>
                  </a:cubicBezTo>
                  <a:cubicBezTo>
                    <a:pt x="444" y="338"/>
                    <a:pt x="436" y="311"/>
                    <a:pt x="449" y="272"/>
                  </a:cubicBezTo>
                  <a:cubicBezTo>
                    <a:pt x="453" y="261"/>
                    <a:pt x="466" y="257"/>
                    <a:pt x="473" y="248"/>
                  </a:cubicBezTo>
                  <a:cubicBezTo>
                    <a:pt x="512" y="202"/>
                    <a:pt x="525" y="204"/>
                    <a:pt x="585" y="192"/>
                  </a:cubicBezTo>
                  <a:cubicBezTo>
                    <a:pt x="624" y="134"/>
                    <a:pt x="645" y="78"/>
                    <a:pt x="721" y="56"/>
                  </a:cubicBezTo>
                  <a:cubicBezTo>
                    <a:pt x="758" y="46"/>
                    <a:pt x="833" y="32"/>
                    <a:pt x="833" y="32"/>
                  </a:cubicBezTo>
                  <a:cubicBezTo>
                    <a:pt x="850" y="21"/>
                    <a:pt x="860" y="11"/>
                    <a:pt x="881" y="8"/>
                  </a:cubicBezTo>
                  <a:cubicBezTo>
                    <a:pt x="913" y="4"/>
                    <a:pt x="977" y="0"/>
                    <a:pt x="977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76920" y="3917880"/>
              <a:ext cx="266400" cy="546120"/>
            </a:xfrm>
            <a:custGeom>
              <a:avLst/>
              <a:gdLst/>
              <a:ahLst/>
              <a:rect l="l" t="t" r="r" b="b"/>
              <a:pathLst>
                <a:path w="168" h="344">
                  <a:moveTo>
                    <a:pt x="0" y="0"/>
                  </a:moveTo>
                  <a:cubicBezTo>
                    <a:pt x="16" y="11"/>
                    <a:pt x="32" y="21"/>
                    <a:pt x="48" y="32"/>
                  </a:cubicBezTo>
                  <a:cubicBezTo>
                    <a:pt x="62" y="41"/>
                    <a:pt x="64" y="80"/>
                    <a:pt x="64" y="80"/>
                  </a:cubicBezTo>
                  <a:cubicBezTo>
                    <a:pt x="67" y="123"/>
                    <a:pt x="63" y="166"/>
                    <a:pt x="72" y="208"/>
                  </a:cubicBezTo>
                  <a:cubicBezTo>
                    <a:pt x="74" y="217"/>
                    <a:pt x="91" y="216"/>
                    <a:pt x="96" y="224"/>
                  </a:cubicBezTo>
                  <a:cubicBezTo>
                    <a:pt x="125" y="270"/>
                    <a:pt x="102" y="284"/>
                    <a:pt x="144" y="312"/>
                  </a:cubicBezTo>
                  <a:cubicBezTo>
                    <a:pt x="154" y="342"/>
                    <a:pt x="144" y="332"/>
                    <a:pt x="168" y="344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1160" y="3612960"/>
              <a:ext cx="330480" cy="43200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0" y="0"/>
                  </a:moveTo>
                  <a:cubicBezTo>
                    <a:pt x="8" y="33"/>
                    <a:pt x="17" y="51"/>
                    <a:pt x="32" y="80"/>
                  </a:cubicBezTo>
                  <a:cubicBezTo>
                    <a:pt x="36" y="88"/>
                    <a:pt x="35" y="97"/>
                    <a:pt x="40" y="104"/>
                  </a:cubicBezTo>
                  <a:cubicBezTo>
                    <a:pt x="55" y="123"/>
                    <a:pt x="92" y="131"/>
                    <a:pt x="112" y="144"/>
                  </a:cubicBezTo>
                  <a:cubicBezTo>
                    <a:pt x="117" y="152"/>
                    <a:pt x="124" y="159"/>
                    <a:pt x="128" y="168"/>
                  </a:cubicBezTo>
                  <a:cubicBezTo>
                    <a:pt x="132" y="178"/>
                    <a:pt x="131" y="190"/>
                    <a:pt x="136" y="200"/>
                  </a:cubicBezTo>
                  <a:cubicBezTo>
                    <a:pt x="153" y="230"/>
                    <a:pt x="185" y="249"/>
                    <a:pt x="208" y="272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0" y="3092400"/>
              <a:ext cx="495360" cy="596880"/>
            </a:xfrm>
            <a:custGeom>
              <a:avLst/>
              <a:gdLst/>
              <a:ahLst/>
              <a:rect l="l" t="t" r="r" b="b"/>
              <a:pathLst>
                <a:path w="312" h="376">
                  <a:moveTo>
                    <a:pt x="312" y="376"/>
                  </a:moveTo>
                  <a:cubicBezTo>
                    <a:pt x="254" y="318"/>
                    <a:pt x="304" y="286"/>
                    <a:pt x="264" y="200"/>
                  </a:cubicBezTo>
                  <a:cubicBezTo>
                    <a:pt x="260" y="191"/>
                    <a:pt x="187" y="178"/>
                    <a:pt x="176" y="176"/>
                  </a:cubicBezTo>
                  <a:cubicBezTo>
                    <a:pt x="144" y="179"/>
                    <a:pt x="112" y="180"/>
                    <a:pt x="80" y="184"/>
                  </a:cubicBezTo>
                  <a:cubicBezTo>
                    <a:pt x="72" y="185"/>
                    <a:pt x="64" y="196"/>
                    <a:pt x="56" y="192"/>
                  </a:cubicBezTo>
                  <a:cubicBezTo>
                    <a:pt x="48" y="188"/>
                    <a:pt x="51" y="176"/>
                    <a:pt x="48" y="168"/>
                  </a:cubicBezTo>
                  <a:cubicBezTo>
                    <a:pt x="40" y="38"/>
                    <a:pt x="62" y="62"/>
                    <a:pt x="0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65360" y="4146480"/>
              <a:ext cx="338040" cy="266760"/>
            </a:xfrm>
            <a:custGeom>
              <a:avLst/>
              <a:gdLst/>
              <a:ahLst/>
              <a:rect l="l" t="t" r="r" b="b"/>
              <a:pathLst>
                <a:path w="213" h="168">
                  <a:moveTo>
                    <a:pt x="152" y="168"/>
                  </a:moveTo>
                  <a:cubicBezTo>
                    <a:pt x="213" y="76"/>
                    <a:pt x="60" y="99"/>
                    <a:pt x="16" y="96"/>
                  </a:cubicBezTo>
                  <a:cubicBezTo>
                    <a:pt x="0" y="49"/>
                    <a:pt x="8" y="80"/>
                    <a:pt x="8" y="0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2469960"/>
              <a:ext cx="1726920" cy="1473120"/>
            </a:xfrm>
            <a:custGeom>
              <a:avLst/>
              <a:gdLst/>
              <a:ahLst/>
              <a:rect l="l" t="t" r="r" b="b"/>
              <a:pathLst>
                <a:path w="1088" h="928">
                  <a:moveTo>
                    <a:pt x="0" y="928"/>
                  </a:moveTo>
                  <a:cubicBezTo>
                    <a:pt x="59" y="908"/>
                    <a:pt x="60" y="907"/>
                    <a:pt x="80" y="848"/>
                  </a:cubicBezTo>
                  <a:cubicBezTo>
                    <a:pt x="83" y="800"/>
                    <a:pt x="84" y="752"/>
                    <a:pt x="88" y="704"/>
                  </a:cubicBezTo>
                  <a:cubicBezTo>
                    <a:pt x="107" y="499"/>
                    <a:pt x="349" y="525"/>
                    <a:pt x="488" y="520"/>
                  </a:cubicBezTo>
                  <a:cubicBezTo>
                    <a:pt x="538" y="507"/>
                    <a:pt x="606" y="498"/>
                    <a:pt x="648" y="464"/>
                  </a:cubicBezTo>
                  <a:cubicBezTo>
                    <a:pt x="689" y="431"/>
                    <a:pt x="718" y="390"/>
                    <a:pt x="752" y="352"/>
                  </a:cubicBezTo>
                  <a:cubicBezTo>
                    <a:pt x="767" y="335"/>
                    <a:pt x="787" y="323"/>
                    <a:pt x="800" y="304"/>
                  </a:cubicBezTo>
                  <a:cubicBezTo>
                    <a:pt x="833" y="255"/>
                    <a:pt x="854" y="186"/>
                    <a:pt x="896" y="144"/>
                  </a:cubicBezTo>
                  <a:cubicBezTo>
                    <a:pt x="912" y="128"/>
                    <a:pt x="922" y="101"/>
                    <a:pt x="944" y="96"/>
                  </a:cubicBezTo>
                  <a:cubicBezTo>
                    <a:pt x="990" y="85"/>
                    <a:pt x="1018" y="81"/>
                    <a:pt x="1056" y="56"/>
                  </a:cubicBezTo>
                  <a:cubicBezTo>
                    <a:pt x="1074" y="2"/>
                    <a:pt x="1057" y="16"/>
                    <a:pt x="1088" y="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66960" y="2368440"/>
              <a:ext cx="546120" cy="876240"/>
            </a:xfrm>
            <a:custGeom>
              <a:avLst/>
              <a:gdLst/>
              <a:ahLst/>
              <a:rect l="l" t="t" r="r" b="b"/>
              <a:pathLst>
                <a:path w="344" h="552">
                  <a:moveTo>
                    <a:pt x="344" y="552"/>
                  </a:moveTo>
                  <a:cubicBezTo>
                    <a:pt x="333" y="497"/>
                    <a:pt x="312" y="463"/>
                    <a:pt x="280" y="416"/>
                  </a:cubicBezTo>
                  <a:cubicBezTo>
                    <a:pt x="263" y="391"/>
                    <a:pt x="228" y="383"/>
                    <a:pt x="208" y="360"/>
                  </a:cubicBezTo>
                  <a:cubicBezTo>
                    <a:pt x="171" y="317"/>
                    <a:pt x="135" y="271"/>
                    <a:pt x="104" y="224"/>
                  </a:cubicBezTo>
                  <a:cubicBezTo>
                    <a:pt x="95" y="186"/>
                    <a:pt x="89" y="138"/>
                    <a:pt x="72" y="104"/>
                  </a:cubicBezTo>
                  <a:cubicBezTo>
                    <a:pt x="57" y="74"/>
                    <a:pt x="54" y="83"/>
                    <a:pt x="32" y="56"/>
                  </a:cubicBezTo>
                  <a:cubicBezTo>
                    <a:pt x="17" y="38"/>
                    <a:pt x="16" y="16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448080"/>
              <a:ext cx="507960" cy="838080"/>
            </a:xfrm>
            <a:custGeom>
              <a:avLst/>
              <a:gdLst/>
              <a:ahLst/>
              <a:rect l="l" t="t" r="r" b="b"/>
              <a:pathLst>
                <a:path w="320" h="528">
                  <a:moveTo>
                    <a:pt x="0" y="0"/>
                  </a:moveTo>
                  <a:cubicBezTo>
                    <a:pt x="83" y="10"/>
                    <a:pt x="61" y="12"/>
                    <a:pt x="120" y="56"/>
                  </a:cubicBezTo>
                  <a:cubicBezTo>
                    <a:pt x="129" y="84"/>
                    <a:pt x="143" y="108"/>
                    <a:pt x="152" y="136"/>
                  </a:cubicBezTo>
                  <a:cubicBezTo>
                    <a:pt x="164" y="244"/>
                    <a:pt x="198" y="346"/>
                    <a:pt x="232" y="448"/>
                  </a:cubicBezTo>
                  <a:cubicBezTo>
                    <a:pt x="236" y="461"/>
                    <a:pt x="305" y="513"/>
                    <a:pt x="320" y="528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6680" y="3092400"/>
              <a:ext cx="571680" cy="560160"/>
            </a:xfrm>
            <a:custGeom>
              <a:avLst/>
              <a:gdLst/>
              <a:ahLst/>
              <a:rect l="l" t="t" r="r" b="b"/>
              <a:pathLst>
                <a:path w="360" h="353">
                  <a:moveTo>
                    <a:pt x="360" y="352"/>
                  </a:moveTo>
                  <a:cubicBezTo>
                    <a:pt x="317" y="349"/>
                    <a:pt x="274" y="353"/>
                    <a:pt x="232" y="344"/>
                  </a:cubicBezTo>
                  <a:cubicBezTo>
                    <a:pt x="213" y="340"/>
                    <a:pt x="184" y="312"/>
                    <a:pt x="184" y="312"/>
                  </a:cubicBezTo>
                  <a:cubicBezTo>
                    <a:pt x="163" y="249"/>
                    <a:pt x="179" y="183"/>
                    <a:pt x="160" y="120"/>
                  </a:cubicBezTo>
                  <a:cubicBezTo>
                    <a:pt x="144" y="69"/>
                    <a:pt x="37" y="37"/>
                    <a:pt x="0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70080" y="3943080"/>
              <a:ext cx="266760" cy="317520"/>
            </a:xfrm>
            <a:custGeom>
              <a:avLst/>
              <a:gdLst/>
              <a:ahLst/>
              <a:rect l="l" t="t" r="r" b="b"/>
              <a:pathLst>
                <a:path w="168" h="200">
                  <a:moveTo>
                    <a:pt x="168" y="0"/>
                  </a:moveTo>
                  <a:cubicBezTo>
                    <a:pt x="142" y="9"/>
                    <a:pt x="96" y="40"/>
                    <a:pt x="96" y="40"/>
                  </a:cubicBezTo>
                  <a:cubicBezTo>
                    <a:pt x="73" y="74"/>
                    <a:pt x="68" y="104"/>
                    <a:pt x="32" y="128"/>
                  </a:cubicBezTo>
                  <a:cubicBezTo>
                    <a:pt x="27" y="136"/>
                    <a:pt x="20" y="143"/>
                    <a:pt x="16" y="152"/>
                  </a:cubicBezTo>
                  <a:cubicBezTo>
                    <a:pt x="9" y="167"/>
                    <a:pt x="0" y="200"/>
                    <a:pt x="0" y="200"/>
                  </a:cubicBezTo>
                </a:path>
              </a:pathLst>
            </a:custGeom>
            <a:noFill/>
            <a:ln w="38160">
              <a:solidFill>
                <a:srgbClr val="34bfe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5600" y="2558880"/>
              <a:ext cx="597240" cy="149400"/>
            </a:xfrm>
            <a:custGeom>
              <a:avLst/>
              <a:gdLst/>
              <a:ahLst/>
              <a:rect l="l" t="t" r="r" b="b"/>
              <a:pathLst>
                <a:path w="376" h="94">
                  <a:moveTo>
                    <a:pt x="0" y="0"/>
                  </a:moveTo>
                  <a:cubicBezTo>
                    <a:pt x="37" y="12"/>
                    <a:pt x="71" y="18"/>
                    <a:pt x="104" y="40"/>
                  </a:cubicBezTo>
                  <a:cubicBezTo>
                    <a:pt x="140" y="94"/>
                    <a:pt x="151" y="79"/>
                    <a:pt x="224" y="72"/>
                  </a:cubicBezTo>
                  <a:cubicBezTo>
                    <a:pt x="271" y="41"/>
                    <a:pt x="318" y="40"/>
                    <a:pt x="376" y="4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63960" y="3294000"/>
              <a:ext cx="28728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58880" y="2286000"/>
              <a:ext cx="287640" cy="287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1960" y="2430360"/>
              <a:ext cx="292320" cy="26028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3600" y="3006720"/>
              <a:ext cx="507960" cy="40464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0" y="1"/>
                  </a:moveTo>
                  <a:cubicBezTo>
                    <a:pt x="29" y="4"/>
                    <a:pt x="60" y="0"/>
                    <a:pt x="88" y="9"/>
                  </a:cubicBezTo>
                  <a:cubicBezTo>
                    <a:pt x="117" y="18"/>
                    <a:pt x="113" y="100"/>
                    <a:pt x="128" y="113"/>
                  </a:cubicBezTo>
                  <a:cubicBezTo>
                    <a:pt x="136" y="120"/>
                    <a:pt x="193" y="133"/>
                    <a:pt x="208" y="137"/>
                  </a:cubicBezTo>
                  <a:cubicBezTo>
                    <a:pt x="223" y="160"/>
                    <a:pt x="236" y="243"/>
                    <a:pt x="256" y="249"/>
                  </a:cubicBezTo>
                  <a:cubicBezTo>
                    <a:pt x="276" y="255"/>
                    <a:pt x="299" y="249"/>
                    <a:pt x="320" y="249"/>
                  </a:cubicBezTo>
                </a:path>
              </a:pathLst>
            </a:custGeom>
            <a:noFill/>
            <a:ln w="38160">
              <a:solidFill>
                <a:srgbClr val="fa18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58880" y="55274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Receptor de 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84680" y="3870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4320" y="372744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parán sulf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071960" y="32940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84680" y="2935080"/>
              <a:ext cx="5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G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5656320" y="3151080"/>
              <a:ext cx="718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48320" y="2935080"/>
              <a:ext cx="10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sindecá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1600" y="235872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Proteoglicano de 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4159080"/>
              <a:ext cx="287280" cy="287280"/>
            </a:xfrm>
            <a:custGeom>
              <a:avLst/>
              <a:gdLst>
                <a:gd name="textAreaLeft" fmla="*/ 33840 w 287280"/>
                <a:gd name="textAreaRight" fmla="*/ 253440 w 287280"/>
                <a:gd name="textAreaTop" fmla="*/ 33840 h 287280"/>
                <a:gd name="textAreaBottom" fmla="*/ 2534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5240" y="4086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19760" y="5383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539640" y="0"/>
            <a:ext cx="8209080" cy="5911920"/>
            <a:chOff x="539640" y="0"/>
            <a:chExt cx="8209080" cy="59119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rcRect l="0" t="0" r="0" b="17467"/>
            <a:stretch/>
          </p:blipFill>
          <p:spPr>
            <a:xfrm>
              <a:off x="539640" y="0"/>
              <a:ext cx="8066160" cy="59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900000" y="220500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-receptores en transducción de señ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76360" y="765000"/>
              <a:ext cx="1152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-cé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1640" y="1413000"/>
              <a:ext cx="79200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resenta-ción y transpor-te de quimio-qu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51640" y="2276640"/>
              <a:ext cx="1297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dhesión célula–matríz  extra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4360" y="189000"/>
              <a:ext cx="1008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arrera fisio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80000" y="0"/>
              <a:ext cx="14400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cuestro/ almacenamiento de ligan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300600" y="6093000"/>
            <a:ext cx="85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versas funciones de los proteoglicanos de heparán sulfato en la fisiología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75040" y="5680080"/>
            <a:ext cx="156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Nature 446:1030-37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372360" y="292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27920" y="333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ahoma"/>
              </a:rPr>
              <a:t>Papel de las proteasas de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256760" y="836640"/>
            <a:ext cx="6151680" cy="7941240"/>
            <a:chOff x="1256760" y="836640"/>
            <a:chExt cx="6151680" cy="7941240"/>
          </a:xfrm>
        </p:grpSpPr>
        <p:sp>
          <p:nvSpPr>
            <p:cNvPr id="1166" name=""/>
            <p:cNvSpPr/>
            <p:nvPr/>
          </p:nvSpPr>
          <p:spPr>
            <a:xfrm flipH="1" rot="1870800">
              <a:off x="1614960" y="5356080"/>
              <a:ext cx="4126680" cy="253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20" y="81"/>
                  </a:moveTo>
                  <a:arcTo wR="10800" hR="10800" stAng="-4978857" swAng="4978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20" y="81"/>
                  </a:moveTo>
                  <a:arcTo wR="10800" hR="10800" stAng="-4978857" swAng="4978857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01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99200">
              <a:off x="4313160" y="160488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20491200">
              <a:off x="2103120" y="16045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512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20449800">
              <a:off x="2484360" y="1392120"/>
              <a:ext cx="836280" cy="836640"/>
            </a:xfrm>
            <a:custGeom>
              <a:avLst/>
              <a:gdLst/>
              <a:ahLst/>
              <a:rect l="l" t="t" r="r" b="b"/>
              <a:pathLst>
                <a:path w="527" h="527">
                  <a:moveTo>
                    <a:pt x="0" y="54"/>
                  </a:moveTo>
                  <a:cubicBezTo>
                    <a:pt x="12" y="66"/>
                    <a:pt x="21" y="82"/>
                    <a:pt x="36" y="91"/>
                  </a:cubicBezTo>
                  <a:cubicBezTo>
                    <a:pt x="71" y="112"/>
                    <a:pt x="145" y="107"/>
                    <a:pt x="145" y="163"/>
                  </a:cubicBezTo>
                  <a:cubicBezTo>
                    <a:pt x="145" y="284"/>
                    <a:pt x="145" y="406"/>
                    <a:pt x="145" y="527"/>
                  </a:cubicBezTo>
                  <a:cubicBezTo>
                    <a:pt x="163" y="521"/>
                    <a:pt x="183" y="519"/>
                    <a:pt x="200" y="509"/>
                  </a:cubicBezTo>
                  <a:cubicBezTo>
                    <a:pt x="268" y="468"/>
                    <a:pt x="209" y="472"/>
                    <a:pt x="254" y="472"/>
                  </a:cubicBezTo>
                  <a:cubicBezTo>
                    <a:pt x="187" y="450"/>
                    <a:pt x="217" y="462"/>
                    <a:pt x="163" y="436"/>
                  </a:cubicBezTo>
                  <a:cubicBezTo>
                    <a:pt x="163" y="388"/>
                    <a:pt x="163" y="339"/>
                    <a:pt x="163" y="291"/>
                  </a:cubicBezTo>
                  <a:cubicBezTo>
                    <a:pt x="188" y="287"/>
                    <a:pt x="217" y="294"/>
                    <a:pt x="237" y="278"/>
                  </a:cubicBezTo>
                  <a:cubicBezTo>
                    <a:pt x="257" y="262"/>
                    <a:pt x="254" y="207"/>
                    <a:pt x="254" y="182"/>
                  </a:cubicBezTo>
                  <a:cubicBezTo>
                    <a:pt x="299" y="137"/>
                    <a:pt x="327" y="136"/>
                    <a:pt x="381" y="109"/>
                  </a:cubicBezTo>
                  <a:cubicBezTo>
                    <a:pt x="381" y="73"/>
                    <a:pt x="381" y="36"/>
                    <a:pt x="381" y="0"/>
                  </a:cubicBezTo>
                  <a:lnTo>
                    <a:pt x="381" y="182"/>
                  </a:lnTo>
                  <a:cubicBezTo>
                    <a:pt x="444" y="119"/>
                    <a:pt x="401" y="145"/>
                    <a:pt x="527" y="145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rot="1870800">
              <a:off x="2093400" y="2354760"/>
              <a:ext cx="3977280" cy="297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38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38010"/>
                </a:path>
              </a:pathLst>
            </a:custGeom>
            <a:gradFill rotWithShape="0">
              <a:gsLst>
                <a:gs pos="0">
                  <a:srgbClr val="fae33c"/>
                </a:gs>
                <a:gs pos="100000">
                  <a:srgbClr val="fefefe"/>
                </a:gs>
              </a:gsLst>
              <a:lin ang="7272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40000" y="1492200"/>
              <a:ext cx="26820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13160" y="114768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41560" y="1071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160" y="1452600"/>
              <a:ext cx="267840" cy="43632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24080" y="836640"/>
              <a:ext cx="14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Tahoma"/>
                </a:rPr>
                <a:t>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46320" y="2214360"/>
              <a:ext cx="20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4845960" y="1928520"/>
              <a:ext cx="19332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581000" y="1147680"/>
              <a:ext cx="264600" cy="13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42840" y="489744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23720" y="4699080"/>
              <a:ext cx="328320" cy="522000"/>
            </a:xfrm>
            <a:custGeom>
              <a:avLst/>
              <a:gdLst/>
              <a:ahLst/>
              <a:rect l="l" t="t" r="r" b="b"/>
              <a:pathLst>
                <a:path w="207" h="329">
                  <a:moveTo>
                    <a:pt x="1" y="57"/>
                  </a:moveTo>
                  <a:cubicBezTo>
                    <a:pt x="16" y="64"/>
                    <a:pt x="0" y="69"/>
                    <a:pt x="17" y="73"/>
                  </a:cubicBezTo>
                  <a:cubicBezTo>
                    <a:pt x="57" y="81"/>
                    <a:pt x="7" y="12"/>
                    <a:pt x="25" y="65"/>
                  </a:cubicBezTo>
                  <a:cubicBezTo>
                    <a:pt x="65" y="179"/>
                    <a:pt x="71" y="215"/>
                    <a:pt x="110" y="329"/>
                  </a:cubicBezTo>
                  <a:cubicBezTo>
                    <a:pt x="125" y="317"/>
                    <a:pt x="144" y="309"/>
                    <a:pt x="156" y="294"/>
                  </a:cubicBezTo>
                  <a:cubicBezTo>
                    <a:pt x="207" y="233"/>
                    <a:pt x="153" y="256"/>
                    <a:pt x="195" y="241"/>
                  </a:cubicBezTo>
                  <a:cubicBezTo>
                    <a:pt x="125" y="242"/>
                    <a:pt x="157" y="244"/>
                    <a:pt x="98" y="237"/>
                  </a:cubicBezTo>
                  <a:cubicBezTo>
                    <a:pt x="82" y="192"/>
                    <a:pt x="66" y="145"/>
                    <a:pt x="50" y="100"/>
                  </a:cubicBezTo>
                  <a:cubicBezTo>
                    <a:pt x="72" y="88"/>
                    <a:pt x="43" y="118"/>
                    <a:pt x="57" y="97"/>
                  </a:cubicBezTo>
                  <a:cubicBezTo>
                    <a:pt x="70" y="75"/>
                    <a:pt x="41" y="129"/>
                    <a:pt x="33" y="105"/>
                  </a:cubicBezTo>
                  <a:cubicBezTo>
                    <a:pt x="61" y="48"/>
                    <a:pt x="23" y="100"/>
                    <a:pt x="65" y="57"/>
                  </a:cubicBezTo>
                  <a:cubicBezTo>
                    <a:pt x="53" y="23"/>
                    <a:pt x="19" y="90"/>
                    <a:pt x="57" y="65"/>
                  </a:cubicBezTo>
                  <a:lnTo>
                    <a:pt x="57" y="81"/>
                  </a:lnTo>
                  <a:cubicBezTo>
                    <a:pt x="96" y="0"/>
                    <a:pt x="63" y="81"/>
                    <a:pt x="65" y="81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6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0800" y="386064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39720" y="357336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92080" y="3933720"/>
              <a:ext cx="267840" cy="436680"/>
            </a:xfrm>
            <a:custGeom>
              <a:avLst/>
              <a:gdLst/>
              <a:ahLst/>
              <a:rect l="l" t="t" r="r" b="b"/>
              <a:pathLst>
                <a:path w="169" h="275">
                  <a:moveTo>
                    <a:pt x="32" y="53"/>
                  </a:moveTo>
                  <a:cubicBezTo>
                    <a:pt x="28" y="87"/>
                    <a:pt x="0" y="173"/>
                    <a:pt x="23" y="208"/>
                  </a:cubicBezTo>
                  <a:cubicBezTo>
                    <a:pt x="35" y="227"/>
                    <a:pt x="69" y="231"/>
                    <a:pt x="87" y="235"/>
                  </a:cubicBezTo>
                  <a:cubicBezTo>
                    <a:pt x="121" y="258"/>
                    <a:pt x="127" y="275"/>
                    <a:pt x="160" y="244"/>
                  </a:cubicBezTo>
                  <a:cubicBezTo>
                    <a:pt x="157" y="232"/>
                    <a:pt x="160" y="216"/>
                    <a:pt x="150" y="208"/>
                  </a:cubicBezTo>
                  <a:cubicBezTo>
                    <a:pt x="138" y="198"/>
                    <a:pt x="116" y="210"/>
                    <a:pt x="105" y="199"/>
                  </a:cubicBezTo>
                  <a:cubicBezTo>
                    <a:pt x="98" y="192"/>
                    <a:pt x="106" y="177"/>
                    <a:pt x="114" y="171"/>
                  </a:cubicBezTo>
                  <a:cubicBezTo>
                    <a:pt x="130" y="160"/>
                    <a:pt x="169" y="153"/>
                    <a:pt x="169" y="153"/>
                  </a:cubicBezTo>
                  <a:cubicBezTo>
                    <a:pt x="148" y="90"/>
                    <a:pt x="88" y="106"/>
                    <a:pt x="69" y="162"/>
                  </a:cubicBezTo>
                  <a:cubicBezTo>
                    <a:pt x="45" y="90"/>
                    <a:pt x="105" y="86"/>
                    <a:pt x="160" y="71"/>
                  </a:cubicBezTo>
                  <a:cubicBezTo>
                    <a:pt x="144" y="0"/>
                    <a:pt x="140" y="14"/>
                    <a:pt x="69" y="26"/>
                  </a:cubicBezTo>
                  <a:cubicBezTo>
                    <a:pt x="63" y="32"/>
                    <a:pt x="55" y="37"/>
                    <a:pt x="50" y="44"/>
                  </a:cubicBezTo>
                  <a:cubicBezTo>
                    <a:pt x="35" y="69"/>
                    <a:pt x="48" y="86"/>
                    <a:pt x="32" y="53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84440" y="2925720"/>
              <a:ext cx="1904760" cy="358560"/>
            </a:xfrm>
            <a:prstGeom prst="rightArrow">
              <a:avLst>
                <a:gd name="adj1" fmla="val 50000"/>
                <a:gd name="adj2" fmla="val 132806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79720" y="5734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spue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76360" y="47638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42840" y="45590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99000">
              <a:off x="2807640" y="459576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84600">
              <a:off x="2551680" y="43603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563800">
              <a:off x="3371400" y="4684680"/>
              <a:ext cx="325080" cy="53640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38200" y="4440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563800">
              <a:off x="3753720" y="4817880"/>
              <a:ext cx="325080" cy="536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33" y="108"/>
                  </a:moveTo>
                  <a:cubicBezTo>
                    <a:pt x="48" y="116"/>
                    <a:pt x="7" y="85"/>
                    <a:pt x="24" y="89"/>
                  </a:cubicBezTo>
                  <a:cubicBezTo>
                    <a:pt x="64" y="97"/>
                    <a:pt x="6" y="45"/>
                    <a:pt x="24" y="98"/>
                  </a:cubicBezTo>
                  <a:cubicBezTo>
                    <a:pt x="62" y="213"/>
                    <a:pt x="69" y="223"/>
                    <a:pt x="107" y="338"/>
                  </a:cubicBezTo>
                  <a:cubicBezTo>
                    <a:pt x="122" y="326"/>
                    <a:pt x="140" y="318"/>
                    <a:pt x="153" y="303"/>
                  </a:cubicBezTo>
                  <a:cubicBezTo>
                    <a:pt x="205" y="243"/>
                    <a:pt x="150" y="265"/>
                    <a:pt x="193" y="251"/>
                  </a:cubicBezTo>
                  <a:cubicBezTo>
                    <a:pt x="122" y="251"/>
                    <a:pt x="155" y="253"/>
                    <a:pt x="95" y="246"/>
                  </a:cubicBezTo>
                  <a:cubicBezTo>
                    <a:pt x="80" y="200"/>
                    <a:pt x="64" y="154"/>
                    <a:pt x="49" y="108"/>
                  </a:cubicBezTo>
                  <a:cubicBezTo>
                    <a:pt x="72" y="96"/>
                    <a:pt x="37" y="111"/>
                    <a:pt x="51" y="89"/>
                  </a:cubicBezTo>
                  <a:cubicBezTo>
                    <a:pt x="65" y="68"/>
                    <a:pt x="50" y="104"/>
                    <a:pt x="42" y="80"/>
                  </a:cubicBezTo>
                  <a:cubicBezTo>
                    <a:pt x="70" y="23"/>
                    <a:pt x="0" y="96"/>
                    <a:pt x="42" y="53"/>
                  </a:cubicBezTo>
                  <a:cubicBezTo>
                    <a:pt x="31" y="19"/>
                    <a:pt x="12" y="36"/>
                    <a:pt x="42" y="17"/>
                  </a:cubicBezTo>
                  <a:lnTo>
                    <a:pt x="24" y="44"/>
                  </a:lnTo>
                  <a:cubicBezTo>
                    <a:pt x="51" y="35"/>
                    <a:pt x="72" y="0"/>
                    <a:pt x="33" y="17"/>
                  </a:cubicBezTo>
                </a:path>
              </a:pathLst>
            </a:custGeom>
            <a:noFill/>
            <a:ln w="28440">
              <a:solidFill>
                <a:srgbClr val="34bf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20880" y="4592520"/>
              <a:ext cx="45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Wingdings"/>
                  <a:ea typeface="Wingdings"/>
                </a:rPr>
                <a:t>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08080" y="45082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Tahoma"/>
                </a:rPr>
                <a:t>Proteasas de M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3040" y="2286000"/>
              <a:ext cx="304560" cy="295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8f6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2000" y="2581200"/>
              <a:ext cx="217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señalización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8f67e9"/>
                  </a:solidFill>
                  <a:latin typeface="Tahoma"/>
                </a:rPr>
                <a:t>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65240" y="5221080"/>
              <a:ext cx="304560" cy="295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23720" y="5589360"/>
              <a:ext cx="21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ahoma"/>
                </a:rPr>
                <a:t>señalización intra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184440" y="5734080"/>
              <a:ext cx="380520" cy="600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6080" y="5734080"/>
              <a:ext cx="380880" cy="51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79720" y="5949720"/>
              <a:ext cx="1584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4080" y="5734080"/>
              <a:ext cx="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219320"/>
            <a:ext cx="236232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971800"/>
            <a:ext cx="2361960" cy="1600200"/>
          </a:xfrm>
          <a:prstGeom prst="roundRect">
            <a:avLst>
              <a:gd name="adj" fmla="val 16667"/>
            </a:avLst>
          </a:prstGeom>
          <a:solidFill>
            <a:srgbClr val="c7c7c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4922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81280"/>
            <a:ext cx="76212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600200"/>
            <a:ext cx="76212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95480" y="1676520"/>
            <a:ext cx="2210040" cy="838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505320"/>
            <a:ext cx="1981080" cy="68580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13372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657600"/>
            <a:ext cx="3429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1337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0574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9718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057400"/>
            <a:ext cx="381240" cy="9144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14400"/>
              <a:gd name="textAreaBottom" fmla="*/ 896040 h 914400"/>
            </a:gdLst>
            <a:ahLst/>
            <a:rect l="textAreaLeft" t="textAreaTop" r="textAreaRight" b="textAreaBottom"/>
            <a:pathLst>
              <a:path w="21600" h="51779">
                <a:moveTo>
                  <a:pt x="3600" y="0"/>
                </a:moveTo>
                <a:arcTo wR="3600" hR="3600" stAng="16200000" swAng="-5400000"/>
                <a:lnTo>
                  <a:pt x="0" y="48179"/>
                </a:lnTo>
                <a:arcTo wR="3600" hR="3600" stAng="10800000" swAng="-5400000"/>
                <a:lnTo>
                  <a:pt x="18000" y="51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0574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48120"/>
            <a:ext cx="304560" cy="9144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335268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7432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6668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5909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4387800">
            <a:off x="613404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387800">
            <a:off x="6286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387800">
            <a:off x="552420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87800">
            <a:off x="666720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387800">
            <a:off x="5905440" y="278100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387800">
            <a:off x="51433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387800">
            <a:off x="6972120" y="28573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387800">
            <a:off x="727704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387800">
            <a:off x="7657920" y="27050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52" y="228"/>
                  <a:pt x="104" y="168"/>
                  <a:pt x="144" y="144"/>
                </a:cubicBezTo>
                <a:cubicBezTo>
                  <a:pt x="184" y="120"/>
                  <a:pt x="216" y="160"/>
                  <a:pt x="240" y="144"/>
                </a:cubicBezTo>
                <a:cubicBezTo>
                  <a:pt x="264" y="128"/>
                  <a:pt x="256" y="72"/>
                  <a:pt x="288" y="48"/>
                </a:cubicBezTo>
                <a:cubicBezTo>
                  <a:pt x="320" y="24"/>
                  <a:pt x="408" y="16"/>
                  <a:pt x="432" y="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9360" y="5423040"/>
            <a:ext cx="83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493200">
            <a:off x="5105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59092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493200">
            <a:off x="624816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2493200">
            <a:off x="68576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2493200">
            <a:off x="7543440" y="3123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0" y="74"/>
                </a:moveTo>
                <a:cubicBezTo>
                  <a:pt x="24" y="0"/>
                  <a:pt x="36" y="14"/>
                  <a:pt x="107" y="38"/>
                </a:cubicBezTo>
                <a:cubicBezTo>
                  <a:pt x="159" y="77"/>
                  <a:pt x="151" y="85"/>
                  <a:pt x="151" y="15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8160" y="249408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6000" y="1219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b7be"/>
                </a:solidFill>
                <a:latin typeface="Tahoma"/>
              </a:rPr>
              <a:t>Matriz extra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05360" y="16002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492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63560" y="90792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Moléculas de 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268280"/>
            <a:ext cx="68904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3879720"/>
            <a:ext cx="127080" cy="19872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5480" y="390852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2672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86200"/>
            <a:ext cx="16812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2200" y="190512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1905120"/>
            <a:ext cx="8280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2000" y="3857760"/>
            <a:ext cx="127080" cy="19836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388620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288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19051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400" y="1828800"/>
            <a:ext cx="7452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10080" y="1828800"/>
            <a:ext cx="8280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9200" y="1828800"/>
            <a:ext cx="82440" cy="1303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8680" y="19051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76600" y="3962520"/>
            <a:ext cx="82440" cy="129960"/>
          </a:xfrm>
          <a:custGeom>
            <a:avLst/>
            <a:gdLst/>
            <a:ahLst/>
            <a:rect l="l" t="t" r="r" b="b"/>
            <a:pathLst>
              <a:path w="106" h="98">
                <a:moveTo>
                  <a:pt x="106" y="98"/>
                </a:moveTo>
                <a:cubicBezTo>
                  <a:pt x="84" y="63"/>
                  <a:pt x="59" y="60"/>
                  <a:pt x="26" y="36"/>
                </a:cubicBezTo>
                <a:cubicBezTo>
                  <a:pt x="6" y="5"/>
                  <a:pt x="16" y="16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153280" y="3962520"/>
            <a:ext cx="74880" cy="166680"/>
          </a:xfrm>
          <a:custGeom>
            <a:avLst/>
            <a:gdLst/>
            <a:ahLst/>
            <a:rect l="l" t="t" r="r" b="b"/>
            <a:pathLst>
              <a:path w="80" h="125">
                <a:moveTo>
                  <a:pt x="0" y="125"/>
                </a:moveTo>
                <a:cubicBezTo>
                  <a:pt x="8" y="110"/>
                  <a:pt x="15" y="93"/>
                  <a:pt x="26" y="80"/>
                </a:cubicBezTo>
                <a:cubicBezTo>
                  <a:pt x="33" y="69"/>
                  <a:pt x="45" y="64"/>
                  <a:pt x="53" y="54"/>
                </a:cubicBezTo>
                <a:cubicBezTo>
                  <a:pt x="58" y="46"/>
                  <a:pt x="57" y="35"/>
                  <a:pt x="62" y="27"/>
                </a:cubicBezTo>
                <a:cubicBezTo>
                  <a:pt x="66" y="17"/>
                  <a:pt x="80" y="0"/>
                  <a:pt x="8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005360"/>
            <a:ext cx="302400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4076640"/>
            <a:ext cx="3166920" cy="7308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739880"/>
            <a:ext cx="259056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676520"/>
            <a:ext cx="2590920" cy="177840"/>
          </a:xfrm>
          <a:custGeom>
            <a:avLst/>
            <a:gdLst/>
            <a:ahLst/>
            <a:rect l="l" t="t" r="r" b="b"/>
            <a:pathLst>
              <a:path w="1632" h="112">
                <a:moveTo>
                  <a:pt x="0" y="56"/>
                </a:moveTo>
                <a:cubicBezTo>
                  <a:pt x="32" y="52"/>
                  <a:pt x="64" y="48"/>
                  <a:pt x="96" y="56"/>
                </a:cubicBezTo>
                <a:cubicBezTo>
                  <a:pt x="128" y="64"/>
                  <a:pt x="168" y="104"/>
                  <a:pt x="192" y="104"/>
                </a:cubicBezTo>
                <a:cubicBezTo>
                  <a:pt x="216" y="104"/>
                  <a:pt x="216" y="64"/>
                  <a:pt x="240" y="56"/>
                </a:cubicBezTo>
                <a:cubicBezTo>
                  <a:pt x="264" y="48"/>
                  <a:pt x="312" y="64"/>
                  <a:pt x="336" y="56"/>
                </a:cubicBezTo>
                <a:cubicBezTo>
                  <a:pt x="360" y="48"/>
                  <a:pt x="368" y="8"/>
                  <a:pt x="384" y="8"/>
                </a:cubicBezTo>
                <a:cubicBezTo>
                  <a:pt x="400" y="8"/>
                  <a:pt x="416" y="40"/>
                  <a:pt x="432" y="56"/>
                </a:cubicBezTo>
                <a:cubicBezTo>
                  <a:pt x="448" y="72"/>
                  <a:pt x="448" y="104"/>
                  <a:pt x="480" y="104"/>
                </a:cubicBezTo>
                <a:cubicBezTo>
                  <a:pt x="512" y="104"/>
                  <a:pt x="592" y="56"/>
                  <a:pt x="624" y="56"/>
                </a:cubicBezTo>
                <a:cubicBezTo>
                  <a:pt x="656" y="56"/>
                  <a:pt x="648" y="104"/>
                  <a:pt x="672" y="104"/>
                </a:cubicBezTo>
                <a:cubicBezTo>
                  <a:pt x="696" y="104"/>
                  <a:pt x="728" y="56"/>
                  <a:pt x="768" y="56"/>
                </a:cubicBezTo>
                <a:cubicBezTo>
                  <a:pt x="808" y="56"/>
                  <a:pt x="880" y="104"/>
                  <a:pt x="912" y="104"/>
                </a:cubicBezTo>
                <a:cubicBezTo>
                  <a:pt x="944" y="104"/>
                  <a:pt x="936" y="64"/>
                  <a:pt x="960" y="56"/>
                </a:cubicBezTo>
                <a:cubicBezTo>
                  <a:pt x="984" y="48"/>
                  <a:pt x="1016" y="56"/>
                  <a:pt x="1056" y="56"/>
                </a:cubicBezTo>
                <a:cubicBezTo>
                  <a:pt x="1096" y="56"/>
                  <a:pt x="1168" y="48"/>
                  <a:pt x="1200" y="56"/>
                </a:cubicBezTo>
                <a:cubicBezTo>
                  <a:pt x="1232" y="64"/>
                  <a:pt x="1200" y="112"/>
                  <a:pt x="1248" y="104"/>
                </a:cubicBezTo>
                <a:cubicBezTo>
                  <a:pt x="1296" y="96"/>
                  <a:pt x="1440" y="16"/>
                  <a:pt x="1488" y="8"/>
                </a:cubicBezTo>
                <a:cubicBezTo>
                  <a:pt x="1536" y="0"/>
                  <a:pt x="1512" y="48"/>
                  <a:pt x="1536" y="56"/>
                </a:cubicBezTo>
                <a:cubicBezTo>
                  <a:pt x="1560" y="64"/>
                  <a:pt x="1596" y="60"/>
                  <a:pt x="1632" y="5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5562720"/>
            <a:ext cx="69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cional (procesos de desarrollo, diferenciación, reparación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0120" y="441972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Molécu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adapt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224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1520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85264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19447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0640" y="40464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tactos cel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2050920" y="1844640"/>
            <a:ext cx="4751640" cy="3598920"/>
            <a:chOff x="2050920" y="1844640"/>
            <a:chExt cx="4751640" cy="3598920"/>
          </a:xfrm>
        </p:grpSpPr>
        <p:sp>
          <p:nvSpPr>
            <p:cNvPr id="1207" name=""/>
            <p:cNvSpPr/>
            <p:nvPr/>
          </p:nvSpPr>
          <p:spPr>
            <a:xfrm>
              <a:off x="3564000" y="3500280"/>
              <a:ext cx="1657080" cy="19432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50000">
                  <a:srgbClr val="727272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73600" y="2379600"/>
              <a:ext cx="368280" cy="1851120"/>
            </a:xfrm>
            <a:custGeom>
              <a:avLst/>
              <a:gdLst/>
              <a:ahLst/>
              <a:rect l="l" t="t" r="r" b="b"/>
              <a:pathLst>
                <a:path w="232" h="1166">
                  <a:moveTo>
                    <a:pt x="0" y="1156"/>
                  </a:moveTo>
                  <a:cubicBezTo>
                    <a:pt x="50" y="1166"/>
                    <a:pt x="102" y="1086"/>
                    <a:pt x="162" y="1041"/>
                  </a:cubicBezTo>
                  <a:cubicBezTo>
                    <a:pt x="202" y="977"/>
                    <a:pt x="200" y="925"/>
                    <a:pt x="200" y="925"/>
                  </a:cubicBezTo>
                  <a:cubicBezTo>
                    <a:pt x="232" y="833"/>
                    <a:pt x="213" y="648"/>
                    <a:pt x="216" y="573"/>
                  </a:cubicBezTo>
                  <a:cubicBezTo>
                    <a:pt x="219" y="498"/>
                    <a:pt x="218" y="572"/>
                    <a:pt x="216" y="477"/>
                  </a:cubicBezTo>
                  <a:cubicBezTo>
                    <a:pt x="214" y="382"/>
                    <a:pt x="206" y="130"/>
                    <a:pt x="2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5092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1"/>
            <a:stretch/>
          </p:blipFill>
          <p:spPr>
            <a:xfrm>
              <a:off x="2124000" y="3571920"/>
              <a:ext cx="180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3924360" y="2131920"/>
              <a:ext cx="8388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26000" y="2171880"/>
              <a:ext cx="361800" cy="2079360"/>
            </a:xfrm>
            <a:custGeom>
              <a:avLst/>
              <a:gdLst/>
              <a:ahLst/>
              <a:rect l="l" t="t" r="r" b="b"/>
              <a:pathLst>
                <a:path w="228" h="1310">
                  <a:moveTo>
                    <a:pt x="228" y="1301"/>
                  </a:moveTo>
                  <a:cubicBezTo>
                    <a:pt x="181" y="1310"/>
                    <a:pt x="149" y="1284"/>
                    <a:pt x="92" y="1269"/>
                  </a:cubicBezTo>
                  <a:cubicBezTo>
                    <a:pt x="36" y="1197"/>
                    <a:pt x="30" y="1088"/>
                    <a:pt x="30" y="1088"/>
                  </a:cubicBezTo>
                  <a:cubicBezTo>
                    <a:pt x="0" y="1008"/>
                    <a:pt x="20" y="947"/>
                    <a:pt x="14" y="792"/>
                  </a:cubicBezTo>
                  <a:cubicBezTo>
                    <a:pt x="11" y="611"/>
                    <a:pt x="18" y="132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4859280" y="1844640"/>
              <a:ext cx="1943280" cy="216072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2160720"/>
                <a:gd name="textAreaBottom" fmla="*/ 2066040 h 2160720"/>
              </a:gdLst>
              <a:ahLst/>
              <a:rect l="textAreaLeft" t="textAreaTop" r="textAreaRight" b="textAreaBottom"/>
              <a:pathLst>
                <a:path w="21600" h="24016">
                  <a:moveTo>
                    <a:pt x="3600" y="0"/>
                  </a:moveTo>
                  <a:arcTo wR="3600" hR="3600" stAng="16200000" swAng="-5400000"/>
                  <a:lnTo>
                    <a:pt x="0" y="20416"/>
                  </a:lnTo>
                  <a:arcTo wR="3600" hR="3600" stAng="10800000" swAng="-5400000"/>
                  <a:lnTo>
                    <a:pt x="18000" y="240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9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932360" y="3571920"/>
              <a:ext cx="18000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 flipH="1">
              <a:off x="4860720" y="2131920"/>
              <a:ext cx="84240" cy="1841760"/>
            </a:xfrm>
            <a:custGeom>
              <a:avLst/>
              <a:gdLst/>
              <a:ahLst/>
              <a:rect l="l" t="t" r="r" b="b"/>
              <a:pathLst>
                <a:path w="53" h="1160">
                  <a:moveTo>
                    <a:pt x="0" y="1160"/>
                  </a:moveTo>
                  <a:cubicBezTo>
                    <a:pt x="11" y="1113"/>
                    <a:pt x="43" y="1073"/>
                    <a:pt x="48" y="880"/>
                  </a:cubicBezTo>
                  <a:cubicBezTo>
                    <a:pt x="53" y="687"/>
                    <a:pt x="35" y="183"/>
                    <a:pt x="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22560" y="5229360"/>
              <a:ext cx="1076400" cy="25200"/>
            </a:xfrm>
            <a:custGeom>
              <a:avLst/>
              <a:gdLst/>
              <a:ahLst/>
              <a:rect l="l" t="t" r="r" b="b"/>
              <a:pathLst>
                <a:path w="678" h="16">
                  <a:moveTo>
                    <a:pt x="0" y="16"/>
                  </a:moveTo>
                  <a:cubicBezTo>
                    <a:pt x="140" y="0"/>
                    <a:pt x="276" y="2"/>
                    <a:pt x="416" y="14"/>
                  </a:cubicBezTo>
                  <a:cubicBezTo>
                    <a:pt x="514" y="2"/>
                    <a:pt x="580" y="16"/>
                    <a:pt x="678" y="16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51280" y="5156280"/>
              <a:ext cx="1218960" cy="38160"/>
            </a:xfrm>
            <a:custGeom>
              <a:avLst/>
              <a:gdLst/>
              <a:ahLst/>
              <a:rect l="l" t="t" r="r" b="b"/>
              <a:pathLst>
                <a:path w="768" h="24">
                  <a:moveTo>
                    <a:pt x="0" y="9"/>
                  </a:moveTo>
                  <a:cubicBezTo>
                    <a:pt x="159" y="0"/>
                    <a:pt x="299" y="18"/>
                    <a:pt x="461" y="6"/>
                  </a:cubicBezTo>
                  <a:cubicBezTo>
                    <a:pt x="581" y="24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79640" y="5288040"/>
              <a:ext cx="1219320" cy="30240"/>
            </a:xfrm>
            <a:custGeom>
              <a:avLst/>
              <a:gdLst/>
              <a:ahLst/>
              <a:rect l="l" t="t" r="r" b="b"/>
              <a:pathLst>
                <a:path w="768" h="19">
                  <a:moveTo>
                    <a:pt x="0" y="17"/>
                  </a:moveTo>
                  <a:cubicBezTo>
                    <a:pt x="71" y="19"/>
                    <a:pt x="351" y="4"/>
                    <a:pt x="428" y="7"/>
                  </a:cubicBezTo>
                  <a:cubicBezTo>
                    <a:pt x="512" y="5"/>
                    <a:pt x="449" y="5"/>
                    <a:pt x="506" y="7"/>
                  </a:cubicBezTo>
                  <a:cubicBezTo>
                    <a:pt x="617" y="0"/>
                    <a:pt x="657" y="17"/>
                    <a:pt x="768" y="17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5084640"/>
              <a:ext cx="1218960" cy="39960"/>
            </a:xfrm>
            <a:custGeom>
              <a:avLst/>
              <a:gdLst/>
              <a:ahLst/>
              <a:rect l="l" t="t" r="r" b="b"/>
              <a:pathLst>
                <a:path w="768" h="25">
                  <a:moveTo>
                    <a:pt x="0" y="9"/>
                  </a:moveTo>
                  <a:cubicBezTo>
                    <a:pt x="159" y="0"/>
                    <a:pt x="306" y="18"/>
                    <a:pt x="464" y="25"/>
                  </a:cubicBezTo>
                  <a:cubicBezTo>
                    <a:pt x="575" y="18"/>
                    <a:pt x="657" y="9"/>
                    <a:pt x="768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32360" y="3139920"/>
              <a:ext cx="144360" cy="287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82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9200" y="2973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6720" y="321156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076720" y="335268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003640" y="335520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3419280" y="3282840"/>
              <a:ext cx="432000" cy="748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19280" y="342756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0920" y="3498840"/>
              <a:ext cx="360360" cy="14436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490920" y="313992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32360" y="256392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51280" y="2706840"/>
              <a:ext cx="144360" cy="2872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29200" y="239724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6720" y="2635200"/>
              <a:ext cx="406440" cy="6984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076720" y="277596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5003640" y="2778840"/>
              <a:ext cx="287280" cy="290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419280" y="2706120"/>
              <a:ext cx="432000" cy="745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419280" y="2851200"/>
              <a:ext cx="432000" cy="7128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90920" y="2922480"/>
              <a:ext cx="360360" cy="14472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564000" y="2492280"/>
              <a:ext cx="287280" cy="2160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0" y="144"/>
                  </a:moveTo>
                  <a:cubicBezTo>
                    <a:pt x="31" y="134"/>
                    <a:pt x="33" y="114"/>
                    <a:pt x="64" y="104"/>
                  </a:cubicBezTo>
                  <a:cubicBezTo>
                    <a:pt x="88" y="31"/>
                    <a:pt x="102" y="33"/>
                    <a:pt x="168" y="0"/>
                  </a:cubicBezTo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06920" y="1987560"/>
              <a:ext cx="563400" cy="2217600"/>
            </a:xfrm>
            <a:custGeom>
              <a:avLst/>
              <a:gdLst/>
              <a:ahLst/>
              <a:rect l="l" t="t" r="r" b="b"/>
              <a:pathLst>
                <a:path w="355" h="1397">
                  <a:moveTo>
                    <a:pt x="88" y="1297"/>
                  </a:moveTo>
                  <a:cubicBezTo>
                    <a:pt x="96" y="1292"/>
                    <a:pt x="130" y="1281"/>
                    <a:pt x="135" y="1273"/>
                  </a:cubicBezTo>
                  <a:cubicBezTo>
                    <a:pt x="158" y="1237"/>
                    <a:pt x="174" y="1163"/>
                    <a:pt x="183" y="1120"/>
                  </a:cubicBezTo>
                  <a:cubicBezTo>
                    <a:pt x="198" y="874"/>
                    <a:pt x="183" y="634"/>
                    <a:pt x="183" y="391"/>
                  </a:cubicBezTo>
                  <a:cubicBezTo>
                    <a:pt x="183" y="9"/>
                    <a:pt x="42" y="48"/>
                    <a:pt x="184" y="1"/>
                  </a:cubicBezTo>
                  <a:cubicBezTo>
                    <a:pt x="219" y="4"/>
                    <a:pt x="254" y="0"/>
                    <a:pt x="288" y="9"/>
                  </a:cubicBezTo>
                  <a:cubicBezTo>
                    <a:pt x="355" y="27"/>
                    <a:pt x="283" y="432"/>
                    <a:pt x="301" y="610"/>
                  </a:cubicBezTo>
                  <a:cubicBezTo>
                    <a:pt x="303" y="780"/>
                    <a:pt x="312" y="959"/>
                    <a:pt x="312" y="1030"/>
                  </a:cubicBezTo>
                  <a:cubicBezTo>
                    <a:pt x="314" y="1108"/>
                    <a:pt x="316" y="1050"/>
                    <a:pt x="312" y="1081"/>
                  </a:cubicBezTo>
                  <a:cubicBezTo>
                    <a:pt x="308" y="1112"/>
                    <a:pt x="298" y="1181"/>
                    <a:pt x="288" y="1216"/>
                  </a:cubicBezTo>
                  <a:cubicBezTo>
                    <a:pt x="278" y="1251"/>
                    <a:pt x="264" y="1271"/>
                    <a:pt x="249" y="1291"/>
                  </a:cubicBezTo>
                  <a:cubicBezTo>
                    <a:pt x="234" y="1311"/>
                    <a:pt x="219" y="1320"/>
                    <a:pt x="199" y="1336"/>
                  </a:cubicBezTo>
                  <a:cubicBezTo>
                    <a:pt x="184" y="1358"/>
                    <a:pt x="157" y="1387"/>
                    <a:pt x="130" y="1390"/>
                  </a:cubicBezTo>
                  <a:cubicBezTo>
                    <a:pt x="100" y="1397"/>
                    <a:pt x="78" y="1370"/>
                    <a:pt x="48" y="1377"/>
                  </a:cubicBezTo>
                  <a:cubicBezTo>
                    <a:pt x="0" y="1361"/>
                    <a:pt x="16" y="1371"/>
                    <a:pt x="16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73440" y="2060640"/>
              <a:ext cx="571680" cy="2176560"/>
            </a:xfrm>
            <a:custGeom>
              <a:avLst/>
              <a:gdLst/>
              <a:ahLst/>
              <a:rect l="l" t="t" r="r" b="b"/>
              <a:pathLst>
                <a:path w="360" h="1371">
                  <a:moveTo>
                    <a:pt x="267" y="1297"/>
                  </a:moveTo>
                  <a:cubicBezTo>
                    <a:pt x="259" y="1292"/>
                    <a:pt x="266" y="1271"/>
                    <a:pt x="261" y="1263"/>
                  </a:cubicBezTo>
                  <a:cubicBezTo>
                    <a:pt x="238" y="1227"/>
                    <a:pt x="207" y="1168"/>
                    <a:pt x="198" y="1125"/>
                  </a:cubicBezTo>
                  <a:cubicBezTo>
                    <a:pt x="195" y="1092"/>
                    <a:pt x="186" y="1154"/>
                    <a:pt x="183" y="1032"/>
                  </a:cubicBezTo>
                  <a:cubicBezTo>
                    <a:pt x="180" y="910"/>
                    <a:pt x="182" y="563"/>
                    <a:pt x="180" y="391"/>
                  </a:cubicBezTo>
                  <a:cubicBezTo>
                    <a:pt x="180" y="9"/>
                    <a:pt x="313" y="48"/>
                    <a:pt x="171" y="1"/>
                  </a:cubicBezTo>
                  <a:cubicBezTo>
                    <a:pt x="136" y="4"/>
                    <a:pt x="101" y="0"/>
                    <a:pt x="67" y="9"/>
                  </a:cubicBezTo>
                  <a:cubicBezTo>
                    <a:pt x="0" y="27"/>
                    <a:pt x="72" y="432"/>
                    <a:pt x="54" y="610"/>
                  </a:cubicBezTo>
                  <a:cubicBezTo>
                    <a:pt x="54" y="782"/>
                    <a:pt x="50" y="938"/>
                    <a:pt x="54" y="1039"/>
                  </a:cubicBezTo>
                  <a:cubicBezTo>
                    <a:pt x="58" y="1140"/>
                    <a:pt x="69" y="1172"/>
                    <a:pt x="78" y="1216"/>
                  </a:cubicBezTo>
                  <a:cubicBezTo>
                    <a:pt x="87" y="1260"/>
                    <a:pt x="100" y="1284"/>
                    <a:pt x="111" y="1302"/>
                  </a:cubicBezTo>
                  <a:cubicBezTo>
                    <a:pt x="122" y="1320"/>
                    <a:pt x="123" y="1313"/>
                    <a:pt x="144" y="1323"/>
                  </a:cubicBezTo>
                  <a:cubicBezTo>
                    <a:pt x="159" y="1345"/>
                    <a:pt x="210" y="1359"/>
                    <a:pt x="237" y="1362"/>
                  </a:cubicBezTo>
                  <a:cubicBezTo>
                    <a:pt x="267" y="1369"/>
                    <a:pt x="282" y="1358"/>
                    <a:pt x="312" y="1365"/>
                  </a:cubicBezTo>
                  <a:cubicBezTo>
                    <a:pt x="360" y="1349"/>
                    <a:pt x="339" y="1371"/>
                    <a:pt x="339" y="13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4560" y="2637000"/>
              <a:ext cx="57600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95640" y="2779560"/>
              <a:ext cx="57636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54560" y="3213000"/>
              <a:ext cx="576000" cy="1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95640" y="3355920"/>
              <a:ext cx="576360" cy="14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c0c0c0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87640" y="454644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33" y="49"/>
                    <a:pt x="92" y="59"/>
                    <a:pt x="138" y="90"/>
                  </a:cubicBezTo>
                  <a:cubicBezTo>
                    <a:pt x="140" y="96"/>
                    <a:pt x="141" y="102"/>
                    <a:pt x="144" y="108"/>
                  </a:cubicBezTo>
                  <a:cubicBezTo>
                    <a:pt x="147" y="114"/>
                    <a:pt x="153" y="119"/>
                    <a:pt x="156" y="126"/>
                  </a:cubicBezTo>
                  <a:cubicBezTo>
                    <a:pt x="170" y="157"/>
                    <a:pt x="168" y="168"/>
                    <a:pt x="192" y="192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56240" y="4584600"/>
              <a:ext cx="279360" cy="247680"/>
            </a:xfrm>
            <a:custGeom>
              <a:avLst/>
              <a:gdLst/>
              <a:ahLst/>
              <a:rect l="l" t="t" r="r" b="b"/>
              <a:pathLst>
                <a:path w="176" h="156">
                  <a:moveTo>
                    <a:pt x="176" y="0"/>
                  </a:moveTo>
                  <a:cubicBezTo>
                    <a:pt x="170" y="6"/>
                    <a:pt x="165" y="13"/>
                    <a:pt x="158" y="18"/>
                  </a:cubicBezTo>
                  <a:cubicBezTo>
                    <a:pt x="147" y="27"/>
                    <a:pt x="122" y="42"/>
                    <a:pt x="122" y="42"/>
                  </a:cubicBezTo>
                  <a:cubicBezTo>
                    <a:pt x="100" y="75"/>
                    <a:pt x="69" y="102"/>
                    <a:pt x="38" y="126"/>
                  </a:cubicBezTo>
                  <a:cubicBezTo>
                    <a:pt x="0" y="155"/>
                    <a:pt x="2" y="135"/>
                    <a:pt x="2" y="156"/>
                  </a:cubicBezTo>
                </a:path>
              </a:pathLst>
            </a:custGeom>
            <a:noFill/>
            <a:ln w="2844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21040" y="4413240"/>
              <a:ext cx="438120" cy="76320"/>
            </a:xfrm>
            <a:custGeom>
              <a:avLst/>
              <a:gdLst/>
              <a:ahLst/>
              <a:rect l="l" t="t" r="r" b="b"/>
              <a:pathLst>
                <a:path w="276" h="48">
                  <a:moveTo>
                    <a:pt x="48" y="12"/>
                  </a:moveTo>
                  <a:cubicBezTo>
                    <a:pt x="49" y="13"/>
                    <a:pt x="0" y="0"/>
                    <a:pt x="15" y="6"/>
                  </a:cubicBezTo>
                  <a:cubicBezTo>
                    <a:pt x="30" y="12"/>
                    <a:pt x="97" y="45"/>
                    <a:pt x="138" y="48"/>
                  </a:cubicBezTo>
                  <a:cubicBezTo>
                    <a:pt x="233" y="42"/>
                    <a:pt x="206" y="43"/>
                    <a:pt x="264" y="24"/>
                  </a:cubicBezTo>
                  <a:cubicBezTo>
                    <a:pt x="271" y="3"/>
                    <a:pt x="266" y="10"/>
                    <a:pt x="27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02080" y="4870440"/>
              <a:ext cx="552600" cy="133200"/>
            </a:xfrm>
            <a:custGeom>
              <a:avLst/>
              <a:gdLst/>
              <a:ahLst/>
              <a:rect l="l" t="t" r="r" b="b"/>
              <a:pathLst>
                <a:path w="348" h="84">
                  <a:moveTo>
                    <a:pt x="348" y="0"/>
                  </a:moveTo>
                  <a:cubicBezTo>
                    <a:pt x="308" y="60"/>
                    <a:pt x="241" y="59"/>
                    <a:pt x="180" y="64"/>
                  </a:cubicBezTo>
                  <a:cubicBezTo>
                    <a:pt x="118" y="70"/>
                    <a:pt x="62" y="84"/>
                    <a:pt x="0" y="84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98920" y="4427640"/>
              <a:ext cx="512640" cy="144360"/>
            </a:xfrm>
            <a:custGeom>
              <a:avLst/>
              <a:gdLst/>
              <a:ahLst/>
              <a:rect l="l" t="t" r="r" b="b"/>
              <a:pathLst>
                <a:path w="323" h="91">
                  <a:moveTo>
                    <a:pt x="323" y="0"/>
                  </a:moveTo>
                  <a:cubicBezTo>
                    <a:pt x="304" y="5"/>
                    <a:pt x="267" y="41"/>
                    <a:pt x="234" y="54"/>
                  </a:cubicBezTo>
                  <a:cubicBezTo>
                    <a:pt x="201" y="67"/>
                    <a:pt x="165" y="75"/>
                    <a:pt x="126" y="78"/>
                  </a:cubicBezTo>
                  <a:cubicBezTo>
                    <a:pt x="88" y="91"/>
                    <a:pt x="40" y="72"/>
                    <a:pt x="0" y="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6720" y="5330880"/>
              <a:ext cx="1057320" cy="15840"/>
            </a:xfrm>
            <a:custGeom>
              <a:avLst/>
              <a:gdLst/>
              <a:ahLst/>
              <a:rect l="l" t="t" r="r" b="b"/>
              <a:pathLst>
                <a:path w="666" h="10">
                  <a:moveTo>
                    <a:pt x="0" y="10"/>
                  </a:moveTo>
                  <a:cubicBezTo>
                    <a:pt x="222" y="0"/>
                    <a:pt x="442" y="4"/>
                    <a:pt x="666" y="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948360" y="371628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429080" y="105192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21337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11280" y="2205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4360" y="4076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 -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51280" y="105264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dh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84720" y="5300640"/>
            <a:ext cx="93528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00720" y="6093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35640" y="2637000"/>
            <a:ext cx="151272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48360" y="278136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12000" y="3068280"/>
            <a:ext cx="93636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076720" y="4797360"/>
            <a:ext cx="2872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11640" y="5805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ínas multiadhes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95560" y="4857840"/>
            <a:ext cx="214560" cy="162000"/>
          </a:xfrm>
          <a:custGeom>
            <a:avLst/>
            <a:gdLst/>
            <a:ahLst/>
            <a:rect l="l" t="t" r="r" b="b"/>
            <a:pathLst>
              <a:path w="135" h="102">
                <a:moveTo>
                  <a:pt x="0" y="0"/>
                </a:moveTo>
                <a:cubicBezTo>
                  <a:pt x="5" y="16"/>
                  <a:pt x="0" y="7"/>
                  <a:pt x="21" y="21"/>
                </a:cubicBezTo>
                <a:cubicBezTo>
                  <a:pt x="24" y="23"/>
                  <a:pt x="30" y="27"/>
                  <a:pt x="30" y="27"/>
                </a:cubicBezTo>
                <a:cubicBezTo>
                  <a:pt x="35" y="34"/>
                  <a:pt x="60" y="65"/>
                  <a:pt x="66" y="69"/>
                </a:cubicBezTo>
                <a:cubicBezTo>
                  <a:pt x="82" y="79"/>
                  <a:pt x="104" y="79"/>
                  <a:pt x="120" y="90"/>
                </a:cubicBezTo>
                <a:cubicBezTo>
                  <a:pt x="122" y="93"/>
                  <a:pt x="123" y="97"/>
                  <a:pt x="126" y="99"/>
                </a:cubicBezTo>
                <a:cubicBezTo>
                  <a:pt x="128" y="101"/>
                  <a:pt x="135" y="102"/>
                  <a:pt x="135" y="10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402920" y="4508640"/>
            <a:ext cx="1081080" cy="287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1128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 de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908000" y="2852640"/>
            <a:ext cx="2159280" cy="21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1834920" y="3213000"/>
            <a:ext cx="649080" cy="100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4360" y="2924280"/>
            <a:ext cx="9349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léculas de adhes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280" y="486900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samin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979280" y="4221000"/>
            <a:ext cx="1655640" cy="1440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276720" y="4797360"/>
            <a:ext cx="503280" cy="935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8360" y="5661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teogli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superfi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2440080" y="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pecializadas célula-célul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07648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78" name=""/>
          <p:cNvGrpSpPr/>
          <p:nvPr/>
        </p:nvGrpSpPr>
        <p:grpSpPr>
          <a:xfrm>
            <a:off x="4932360" y="4437000"/>
            <a:ext cx="2441520" cy="2067120"/>
            <a:chOff x="4932360" y="4437000"/>
            <a:chExt cx="2441520" cy="2067120"/>
          </a:xfrm>
        </p:grpSpPr>
        <p:pic>
          <p:nvPicPr>
            <p:cNvPr id="1279" name="" descr=""/>
            <p:cNvPicPr/>
            <p:nvPr/>
          </p:nvPicPr>
          <p:blipFill>
            <a:blip r:embed="rId2"/>
            <a:stretch/>
          </p:blipFill>
          <p:spPr>
            <a:xfrm>
              <a:off x="5221440" y="4437000"/>
              <a:ext cx="215244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932360" y="4437000"/>
              <a:ext cx="720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5975280" y="304920"/>
            <a:ext cx="3168720" cy="1780920"/>
            <a:chOff x="5975280" y="304920"/>
            <a:chExt cx="3168720" cy="1780920"/>
          </a:xfrm>
        </p:grpSpPr>
        <p:pic>
          <p:nvPicPr>
            <p:cNvPr id="1282" name="" descr=""/>
            <p:cNvPicPr/>
            <p:nvPr/>
          </p:nvPicPr>
          <p:blipFill>
            <a:blip r:embed="rId3"/>
            <a:stretch/>
          </p:blipFill>
          <p:spPr>
            <a:xfrm>
              <a:off x="5975280" y="304920"/>
              <a:ext cx="216216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7343640" y="1501560"/>
              <a:ext cx="180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Unión estrec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791320" y="22096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 de adhesión o banda adh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58000" y="365760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95280" y="1473480"/>
            <a:ext cx="4495680" cy="4614480"/>
            <a:chOff x="1295280" y="1473480"/>
            <a:chExt cx="4495680" cy="4614480"/>
          </a:xfrm>
        </p:grpSpPr>
        <p:sp>
          <p:nvSpPr>
            <p:cNvPr id="1287" name=""/>
            <p:cNvSpPr/>
            <p:nvPr/>
          </p:nvSpPr>
          <p:spPr>
            <a:xfrm>
              <a:off x="1295280" y="2560680"/>
              <a:ext cx="1368360" cy="352728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70">
                  <a:moveTo>
                    <a:pt x="3600" y="0"/>
                  </a:moveTo>
                  <a:arcTo wR="3600" hR="3600" stAng="16200000" swAng="-5400000"/>
                  <a:lnTo>
                    <a:pt x="0" y="52070"/>
                  </a:lnTo>
                  <a:arcTo wR="3600" hR="3600" stAng="10800000" swAng="-5400000"/>
                  <a:lnTo>
                    <a:pt x="18000" y="55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4920" y="2560680"/>
              <a:ext cx="1368720" cy="3527280"/>
            </a:xfrm>
            <a:custGeom>
              <a:avLst/>
              <a:gdLst>
                <a:gd name="textAreaLeft" fmla="*/ 66600 w 1368720"/>
                <a:gd name="textAreaRight" fmla="*/ 1302120 w 1368720"/>
                <a:gd name="textAreaTop" fmla="*/ 66600 h 3527280"/>
                <a:gd name="textAreaBottom" fmla="*/ 3460680 h 3527280"/>
              </a:gdLst>
              <a:ahLst/>
              <a:rect l="textAreaLeft" t="textAreaTop" r="textAreaRight" b="textAreaBottom"/>
              <a:pathLst>
                <a:path w="21600" h="55656">
                  <a:moveTo>
                    <a:pt x="3600" y="0"/>
                  </a:moveTo>
                  <a:arcTo wR="3600" hR="3600" stAng="16200000" swAng="-5400000"/>
                  <a:lnTo>
                    <a:pt x="0" y="52056"/>
                  </a:lnTo>
                  <a:arcTo wR="3600" hR="3600" stAng="10800000" swAng="-5400000"/>
                  <a:lnTo>
                    <a:pt x="18000" y="556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2920" y="306360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662920" y="2921040"/>
              <a:ext cx="73080" cy="144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662920" y="2776320"/>
              <a:ext cx="73080" cy="144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34920" y="3208320"/>
              <a:ext cx="71640" cy="14436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2040" y="2927160"/>
              <a:ext cx="16020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4920" y="277632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4920" y="2631960"/>
              <a:ext cx="160560" cy="255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4920" y="3855960"/>
              <a:ext cx="71640" cy="2160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0800000">
              <a:off x="2590200" y="3855960"/>
              <a:ext cx="71640" cy="21600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161800">
              <a:off x="2879640" y="2057400"/>
              <a:ext cx="2936880" cy="287280"/>
            </a:xfrm>
            <a:prstGeom prst="rightArrow">
              <a:avLst>
                <a:gd name="adj1" fmla="val 50000"/>
                <a:gd name="adj2" fmla="val 255576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663640" y="3208320"/>
              <a:ext cx="71280" cy="273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63640" y="39290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63640" y="400032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95280" y="3929040"/>
              <a:ext cx="2087640" cy="215640"/>
            </a:xfrm>
            <a:prstGeom prst="rightArrow">
              <a:avLst>
                <a:gd name="adj1" fmla="val 50000"/>
                <a:gd name="adj2" fmla="val 24202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87800">
              <a:off x="3095280" y="5225760"/>
              <a:ext cx="2016360" cy="287640"/>
            </a:xfrm>
            <a:prstGeom prst="rightArrow">
              <a:avLst>
                <a:gd name="adj1" fmla="val 50000"/>
                <a:gd name="adj2" fmla="val 17525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20598600">
              <a:off x="3011040" y="2702520"/>
              <a:ext cx="2808000" cy="216000"/>
            </a:xfrm>
            <a:prstGeom prst="rightArrow">
              <a:avLst>
                <a:gd name="adj1" fmla="val 50000"/>
                <a:gd name="adj2" fmla="val 325000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560" y="5153040"/>
              <a:ext cx="289080" cy="14760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2590560" y="5153040"/>
              <a:ext cx="216000" cy="144360"/>
              <a:chOff x="2590560" y="5153040"/>
              <a:chExt cx="216000" cy="144360"/>
            </a:xfrm>
          </p:grpSpPr>
          <p:sp>
            <p:nvSpPr>
              <p:cNvPr id="1307" name=""/>
              <p:cNvSpPr/>
              <p:nvPr/>
            </p:nvSpPr>
            <p:spPr>
              <a:xfrm>
                <a:off x="2590560" y="520128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6769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590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19800" y="520128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280656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719800" y="515304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90560" y="5249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19800" y="5249160"/>
                <a:ext cx="867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26769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71980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806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2590560" y="5249160"/>
                <a:ext cx="0" cy="48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2806560" y="5153040"/>
              <a:ext cx="73080" cy="14436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77080" y="5805360"/>
            <a:ext cx="122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nión en hendi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1905120"/>
            <a:ext cx="1368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00200" y="63244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81520" y="114300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67120" y="28195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772400" y="5410080"/>
            <a:ext cx="304920" cy="33732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4"/>
          <a:srcRect l="7066" t="19887" r="4638" b="18238"/>
          <a:stretch/>
        </p:blipFill>
        <p:spPr>
          <a:xfrm>
            <a:off x="457200" y="457200"/>
            <a:ext cx="3276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rcRect l="5369" t="51043" r="46314" b="0"/>
          <a:stretch/>
        </p:blipFill>
        <p:spPr>
          <a:xfrm>
            <a:off x="533520" y="9144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52749" t="25588" r="6811" b="11624"/>
          <a:stretch/>
        </p:blipFill>
        <p:spPr>
          <a:xfrm>
            <a:off x="685800" y="42670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615200" y="838080"/>
            <a:ext cx="4156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tight j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caras externas de la membrana pl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ática de dos células adyacentes se 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dejar espacio entre 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unión ocurre en todo el períme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ntorno) de las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restringen el mov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ento de la mayoría de las moléculas o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ánicas, pero permiten el paso de ione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gu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uniones estrechas no se asocia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oesque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3"/>
          <a:srcRect l="60856" t="32649" r="3356" b="7777"/>
          <a:stretch/>
        </p:blipFill>
        <p:spPr>
          <a:xfrm>
            <a:off x="2666880" y="3124080"/>
            <a:ext cx="1524240" cy="17528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43268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rcRect l="28850" t="5753" r="28159" b="59408"/>
          <a:stretch/>
        </p:blipFill>
        <p:spPr>
          <a:xfrm>
            <a:off x="395280" y="1268280"/>
            <a:ext cx="4464000" cy="431964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 rot="18927600">
            <a:off x="3850920" y="17730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549360"/>
            <a:ext cx="3564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llos entre 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Ubicación próxima a superficie a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stinge la difusión de solutos por espacio inter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mpide libre difusión de lípidos en cara externa de l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76360" y="609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35280" y="5589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basole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5280" y="1268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do a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2708280"/>
            <a:ext cx="1440000" cy="367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093">
                <a:moveTo>
                  <a:pt x="3600" y="0"/>
                </a:moveTo>
                <a:arcTo wR="3600" hR="3600" stAng="16200000" swAng="-5400000"/>
                <a:lnTo>
                  <a:pt x="0" y="51493"/>
                </a:lnTo>
                <a:arcTo wR="3600" hR="3600" stAng="10800000" swAng="-5400000"/>
                <a:lnTo>
                  <a:pt x="18000" y="55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10800000">
            <a:off x="6659280" y="2708280"/>
            <a:ext cx="1439640" cy="367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3673440"/>
              <a:gd name="textAreaBottom" fmla="*/ 3603240 h 3673440"/>
            </a:gdLst>
            <a:ahLst/>
            <a:rect l="textAreaLeft" t="textAreaTop" r="textAreaRight" b="textAreaBottom"/>
            <a:pathLst>
              <a:path w="21600" h="55107">
                <a:moveTo>
                  <a:pt x="3600" y="0"/>
                </a:moveTo>
                <a:arcTo wR="3600" hR="3600" stAng="16200000" swAng="-5400000"/>
                <a:lnTo>
                  <a:pt x="0" y="51507"/>
                </a:lnTo>
                <a:arcTo wR="3600" hR="3600" stAng="10800000" swAng="-5400000"/>
                <a:lnTo>
                  <a:pt x="18000" y="5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ef1f2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59640" y="3573360"/>
            <a:ext cx="792000" cy="28728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59640" y="3933720"/>
            <a:ext cx="865080" cy="674640"/>
          </a:xfrm>
          <a:custGeom>
            <a:avLst/>
            <a:gdLst/>
            <a:ahLst/>
            <a:rect l="l" t="t" r="r" b="b"/>
            <a:pathLst>
              <a:path w="240" h="244">
                <a:moveTo>
                  <a:pt x="31" y="226"/>
                </a:moveTo>
                <a:cubicBezTo>
                  <a:pt x="42" y="193"/>
                  <a:pt x="99" y="169"/>
                  <a:pt x="131" y="158"/>
                </a:cubicBezTo>
                <a:cubicBezTo>
                  <a:pt x="139" y="146"/>
                  <a:pt x="163" y="130"/>
                  <a:pt x="163" y="130"/>
                </a:cubicBezTo>
                <a:cubicBezTo>
                  <a:pt x="174" y="114"/>
                  <a:pt x="191" y="101"/>
                  <a:pt x="207" y="90"/>
                </a:cubicBezTo>
                <a:cubicBezTo>
                  <a:pt x="215" y="78"/>
                  <a:pt x="223" y="66"/>
                  <a:pt x="231" y="54"/>
                </a:cubicBezTo>
                <a:cubicBezTo>
                  <a:pt x="236" y="47"/>
                  <a:pt x="239" y="30"/>
                  <a:pt x="239" y="30"/>
                </a:cubicBezTo>
                <a:cubicBezTo>
                  <a:pt x="231" y="7"/>
                  <a:pt x="240" y="0"/>
                  <a:pt x="211" y="6"/>
                </a:cubicBezTo>
                <a:cubicBezTo>
                  <a:pt x="192" y="34"/>
                  <a:pt x="203" y="25"/>
                  <a:pt x="183" y="38"/>
                </a:cubicBezTo>
                <a:cubicBezTo>
                  <a:pt x="175" y="50"/>
                  <a:pt x="151" y="66"/>
                  <a:pt x="151" y="66"/>
                </a:cubicBezTo>
                <a:cubicBezTo>
                  <a:pt x="141" y="80"/>
                  <a:pt x="133" y="81"/>
                  <a:pt x="119" y="90"/>
                </a:cubicBezTo>
                <a:cubicBezTo>
                  <a:pt x="110" y="104"/>
                  <a:pt x="103" y="109"/>
                  <a:pt x="87" y="114"/>
                </a:cubicBezTo>
                <a:cubicBezTo>
                  <a:pt x="79" y="126"/>
                  <a:pt x="55" y="142"/>
                  <a:pt x="55" y="142"/>
                </a:cubicBezTo>
                <a:cubicBezTo>
                  <a:pt x="52" y="146"/>
                  <a:pt x="51" y="151"/>
                  <a:pt x="47" y="154"/>
                </a:cubicBezTo>
                <a:cubicBezTo>
                  <a:pt x="40" y="158"/>
                  <a:pt x="23" y="162"/>
                  <a:pt x="23" y="162"/>
                </a:cubicBezTo>
                <a:cubicBezTo>
                  <a:pt x="5" y="190"/>
                  <a:pt x="10" y="177"/>
                  <a:pt x="3" y="198"/>
                </a:cubicBezTo>
                <a:cubicBezTo>
                  <a:pt x="4" y="211"/>
                  <a:pt x="0" y="227"/>
                  <a:pt x="7" y="238"/>
                </a:cubicBezTo>
                <a:cubicBezTo>
                  <a:pt x="11" y="244"/>
                  <a:pt x="21" y="237"/>
                  <a:pt x="27" y="234"/>
                </a:cubicBezTo>
                <a:cubicBezTo>
                  <a:pt x="43" y="225"/>
                  <a:pt x="31" y="213"/>
                  <a:pt x="51" y="206"/>
                </a:cubicBezTo>
                <a:cubicBezTo>
                  <a:pt x="54" y="202"/>
                  <a:pt x="59" y="194"/>
                  <a:pt x="59" y="194"/>
                </a:cubicBezTo>
              </a:path>
            </a:pathLst>
          </a:custGeom>
          <a:solidFill>
            <a:srgbClr val="ffc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516720" y="2852640"/>
            <a:ext cx="216000" cy="144720"/>
          </a:xfrm>
          <a:prstGeom prst="ellipse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233400">
            <a:off x="7164360" y="3715920"/>
            <a:ext cx="216000" cy="501840"/>
          </a:xfrm>
          <a:custGeom>
            <a:avLst/>
            <a:gdLst/>
            <a:ahLst/>
            <a:rect l="l" t="t" r="r" b="b"/>
            <a:pathLst>
              <a:path w="105" h="410">
                <a:moveTo>
                  <a:pt x="44" y="369"/>
                </a:moveTo>
                <a:cubicBezTo>
                  <a:pt x="52" y="392"/>
                  <a:pt x="56" y="394"/>
                  <a:pt x="80" y="389"/>
                </a:cubicBezTo>
                <a:cubicBezTo>
                  <a:pt x="83" y="306"/>
                  <a:pt x="105" y="207"/>
                  <a:pt x="56" y="133"/>
                </a:cubicBezTo>
                <a:cubicBezTo>
                  <a:pt x="57" y="122"/>
                  <a:pt x="58" y="112"/>
                  <a:pt x="60" y="101"/>
                </a:cubicBezTo>
                <a:cubicBezTo>
                  <a:pt x="62" y="93"/>
                  <a:pt x="68" y="77"/>
                  <a:pt x="68" y="77"/>
                </a:cubicBezTo>
                <a:cubicBezTo>
                  <a:pt x="66" y="42"/>
                  <a:pt x="75" y="19"/>
                  <a:pt x="48" y="1"/>
                </a:cubicBezTo>
                <a:cubicBezTo>
                  <a:pt x="33" y="2"/>
                  <a:pt x="18" y="0"/>
                  <a:pt x="4" y="5"/>
                </a:cubicBezTo>
                <a:cubicBezTo>
                  <a:pt x="0" y="6"/>
                  <a:pt x="0" y="13"/>
                  <a:pt x="0" y="17"/>
                </a:cubicBezTo>
                <a:cubicBezTo>
                  <a:pt x="0" y="48"/>
                  <a:pt x="2" y="83"/>
                  <a:pt x="20" y="109"/>
                </a:cubicBezTo>
                <a:cubicBezTo>
                  <a:pt x="23" y="180"/>
                  <a:pt x="26" y="251"/>
                  <a:pt x="32" y="321"/>
                </a:cubicBezTo>
                <a:cubicBezTo>
                  <a:pt x="35" y="349"/>
                  <a:pt x="31" y="380"/>
                  <a:pt x="52" y="401"/>
                </a:cubicBezTo>
                <a:cubicBezTo>
                  <a:pt x="105" y="395"/>
                  <a:pt x="84" y="410"/>
                  <a:pt x="84" y="361"/>
                </a:cubicBezTo>
                <a:cubicBezTo>
                  <a:pt x="84" y="355"/>
                  <a:pt x="88" y="351"/>
                  <a:pt x="88" y="345"/>
                </a:cubicBezTo>
              </a:path>
            </a:pathLst>
          </a:custGeom>
          <a:solidFill>
            <a:srgbClr val="ffb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516720" y="3789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16720" y="4581360"/>
            <a:ext cx="299880" cy="84168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16720" y="2997360"/>
            <a:ext cx="299880" cy="841320"/>
          </a:xfrm>
          <a:custGeom>
            <a:avLst/>
            <a:gdLst/>
            <a:ahLst/>
            <a:rect l="l" t="t" r="r" b="b"/>
            <a:pathLst>
              <a:path w="189" h="530">
                <a:moveTo>
                  <a:pt x="58" y="0"/>
                </a:moveTo>
                <a:cubicBezTo>
                  <a:pt x="42" y="51"/>
                  <a:pt x="21" y="102"/>
                  <a:pt x="15" y="157"/>
                </a:cubicBezTo>
                <a:cubicBezTo>
                  <a:pt x="17" y="228"/>
                  <a:pt x="0" y="399"/>
                  <a:pt x="77" y="476"/>
                </a:cubicBezTo>
                <a:cubicBezTo>
                  <a:pt x="83" y="494"/>
                  <a:pt x="85" y="530"/>
                  <a:pt x="113" y="485"/>
                </a:cubicBezTo>
                <a:cubicBezTo>
                  <a:pt x="135" y="450"/>
                  <a:pt x="149" y="380"/>
                  <a:pt x="159" y="339"/>
                </a:cubicBezTo>
                <a:cubicBezTo>
                  <a:pt x="155" y="270"/>
                  <a:pt x="189" y="109"/>
                  <a:pt x="117" y="43"/>
                </a:cubicBezTo>
                <a:cubicBezTo>
                  <a:pt x="111" y="24"/>
                  <a:pt x="84" y="0"/>
                  <a:pt x="58" y="0"/>
                </a:cubicBez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57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16720" y="5300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fe0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516720" y="450864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cdb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516720" y="3716280"/>
            <a:ext cx="216000" cy="144360"/>
          </a:xfrm>
          <a:prstGeom prst="ellipse">
            <a:avLst/>
          </a:prstGeom>
          <a:gradFill rotWithShape="0">
            <a:gsLst>
              <a:gs pos="0">
                <a:srgbClr val="feeddd"/>
              </a:gs>
              <a:gs pos="100000">
                <a:srgbClr val="ffd9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96360" y="4653000"/>
            <a:ext cx="107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olímeros de las proteínas ocludina      y clau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7164360" y="4292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48480" y="2727360"/>
            <a:ext cx="539640" cy="312840"/>
          </a:xfrm>
          <a:custGeom>
            <a:avLst/>
            <a:gdLst/>
            <a:ahLst/>
            <a:rect l="l" t="t" r="r" b="b"/>
            <a:pathLst>
              <a:path w="340" h="197">
                <a:moveTo>
                  <a:pt x="0" y="74"/>
                </a:moveTo>
                <a:cubicBezTo>
                  <a:pt x="16" y="78"/>
                  <a:pt x="26" y="81"/>
                  <a:pt x="40" y="90"/>
                </a:cubicBezTo>
                <a:cubicBezTo>
                  <a:pt x="50" y="121"/>
                  <a:pt x="67" y="140"/>
                  <a:pt x="24" y="154"/>
                </a:cubicBezTo>
                <a:cubicBezTo>
                  <a:pt x="10" y="197"/>
                  <a:pt x="74" y="156"/>
                  <a:pt x="84" y="150"/>
                </a:cubicBezTo>
                <a:cubicBezTo>
                  <a:pt x="116" y="129"/>
                  <a:pt x="160" y="122"/>
                  <a:pt x="196" y="110"/>
                </a:cubicBezTo>
                <a:cubicBezTo>
                  <a:pt x="205" y="107"/>
                  <a:pt x="212" y="99"/>
                  <a:pt x="220" y="94"/>
                </a:cubicBezTo>
                <a:cubicBezTo>
                  <a:pt x="241" y="80"/>
                  <a:pt x="280" y="62"/>
                  <a:pt x="304" y="54"/>
                </a:cubicBezTo>
                <a:cubicBezTo>
                  <a:pt x="340" y="0"/>
                  <a:pt x="224" y="32"/>
                  <a:pt x="148" y="34"/>
                </a:cubicBezTo>
                <a:cubicBezTo>
                  <a:pt x="114" y="45"/>
                  <a:pt x="107" y="46"/>
                  <a:pt x="68" y="50"/>
                </a:cubicBezTo>
                <a:cubicBezTo>
                  <a:pt x="60" y="53"/>
                  <a:pt x="50" y="52"/>
                  <a:pt x="44" y="58"/>
                </a:cubicBezTo>
                <a:cubicBezTo>
                  <a:pt x="19" y="83"/>
                  <a:pt x="9" y="82"/>
                  <a:pt x="24" y="82"/>
                </a:cubicBezTo>
              </a:path>
            </a:pathLst>
          </a:cu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77080" y="5373720"/>
            <a:ext cx="288720" cy="64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32720" y="5516640"/>
            <a:ext cx="28872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b4d8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588000" y="5661000"/>
            <a:ext cx="289080" cy="64764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100000">
                <a:srgbClr val="dbee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79720" y="2826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UNIONES ESTREC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rcRect l="34471" t="8023" r="13772" b="23181"/>
          <a:stretch/>
        </p:blipFill>
        <p:spPr>
          <a:xfrm>
            <a:off x="7812000" y="2924280"/>
            <a:ext cx="865440" cy="122544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440640" y="284040"/>
            <a:ext cx="29664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38512" t="5767" r="6502" b="7377"/>
          <a:stretch/>
        </p:blipFill>
        <p:spPr>
          <a:xfrm>
            <a:off x="1295280" y="144792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165640" y="1122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03680" y="990720"/>
            <a:ext cx="413712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Belt desmoso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anillo alrededor de la 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do  más abajo que las un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adhe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án asociados con filamen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jan espacio entre las membr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ión de ancl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94920" y="144792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28600" y="2057400"/>
            <a:ext cx="28796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s proteicas en la cara citoplasmática de las membranas que unen la cadherina con citoesquele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porcionan rigidez a los tejidos y confieren resistencia a las fuerzas me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22800" y="905040"/>
            <a:ext cx="792000" cy="1223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324240" y="123840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7080" y="105552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14800" y="83196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240" y="116532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59080" y="98280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06800" y="760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08600" y="1093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51440" y="911160"/>
            <a:ext cx="714240" cy="10656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55880" y="119232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57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0520" y="1343160"/>
            <a:ext cx="71424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48240" y="119232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49680" y="152568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92520" y="134316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87880" y="1552680"/>
            <a:ext cx="79200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89320" y="1886040"/>
            <a:ext cx="790560" cy="147600"/>
          </a:xfrm>
          <a:custGeom>
            <a:avLst/>
            <a:gdLst/>
            <a:ahLst/>
            <a:rect l="l" t="t" r="r" b="b"/>
            <a:pathLst>
              <a:path w="498" h="93">
                <a:moveTo>
                  <a:pt x="0" y="9"/>
                </a:moveTo>
                <a:cubicBezTo>
                  <a:pt x="10" y="38"/>
                  <a:pt x="44" y="40"/>
                  <a:pt x="66" y="54"/>
                </a:cubicBezTo>
                <a:cubicBezTo>
                  <a:pt x="107" y="82"/>
                  <a:pt x="153" y="83"/>
                  <a:pt x="201" y="90"/>
                </a:cubicBezTo>
                <a:cubicBezTo>
                  <a:pt x="246" y="93"/>
                  <a:pt x="305" y="89"/>
                  <a:pt x="342" y="84"/>
                </a:cubicBezTo>
                <a:cubicBezTo>
                  <a:pt x="379" y="79"/>
                  <a:pt x="397" y="71"/>
                  <a:pt x="423" y="57"/>
                </a:cubicBezTo>
                <a:cubicBezTo>
                  <a:pt x="449" y="43"/>
                  <a:pt x="483" y="12"/>
                  <a:pt x="498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1703520"/>
            <a:ext cx="714600" cy="106200"/>
          </a:xfrm>
          <a:custGeom>
            <a:avLst/>
            <a:gdLst/>
            <a:ahLst/>
            <a:rect l="l" t="t" r="r" b="b"/>
            <a:pathLst>
              <a:path w="450" h="67">
                <a:moveTo>
                  <a:pt x="0" y="64"/>
                </a:moveTo>
                <a:cubicBezTo>
                  <a:pt x="32" y="58"/>
                  <a:pt x="70" y="16"/>
                  <a:pt x="102" y="13"/>
                </a:cubicBezTo>
                <a:cubicBezTo>
                  <a:pt x="150" y="6"/>
                  <a:pt x="189" y="2"/>
                  <a:pt x="228" y="1"/>
                </a:cubicBezTo>
                <a:cubicBezTo>
                  <a:pt x="267" y="0"/>
                  <a:pt x="308" y="6"/>
                  <a:pt x="336" y="10"/>
                </a:cubicBezTo>
                <a:cubicBezTo>
                  <a:pt x="364" y="14"/>
                  <a:pt x="380" y="18"/>
                  <a:pt x="399" y="28"/>
                </a:cubicBezTo>
                <a:cubicBezTo>
                  <a:pt x="406" y="28"/>
                  <a:pt x="450" y="61"/>
                  <a:pt x="450" y="67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79880" y="1552680"/>
            <a:ext cx="792360" cy="1224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64120" y="1697040"/>
            <a:ext cx="628560" cy="1092240"/>
          </a:xfrm>
          <a:custGeom>
            <a:avLst/>
            <a:gdLst/>
            <a:ahLst/>
            <a:rect l="l" t="t" r="r" b="b"/>
            <a:pathLst>
              <a:path w="396" h="688">
                <a:moveTo>
                  <a:pt x="64" y="112"/>
                </a:moveTo>
                <a:cubicBezTo>
                  <a:pt x="65" y="116"/>
                  <a:pt x="66" y="120"/>
                  <a:pt x="67" y="124"/>
                </a:cubicBezTo>
                <a:cubicBezTo>
                  <a:pt x="69" y="128"/>
                  <a:pt x="72" y="132"/>
                  <a:pt x="74" y="136"/>
                </a:cubicBezTo>
                <a:cubicBezTo>
                  <a:pt x="76" y="144"/>
                  <a:pt x="80" y="160"/>
                  <a:pt x="80" y="160"/>
                </a:cubicBezTo>
                <a:cubicBezTo>
                  <a:pt x="81" y="180"/>
                  <a:pt x="84" y="200"/>
                  <a:pt x="84" y="220"/>
                </a:cubicBezTo>
                <a:cubicBezTo>
                  <a:pt x="88" y="502"/>
                  <a:pt x="5" y="634"/>
                  <a:pt x="190" y="666"/>
                </a:cubicBezTo>
                <a:cubicBezTo>
                  <a:pt x="244" y="688"/>
                  <a:pt x="198" y="661"/>
                  <a:pt x="334" y="654"/>
                </a:cubicBezTo>
                <a:cubicBezTo>
                  <a:pt x="346" y="634"/>
                  <a:pt x="370" y="634"/>
                  <a:pt x="370" y="634"/>
                </a:cubicBezTo>
                <a:cubicBezTo>
                  <a:pt x="394" y="590"/>
                  <a:pt x="382" y="537"/>
                  <a:pt x="387" y="480"/>
                </a:cubicBezTo>
                <a:cubicBezTo>
                  <a:pt x="390" y="367"/>
                  <a:pt x="394" y="266"/>
                  <a:pt x="390" y="152"/>
                </a:cubicBezTo>
                <a:cubicBezTo>
                  <a:pt x="390" y="142"/>
                  <a:pt x="396" y="93"/>
                  <a:pt x="381" y="76"/>
                </a:cubicBezTo>
                <a:cubicBezTo>
                  <a:pt x="365" y="59"/>
                  <a:pt x="360" y="60"/>
                  <a:pt x="341" y="52"/>
                </a:cubicBezTo>
                <a:cubicBezTo>
                  <a:pt x="338" y="51"/>
                  <a:pt x="332" y="48"/>
                  <a:pt x="332" y="48"/>
                </a:cubicBezTo>
                <a:cubicBezTo>
                  <a:pt x="0" y="54"/>
                  <a:pt x="170" y="0"/>
                  <a:pt x="77" y="76"/>
                </a:cubicBezTo>
                <a:cubicBezTo>
                  <a:pt x="76" y="80"/>
                  <a:pt x="72" y="112"/>
                  <a:pt x="64" y="11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5880" y="1913040"/>
            <a:ext cx="0" cy="86364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00600" y="1839960"/>
            <a:ext cx="0" cy="8636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13520" y="2503440"/>
            <a:ext cx="466560" cy="42840"/>
          </a:xfrm>
          <a:custGeom>
            <a:avLst/>
            <a:gdLst/>
            <a:ahLst/>
            <a:rect l="l" t="t" r="r" b="b"/>
            <a:pathLst>
              <a:path w="294" h="27">
                <a:moveTo>
                  <a:pt x="0" y="27"/>
                </a:moveTo>
                <a:cubicBezTo>
                  <a:pt x="29" y="23"/>
                  <a:pt x="62" y="9"/>
                  <a:pt x="92" y="6"/>
                </a:cubicBezTo>
                <a:cubicBezTo>
                  <a:pt x="128" y="3"/>
                  <a:pt x="176" y="0"/>
                  <a:pt x="210" y="3"/>
                </a:cubicBezTo>
                <a:cubicBezTo>
                  <a:pt x="244" y="6"/>
                  <a:pt x="277" y="22"/>
                  <a:pt x="294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37120" y="1697040"/>
            <a:ext cx="730440" cy="130320"/>
          </a:xfrm>
          <a:custGeom>
            <a:avLst/>
            <a:gdLst/>
            <a:ahLst/>
            <a:rect l="l" t="t" r="r" b="b"/>
            <a:pathLst>
              <a:path w="460" h="82">
                <a:moveTo>
                  <a:pt x="0" y="82"/>
                </a:moveTo>
                <a:cubicBezTo>
                  <a:pt x="7" y="78"/>
                  <a:pt x="20" y="54"/>
                  <a:pt x="39" y="43"/>
                </a:cubicBezTo>
                <a:cubicBezTo>
                  <a:pt x="58" y="32"/>
                  <a:pt x="79" y="20"/>
                  <a:pt x="112" y="13"/>
                </a:cubicBezTo>
                <a:cubicBezTo>
                  <a:pt x="160" y="6"/>
                  <a:pt x="199" y="2"/>
                  <a:pt x="238" y="1"/>
                </a:cubicBezTo>
                <a:cubicBezTo>
                  <a:pt x="277" y="0"/>
                  <a:pt x="318" y="6"/>
                  <a:pt x="346" y="10"/>
                </a:cubicBezTo>
                <a:cubicBezTo>
                  <a:pt x="374" y="14"/>
                  <a:pt x="390" y="18"/>
                  <a:pt x="409" y="28"/>
                </a:cubicBezTo>
                <a:cubicBezTo>
                  <a:pt x="416" y="28"/>
                  <a:pt x="460" y="61"/>
                  <a:pt x="460" y="6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208480" y="205740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4280" y="1946160"/>
            <a:ext cx="214200" cy="182520"/>
          </a:xfrm>
          <a:custGeom>
            <a:avLst/>
            <a:gdLst/>
            <a:ahLst/>
            <a:rect l="l" t="t" r="r" b="b"/>
            <a:pathLst>
              <a:path w="108" h="93">
                <a:moveTo>
                  <a:pt x="108" y="93"/>
                </a:moveTo>
                <a:cubicBezTo>
                  <a:pt x="88" y="86"/>
                  <a:pt x="87" y="78"/>
                  <a:pt x="57" y="69"/>
                </a:cubicBezTo>
                <a:cubicBezTo>
                  <a:pt x="48" y="64"/>
                  <a:pt x="36" y="54"/>
                  <a:pt x="36" y="54"/>
                </a:cubicBezTo>
                <a:cubicBezTo>
                  <a:pt x="28" y="42"/>
                  <a:pt x="14" y="44"/>
                  <a:pt x="9" y="30"/>
                </a:cubicBezTo>
                <a:cubicBezTo>
                  <a:pt x="8" y="2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0600" y="1951200"/>
            <a:ext cx="71640" cy="9036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cubicBezTo>
                  <a:pt x="5" y="31"/>
                  <a:pt x="26" y="0"/>
                  <a:pt x="27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700600" y="1984320"/>
            <a:ext cx="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38440" y="4287960"/>
            <a:ext cx="35290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67160" y="5224320"/>
            <a:ext cx="3672000" cy="1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880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43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8608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30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75160" y="4719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1808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27520" y="4648320"/>
            <a:ext cx="14472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70440" y="4503600"/>
            <a:ext cx="14472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1516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59520" y="450360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202440" y="4648320"/>
            <a:ext cx="144360" cy="43164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46800" y="4576680"/>
            <a:ext cx="144360" cy="432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970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411480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5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40208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546440" y="5152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691160" y="42163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69916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84352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98644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418440" y="4215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75520" y="50796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130800" y="41446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880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608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7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2752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91516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02440" y="544032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43520" y="4145040"/>
            <a:ext cx="1425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330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1808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7044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5952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46800" y="4145040"/>
            <a:ext cx="1429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7044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5952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346800" y="363996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703760" y="47214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1480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10342800">
            <a:off x="555408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0342800">
            <a:off x="5914440" y="5511600"/>
            <a:ext cx="21564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0342800">
            <a:off x="6202080" y="5511600"/>
            <a:ext cx="216000" cy="50472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cubicBezTo>
                  <a:pt x="11" y="159"/>
                  <a:pt x="22" y="318"/>
                  <a:pt x="45" y="318"/>
                </a:cubicBezTo>
                <a:cubicBezTo>
                  <a:pt x="68" y="318"/>
                  <a:pt x="121" y="53"/>
                  <a:pt x="13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402080" y="3568320"/>
            <a:ext cx="7164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4691160" y="3568320"/>
            <a:ext cx="71280" cy="57636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89880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186080" y="5511960"/>
            <a:ext cx="7164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475160" y="5511960"/>
            <a:ext cx="71280" cy="5760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40120" y="6162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556240" y="60897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K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29000" y="3200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illos adher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56240" y="31370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1193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epite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403880" y="212868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95760" y="2273400"/>
            <a:ext cx="56376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24480" y="2201760"/>
            <a:ext cx="73080" cy="71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6480" y="652140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itoesque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5280120" y="63054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559040" y="63781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" y="83808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NILLOS ADHERE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S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4320" y="2080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rcRect l="0" t="46760" r="56064" b="0"/>
          <a:stretch/>
        </p:blipFill>
        <p:spPr>
          <a:xfrm>
            <a:off x="7086600" y="2743200"/>
            <a:ext cx="1657440" cy="156204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4578840" y="533520"/>
            <a:ext cx="362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MIDESMO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s asimé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clan la cara basal de la célula a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ámina ba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ene filamentos de quera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190400" y="380880"/>
            <a:ext cx="296640" cy="337320"/>
          </a:xfrm>
          <a:prstGeom prst="rect">
            <a:avLst/>
          </a:prstGeom>
          <a:solidFill>
            <a:srgbClr val="ba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3200400"/>
            <a:ext cx="2819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762120" y="838080"/>
            <a:ext cx="2807640" cy="2316240"/>
            <a:chOff x="762120" y="838080"/>
            <a:chExt cx="2807640" cy="2316240"/>
          </a:xfrm>
        </p:grpSpPr>
        <p:sp>
          <p:nvSpPr>
            <p:cNvPr id="1466" name=""/>
            <p:cNvSpPr/>
            <p:nvPr/>
          </p:nvSpPr>
          <p:spPr>
            <a:xfrm>
              <a:off x="76212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01760" y="838080"/>
              <a:ext cx="1368000" cy="2316240"/>
            </a:xfrm>
            <a:custGeom>
              <a:avLst/>
              <a:gdLst>
                <a:gd name="textAreaLeft" fmla="*/ 66600 w 1368000"/>
                <a:gd name="textAreaRight" fmla="*/ 1301400 w 1368000"/>
                <a:gd name="textAreaTop" fmla="*/ 66600 h 2316240"/>
                <a:gd name="textAreaBottom" fmla="*/ 2249640 h 2316240"/>
              </a:gdLst>
              <a:ahLst/>
              <a:rect l="textAreaLeft" t="textAreaTop" r="textAreaRight" b="textAreaBottom"/>
              <a:pathLst>
                <a:path w="21600" h="36568">
                  <a:moveTo>
                    <a:pt x="3600" y="0"/>
                  </a:moveTo>
                  <a:arcTo wR="3600" hR="3600" stAng="16200000" swAng="-5400000"/>
                  <a:lnTo>
                    <a:pt x="0" y="32968"/>
                  </a:lnTo>
                  <a:arcTo wR="3600" hR="3600" stAng="10800000" swAng="-5400000"/>
                  <a:lnTo>
                    <a:pt x="18000" y="36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130120" y="116856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2130120" y="107460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2130120" y="979920"/>
              <a:ext cx="72720" cy="94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01760" y="1263240"/>
              <a:ext cx="70920" cy="94680"/>
            </a:xfrm>
            <a:prstGeom prst="flowChartDelay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98520" y="1078920"/>
              <a:ext cx="159840" cy="1674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01760" y="97992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1760" y="884880"/>
              <a:ext cx="159840" cy="167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81"/>
                  </a:moveTo>
                  <a:cubicBezTo>
                    <a:pt x="31" y="71"/>
                    <a:pt x="50" y="50"/>
                    <a:pt x="76" y="33"/>
                  </a:cubicBezTo>
                  <a:cubicBezTo>
                    <a:pt x="94" y="5"/>
                    <a:pt x="89" y="0"/>
                    <a:pt x="96" y="21"/>
                  </a:cubicBezTo>
                  <a:cubicBezTo>
                    <a:pt x="91" y="102"/>
                    <a:pt x="101" y="72"/>
                    <a:pt x="52" y="105"/>
                  </a:cubicBezTo>
                  <a:cubicBezTo>
                    <a:pt x="42" y="120"/>
                    <a:pt x="27" y="135"/>
                    <a:pt x="12" y="145"/>
                  </a:cubicBezTo>
                  <a:cubicBezTo>
                    <a:pt x="2" y="159"/>
                    <a:pt x="6" y="161"/>
                    <a:pt x="0" y="149"/>
                  </a:cubicBezTo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01760" y="1688400"/>
              <a:ext cx="70920" cy="1418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2057040" y="1688400"/>
              <a:ext cx="71280" cy="141840"/>
            </a:xfrm>
            <a:prstGeom prst="flowChartDelay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30120" y="1263240"/>
              <a:ext cx="71280" cy="17971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30120" y="17366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120" y="1783440"/>
              <a:ext cx="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57040" y="2540160"/>
              <a:ext cx="288720" cy="96840"/>
            </a:xfrm>
            <a:prstGeom prst="flowChartOnlineStorag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057040" y="2540160"/>
              <a:ext cx="215640" cy="94680"/>
              <a:chOff x="2057040" y="2540160"/>
              <a:chExt cx="215640" cy="94680"/>
            </a:xfrm>
          </p:grpSpPr>
          <p:sp>
            <p:nvSpPr>
              <p:cNvPr id="1482" name=""/>
              <p:cNvSpPr/>
              <p:nvPr/>
            </p:nvSpPr>
            <p:spPr>
              <a:xfrm>
                <a:off x="205704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1434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05704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85920" y="257184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227268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2185920" y="2540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05704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85920" y="2603160"/>
                <a:ext cx="864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21434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218592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27268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057040" y="2603160"/>
                <a:ext cx="0" cy="31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2273040" y="2540160"/>
              <a:ext cx="72720" cy="94680"/>
            </a:xfrm>
            <a:prstGeom prst="donut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1371600" y="3124080"/>
            <a:ext cx="228600" cy="76320"/>
          </a:xfrm>
          <a:prstGeom prst="ellipse">
            <a:avLst/>
          </a:prstGeom>
          <a:gradFill rotWithShape="0">
            <a:gsLst>
              <a:gs pos="0">
                <a:srgbClr val="8c8113">
                  <a:alpha val="32156"/>
                </a:srgbClr>
              </a:gs>
              <a:gs pos="100000">
                <a:srgbClr val="808080">
                  <a:alpha val="23137"/>
                </a:srgbClr>
              </a:gs>
            </a:gsLst>
            <a:lin ang="5400000"/>
          </a:gradFill>
          <a:ln w="6480">
            <a:solidFill>
              <a:srgbClr val="8c680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90680" y="3073320"/>
            <a:ext cx="31680" cy="7632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48"/>
                </a:moveTo>
                <a:cubicBezTo>
                  <a:pt x="15" y="35"/>
                  <a:pt x="0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3079800"/>
            <a:ext cx="33120" cy="82440"/>
          </a:xfrm>
          <a:custGeom>
            <a:avLst/>
            <a:gdLst/>
            <a:ahLst/>
            <a:rect l="l" t="t" r="r" b="b"/>
            <a:pathLst>
              <a:path w="21" h="52">
                <a:moveTo>
                  <a:pt x="0" y="52"/>
                </a:moveTo>
                <a:cubicBezTo>
                  <a:pt x="21" y="30"/>
                  <a:pt x="12" y="45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42960" y="3086280"/>
            <a:ext cx="4932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0" y="40"/>
                </a:moveTo>
                <a:cubicBezTo>
                  <a:pt x="15" y="17"/>
                  <a:pt x="31" y="35"/>
                  <a:pt x="16" y="12"/>
                </a:cubicBezTo>
                <a:cubicBezTo>
                  <a:pt x="17" y="8"/>
                  <a:pt x="20" y="0"/>
                  <a:pt x="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06600" y="3079800"/>
            <a:ext cx="23760" cy="76320"/>
          </a:xfrm>
          <a:custGeom>
            <a:avLst/>
            <a:gdLst/>
            <a:ahLst/>
            <a:rect l="l" t="t" r="r" b="b"/>
            <a:pathLst>
              <a:path w="15" h="48">
                <a:moveTo>
                  <a:pt x="7" y="48"/>
                </a:moveTo>
                <a:cubicBezTo>
                  <a:pt x="11" y="2"/>
                  <a:pt x="0" y="14"/>
                  <a:pt x="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2819520"/>
            <a:ext cx="9144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1219800">
            <a:off x="2209320" y="365724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1338120" y="189000"/>
            <a:ext cx="6467760" cy="640872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2209680" y="22860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IONES EN HENDI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Gap jun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19280" y="1413000"/>
            <a:ext cx="1081080" cy="2592360"/>
          </a:xfrm>
          <a:prstGeom prst="flowChartCollate">
            <a:avLst/>
          </a:prstGeom>
          <a:gradFill rotWithShape="0">
            <a:gsLst>
              <a:gs pos="0">
                <a:srgbClr val="fef9f4"/>
              </a:gs>
              <a:gs pos="50000">
                <a:srgbClr val="ffcc99">
                  <a:alpha val="70196"/>
                </a:srgbClr>
              </a:gs>
              <a:gs pos="100000">
                <a:srgbClr val="fef9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765440" y="1413000"/>
            <a:ext cx="403200" cy="2692440"/>
            <a:chOff x="1765440" y="1413000"/>
            <a:chExt cx="403200" cy="2692440"/>
          </a:xfrm>
        </p:grpSpPr>
        <p:sp>
          <p:nvSpPr>
            <p:cNvPr id="1507" name=""/>
            <p:cNvSpPr/>
            <p:nvPr/>
          </p:nvSpPr>
          <p:spPr>
            <a:xfrm>
              <a:off x="1765440" y="1413000"/>
              <a:ext cx="35064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7640" y="1425600"/>
              <a:ext cx="351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195640" y="1413000"/>
            <a:ext cx="475920" cy="2692440"/>
            <a:chOff x="2195640" y="1413000"/>
            <a:chExt cx="475920" cy="2692440"/>
          </a:xfrm>
        </p:grpSpPr>
        <p:sp>
          <p:nvSpPr>
            <p:cNvPr id="1510" name=""/>
            <p:cNvSpPr/>
            <p:nvPr/>
          </p:nvSpPr>
          <p:spPr>
            <a:xfrm flipH="1">
              <a:off x="2257560" y="1413000"/>
              <a:ext cx="41400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195280" y="1425600"/>
              <a:ext cx="414360" cy="2679840"/>
            </a:xfrm>
            <a:custGeom>
              <a:avLst/>
              <a:gdLst/>
              <a:ahLst/>
              <a:rect l="l" t="t" r="r" b="b"/>
              <a:pathLst>
                <a:path w="221" h="1688">
                  <a:moveTo>
                    <a:pt x="24" y="0"/>
                  </a:moveTo>
                  <a:cubicBezTo>
                    <a:pt x="40" y="145"/>
                    <a:pt x="20" y="293"/>
                    <a:pt x="66" y="432"/>
                  </a:cubicBezTo>
                  <a:cubicBezTo>
                    <a:pt x="77" y="466"/>
                    <a:pt x="109" y="489"/>
                    <a:pt x="120" y="522"/>
                  </a:cubicBezTo>
                  <a:cubicBezTo>
                    <a:pt x="126" y="540"/>
                    <a:pt x="132" y="558"/>
                    <a:pt x="138" y="576"/>
                  </a:cubicBezTo>
                  <a:cubicBezTo>
                    <a:pt x="160" y="642"/>
                    <a:pt x="125" y="542"/>
                    <a:pt x="156" y="612"/>
                  </a:cubicBezTo>
                  <a:cubicBezTo>
                    <a:pt x="161" y="624"/>
                    <a:pt x="168" y="648"/>
                    <a:pt x="168" y="648"/>
                  </a:cubicBezTo>
                  <a:cubicBezTo>
                    <a:pt x="167" y="694"/>
                    <a:pt x="221" y="959"/>
                    <a:pt x="156" y="1056"/>
                  </a:cubicBezTo>
                  <a:cubicBezTo>
                    <a:pt x="152" y="1150"/>
                    <a:pt x="143" y="1175"/>
                    <a:pt x="102" y="1248"/>
                  </a:cubicBezTo>
                  <a:cubicBezTo>
                    <a:pt x="85" y="1279"/>
                    <a:pt x="62" y="1308"/>
                    <a:pt x="42" y="1338"/>
                  </a:cubicBezTo>
                  <a:cubicBezTo>
                    <a:pt x="34" y="1350"/>
                    <a:pt x="18" y="1374"/>
                    <a:pt x="18" y="1374"/>
                  </a:cubicBezTo>
                  <a:cubicBezTo>
                    <a:pt x="7" y="1417"/>
                    <a:pt x="0" y="1688"/>
                    <a:pt x="0" y="1578"/>
                  </a:cubicBezTo>
                </a:path>
              </a:pathLst>
            </a:custGeom>
            <a:noFill/>
            <a:ln w="76320">
              <a:solidFill>
                <a:srgbClr val="fae3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rot="21336000">
            <a:off x="1978200" y="256392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1336000">
            <a:off x="2195640" y="2565360"/>
            <a:ext cx="215640" cy="2062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21336000">
            <a:off x="2266560" y="22014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21336000">
            <a:off x="241092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336000">
            <a:off x="1834920" y="206028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rot="21336000">
            <a:off x="1763280" y="177300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21336000">
            <a:off x="2195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rot="21336000">
            <a:off x="1979280" y="292392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21336000">
            <a:off x="2410920" y="3357360"/>
            <a:ext cx="21924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21336000">
            <a:off x="1692000" y="3644640"/>
            <a:ext cx="218880" cy="220680"/>
          </a:xfrm>
          <a:custGeom>
            <a:avLst/>
            <a:gdLst/>
            <a:ahLst/>
            <a:rect l="l" t="t" r="r" b="b"/>
            <a:pathLst>
              <a:path w="227" h="130">
                <a:moveTo>
                  <a:pt x="5" y="52"/>
                </a:moveTo>
                <a:cubicBezTo>
                  <a:pt x="7" y="68"/>
                  <a:pt x="0" y="89"/>
                  <a:pt x="11" y="100"/>
                </a:cubicBezTo>
                <a:cubicBezTo>
                  <a:pt x="22" y="111"/>
                  <a:pt x="43" y="105"/>
                  <a:pt x="59" y="106"/>
                </a:cubicBezTo>
                <a:cubicBezTo>
                  <a:pt x="89" y="109"/>
                  <a:pt x="119" y="110"/>
                  <a:pt x="149" y="112"/>
                </a:cubicBezTo>
                <a:cubicBezTo>
                  <a:pt x="179" y="120"/>
                  <a:pt x="215" y="130"/>
                  <a:pt x="227" y="94"/>
                </a:cubicBezTo>
                <a:cubicBezTo>
                  <a:pt x="221" y="50"/>
                  <a:pt x="223" y="47"/>
                  <a:pt x="185" y="34"/>
                </a:cubicBezTo>
                <a:cubicBezTo>
                  <a:pt x="11" y="40"/>
                  <a:pt x="57" y="0"/>
                  <a:pt x="5" y="5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979640" y="263700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979640" y="2997360"/>
            <a:ext cx="431640" cy="71280"/>
          </a:xfrm>
          <a:prstGeom prst="flowChartMagneticDrum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5640" y="2276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627280" y="2349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57800" y="1066680"/>
            <a:ext cx="32767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rconectan el citosol de células adya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ticipan en el traspaso de señales químicas entre células, coordinando la actividad de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en el paso de moleculas pequeñas (Ca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AMP, K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cluyen moléculas gr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tegración células ve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63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63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720" y="208080"/>
            <a:ext cx="296640" cy="337320"/>
          </a:xfrm>
          <a:prstGeom prst="rect">
            <a:avLst/>
          </a:prstGeom>
          <a:solidFill>
            <a:srgbClr val="00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600200" y="2819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1800" y="2743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95480" y="28954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1714680" cy="21718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791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1276560" y="310680"/>
            <a:ext cx="2967840" cy="4283640"/>
            <a:chOff x="1276560" y="310680"/>
            <a:chExt cx="2967840" cy="4283640"/>
          </a:xfrm>
        </p:grpSpPr>
        <p:sp>
          <p:nvSpPr>
            <p:cNvPr id="1539" name=""/>
            <p:cNvSpPr/>
            <p:nvPr/>
          </p:nvSpPr>
          <p:spPr>
            <a:xfrm rot="3120000">
              <a:off x="2324880" y="214560"/>
              <a:ext cx="792360" cy="25189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2518920"/>
                <a:gd name="textAreaBottom" fmla="*/ 2480400 h 2518920"/>
              </a:gdLst>
              <a:ahLst/>
              <a:rect l="textAreaLeft" t="textAreaTop" r="textAreaRight" b="textAreaBottom"/>
              <a:pathLst>
                <a:path w="21600" h="68645">
                  <a:moveTo>
                    <a:pt x="3600" y="0"/>
                  </a:moveTo>
                  <a:arcTo wR="3600" hR="3600" stAng="16200000" swAng="-5400000"/>
                  <a:lnTo>
                    <a:pt x="0" y="65045"/>
                  </a:lnTo>
                  <a:arcTo wR="3600" hR="3600" stAng="10800000" swAng="-5400000"/>
                  <a:lnTo>
                    <a:pt x="18000" y="686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3c9"/>
                </a:gs>
                <a:gs pos="100000">
                  <a:srgbClr val="ffcc99">
                    <a:alpha val="5098"/>
                  </a:srgbClr>
                </a:gs>
              </a:gsLst>
              <a:lin ang="7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441800">
              <a:off x="2981880" y="1458720"/>
              <a:ext cx="14472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4441800">
              <a:off x="2550600" y="1027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9603200">
              <a:off x="1143000" y="1065240"/>
              <a:ext cx="2860560" cy="368280"/>
            </a:xfrm>
            <a:prstGeom prst="parallelogram">
              <a:avLst>
                <a:gd name="adj" fmla="val 194184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a79828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603200">
              <a:off x="1578960" y="1568160"/>
              <a:ext cx="2795400" cy="360360"/>
            </a:xfrm>
            <a:prstGeom prst="parallelogram">
              <a:avLst>
                <a:gd name="adj" fmla="val 193931"/>
              </a:avLst>
            </a:prstGeom>
            <a:gradFill rotWithShape="0">
              <a:gsLst>
                <a:gs pos="0">
                  <a:srgbClr val="fae33c"/>
                </a:gs>
                <a:gs pos="100000">
                  <a:srgbClr val="73681b"/>
                </a:gs>
              </a:gsLst>
              <a:lin ang="154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441800">
              <a:off x="2406240" y="88272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4441800">
              <a:off x="2839320" y="131436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4441800">
              <a:off x="1974240" y="196380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4441800">
              <a:off x="1974240" y="1243080"/>
              <a:ext cx="144360" cy="3600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00040" y="2360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95320" y="279252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hemica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579320" y="3368880"/>
              <a:ext cx="1223280" cy="1225440"/>
              <a:chOff x="1579320" y="3368880"/>
              <a:chExt cx="1223280" cy="1225440"/>
            </a:xfrm>
          </p:grpSpPr>
          <p:sp>
            <p:nvSpPr>
              <p:cNvPr id="1551" name=""/>
              <p:cNvSpPr/>
              <p:nvPr/>
            </p:nvSpPr>
            <p:spPr>
              <a:xfrm>
                <a:off x="1579320" y="3368880"/>
                <a:ext cx="1007640" cy="100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650240" y="3586320"/>
                <a:ext cx="86472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010600" y="3441960"/>
                <a:ext cx="7272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723320" y="3729240"/>
                <a:ext cx="7189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39320" y="3802320"/>
                <a:ext cx="215280" cy="21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42600" y="4089600"/>
                <a:ext cx="360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>
                <a:off x="2010600" y="4378320"/>
                <a:ext cx="288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527280" y="4114800"/>
            <a:ext cx="561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6 unidades de cone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stintos genes para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xpresan uno o varios genes de conex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omo o heteroligómeros (distinta permea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27920" y="2819520"/>
            <a:ext cx="267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x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lindro con por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es un canal hidrofí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1640" y="304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4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rot="19943400">
            <a:off x="3809880" y="38052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305560" cy="63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Contact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oléculas de adhesión celular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  (CAMs</a:t>
            </a: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o de 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adhe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célul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Ms tipo inmunoglobuli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ón célula-matriz celula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Integr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Uniones</a:t>
            </a:r>
            <a:r>
              <a:rPr b="1" lang="en-US" sz="1800" spc="-1" strike="noStrike">
                <a:solidFill>
                  <a:srgbClr val="0066ff"/>
                </a:solidFill>
                <a:latin typeface="Tahoma"/>
              </a:rPr>
              <a:t> (“junction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echas o “tight junctions” (sellos intercelula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hendidura o “gap junctions” (canales para el paso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éculas pequeñas entre célul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ahoma"/>
              </a:rPr>
              <a:t>Matriz extracelular (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bras de colá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triz de multiadhes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514600"/>
                <a:tab algn="l" pos="287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oglic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11280" y="1484280"/>
            <a:ext cx="144360" cy="914400"/>
          </a:xfrm>
          <a:custGeom>
            <a:avLst/>
            <a:gdLst>
              <a:gd name="textAreaLeft" fmla="*/ 0 w 144360"/>
              <a:gd name="textAreaRight" fmla="*/ 52200 w 144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06280" y="-1857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003320" y="71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619280" y="2565360"/>
            <a:ext cx="876240" cy="1757520"/>
          </a:xfrm>
          <a:custGeom>
            <a:avLst/>
            <a:gdLst/>
            <a:ahLst/>
            <a:rect l="l" t="t" r="r" b="b"/>
            <a:pathLst>
              <a:path w="552" h="1107">
                <a:moveTo>
                  <a:pt x="48" y="177"/>
                </a:moveTo>
                <a:cubicBezTo>
                  <a:pt x="40" y="348"/>
                  <a:pt x="35" y="518"/>
                  <a:pt x="24" y="689"/>
                </a:cubicBezTo>
                <a:cubicBezTo>
                  <a:pt x="27" y="774"/>
                  <a:pt x="0" y="937"/>
                  <a:pt x="80" y="1017"/>
                </a:cubicBezTo>
                <a:cubicBezTo>
                  <a:pt x="110" y="1047"/>
                  <a:pt x="143" y="1067"/>
                  <a:pt x="184" y="1081"/>
                </a:cubicBezTo>
                <a:cubicBezTo>
                  <a:pt x="205" y="1088"/>
                  <a:pt x="227" y="1092"/>
                  <a:pt x="248" y="1097"/>
                </a:cubicBezTo>
                <a:cubicBezTo>
                  <a:pt x="259" y="1100"/>
                  <a:pt x="280" y="1105"/>
                  <a:pt x="280" y="1105"/>
                </a:cubicBezTo>
                <a:cubicBezTo>
                  <a:pt x="393" y="1096"/>
                  <a:pt x="346" y="1107"/>
                  <a:pt x="424" y="1081"/>
                </a:cubicBezTo>
                <a:cubicBezTo>
                  <a:pt x="440" y="1076"/>
                  <a:pt x="456" y="1070"/>
                  <a:pt x="472" y="1065"/>
                </a:cubicBezTo>
                <a:cubicBezTo>
                  <a:pt x="480" y="1062"/>
                  <a:pt x="496" y="1057"/>
                  <a:pt x="496" y="1057"/>
                </a:cubicBezTo>
                <a:cubicBezTo>
                  <a:pt x="533" y="1002"/>
                  <a:pt x="522" y="1027"/>
                  <a:pt x="536" y="985"/>
                </a:cubicBezTo>
                <a:cubicBezTo>
                  <a:pt x="530" y="939"/>
                  <a:pt x="527" y="893"/>
                  <a:pt x="512" y="849"/>
                </a:cubicBezTo>
                <a:cubicBezTo>
                  <a:pt x="519" y="683"/>
                  <a:pt x="525" y="655"/>
                  <a:pt x="552" y="521"/>
                </a:cubicBezTo>
                <a:cubicBezTo>
                  <a:pt x="549" y="404"/>
                  <a:pt x="549" y="286"/>
                  <a:pt x="544" y="169"/>
                </a:cubicBezTo>
                <a:cubicBezTo>
                  <a:pt x="542" y="133"/>
                  <a:pt x="520" y="140"/>
                  <a:pt x="488" y="129"/>
                </a:cubicBezTo>
                <a:cubicBezTo>
                  <a:pt x="480" y="126"/>
                  <a:pt x="464" y="121"/>
                  <a:pt x="464" y="121"/>
                </a:cubicBezTo>
                <a:cubicBezTo>
                  <a:pt x="274" y="125"/>
                  <a:pt x="48" y="0"/>
                  <a:pt x="48" y="17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292640"/>
            <a:ext cx="1808280" cy="231840"/>
          </a:xfrm>
          <a:custGeom>
            <a:avLst/>
            <a:gdLst/>
            <a:ahLst/>
            <a:rect l="l" t="t" r="r" b="b"/>
            <a:pathLst>
              <a:path w="1139" h="146">
                <a:moveTo>
                  <a:pt x="0" y="64"/>
                </a:moveTo>
                <a:cubicBezTo>
                  <a:pt x="68" y="19"/>
                  <a:pt x="29" y="30"/>
                  <a:pt x="120" y="40"/>
                </a:cubicBezTo>
                <a:cubicBezTo>
                  <a:pt x="153" y="51"/>
                  <a:pt x="163" y="43"/>
                  <a:pt x="192" y="24"/>
                </a:cubicBezTo>
                <a:cubicBezTo>
                  <a:pt x="275" y="32"/>
                  <a:pt x="282" y="15"/>
                  <a:pt x="304" y="80"/>
                </a:cubicBezTo>
                <a:cubicBezTo>
                  <a:pt x="320" y="75"/>
                  <a:pt x="336" y="69"/>
                  <a:pt x="352" y="64"/>
                </a:cubicBezTo>
                <a:cubicBezTo>
                  <a:pt x="360" y="61"/>
                  <a:pt x="354" y="46"/>
                  <a:pt x="360" y="40"/>
                </a:cubicBezTo>
                <a:cubicBezTo>
                  <a:pt x="366" y="34"/>
                  <a:pt x="376" y="35"/>
                  <a:pt x="384" y="32"/>
                </a:cubicBezTo>
                <a:cubicBezTo>
                  <a:pt x="403" y="35"/>
                  <a:pt x="422" y="36"/>
                  <a:pt x="440" y="40"/>
                </a:cubicBezTo>
                <a:cubicBezTo>
                  <a:pt x="448" y="42"/>
                  <a:pt x="458" y="54"/>
                  <a:pt x="464" y="48"/>
                </a:cubicBezTo>
                <a:cubicBezTo>
                  <a:pt x="476" y="36"/>
                  <a:pt x="480" y="0"/>
                  <a:pt x="480" y="0"/>
                </a:cubicBezTo>
                <a:cubicBezTo>
                  <a:pt x="572" y="23"/>
                  <a:pt x="564" y="19"/>
                  <a:pt x="576" y="112"/>
                </a:cubicBezTo>
                <a:cubicBezTo>
                  <a:pt x="605" y="93"/>
                  <a:pt x="603" y="75"/>
                  <a:pt x="632" y="56"/>
                </a:cubicBezTo>
                <a:cubicBezTo>
                  <a:pt x="695" y="62"/>
                  <a:pt x="754" y="71"/>
                  <a:pt x="816" y="80"/>
                </a:cubicBezTo>
                <a:cubicBezTo>
                  <a:pt x="838" y="146"/>
                  <a:pt x="928" y="107"/>
                  <a:pt x="984" y="104"/>
                </a:cubicBezTo>
                <a:cubicBezTo>
                  <a:pt x="999" y="58"/>
                  <a:pt x="1026" y="73"/>
                  <a:pt x="1072" y="80"/>
                </a:cubicBezTo>
                <a:cubicBezTo>
                  <a:pt x="1094" y="89"/>
                  <a:pt x="1113" y="104"/>
                  <a:pt x="1136" y="112"/>
                </a:cubicBezTo>
                <a:cubicBezTo>
                  <a:pt x="1139" y="113"/>
                  <a:pt x="1136" y="107"/>
                  <a:pt x="1136" y="104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221000"/>
            <a:ext cx="1727280" cy="30672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92200" y="394488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23" y="43"/>
                </a:moveTo>
                <a:cubicBezTo>
                  <a:pt x="35" y="143"/>
                  <a:pt x="31" y="125"/>
                  <a:pt x="135" y="115"/>
                </a:cubicBezTo>
                <a:cubicBezTo>
                  <a:pt x="132" y="96"/>
                  <a:pt x="144" y="67"/>
                  <a:pt x="127" y="59"/>
                </a:cubicBezTo>
                <a:cubicBezTo>
                  <a:pt x="0" y="0"/>
                  <a:pt x="47" y="115"/>
                  <a:pt x="23" y="43"/>
                </a:cubicBezTo>
                <a:close/>
              </a:path>
            </a:pathLst>
          </a:custGeom>
          <a:solidFill>
            <a:srgbClr val="48b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8920" y="3141360"/>
            <a:ext cx="129708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000" y="3645000"/>
            <a:ext cx="1150920" cy="43164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0920" y="4508280"/>
            <a:ext cx="865440" cy="8650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000" y="2060640"/>
            <a:ext cx="2089080" cy="93492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781360"/>
            <a:ext cx="1584360" cy="1511280"/>
          </a:xfrm>
          <a:prstGeom prst="line">
            <a:avLst/>
          </a:prstGeom>
          <a:ln w="9360">
            <a:solidFill>
              <a:srgbClr val="fa18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3500280"/>
            <a:ext cx="215640" cy="28764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3573360"/>
            <a:ext cx="216000" cy="287280"/>
          </a:xfrm>
          <a:prstGeom prst="ellipse">
            <a:avLst/>
          </a:prstGeom>
          <a:solidFill>
            <a:srgbClr val="c7c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1727280" cy="306360"/>
          </a:xfrm>
          <a:custGeom>
            <a:avLst/>
            <a:gdLst/>
            <a:ahLst/>
            <a:rect l="l" t="t" r="r" b="b"/>
            <a:pathLst>
              <a:path w="1088" h="193">
                <a:moveTo>
                  <a:pt x="0" y="1"/>
                </a:moveTo>
                <a:cubicBezTo>
                  <a:pt x="29" y="4"/>
                  <a:pt x="60" y="0"/>
                  <a:pt x="88" y="9"/>
                </a:cubicBezTo>
                <a:cubicBezTo>
                  <a:pt x="95" y="11"/>
                  <a:pt x="98" y="56"/>
                  <a:pt x="104" y="73"/>
                </a:cubicBezTo>
                <a:cubicBezTo>
                  <a:pt x="115" y="103"/>
                  <a:pt x="123" y="98"/>
                  <a:pt x="152" y="105"/>
                </a:cubicBezTo>
                <a:cubicBezTo>
                  <a:pt x="165" y="102"/>
                  <a:pt x="184" y="108"/>
                  <a:pt x="192" y="97"/>
                </a:cubicBezTo>
                <a:cubicBezTo>
                  <a:pt x="253" y="15"/>
                  <a:pt x="159" y="55"/>
                  <a:pt x="224" y="33"/>
                </a:cubicBezTo>
                <a:cubicBezTo>
                  <a:pt x="259" y="36"/>
                  <a:pt x="298" y="24"/>
                  <a:pt x="328" y="41"/>
                </a:cubicBezTo>
                <a:cubicBezTo>
                  <a:pt x="344" y="50"/>
                  <a:pt x="325" y="82"/>
                  <a:pt x="336" y="97"/>
                </a:cubicBezTo>
                <a:cubicBezTo>
                  <a:pt x="342" y="105"/>
                  <a:pt x="345" y="80"/>
                  <a:pt x="352" y="73"/>
                </a:cubicBezTo>
                <a:cubicBezTo>
                  <a:pt x="359" y="66"/>
                  <a:pt x="368" y="62"/>
                  <a:pt x="376" y="57"/>
                </a:cubicBezTo>
                <a:cubicBezTo>
                  <a:pt x="379" y="61"/>
                  <a:pt x="412" y="103"/>
                  <a:pt x="416" y="113"/>
                </a:cubicBezTo>
                <a:cubicBezTo>
                  <a:pt x="423" y="128"/>
                  <a:pt x="432" y="161"/>
                  <a:pt x="432" y="161"/>
                </a:cubicBezTo>
                <a:cubicBezTo>
                  <a:pt x="451" y="158"/>
                  <a:pt x="471" y="161"/>
                  <a:pt x="488" y="153"/>
                </a:cubicBezTo>
                <a:cubicBezTo>
                  <a:pt x="505" y="145"/>
                  <a:pt x="493" y="60"/>
                  <a:pt x="512" y="41"/>
                </a:cubicBezTo>
                <a:cubicBezTo>
                  <a:pt x="528" y="25"/>
                  <a:pt x="554" y="29"/>
                  <a:pt x="576" y="25"/>
                </a:cubicBezTo>
                <a:cubicBezTo>
                  <a:pt x="693" y="40"/>
                  <a:pt x="603" y="14"/>
                  <a:pt x="648" y="81"/>
                </a:cubicBezTo>
                <a:cubicBezTo>
                  <a:pt x="639" y="109"/>
                  <a:pt x="631" y="106"/>
                  <a:pt x="664" y="121"/>
                </a:cubicBezTo>
                <a:cubicBezTo>
                  <a:pt x="679" y="128"/>
                  <a:pt x="712" y="137"/>
                  <a:pt x="712" y="137"/>
                </a:cubicBezTo>
                <a:cubicBezTo>
                  <a:pt x="721" y="111"/>
                  <a:pt x="713" y="80"/>
                  <a:pt x="728" y="57"/>
                </a:cubicBezTo>
                <a:cubicBezTo>
                  <a:pt x="733" y="50"/>
                  <a:pt x="744" y="63"/>
                  <a:pt x="752" y="65"/>
                </a:cubicBezTo>
                <a:cubicBezTo>
                  <a:pt x="773" y="69"/>
                  <a:pt x="795" y="70"/>
                  <a:pt x="816" y="73"/>
                </a:cubicBezTo>
                <a:cubicBezTo>
                  <a:pt x="821" y="81"/>
                  <a:pt x="823" y="99"/>
                  <a:pt x="832" y="97"/>
                </a:cubicBezTo>
                <a:cubicBezTo>
                  <a:pt x="843" y="94"/>
                  <a:pt x="854" y="41"/>
                  <a:pt x="856" y="33"/>
                </a:cubicBezTo>
                <a:cubicBezTo>
                  <a:pt x="880" y="36"/>
                  <a:pt x="908" y="27"/>
                  <a:pt x="928" y="41"/>
                </a:cubicBezTo>
                <a:cubicBezTo>
                  <a:pt x="941" y="50"/>
                  <a:pt x="934" y="73"/>
                  <a:pt x="936" y="89"/>
                </a:cubicBezTo>
                <a:cubicBezTo>
                  <a:pt x="939" y="118"/>
                  <a:pt x="935" y="149"/>
                  <a:pt x="944" y="177"/>
                </a:cubicBezTo>
                <a:cubicBezTo>
                  <a:pt x="946" y="182"/>
                  <a:pt x="992" y="190"/>
                  <a:pt x="1008" y="193"/>
                </a:cubicBezTo>
                <a:cubicBezTo>
                  <a:pt x="1018" y="153"/>
                  <a:pt x="1009" y="107"/>
                  <a:pt x="1032" y="73"/>
                </a:cubicBezTo>
                <a:cubicBezTo>
                  <a:pt x="1041" y="60"/>
                  <a:pt x="1064" y="68"/>
                  <a:pt x="1080" y="65"/>
                </a:cubicBezTo>
                <a:cubicBezTo>
                  <a:pt x="1083" y="57"/>
                  <a:pt x="1088" y="41"/>
                  <a:pt x="1088" y="41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52560" y="1413000"/>
            <a:ext cx="5319720" cy="417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erspectivas Bio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1"/>
          <a:srcRect l="0" t="40906" r="0" b="5162"/>
          <a:stretch/>
        </p:blipFill>
        <p:spPr>
          <a:xfrm>
            <a:off x="611280" y="907920"/>
            <a:ext cx="3960720" cy="208944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5148360" y="981000"/>
            <a:ext cx="35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ahoma"/>
              </a:rPr>
              <a:t>La molécula sintética se usa para la generación de anticuerpos destinados a la detección de las esporas del antrax y para el desarrollo de una vac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46760" y="292428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etrasacárido de la superficie del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</a:rPr>
              <a:t>Bacillus anthrac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208440" y="3971880"/>
            <a:ext cx="8643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drogas para enfermedades ocasionadas por parásitos. 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eishman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o de vacunas antitum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que reconozcan glicoproteínas y glipolípidos específ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la superficie de las células malig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00600" y="1620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Fármacos y 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134040" cy="246708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1304640" y="1916280"/>
            <a:ext cx="72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fí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arrollar vacuna contra carbohidratos específicos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r glicanos comunes con células humanas y aquellos prop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68200" y="836640"/>
            <a:ext cx="722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irus HIV esta recubierto por glicanos que imitan a los del hosped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operancia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hibidores de la biosíntesis de glican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neutralización mediante lect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69120" y="1778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arrollo de vacunas anti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3811" r="0" b="0"/>
          <a:stretch/>
        </p:blipFill>
        <p:spPr>
          <a:xfrm>
            <a:off x="285840" y="1295280"/>
            <a:ext cx="8572320" cy="508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1600" y="260280"/>
            <a:ext cx="711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ínas de adehe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ticipan en interacciones célula-célula y célula-matriz extra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1564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dher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 fundamental en uniones homofílic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glicoproteínas integrales de membra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úan con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el mismo tipo de cadheri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xpresada por otra célu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nión cabeza-cabez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iente de Ca+2 (remoción del Ca+2 causa disociación cel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a+2 promueve formación de dímeros de cadherin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moléculas de cadherina se concentran en regiones especializadas de la superficie celular “las uniones adherent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en unos 40 tipos estructuralmente sim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tisular característ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:  E-cadherina (epitel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177840"/>
                <a:tab algn="l" pos="44460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cadherina (tejido nervioso y mus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716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4648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414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4365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581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5029200"/>
            <a:ext cx="60120" cy="646200"/>
          </a:xfrm>
          <a:custGeom>
            <a:avLst/>
            <a:gdLst/>
            <a:ahLst/>
            <a:rect l="l" t="t" r="r" b="b"/>
            <a:pathLst>
              <a:path w="38" h="407">
                <a:moveTo>
                  <a:pt x="38" y="407"/>
                </a:moveTo>
                <a:cubicBezTo>
                  <a:pt x="26" y="319"/>
                  <a:pt x="21" y="287"/>
                  <a:pt x="29" y="194"/>
                </a:cubicBezTo>
                <a:cubicBezTo>
                  <a:pt x="26" y="164"/>
                  <a:pt x="25" y="134"/>
                  <a:pt x="20" y="105"/>
                </a:cubicBezTo>
                <a:cubicBezTo>
                  <a:pt x="0" y="0"/>
                  <a:pt x="2" y="85"/>
                  <a:pt x="2" y="3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5013360"/>
            <a:ext cx="152280" cy="609480"/>
          </a:xfrm>
          <a:custGeom>
            <a:avLst/>
            <a:gdLst/>
            <a:ahLst/>
            <a:rect l="l" t="t" r="r" b="b"/>
            <a:pathLst>
              <a:path w="75" h="409">
                <a:moveTo>
                  <a:pt x="46" y="409"/>
                </a:moveTo>
                <a:cubicBezTo>
                  <a:pt x="35" y="290"/>
                  <a:pt x="75" y="130"/>
                  <a:pt x="10" y="36"/>
                </a:cubicBezTo>
                <a:cubicBezTo>
                  <a:pt x="0" y="6"/>
                  <a:pt x="1" y="18"/>
                  <a:pt x="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2438280"/>
            <a:ext cx="57240" cy="621000"/>
          </a:xfrm>
          <a:custGeom>
            <a:avLst/>
            <a:gdLst/>
            <a:ahLst/>
            <a:rect l="l" t="t" r="r" b="b"/>
            <a:pathLst>
              <a:path w="36" h="391">
                <a:moveTo>
                  <a:pt x="0" y="0"/>
                </a:moveTo>
                <a:cubicBezTo>
                  <a:pt x="19" y="134"/>
                  <a:pt x="36" y="251"/>
                  <a:pt x="36" y="39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47973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3962520"/>
            <a:ext cx="228600" cy="228600"/>
          </a:xfrm>
          <a:prstGeom prst="ellipse">
            <a:avLst/>
          </a:prstGeom>
          <a:solidFill>
            <a:srgbClr val="48b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682560" y="5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960" y="4876920"/>
            <a:ext cx="23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cuencias repetidas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ienen los sitios de un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a Ca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8320" y="441972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de dime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840" y="571500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gmento de transmembr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280" y="6021360"/>
            <a:ext cx="213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minio citoplas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 se une al citoesque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48360" y="5562360"/>
            <a:ext cx="12812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2276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6021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760" y="5923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14046" t="30483" r="15906" b="13048"/>
          <a:stretch/>
        </p:blipFill>
        <p:spPr>
          <a:xfrm>
            <a:off x="7956720" y="260280"/>
            <a:ext cx="88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990720"/>
            <a:ext cx="84362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-CA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Nerve-cell adhesion molec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undantes en tejido nervi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la unión entre células que expresan N-CAM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uniones homofílic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coproteínas integrales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enecen a la superfamilia  de las inmunoglubilinas (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es independiente de Ca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ácido siálico modula las propiedades de las N-CAMs, debili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teracciones (por repulsión de cargas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to de un gen ún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versidad generada por procesamiento alternativo de m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mediante diferente  glicosil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8900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LECULAS DE ADHESION CELUL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s de tipo inmunoglobulina (IgG)  N-CAMs, IC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0384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53341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562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5780160"/>
            <a:ext cx="73080" cy="60624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8240" y="5130720"/>
            <a:ext cx="206280" cy="169920"/>
          </a:xfrm>
          <a:custGeom>
            <a:avLst/>
            <a:gdLst/>
            <a:ahLst/>
            <a:rect l="l" t="t" r="r" b="b"/>
            <a:pathLst>
              <a:path w="130" h="107">
                <a:moveTo>
                  <a:pt x="15" y="107"/>
                </a:moveTo>
                <a:cubicBezTo>
                  <a:pt x="28" y="0"/>
                  <a:pt x="0" y="36"/>
                  <a:pt x="130" y="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32640" y="4241880"/>
            <a:ext cx="254160" cy="19692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0" y="124"/>
                </a:moveTo>
                <a:cubicBezTo>
                  <a:pt x="11" y="106"/>
                  <a:pt x="14" y="76"/>
                  <a:pt x="35" y="71"/>
                </a:cubicBezTo>
                <a:cubicBezTo>
                  <a:pt x="70" y="62"/>
                  <a:pt x="106" y="55"/>
                  <a:pt x="142" y="44"/>
                </a:cubicBezTo>
                <a:cubicBezTo>
                  <a:pt x="153" y="11"/>
                  <a:pt x="146" y="26"/>
                  <a:pt x="1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726200">
            <a:off x="7695360" y="3200040"/>
            <a:ext cx="73080" cy="606600"/>
          </a:xfrm>
          <a:custGeom>
            <a:avLst/>
            <a:gdLst/>
            <a:ahLst/>
            <a:rect l="l" t="t" r="r" b="b"/>
            <a:pathLst>
              <a:path w="46" h="382">
                <a:moveTo>
                  <a:pt x="27" y="382"/>
                </a:moveTo>
                <a:cubicBezTo>
                  <a:pt x="33" y="373"/>
                  <a:pt x="46" y="365"/>
                  <a:pt x="45" y="355"/>
                </a:cubicBezTo>
                <a:cubicBezTo>
                  <a:pt x="42" y="342"/>
                  <a:pt x="24" y="339"/>
                  <a:pt x="18" y="329"/>
                </a:cubicBezTo>
                <a:cubicBezTo>
                  <a:pt x="11" y="318"/>
                  <a:pt x="0" y="242"/>
                  <a:pt x="0" y="240"/>
                </a:cubicBezTo>
                <a:cubicBezTo>
                  <a:pt x="14" y="107"/>
                  <a:pt x="9" y="186"/>
                  <a:pt x="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5867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36200">
            <a:off x="6588000" y="41493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4680" y="436572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ipo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9400" y="573408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25880" y="624852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de citoplas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152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90480" y="33336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ECULAS DE ADHESION CE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440" y="642960"/>
            <a:ext cx="8698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an interacciones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heterofílica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élula-cél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integral de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e carbohidratos de proteínas (glicoproteínas) y glico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unión es dependiente d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-selectina se localiza en las células endotel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 en el proceso de extravasación (interacciones celulares transitori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 paso de los glóbulos blancos a través de los vasos sangui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9680" y="4195800"/>
            <a:ext cx="304560" cy="304920"/>
          </a:xfrm>
          <a:prstGeom prst="ellipse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65300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1960" y="4500720"/>
            <a:ext cx="76320" cy="152280"/>
          </a:xfrm>
          <a:prstGeom prst="rect">
            <a:avLst/>
          </a:prstGeom>
          <a:solidFill>
            <a:srgbClr val="34b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7400" y="409896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85280" y="570060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inio trans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4811400">
            <a:off x="3815280" y="3609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43280" y="386028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93372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licoproteína de tipo muc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867280"/>
            <a:ext cx="1905120" cy="152640"/>
          </a:xfrm>
          <a:prstGeom prst="rect">
            <a:avLst/>
          </a:prstGeom>
          <a:gradFill rotWithShape="0">
            <a:gsLst>
              <a:gs pos="0">
                <a:srgbClr val="fadebf"/>
              </a:gs>
              <a:gs pos="50000">
                <a:srgbClr val="d5bda3"/>
              </a:gs>
              <a:gs pos="100000">
                <a:srgbClr val="fade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5715000"/>
            <a:ext cx="76320" cy="533520"/>
          </a:xfrm>
          <a:custGeom>
            <a:avLst/>
            <a:gdLst/>
            <a:ahLst/>
            <a:rect l="l" t="t" r="r" b="b"/>
            <a:pathLst>
              <a:path w="76" h="663">
                <a:moveTo>
                  <a:pt x="44" y="307"/>
                </a:moveTo>
                <a:cubicBezTo>
                  <a:pt x="76" y="310"/>
                  <a:pt x="69" y="0"/>
                  <a:pt x="69" y="56"/>
                </a:cubicBezTo>
                <a:cubicBezTo>
                  <a:pt x="69" y="98"/>
                  <a:pt x="27" y="472"/>
                  <a:pt x="16" y="512"/>
                </a:cubicBezTo>
                <a:cubicBezTo>
                  <a:pt x="10" y="529"/>
                  <a:pt x="0" y="565"/>
                  <a:pt x="0" y="565"/>
                </a:cubicBezTo>
                <a:cubicBezTo>
                  <a:pt x="3" y="595"/>
                  <a:pt x="1" y="638"/>
                  <a:pt x="24" y="66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22560" y="763560"/>
            <a:ext cx="720720" cy="504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907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3709080" y="-748440"/>
            <a:ext cx="934920" cy="338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18039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2133720"/>
            <a:ext cx="115272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244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2997360"/>
            <a:ext cx="14292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3141720"/>
            <a:ext cx="7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5020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560" y="2854440"/>
            <a:ext cx="216000" cy="215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4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71640" y="3141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270972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349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igando de Selec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21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afafa"/>
                </a:solidFill>
                <a:latin typeface="Tahoma"/>
              </a:rPr>
              <a:t>Leuco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4005360"/>
            <a:ext cx="3527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élulas endoteliales activ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exponen P selectina en cara lumi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célula endotel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49228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2278080"/>
            <a:ext cx="1152360" cy="79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1280" y="2567160"/>
            <a:ext cx="2174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0920" y="2998800"/>
            <a:ext cx="215640" cy="21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99600">
            <a:off x="5722560" y="2854440"/>
            <a:ext cx="268200" cy="252360"/>
          </a:xfrm>
          <a:custGeom>
            <a:avLst/>
            <a:gdLst/>
            <a:ahLst/>
            <a:rect l="l" t="t" r="r" b="b"/>
            <a:pathLst>
              <a:path w="169" h="159">
                <a:moveTo>
                  <a:pt x="45" y="39"/>
                </a:moveTo>
                <a:cubicBezTo>
                  <a:pt x="56" y="42"/>
                  <a:pt x="66" y="44"/>
                  <a:pt x="77" y="47"/>
                </a:cubicBezTo>
                <a:cubicBezTo>
                  <a:pt x="85" y="49"/>
                  <a:pt x="93" y="58"/>
                  <a:pt x="101" y="55"/>
                </a:cubicBezTo>
                <a:cubicBezTo>
                  <a:pt x="110" y="51"/>
                  <a:pt x="109" y="37"/>
                  <a:pt x="117" y="31"/>
                </a:cubicBezTo>
                <a:cubicBezTo>
                  <a:pt x="124" y="26"/>
                  <a:pt x="133" y="26"/>
                  <a:pt x="141" y="23"/>
                </a:cubicBezTo>
                <a:cubicBezTo>
                  <a:pt x="149" y="28"/>
                  <a:pt x="162" y="30"/>
                  <a:pt x="165" y="39"/>
                </a:cubicBezTo>
                <a:cubicBezTo>
                  <a:pt x="169" y="53"/>
                  <a:pt x="130" y="140"/>
                  <a:pt x="117" y="151"/>
                </a:cubicBezTo>
                <a:cubicBezTo>
                  <a:pt x="110" y="156"/>
                  <a:pt x="101" y="156"/>
                  <a:pt x="93" y="159"/>
                </a:cubicBezTo>
                <a:cubicBezTo>
                  <a:pt x="77" y="62"/>
                  <a:pt x="107" y="150"/>
                  <a:pt x="13" y="103"/>
                </a:cubicBezTo>
                <a:cubicBezTo>
                  <a:pt x="0" y="96"/>
                  <a:pt x="84" y="0"/>
                  <a:pt x="45" y="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38920" y="1989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ctivación de integrin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256536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0920" y="3070080"/>
            <a:ext cx="142560" cy="1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30920" y="3214800"/>
            <a:ext cx="72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rot="2498400">
            <a:off x="5866920" y="2997000"/>
            <a:ext cx="71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141720"/>
            <a:ext cx="0" cy="2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278136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Unión a ICAM-1  (tipo IgG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1640" y="30700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35772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80360" y="3500280"/>
            <a:ext cx="4334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39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4941720"/>
            <a:ext cx="1152720" cy="792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5230800"/>
            <a:ext cx="2174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4292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59480" y="591660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pel de CAMs en el proceso de extravas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9242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lum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844640"/>
            <a:ext cx="8605800" cy="1944720"/>
          </a:xfrm>
          <a:prstGeom prst="rect">
            <a:avLst/>
          </a:prstGeom>
          <a:gradFill rotWithShape="0">
            <a:gsLst>
              <a:gs pos="0">
                <a:srgbClr val="c0c0c0">
                  <a:alpha val="56078"/>
                </a:srgbClr>
              </a:gs>
              <a:gs pos="50000">
                <a:srgbClr val="ececec">
                  <a:alpha val="39215"/>
                </a:srgbClr>
              </a:gs>
              <a:gs pos="100000">
                <a:srgbClr val="c0c0c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19800" y="65530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 Ro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22:53:08Z</dcterms:created>
  <dc:creator>Cecilia Rojas</dc:creator>
  <dc:description/>
  <dc:language>en-US</dc:language>
  <cp:lastModifiedBy>Gina Madariaga</cp:lastModifiedBy>
  <dcterms:modified xsi:type="dcterms:W3CDTF">2007-10-01T15:09:07Z</dcterms:modified>
  <cp:revision>171</cp:revision>
  <dc:subject/>
  <dc:title>PowerPoint Presentation</dc:title>
</cp:coreProperties>
</file>