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91AC3-1692-40F1-A673-BF835B468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35B69-23D4-48DB-BA97-621B9B2CB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50E81-68C7-4936-A597-B4A1C2EA8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4E888-3A90-4BF5-8613-2BD19D54E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50ED1-200E-489A-B980-E70EFE2BE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BEB3D-D64F-47A8-BC18-C31D634A5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E6BE8-8CCC-4E3C-BD7B-CF74CA31A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B3D30-44C9-439E-B77C-559CD78E2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33EB3-8A53-4457-887C-CC523595C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9F751-5E5C-449F-9CD4-BC9C14732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CFE3D-4B88-4B24-A61B-F5443BAA0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6DB26-03B5-4691-AB9A-159149E14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D3C9B-25E6-4CEE-BFA0-EFBB224EEBA2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772000" y="138240"/>
            <a:ext cx="325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dddddd"/>
                </a:solidFill>
                <a:latin typeface="Times New Roman"/>
              </a:rPr>
              <a:t>Propagación de la lu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89680" y="712800"/>
            <a:ext cx="351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Ley del cuadrado inverso 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79280" y="1628640"/>
            <a:ext cx="4824360" cy="48182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144040" y="2133720"/>
            <a:ext cx="37681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La superficie de la esfera c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radio d es 4</a:t>
            </a:r>
            <a:r>
              <a:rPr b="0" lang="el-GR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π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d</a:t>
            </a:r>
            <a:r>
              <a:rPr b="0" lang="es-ES" sz="2400" spc="-1" strike="noStrike" baseline="30000">
                <a:solidFill>
                  <a:srgbClr val="dddddd"/>
                </a:solidFill>
                <a:latin typeface="Times New Roman"/>
                <a:ea typeface="Times New Roman"/>
              </a:rPr>
              <a:t>2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, por lo ta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el brillo disminuye con e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cuadrado de la distancia. 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misma cantidad de luz 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distribuye en una superfici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que crece como d</a:t>
            </a:r>
            <a:r>
              <a:rPr b="0" lang="es-ES" sz="2400" spc="-1" strike="noStrike" baseline="30000">
                <a:solidFill>
                  <a:srgbClr val="dddddd"/>
                </a:solidFill>
                <a:latin typeface="Times New Roman"/>
                <a:ea typeface="Times New Roman"/>
              </a:rPr>
              <a:t>2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941400" y="641520"/>
            <a:ext cx="70250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Las estrellas en el diagrama H-R se pueden clasificar 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Clase de Luminosidad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Clase I   : Supergiga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Clase II  : Gigantes brilla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Clase III : Giga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Clase  V : Secuencia Princip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Enanas blan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25400" y="4168800"/>
            <a:ext cx="8128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La clase de luminosidad se puede determinar del ancho de l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líneas del espectro, las más angostas son las de las Supergiga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y las más anchas las de las Enanas blanc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437040" y="230040"/>
            <a:ext cx="831132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dddddd"/>
                </a:solidFill>
                <a:latin typeface="Times New Roman"/>
              </a:rPr>
              <a:t>Ej.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 Si vemos una estrella de tipo espectral F0 y magnitud apar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m</a:t>
            </a:r>
            <a:r>
              <a:rPr b="0" lang="es-ES" sz="2400" spc="-1" strike="noStrike" baseline="-25000">
                <a:solidFill>
                  <a:srgbClr val="dddddd"/>
                </a:solidFill>
                <a:latin typeface="Times New Roman"/>
              </a:rPr>
              <a:t>V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 = +8  ¿ cuál es su distancia ?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80760" y="1382760"/>
            <a:ext cx="695484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dddddd"/>
                </a:solidFill>
                <a:latin typeface="Times New Roman"/>
              </a:rPr>
              <a:t>F0   implica   M</a:t>
            </a:r>
            <a:r>
              <a:rPr b="0" lang="es-ES" sz="2800" spc="-1" strike="noStrike" baseline="-25000">
                <a:solidFill>
                  <a:srgbClr val="dddddd"/>
                </a:solidFill>
                <a:latin typeface="Times New Roman"/>
              </a:rPr>
              <a:t>V</a:t>
            </a:r>
            <a:r>
              <a:rPr b="0" lang="es-ES" sz="2800" spc="-1" strike="noStrike">
                <a:solidFill>
                  <a:srgbClr val="dddddd"/>
                </a:solidFill>
                <a:latin typeface="Times New Roman"/>
              </a:rPr>
              <a:t> = +3   por lo tanto  m – M = 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dddddd"/>
                </a:solidFill>
                <a:latin typeface="Times New Roman"/>
              </a:rPr>
              <a:t>d(pc) = 10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× 10</a:t>
            </a:r>
            <a:r>
              <a:rPr b="0" lang="en-US" sz="2800" spc="-1" strike="noStrike" baseline="30000">
                <a:solidFill>
                  <a:srgbClr val="dddddd"/>
                </a:solidFill>
                <a:latin typeface="Times New Roman"/>
                <a:ea typeface="Times New Roman"/>
              </a:rPr>
              <a:t>(m-M)/5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= 100 p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57200" y="4005360"/>
            <a:ext cx="7364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Para aplicar este método es importante conocer la Clase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Luminosidad de la estrella, la cual se puede determinar 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ancho de las líneas del espectro y otras característic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espectra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312480" y="836640"/>
            <a:ext cx="8457480" cy="49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Para conocer la luminosidad de una estrella debemos determin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sus magnitudes en todas las longitudes de onda. Esta magnitu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se llama </a:t>
            </a:r>
            <a:r>
              <a:rPr b="0" lang="es-ES" sz="2400" spc="-1" strike="noStrike" u="sng">
                <a:solidFill>
                  <a:srgbClr val="dddddd"/>
                </a:solidFill>
                <a:uFillTx/>
                <a:latin typeface="Times New Roman"/>
              </a:rPr>
              <a:t>Magnitud Bolométrica (M</a:t>
            </a:r>
            <a:r>
              <a:rPr b="0" lang="es-ES" sz="2400" spc="-1" strike="noStrike" u="sng" baseline="-25000">
                <a:solidFill>
                  <a:srgbClr val="dddddd"/>
                </a:solidFill>
                <a:uFillTx/>
                <a:latin typeface="Times New Roman"/>
              </a:rPr>
              <a:t>bol</a:t>
            </a:r>
            <a:r>
              <a:rPr b="0" lang="es-ES" sz="2400" spc="-1" strike="noStrike" u="sng">
                <a:solidFill>
                  <a:srgbClr val="dddddd"/>
                </a:solidFill>
                <a:uFillTx/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La magnitud bolométrica sólo se conoce bien para el Sol, para otr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estrellas se calcula a partir de model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M</a:t>
            </a:r>
            <a:r>
              <a:rPr b="0" lang="es-ES" sz="2400" spc="-1" strike="noStrike" baseline="-25000">
                <a:solidFill>
                  <a:srgbClr val="dddddd"/>
                </a:solidFill>
                <a:latin typeface="Times New Roman"/>
              </a:rPr>
              <a:t>B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 – M</a:t>
            </a:r>
            <a:r>
              <a:rPr b="0" lang="es-ES" sz="2400" spc="-1" strike="noStrike" baseline="-25000">
                <a:solidFill>
                  <a:srgbClr val="dddddd"/>
                </a:solidFill>
                <a:latin typeface="Times New Roman"/>
              </a:rPr>
              <a:t>bol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 = BC    </a:t>
            </a:r>
            <a:r>
              <a:rPr b="0" lang="es-ES" sz="2400" spc="-1" strike="noStrike" u="sng">
                <a:solidFill>
                  <a:srgbClr val="dddddd"/>
                </a:solidFill>
                <a:uFillTx/>
                <a:latin typeface="Times New Roman"/>
              </a:rPr>
              <a:t>Corrección Bolométric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BC está definida para ser 0 para estrellas cuya distribución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energía sea similar a la respuesta del ojo humano. La corre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puede ser muy grande para estrellas muy calientes o muy frías.</a:t>
            </a:r>
            <a:r>
              <a:rPr b="0" lang="es-ES" sz="2400" spc="-1" strike="noStrike" u="sng">
                <a:solidFill>
                  <a:srgbClr val="dddddd"/>
                </a:solidFill>
                <a:uFillTx/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467280" y="981000"/>
            <a:ext cx="7942680" cy="458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Algunas magnitudes absolutas en el visual M</a:t>
            </a:r>
            <a:r>
              <a:rPr b="0" lang="es-ES" sz="2400" spc="-1" strike="noStrike" baseline="-25000">
                <a:solidFill>
                  <a:srgbClr val="dddddd"/>
                </a:solidFill>
                <a:latin typeface="Times New Roman"/>
              </a:rPr>
              <a:t>V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 de estrellas en 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Secuencia Principal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Tipo espectral                     M</a:t>
            </a:r>
            <a:r>
              <a:rPr b="0" lang="es-ES" sz="2400" spc="-1" strike="noStrike" baseline="-25000">
                <a:solidFill>
                  <a:srgbClr val="dddddd"/>
                </a:solidFill>
                <a:latin typeface="Times New Roman"/>
              </a:rPr>
              <a:t>V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-----------------------------------------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O5                                     -5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B0                                     -3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A0                                     +0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F0                                      +3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K0                                     +4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M0                                    +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M8                                    +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908000" y="620640"/>
            <a:ext cx="5315040" cy="5715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3277080" y="0"/>
            <a:ext cx="205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dddddd"/>
                </a:solidFill>
                <a:latin typeface="Times New Roman"/>
              </a:rPr>
              <a:t>Luminos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579240" y="496800"/>
            <a:ext cx="7671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La luminosidad de una estrella está definida como la tasa a 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que ésta emite energía, medida normalmente en  erg/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44600" y="1720800"/>
            <a:ext cx="8066160" cy="416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La luminosidad solar que llega a la Tierra en 1 cm</a:t>
            </a:r>
            <a:r>
              <a:rPr b="0" lang="es-ES" sz="2400" spc="-1" strike="noStrike" baseline="30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  es 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1,36 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× 10</a:t>
            </a:r>
            <a:r>
              <a:rPr b="0" lang="en-US" sz="2400" spc="-1" strike="noStrike" baseline="30000">
                <a:solidFill>
                  <a:srgbClr val="dddddd"/>
                </a:solidFill>
                <a:latin typeface="Times New Roman"/>
                <a:ea typeface="Times New Roman"/>
              </a:rPr>
              <a:t>6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erg/s , ésta se llama Constante Solar (se mide sobre 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atmósfera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Para tener la luminosidad total tenemos que multiplicar por 4</a:t>
            </a:r>
            <a:r>
              <a:rPr b="0" lang="el-GR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π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d</a:t>
            </a:r>
            <a:r>
              <a:rPr b="0" lang="es-ES" sz="2400" spc="-1" strike="noStrike" baseline="30000">
                <a:solidFill>
                  <a:srgbClr val="dddddd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(d = 1AU = 1,5 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× 10</a:t>
            </a:r>
            <a:r>
              <a:rPr b="0" lang="en-US" sz="2400" spc="-1" strike="noStrike" baseline="30000">
                <a:solidFill>
                  <a:srgbClr val="dddddd"/>
                </a:solidFill>
                <a:latin typeface="Times New Roman"/>
                <a:ea typeface="Times New Roman"/>
              </a:rPr>
              <a:t>13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cm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La luminosidad de Sol es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dddddd"/>
                </a:solidFill>
                <a:uFillTx/>
                <a:latin typeface="Times New Roman"/>
                <a:ea typeface="Times New Roman"/>
              </a:rPr>
              <a:t>L</a:t>
            </a:r>
            <a:r>
              <a:rPr b="0" lang="en-US" sz="2400" spc="-1" strike="noStrike" u="sng" baseline="-25000">
                <a:solidFill>
                  <a:srgbClr val="dddddd"/>
                </a:solidFill>
                <a:uFillTx/>
                <a:latin typeface="Times New Roman"/>
                <a:ea typeface="Times New Roman"/>
              </a:rPr>
              <a:t>sol</a:t>
            </a:r>
            <a:r>
              <a:rPr b="0" lang="en-US" sz="2400" spc="-1" strike="noStrike" u="sng">
                <a:solidFill>
                  <a:srgbClr val="dddddd"/>
                </a:solidFill>
                <a:uFillTx/>
                <a:latin typeface="Times New Roman"/>
                <a:ea typeface="Times New Roman"/>
              </a:rPr>
              <a:t>= 1,36 × 10</a:t>
            </a:r>
            <a:r>
              <a:rPr b="0" lang="en-US" sz="2400" spc="-1" strike="noStrike" u="sng" baseline="30000">
                <a:solidFill>
                  <a:srgbClr val="dddddd"/>
                </a:solidFill>
                <a:uFillTx/>
                <a:latin typeface="Times New Roman"/>
                <a:ea typeface="Times New Roman"/>
              </a:rPr>
              <a:t>6</a:t>
            </a:r>
            <a:r>
              <a:rPr b="0" lang="en-US" sz="2400" spc="-1" strike="noStrike" u="sng">
                <a:solidFill>
                  <a:srgbClr val="dddddd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en-US" sz="2400" spc="-1" strike="noStrike" u="sng">
                <a:solidFill>
                  <a:srgbClr val="dddddd"/>
                </a:solidFill>
                <a:uFillTx/>
                <a:latin typeface="Times New Roman"/>
              </a:rPr>
              <a:t>× 2,8 × 10</a:t>
            </a:r>
            <a:r>
              <a:rPr b="0" lang="en-US" sz="2400" spc="-1" strike="noStrike" u="sng" baseline="30000">
                <a:solidFill>
                  <a:srgbClr val="dddddd"/>
                </a:solidFill>
                <a:uFillTx/>
                <a:latin typeface="Times New Roman"/>
              </a:rPr>
              <a:t>27</a:t>
            </a:r>
            <a:r>
              <a:rPr b="0" lang="en-US" sz="2400" spc="-1" strike="noStrike" u="sng">
                <a:solidFill>
                  <a:srgbClr val="dddddd"/>
                </a:solidFill>
                <a:uFillTx/>
                <a:latin typeface="Times New Roman"/>
              </a:rPr>
              <a:t> erg/s = 3,8 × 10</a:t>
            </a:r>
            <a:r>
              <a:rPr b="0" lang="en-US" sz="2400" spc="-1" strike="noStrike" u="sng" baseline="30000">
                <a:solidFill>
                  <a:srgbClr val="dddddd"/>
                </a:solidFill>
                <a:uFillTx/>
                <a:latin typeface="Times New Roman"/>
              </a:rPr>
              <a:t>33</a:t>
            </a:r>
            <a:r>
              <a:rPr b="0" lang="en-US" sz="2400" spc="-1" strike="noStrike" u="sng">
                <a:solidFill>
                  <a:srgbClr val="dddddd"/>
                </a:solidFill>
                <a:uFillTx/>
                <a:latin typeface="Times New Roman"/>
              </a:rPr>
              <a:t>  erg/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529920" y="209520"/>
            <a:ext cx="5266440" cy="12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La magnitud bolométrica M</a:t>
            </a:r>
            <a:r>
              <a:rPr b="0" lang="es-ES" sz="2400" spc="-1" strike="noStrike" baseline="-25000">
                <a:solidFill>
                  <a:srgbClr val="dddddd"/>
                </a:solidFill>
                <a:latin typeface="Times New Roman"/>
              </a:rPr>
              <a:t>bol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 del Sol es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                                 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M</a:t>
            </a:r>
            <a:r>
              <a:rPr b="0" lang="es-ES" sz="2400" spc="-1" strike="noStrike" baseline="-25000">
                <a:solidFill>
                  <a:srgbClr val="dddddd"/>
                </a:solidFill>
                <a:latin typeface="Times New Roman"/>
              </a:rPr>
              <a:t>bol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 (Sol) = +4,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4880" y="1720800"/>
            <a:ext cx="823968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Por lo tanto si conocemos la magnitud bolométrica de una estrel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podemos determinar su luminosidad L</a:t>
            </a:r>
            <a:r>
              <a:rPr b="0" lang="es-ES" sz="2400" spc="-1" strike="noStrike" baseline="-25000">
                <a:solidFill>
                  <a:srgbClr val="dddddd"/>
                </a:solidFill>
                <a:latin typeface="Times New Roman"/>
              </a:rPr>
              <a:t>*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126160" y="3213000"/>
            <a:ext cx="58377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Times New Roman"/>
              </a:rPr>
              <a:t>M</a:t>
            </a:r>
            <a:r>
              <a:rPr b="0" lang="es-ES" sz="2800" spc="-1" strike="noStrike" baseline="-25000">
                <a:solidFill>
                  <a:srgbClr val="eaeaea"/>
                </a:solidFill>
                <a:latin typeface="Times New Roman"/>
              </a:rPr>
              <a:t>bol</a:t>
            </a:r>
            <a:r>
              <a:rPr b="0" lang="es-ES" sz="2800" spc="-1" strike="noStrike">
                <a:solidFill>
                  <a:srgbClr val="eaeaea"/>
                </a:solidFill>
                <a:latin typeface="Times New Roman"/>
              </a:rPr>
              <a:t> (Sol) – M</a:t>
            </a:r>
            <a:r>
              <a:rPr b="0" lang="es-ES" sz="2800" spc="-1" strike="noStrike" baseline="-25000">
                <a:solidFill>
                  <a:srgbClr val="eaeaea"/>
                </a:solidFill>
                <a:latin typeface="Times New Roman"/>
              </a:rPr>
              <a:t>bol</a:t>
            </a:r>
            <a:r>
              <a:rPr b="0" lang="es-ES" sz="2800" spc="-1" strike="noStrike">
                <a:solidFill>
                  <a:srgbClr val="eaeaea"/>
                </a:solidFill>
                <a:latin typeface="Times New Roman"/>
              </a:rPr>
              <a:t> (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*</a:t>
            </a:r>
            <a:r>
              <a:rPr b="0" lang="es-ES" sz="2800" spc="-1" strike="noStrike">
                <a:solidFill>
                  <a:srgbClr val="eaeaea"/>
                </a:solidFill>
                <a:latin typeface="Times New Roman"/>
              </a:rPr>
              <a:t>) = 2.5 log (L</a:t>
            </a:r>
            <a:r>
              <a:rPr b="0" lang="es-ES" sz="2800" spc="-1" strike="noStrike" baseline="-25000">
                <a:solidFill>
                  <a:srgbClr val="eaeaea"/>
                </a:solidFill>
                <a:latin typeface="Times New Roman"/>
              </a:rPr>
              <a:t>*</a:t>
            </a:r>
            <a:r>
              <a:rPr b="0" lang="es-ES" sz="2800" spc="-1" strike="noStrike">
                <a:solidFill>
                  <a:srgbClr val="eaeaea"/>
                </a:solidFill>
                <a:latin typeface="Times New Roman"/>
              </a:rPr>
              <a:t> / L</a:t>
            </a:r>
            <a:r>
              <a:rPr b="0" lang="es-ES" sz="2800" spc="-1" strike="noStrike" baseline="-25000">
                <a:solidFill>
                  <a:srgbClr val="eaeaea"/>
                </a:solidFill>
                <a:latin typeface="Times New Roman"/>
              </a:rPr>
              <a:t>sol</a:t>
            </a:r>
            <a:r>
              <a:rPr b="0" lang="es-ES" sz="2800" spc="-1" strike="noStrike">
                <a:solidFill>
                  <a:srgbClr val="eaeaea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547640" y="3141720"/>
            <a:ext cx="45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→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58760" y="3089160"/>
            <a:ext cx="1282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66"/>
                </a:solidFill>
                <a:latin typeface="Times New Roman"/>
              </a:rPr>
              <a:t>conoc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66"/>
                </a:solidFill>
                <a:latin typeface="Times New Roman"/>
              </a:rPr>
              <a:t>  </a:t>
            </a:r>
            <a:r>
              <a:rPr b="0" lang="es-ES" sz="2400" spc="-1" strike="noStrike">
                <a:solidFill>
                  <a:srgbClr val="ffff66"/>
                </a:solidFill>
                <a:latin typeface="Times New Roman"/>
              </a:rPr>
              <a:t>= +4,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20560" y="35672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492640" y="4025880"/>
            <a:ext cx="304596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66"/>
                </a:solidFill>
                <a:latin typeface="Times New Roman"/>
              </a:rPr>
              <a:t>Se determina a part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66"/>
                </a:solidFill>
                <a:latin typeface="Times New Roman"/>
              </a:rPr>
              <a:t>de la distancia más 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66"/>
                </a:solidFill>
                <a:latin typeface="Times New Roman"/>
              </a:rPr>
              <a:t>BC  obtenida de l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66"/>
                </a:solidFill>
                <a:latin typeface="Times New Roman"/>
              </a:rPr>
              <a:t>teoría (M</a:t>
            </a:r>
            <a:r>
              <a:rPr b="0" lang="es-ES" sz="2400" spc="-1" strike="noStrike" baseline="-25000">
                <a:solidFill>
                  <a:srgbClr val="ffff66"/>
                </a:solidFill>
                <a:latin typeface="Times New Roman"/>
              </a:rPr>
              <a:t>bol</a:t>
            </a:r>
            <a:r>
              <a:rPr b="0" lang="es-ES" sz="2400" spc="-1" strike="noStrike">
                <a:solidFill>
                  <a:srgbClr val="ffff66"/>
                </a:solidFill>
                <a:latin typeface="Times New Roman"/>
              </a:rPr>
              <a:t> = M</a:t>
            </a:r>
            <a:r>
              <a:rPr b="0" lang="es-ES" sz="2400" spc="-1" strike="noStrike" baseline="-25000">
                <a:solidFill>
                  <a:srgbClr val="ffff66"/>
                </a:solidFill>
                <a:latin typeface="Times New Roman"/>
              </a:rPr>
              <a:t>B </a:t>
            </a:r>
            <a:r>
              <a:rPr b="0" lang="es-ES" sz="2400" spc="-1" strike="noStrike">
                <a:solidFill>
                  <a:srgbClr val="ffff66"/>
                </a:solidFill>
                <a:latin typeface="Times New Roman"/>
              </a:rPr>
              <a:t>– B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309800" y="3645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24800" y="4168800"/>
            <a:ext cx="228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66"/>
                </a:solidFill>
                <a:latin typeface="Times New Roman"/>
              </a:rPr>
              <a:t>Conoc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66"/>
                </a:solidFill>
                <a:latin typeface="Times New Roman"/>
              </a:rPr>
              <a:t>= 3,8 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× 10</a:t>
            </a:r>
            <a:r>
              <a:rPr b="0" lang="en-US" sz="2400" spc="-1" strike="noStrike" baseline="30000">
                <a:solidFill>
                  <a:srgbClr val="ffff66"/>
                </a:solidFill>
                <a:latin typeface="Times New Roman"/>
                <a:ea typeface="Times New Roman"/>
              </a:rPr>
              <a:t>33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 erg/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850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1620720" y="282600"/>
            <a:ext cx="116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Trífi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9850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1620720" y="282600"/>
            <a:ext cx="116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Trífi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0" y="9360"/>
            <a:ext cx="9144000" cy="684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08680" y="209520"/>
            <a:ext cx="819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Aunque ya definimos las magnitudes aparentes de las estrell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aún no hemos visto cuál es su brillo real ya que para ello tenem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que conocer su distanc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8440" y="1557360"/>
            <a:ext cx="5482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Para algunas estrellas, las más cercanas, 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puede determinar su distancia midiendo s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dddddd"/>
                </a:solidFill>
                <a:uFillTx/>
                <a:latin typeface="Times New Roman"/>
              </a:rPr>
              <a:t>paralaje trigonométric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6227640" y="1197000"/>
            <a:ext cx="2590920" cy="54738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97720" y="2944800"/>
            <a:ext cx="569448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Si p es el ángulo paraláctico y d la distancia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es-ES" sz="2800" spc="-1" strike="noStrike">
                <a:solidFill>
                  <a:srgbClr val="dddddd"/>
                </a:solidFill>
                <a:latin typeface="Times New Roman"/>
              </a:rPr>
              <a:t>tg 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p = 1 AU / d    pero como p es muy ch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(&lt; 1”) esto implica que </a:t>
            </a:r>
            <a:r>
              <a:rPr b="0" i="1" lang="es-ES" sz="2800" spc="-1" strike="noStrike">
                <a:solidFill>
                  <a:srgbClr val="dddddd"/>
                </a:solidFill>
                <a:latin typeface="Times New Roman"/>
              </a:rPr>
              <a:t>tg 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p 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≈ p en radia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69480" y="5013360"/>
            <a:ext cx="403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el-GR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π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radianes = (360 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× 60 × 60) 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1 radian = 206265 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978920" y="836640"/>
            <a:ext cx="4816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p (”) = 206265 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× 1 UA /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como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  1 pc = 206265 UA    entonces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p (”) = 1 / d (p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548720" y="263700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00360" y="3933720"/>
            <a:ext cx="7349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Un paralaje  p = 1”  corresponde a una distancia  d = 1 p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                    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p = 0.5”                                              d = 2 p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                    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p = 0.1”                                              d = 10 p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0320" y="981000"/>
            <a:ext cx="8504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Para poder comparar una estrella con otra habría que ponerl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a la misma distancia. Se eligió como la distancia estándar  d = 10 p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69200" y="2133720"/>
            <a:ext cx="855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Se define como </a:t>
            </a:r>
            <a:r>
              <a:rPr b="0" lang="es-ES" sz="2400" spc="-1" strike="noStrike" u="sng">
                <a:solidFill>
                  <a:srgbClr val="dddddd"/>
                </a:solidFill>
                <a:uFillTx/>
                <a:latin typeface="Times New Roman"/>
              </a:rPr>
              <a:t>Magnitud absoluta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 ( M ) de una estrella como la 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tendría si estuviera a una distancia de  10 p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14280" y="3213000"/>
            <a:ext cx="836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Si una estrella está justo a 10 pc de nosotros entonces su magnitu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aparente ( m ) sería igual a su magnitud absoluta ( M 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68920" y="4653000"/>
            <a:ext cx="85392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( Recuerden que  m</a:t>
            </a:r>
            <a:r>
              <a:rPr b="0" lang="es-ES" sz="24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 – m</a:t>
            </a:r>
            <a:r>
              <a:rPr b="0" lang="es-ES" sz="24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 = 2,5 log (b</a:t>
            </a:r>
            <a:r>
              <a:rPr b="0" lang="es-ES" sz="24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 / b</a:t>
            </a:r>
            <a:r>
              <a:rPr b="0" lang="es-ES" sz="24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 )  y que una diferencia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una magnitud corresponde a un factor 2.5 en brill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656280" y="230040"/>
            <a:ext cx="72932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dddddd"/>
                </a:solidFill>
                <a:latin typeface="Times New Roman"/>
              </a:rPr>
              <a:t>Ej 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: si una estrella está a 20 pc de nosotros y su magnitu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aparente m es +4 ¿ cuál es su magnitud absoluta M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4680" y="2781360"/>
            <a:ext cx="2639160" cy="12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m</a:t>
            </a:r>
            <a:r>
              <a:rPr b="0" lang="es-ES" sz="2400" spc="-1" strike="noStrike" baseline="-25000">
                <a:solidFill>
                  <a:srgbClr val="dddddd"/>
                </a:solidFill>
                <a:latin typeface="Times New Roman"/>
              </a:rPr>
              <a:t>1 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= +4      b</a:t>
            </a:r>
            <a:r>
              <a:rPr b="0" lang="es-ES" sz="24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 = b</a:t>
            </a:r>
            <a:r>
              <a:rPr b="0" lang="es-ES" sz="24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m</a:t>
            </a:r>
            <a:r>
              <a:rPr b="0" lang="es-ES" sz="2400" spc="-1" strike="noStrike" baseline="-25000">
                <a:solidFill>
                  <a:srgbClr val="dddddd"/>
                </a:solidFill>
                <a:latin typeface="Times New Roman"/>
              </a:rPr>
              <a:t>2 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= M       b</a:t>
            </a:r>
            <a:r>
              <a:rPr b="0" lang="es-ES" sz="24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 = 4 b</a:t>
            </a:r>
            <a:r>
              <a:rPr b="0" lang="es-ES" sz="24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6680" y="1433520"/>
            <a:ext cx="797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Si ponemos a la estrella a 10 pc estará 2 veces más ce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es decir se verá 4 veces más brillante (ley del cuadrado invers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61680" y="4168800"/>
            <a:ext cx="5072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M – 4 = 2.5 log (1/4) = 2.5 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× -0.6 = -1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Por lo tanto :  M = 4 – 1.5 = 2.4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239400" y="333360"/>
            <a:ext cx="8145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Del ejercicio anterior podemos obtener la siguiente relación pa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determinar la magnitud absoluta M de una estrella conociendo s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distancia d y su magnitud aparente  m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33640" y="1793880"/>
            <a:ext cx="3817080" cy="21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m</a:t>
            </a:r>
            <a:r>
              <a:rPr b="0" lang="es-ES" sz="24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= m       magnitud apar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m</a:t>
            </a:r>
            <a:r>
              <a:rPr b="0" lang="es-ES" sz="24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= M       magnitud absolu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d = distancia en parsecs (p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b</a:t>
            </a:r>
            <a:r>
              <a:rPr b="0" lang="es-ES" sz="24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= brillo a 10 p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b</a:t>
            </a:r>
            <a:r>
              <a:rPr b="0" lang="es-ES" sz="24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= brillo a distancia  d en pc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785120" y="1793880"/>
            <a:ext cx="31453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b</a:t>
            </a:r>
            <a:r>
              <a:rPr b="0" lang="es-ES" sz="24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 / b</a:t>
            </a:r>
            <a:r>
              <a:rPr b="0" lang="es-ES" sz="24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 = ( d(pc) / 10 pc)</a:t>
            </a:r>
            <a:r>
              <a:rPr b="0" lang="es-ES" sz="2400" spc="-1" strike="noStrike" baseline="30000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baseline="30000">
                <a:solidFill>
                  <a:srgbClr val="dddddd"/>
                </a:solidFill>
                <a:latin typeface="Times New Roman"/>
              </a:rPr>
              <a:t>(ley del cuadrado invers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437000" y="2997360"/>
            <a:ext cx="4346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log (b</a:t>
            </a:r>
            <a:r>
              <a:rPr b="0" lang="es-ES" sz="24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 / b</a:t>
            </a:r>
            <a:r>
              <a:rPr b="0" lang="es-ES" sz="24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) = 2 log (d(pc) / 10 p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71600" y="4149720"/>
            <a:ext cx="825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dddddd"/>
                </a:solidFill>
                <a:latin typeface="Times New Roman"/>
              </a:rPr>
              <a:t>m – M = 5 log (d / 10)        m – M = </a:t>
            </a:r>
            <a:r>
              <a:rPr b="0" lang="es-ES" sz="2800" spc="-1" strike="noStrike" u="sng">
                <a:solidFill>
                  <a:srgbClr val="dddddd"/>
                </a:solidFill>
                <a:uFillTx/>
                <a:latin typeface="Times New Roman"/>
              </a:rPr>
              <a:t>módulo de dista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401560" y="5343480"/>
            <a:ext cx="343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dddddd"/>
                </a:solidFill>
                <a:latin typeface="Times New Roman"/>
              </a:rPr>
              <a:t>d (pc) = 10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× 10</a:t>
            </a:r>
            <a:r>
              <a:rPr b="0" lang="en-US" sz="2800" spc="-1" strike="noStrike" baseline="30000">
                <a:solidFill>
                  <a:srgbClr val="dddddd"/>
                </a:solidFill>
                <a:latin typeface="Times New Roman"/>
                <a:ea typeface="Times New Roman"/>
              </a:rPr>
              <a:t>(m – M) / 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-1857240" y="1144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80360" y="414972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909080" y="530064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70280" y="260280"/>
            <a:ext cx="83019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Cuando se habla de una magnitud aparente o absoluta es necesa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indicar en que rango de longitud de onda se definió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Lo más común es determinar las magnitudes en diferentes filtros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U : ultravioleta (3700 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Å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B : azul (4400 Å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V : visual (5500 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Å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(R rojo, I infrarojo, …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419640" y="2781360"/>
            <a:ext cx="556236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411280" y="836640"/>
            <a:ext cx="401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dddddd"/>
                </a:solidFill>
                <a:latin typeface="Times New Roman"/>
              </a:rPr>
              <a:t>Paralajes Espectroscóp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248480" y="1989000"/>
            <a:ext cx="70174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Para aquellas estrellas a las que le podemos medir s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distancia con paralajes trigonométricos ( unas 8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estrellas aprox.), se les puede determinar su magnitu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absoluta M, ya que la magnitud aparente m se observ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Por otro lado, del espectro podemos clasificar c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estrella cuyo paralaje haya sido medido para así obte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una relación entre magnitud absoluta M y tipo espect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(temperatura). Esta relación es 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 “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Diagrama de Hertzprung – Russell” ( HR)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una de las herramientas mas útiles para estudia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las estrella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79280" y="0"/>
            <a:ext cx="446904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976320" y="3573360"/>
            <a:ext cx="1776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1c1c1c"/>
                </a:solidFill>
                <a:latin typeface="Times New Roman"/>
              </a:rPr>
              <a:t>Secuencia princip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530360" y="469908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1c1c1c"/>
                </a:solidFill>
                <a:latin typeface="Times New Roman"/>
              </a:rPr>
              <a:t>Enanas  blanc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197800" y="22766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1c1c1c"/>
                </a:solidFill>
                <a:latin typeface="Times New Roman"/>
              </a:rPr>
              <a:t>Gigan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685400" y="260280"/>
            <a:ext cx="4464720" cy="454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Con este diagrama podem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determinar la distancia a estrell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más lejanas cuyos paralaj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trigonométricos son demasi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pequeños para ser medid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Basta tener la magnitud apar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(observada) y su tipo espect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(también observado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Este método de medir distancias 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llama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s-ES" sz="2800" spc="-1" strike="noStrike" u="sng">
                <a:solidFill>
                  <a:srgbClr val="dddddd"/>
                </a:solidFill>
                <a:uFillTx/>
                <a:latin typeface="Times New Roman"/>
              </a:rPr>
              <a:t>paralajes espectroscóp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epartamento de Astronomia</cp:lastModifiedBy>
  <dcterms:modified xsi:type="dcterms:W3CDTF">2007-08-15T16:46:58Z</dcterms:modified>
  <cp:revision>65</cp:revision>
  <dc:subject/>
  <dc:title>PowerPoint Presentation</dc:title>
</cp:coreProperties>
</file>