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8FE-AA30-41A5-B4B2-0EFBF0F5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3D3-55BE-4C07-8A16-9D1DDF04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B4E0-0FF8-44C3-95B1-F15E06F4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D1CB-CDA4-4D80-BD8D-538719BF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B217-A6A1-447A-9E08-31F33848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348-99C7-46DA-9B5E-EEBE1732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1E7-7C0B-4997-BFDB-B03240EB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370-8693-4C02-A8C0-75AD72BC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136F-2AEA-4F5E-9893-08A57CBF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E9A-81AF-4F13-8F68-18DA030B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E3D-D853-4316-97D0-719DE9BE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A05-782D-402B-8327-769438A0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2B88-3717-4C3C-996F-63A6970DABA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51600" y="836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cccff"/>
                </a:solidFill>
                <a:latin typeface="Times New Roman"/>
              </a:rPr>
              <a:t>Formación del Sistema So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83272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1840" y="189000"/>
            <a:ext cx="82562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ás allá de la línea de congelación los planetes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aban hechos de compuestos de H (Metano, Amon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gua) que era muy abundante y así formaron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igantes, los cuales crecieron aún más atrayendo 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mpuestos de H y el He que estaba en estado gase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el Sistema Solar interno donde los planetas roc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no lo podían retener por ser muy pequeños. Con 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terial los planetas gigantes formaron sus prop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stemas “solares” con multiples satéli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viento del Sol joven disipó la mayor parte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ases y el material original del Sistema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os objetos en el cinturón de asteroides fueron afec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Júpiter y muy pocos sobrev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18400" y="446040"/>
            <a:ext cx="8062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os planetesimales que están en la nube de Oort vie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 las regiones entre los planetas gigantes y fuer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nzados a su posición presente por interacciones 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los. Por eso forman una nube esfé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os objetos del cinturón de Kuiper, como Plutón 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ás ordenados y giran en orbitas en la eclíptica. 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e debe a que se formaron más allá de Neptuno por 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que no sufren el efecto de los planetas gig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racias al impacto en la Tierra joven de planetes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formados más allá de la línea de congelación, es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hoy tenemos agua y una atmósfera (vid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308720" y="6381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87280" y="0"/>
          <a:ext cx="7129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7129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2400" y="-4752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Satélites naturales “raros”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" y="620640"/>
            <a:ext cx="87087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rte : Phobos y Deimos fueron capturados, composi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y densidad distinta a la de Ma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Júpiter : Grupos de pequeños satélites en orbitas elíp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inclinados, giran al revés. Captu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Neptuno : Tritón se parece a Plutón en composi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aptu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Tierra : Luna, se forma por un choque entre la Tierra, 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final de su formación, con un planetesimal de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mo la de Marte. La densidad de la Luna es me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que la de la Tierra y muy similar incluso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mposición a la corteza terres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8000" y="571680"/>
            <a:ext cx="518508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24720" cy="5589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67280" y="260280"/>
            <a:ext cx="80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mulación de la formación de la Luna por una col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11240" y="1844640"/>
            <a:ext cx="49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ddddd"/>
                </a:solidFill>
                <a:latin typeface="Times New Roman"/>
              </a:rPr>
              <a:t>Otros sistemas plane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584280"/>
            <a:ext cx="73152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800" y="549360"/>
            <a:ext cx="8431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En 1755 el filósofo alemán Immanuel Kant prop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que el Sistema solar se formó del colapso de una n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de material intereste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En 1795 el matemático francés Pierre Laplace prop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lo 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A comienzos del siglo XX la hipótesis de que los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se formaron por la colisión del Sol con otra estrella era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más pop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Hoy se reconoce que el escenario en que el origen está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una nube que colapsa ha sido validado al explicar muc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características del sistema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ddddd"/>
                </a:solidFill>
                <a:latin typeface="Times New Roman"/>
              </a:rPr>
              <a:t>Proto – Sistemas Plane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75040" cy="4616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495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048760" y="333360"/>
            <a:ext cx="48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LANETAS TERRES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60160" y="92880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GE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3344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55897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rra     Venus     Marte     Mercurio     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37680" y="333360"/>
            <a:ext cx="8226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l tamaño, la composición, la orbita, y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rotación de los planetas terrestres no h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ambiado en los últimos 4500 millones de año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u superficie y estructura interior sí cambia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SUPERFICIES PLANETARI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odas deben haber sido similares al comienz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s diferencias se produjeron después, debido a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erremotos, volcanismo, tectónica, impacto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gua, viento, erosión por hi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49120" y="285840"/>
            <a:ext cx="484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TRUCTURA I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11520" y="1365120"/>
            <a:ext cx="8617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NUCLEO: material más denso, princip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tales como Hierro y Níqu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NTO: material rocoso, compuesto de much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zclas minerales que conti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ilicio y Oxíg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RTEZA: roca de menor densidad como Grani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y Basal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80320" y="326880"/>
            <a:ext cx="760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Hoy  el núcleo de la Tierra y Venus aún t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una región interna muy densa y sólida deb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 la alta presión y una región externa líqu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400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19120" y="42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2840" y="0"/>
            <a:ext cx="8486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odos los planetas tienen un gradiente de den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reciendo hacia el centro, esto sugiere que t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fueron líquidos en un comienzo para que así 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haya producido la diferenci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7128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2680" y="333360"/>
            <a:ext cx="8279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ás importante que la densidad del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 la dureza de éste, la cual depende de s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mposición, temperatura y pre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e define la Litósfera como la capa de roca ríg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que flota sobre el material más deform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n el caso de la Tierra y Venus la Litósfera 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uy delgada, comparada con la de otros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o cuál influye en su actividad tectó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112000" cy="5618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65640" y="158760"/>
            <a:ext cx="82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y punto en que se funde la roca en la 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363600" y="0"/>
            <a:ext cx="89697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l calor en el interior de los planetas se debe a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alor generado por acreción de planetesi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(Energía cinética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→ ca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) Calor debido a la diferenci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Energía potencial → ca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) Decaimiento radioactivo  (masa → energí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os planetas pequeños se demoran menos 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nfriarse ya que la razón entre su superficie y 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olumen es mayor  que para el caso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ás grand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92120" y="333360"/>
            <a:ext cx="82137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 principal conección entre la 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geológica y la estructura interna es la conv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de rocas sólidas en el man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ípicamente toma unos 100 millones de añ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ara que una roca se desplace desde la base 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nto terrestre hasta la superficie de 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n la litósfera no hay convección por que 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uy rígida. A medida que el manto se enfría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itósfera se hace mas gru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rcurio y la Luna (y posiblemente Marte)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ienen convección en el manto, y litósferas mu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gruesas que se extienden casi hasta el núcle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89800" y="765000"/>
            <a:ext cx="6843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Una buena teoría de la forma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lar debe ser capaz de explicar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aracterísticas de ést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•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os movimientos orde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•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os dos tipos de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•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a existencia de asteroides y co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•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as excepciones (eje de Urano, Luna, Trit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781200"/>
            <a:ext cx="76197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08000" y="333360"/>
            <a:ext cx="462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AMPOS MAGNE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468360" y="981000"/>
            <a:ext cx="94557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e producen por el movimiento de electr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n el núcleo metálico del planeta, un mecan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imilar a un electro-magne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Requisitos para que exista un campo magnét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una región interna de fluido eléctrica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nductor (líquido ó g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2) convección en esa capa de flu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3) ro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 Tierra es la única que cumple las 3 condi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73920" y="0"/>
            <a:ext cx="779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 Luna no tiene campo magnético, el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rte es casi 0 y Venus también (períod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rotación de 243 días), Mercurio si tiene ca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¿por qué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7620120" cy="3289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3280" y="5516640"/>
            <a:ext cx="815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 magnetósfera terrestre actúa como un escu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rotector para la atmósfera y la vida en la Tier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4560" y="158760"/>
            <a:ext cx="432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nube original es grande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ota muy len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89400" y="1413000"/>
            <a:ext cx="459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conservación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nube se calienta al colap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conservación del mo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ngular rota más ráp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83640" y="3645000"/>
            <a:ext cx="404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lisiones entre partíc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planan la nu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0720" y="4797360"/>
            <a:ext cx="458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resultado es un disco con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yor parte de la masa en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entro donde la temperat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también es más al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619760" cy="568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89280" y="1073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N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04920" y="3449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V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77280" y="33051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Mu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71320" y="0"/>
            <a:ext cx="47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Formación de los ele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2880" y="260280"/>
            <a:ext cx="87991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nube inicial estaba compuesta de 98% H + 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y sólo 2% de otros ele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este escenario un parámetro que es crucial es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istancia al Sol a la que los compuestos de H se conge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(150 K), se llama la </a:t>
            </a:r>
            <a:r>
              <a:rPr b="0" lang="es-MX" sz="2800" spc="-1" strike="noStrike" u="sng">
                <a:solidFill>
                  <a:srgbClr val="dddddd"/>
                </a:solidFill>
                <a:uFillTx/>
                <a:latin typeface="Times New Roman"/>
              </a:rPr>
              <a:t>línea de congelación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. Para el Sist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lar esta línea está entre Marte y Júpi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el interior de la línea de congelación lo único que form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ólidos fue el material rocoso y los minerales que en total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ran más que el 2% del todo lo que había. Las partícula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inerales primero se adherían por fuerzas electrostátic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uego crecían por gravedad y colisiones (planetesimal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bido a que la materia prima disponible era poca (&lt; 2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e formaron planetas peque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3640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4200" y="0"/>
            <a:ext cx="68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mulación de formación de planetas interi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0120" y="981000"/>
            <a:ext cx="748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a simulación parte con 100 planetesimales, en 30 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e años hay 22 protoplanetas, después de 150 mill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años se forman los 4 planetas in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9-06T13:22:07Z</dcterms:modified>
  <cp:revision>58</cp:revision>
  <dc:subject/>
  <dc:title>PowerPoint Presentation</dc:title>
</cp:coreProperties>
</file>