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061-BA91-4C24-8B08-5A057930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DA6-3AF9-4CA4-BD80-881AEEB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FAB-C713-42B9-B111-E8DEDC61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DDA-2476-4EE2-8F38-15D9F3B5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877-45B3-4FE0-84B7-F7DBAB8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DC2-50A5-4469-9820-FEF1BB7B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36B-F118-4586-8EFB-6C5796AB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68C-E7C0-4D36-BFD1-25135B6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407-C2B0-4D93-B05A-A96CAEC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685-CBD0-4935-B8E0-C5911577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9AC-CB43-452B-B1AD-3B346D5F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6BC-6271-4396-AB58-8463BEB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F6B-AF55-43CE-A8BC-F774FEF370C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160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ccff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1840" y="189000"/>
            <a:ext cx="8256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400" y="446040"/>
            <a:ext cx="80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0" y="-4752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620640"/>
            <a:ext cx="8708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7280" y="260280"/>
            <a:ext cx="80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11240" y="184464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0" y="549360"/>
            <a:ext cx="8431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Proto –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48760" y="33336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ANET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0160" y="9288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GE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5589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rra     Venus     Marte     Mercurio     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7680" y="333360"/>
            <a:ext cx="822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tamaño, la composición, la orbita, y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los planetas terrestres no 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biado en los últimos 4500 millones de añ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u superficie y estructura interior sí cambia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PERFICIES PLANET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as deben haber sido similares al comienz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s diferencias se produjeron después, debido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erremotos, volcanismo, tectónica, impact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gua, viento, erosión por hi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9120" y="285840"/>
            <a:ext cx="48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TRUCTURA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1520" y="1365120"/>
            <a:ext cx="861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UCLEO: material más denso, princip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tales como Hierro y Níqu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: material rocoso, compuesto de muc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zclas minerales que cont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licio y Oxí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RTEZA: roca de menor densidad como Gran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y Bas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0320" y="326880"/>
            <a:ext cx="760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oy  el núcleo de la Tierra y Venus aún 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muy densa y sólida de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 la alta presión y una región externa líq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912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2840" y="0"/>
            <a:ext cx="848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os los planetas tienen un gradiente de 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reciendo hacia el centro, esto sugiere que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fueron líquidos en un comienzo para que así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aya producido la diferenc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128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2680" y="333360"/>
            <a:ext cx="827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ás importante que la densidad del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la dureza de éste, la cual depende de s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posición, temperatura y p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define la Litósfera como la capa de roca rí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que flota sobre el material más deform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caso de la Tierra y Venus la Litósfer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delgada, comparada con la de 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o cuál influye en su actividad tect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12000" cy="561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640" y="1587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y punto en que se funde la roca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63600" y="0"/>
            <a:ext cx="8969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calor en el interior de los planetas se debe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lor generado por acreción de planetes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Energía cinética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) Calor debido a la diferenci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Energía potencial 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) Decaimiento radioactivo  (masa → energ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os planetas pequeños se demoran menos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friarse ya que la razón entre su superficie y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olumen es mayor  que para el caso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ás gran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2120" y="333360"/>
            <a:ext cx="821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principal conección entre la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eológica y la estructura interna es la conv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 rocas sólidas en el ma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ípicamente toma unos 100 millones de añ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ara que una roca se desplace desde la base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 terrestre hasta la superficie de 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la litósfera no hay convección por que 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rígida. A medida que el manto se enfrí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itósfera se hace mas gru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 y la Luna (y posiblemente Marte)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nen convección en el manto, y litósferas mu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ruesas que se extienden casi hasta el núcle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9800" y="765000"/>
            <a:ext cx="68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uena teoría de la forma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debe ser capaz de explic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racterísticas de és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333360"/>
            <a:ext cx="46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POS MAGNE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468360" y="981000"/>
            <a:ext cx="945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producen por el movimiento de electr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núcleo metálico del planeta, un mecan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milar a un electro-magn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equisitos para que exista un campo magnét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de fluido eléctr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nductor (líquido ó g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2) convección en esa capa de flu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3) r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Tierra es la única que cumple las 3 condi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3920" y="0"/>
            <a:ext cx="779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Luna no tiene campo magnético, el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 es casi 0 y Venus también (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243 días), Mercurio si tiene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620120" cy="328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3280" y="551664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magnetósfera terrestre actúa como un esc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tector para la atmósfera y la vida en la Tier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4560" y="158760"/>
            <a:ext cx="43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89400" y="1413000"/>
            <a:ext cx="459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3640" y="364500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720" y="4797360"/>
            <a:ext cx="458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1320" y="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880" y="260280"/>
            <a:ext cx="8799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(150 K), se llama la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línea de congela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4200" y="0"/>
            <a:ext cx="68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0120" y="9810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simulación parte con 100 planetesimales, en 3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años hay 22 protoplanetas, después de 150 mill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ños se forman los 4 planetas i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9-06T13:22:07Z</dcterms:modified>
  <cp:revision>58</cp:revision>
  <dc:subject/>
  <dc:title>PowerPoint Presentation</dc:title>
</cp:coreProperties>
</file>