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8.png" ContentType="image/png"/>
  <Override PartName="/ppt/media/image14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CF3C-DE6D-42DD-9146-084B68DAD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396D-365F-47E5-83E0-861105496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B293-79AE-4C61-AC26-93FB5B24E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CDD2-4A48-402D-A191-BA662EE75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7753-B6F9-4FAF-8F4F-A873076E5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55BB-E6FE-419D-8A58-25E1E64D3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67B3-E0DA-4E2C-916F-BD67D90F1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5AF1-94DD-4168-AB3C-54C9A6D77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3903-6595-47BA-9650-7A6337585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58FB-415E-40FF-9D43-B9A30EC34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7E44-C9A5-441E-8899-02436E48D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D342-1426-4568-B658-89FB8EB1C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1CA31-0E29-453A-B170-B51DD08C8013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51600" y="836640"/>
            <a:ext cx="54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ccccff"/>
                </a:solidFill>
                <a:latin typeface="Times New Roman"/>
              </a:rPr>
              <a:t>Formación del Sistema Sol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763640" y="2205000"/>
            <a:ext cx="5832720" cy="30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21840" y="189000"/>
            <a:ext cx="825624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Más allá de la línea de congelación los planetesim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estaban hechos de compuestos de H (Metano, Amonia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agua) que era muy abundante y así formaron plane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gigantes, los cuales crecieron aún más atrayendo l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compuestos de H y el He que estaba en estado gaseo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en el Sistema Solar interno donde los planetas roco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no lo podían retener por ser muy pequeños. Con es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material los planetas gigantes formaron sus propi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sistemas “solares” con multiples satéli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El viento del Sol joven disipó la mayor parte de l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gases y el material original del Sistema Sol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Los objetos en el cinturón de asteroides fueron afect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por Júpiter y muy pocos sobreviv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518400" y="446040"/>
            <a:ext cx="80629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Los planetesimales que están en la nube de Oort vien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de las regiones entre los planetas gigantes y fuer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lanzados a su posición presente por interacciones c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ellos. Por eso forman una nube esféri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Los objetos del cinturón de Kuiper, como Plutón 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más ordenados y giran en orbitas en la eclíptica. Es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se debe a que se formaron más allá de Neptuno por 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que no sufren el efecto de los planetas gigan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Gracias al impacto en la Tierra joven de planetesim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formados más allá de la línea de congelación, es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hoy tenemos agua y una atmósfera (vida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7308720" y="6381720"/>
            <a:ext cx="7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ho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1187280" y="0"/>
          <a:ext cx="71298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0"/>
                    <a:ext cx="71298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752400" y="-47520"/>
            <a:ext cx="462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Satélites naturales “raros”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240" y="620640"/>
            <a:ext cx="870876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Marte : Phobos y Deimos fueron capturados, composició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             </a:t>
            </a: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y densidad distinta a la de Mar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Júpiter : Grupos de pequeños satélites en orbitas elípt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                </a:t>
            </a: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inclinados, giran al revés. Captura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Neptuno : Tritón se parece a Plutón en composició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                  </a:t>
            </a: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Captur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Tierra : Luna, se forma por un choque entre la Tierra, 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              </a:t>
            </a: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final de su formación, con un planetesimal de ma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             </a:t>
            </a: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como la de Marte. La densidad de la Luna es men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             </a:t>
            </a: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que la de la Tierra y muy similar incluso 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             </a:t>
            </a: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composición a la corteza terrest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908000" y="571680"/>
            <a:ext cx="5185080" cy="59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187280" y="981000"/>
            <a:ext cx="6624720" cy="55897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467280" y="260280"/>
            <a:ext cx="808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Simulación de la formación de la Luna por una colis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911240" y="1844640"/>
            <a:ext cx="497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dddddd"/>
                </a:solidFill>
                <a:latin typeface="Times New Roman"/>
              </a:rPr>
              <a:t>Otros sistemas planetari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258920" y="0"/>
            <a:ext cx="6985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914400" y="584280"/>
            <a:ext cx="731520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-1800" y="549360"/>
            <a:ext cx="843156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ccccff"/>
                </a:solidFill>
                <a:latin typeface="Times New Roman"/>
              </a:rPr>
              <a:t>En 1755 el filósofo alemán Immanuel Kant propu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ccccff"/>
                </a:solidFill>
                <a:latin typeface="Times New Roman"/>
              </a:rPr>
              <a:t>que el Sistema solar se formó del colapso de una nu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ccccff"/>
                </a:solidFill>
                <a:latin typeface="Times New Roman"/>
              </a:rPr>
              <a:t>de material interestel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ccccff"/>
                </a:solidFill>
                <a:latin typeface="Times New Roman"/>
              </a:rPr>
              <a:t>En 1795 el matemático francés Pierre Laplace propu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ccccff"/>
                </a:solidFill>
                <a:latin typeface="Times New Roman"/>
              </a:rPr>
              <a:t>lo mism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ccccff"/>
                </a:solidFill>
                <a:latin typeface="Times New Roman"/>
              </a:rPr>
              <a:t>A comienzos del siglo XX la hipótesis de que los plane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ccccff"/>
                </a:solidFill>
                <a:latin typeface="Times New Roman"/>
              </a:rPr>
              <a:t>se formaron por la colisión del Sol con otra estrella era 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ccccff"/>
                </a:solidFill>
                <a:latin typeface="Times New Roman"/>
              </a:rPr>
              <a:t>más popul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ccccff"/>
                </a:solidFill>
                <a:latin typeface="Times New Roman"/>
              </a:rPr>
              <a:t>Hoy se reconoce que el escenario en que el origen está 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ccccff"/>
                </a:solidFill>
                <a:latin typeface="Times New Roman"/>
              </a:rPr>
              <a:t>una nube que colapsa ha sido validado al explicar much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ccccff"/>
                </a:solidFill>
                <a:latin typeface="Times New Roman"/>
              </a:rPr>
              <a:t>características del sistema sol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dddddd"/>
                </a:solidFill>
                <a:latin typeface="Times New Roman"/>
              </a:rPr>
              <a:t>Proto – Sistemas Planetari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3875040" cy="46166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4427640" y="1989000"/>
            <a:ext cx="4495680" cy="46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048760" y="333360"/>
            <a:ext cx="486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PLANETAS TERREST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260160" y="928800"/>
            <a:ext cx="175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GEOLOG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332000" y="1700280"/>
            <a:ext cx="6480000" cy="33447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971640" y="5589720"/>
            <a:ext cx="73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Tierra     Venus     Marte     Mercurio      Lu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37680" y="333360"/>
            <a:ext cx="82260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El tamaño, la composición, la orbita, y l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rotación de los planetas terrestres no h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cambiado en los últimos 4500 millones de años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Su superficie y estructura interior sí cambiar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 u="sng">
                <a:solidFill>
                  <a:srgbClr val="eaeaea"/>
                </a:solidFill>
                <a:uFillTx/>
                <a:latin typeface="Times New Roman"/>
              </a:rPr>
              <a:t>SUPERFICIES PLANETARIAS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Todas deben haber sido similares al comienzo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las diferencias se produjeron después, debido a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terremotos, volcanismo, tectónica, impactos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agua, viento, erosión por hiel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049120" y="285840"/>
            <a:ext cx="484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ESTRUCTURA INTERI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-11520" y="1365120"/>
            <a:ext cx="86176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NUCLEO: material más denso, principalm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                  </a:t>
            </a: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metales como Hierro y Níque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MANTO: material rocoso, compuesto de much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                 </a:t>
            </a: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mezclas minerales que contien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                 </a:t>
            </a: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Silicio y Oxígen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CORTEZA: roca de menor densidad como Granit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                     </a:t>
            </a: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y Basal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580320" y="326880"/>
            <a:ext cx="7604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Hoy  el núcleo de la Tierra y Venus aún tie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una región interna muy densa y sólida debi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a la alta presión y una región externa líquid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979640" y="2205000"/>
            <a:ext cx="540072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519120" y="425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32840" y="0"/>
            <a:ext cx="8486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Todos los planetas tienen un gradiente de dens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creciendo hacia el centro, esto sugiere que to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fueron líquidos en un comienzo para que así s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haya producido la diferenci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900000" y="2421000"/>
            <a:ext cx="712800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82680" y="333360"/>
            <a:ext cx="82792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Más importante que la densidad del mater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es la dureza de éste, la cual depende de su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composición, temperatura y pres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Se define la Litósfera como la capa de roca rígi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que flota sobre el material más deform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En el caso de la Tierra y Venus la Litósfera 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muy delgada, comparada con la de otros plane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lo cuál influye en su actividad tectónic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908000" y="907920"/>
            <a:ext cx="5112000" cy="56181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665640" y="158760"/>
            <a:ext cx="823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Temperatura y punto en que se funde la roca en la Tier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-363600" y="0"/>
            <a:ext cx="896976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El calor en el interior de los planetas se debe a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eaeaea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Calor generado por acreción de planetesim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(Energía cinética </a:t>
            </a:r>
            <a:r>
              <a:rPr b="0" lang="es-MX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→ calo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2) Calor debido a la diferenciació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   </a:t>
            </a:r>
            <a:r>
              <a:rPr b="0" lang="es-MX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(Energía potencial → calo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3) Decaimiento radioactivo  (masa → energí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Los planetas pequeños se demoran menos 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enfriarse ya que la razón entre su superficie y s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volumen es mayor  que para el caso de plane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más grand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92120" y="333360"/>
            <a:ext cx="821376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La principal conección entre la activ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geológica y la estructura interna es la convec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de rocas sólidas en el mant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Típicamente toma unos 100 millones de añ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para que una roca se desplace desde la base 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manto terrestre hasta la superficie de es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En la litósfera no hay convección por que 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muy rígida. A medida que el manto se enfría l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litósfera se hace mas grues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Mercurio y la Luna (y posiblemente Marte) 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tienen convección en el manto, y litósferas mu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gruesas que se extienden casi hasta el núcle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189800" y="765000"/>
            <a:ext cx="68436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Una buena teoría de la formación del Sist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Solar debe ser capaz de explicar l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características de éste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• </a:t>
            </a:r>
            <a:r>
              <a:rPr b="0" lang="es-MX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Los movimientos orden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• </a:t>
            </a:r>
            <a:r>
              <a:rPr b="0" lang="es-MX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Los dos tipos de plane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• </a:t>
            </a:r>
            <a:r>
              <a:rPr b="0" lang="es-MX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La existencia de asteroides y come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• </a:t>
            </a:r>
            <a:r>
              <a:rPr b="0" lang="es-MX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Las excepciones (eje de Urano, Luna, Tritó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762120" y="781200"/>
            <a:ext cx="7619760" cy="52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908000" y="333360"/>
            <a:ext cx="462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CAMPOS MAGNET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-468360" y="981000"/>
            <a:ext cx="945576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Se producen por el movimiento de electr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en el núcleo metálico del planeta, un mecanis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similar a un electro-magne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Requisitos para que exista un campo magnétic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eaeaea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una región interna de fluido eléctricam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conductor (líquido ó ga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2) convección en esa capa de flui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3) ro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La Tierra es la única que cumple las 3 condicio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73920" y="0"/>
            <a:ext cx="7793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La Luna no tiene campo magnético, el 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Marte es casi 0 y Venus también (período 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rotación de 243 días), Mercurio si tiene camp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¿por qué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900000" y="2205000"/>
            <a:ext cx="7620120" cy="32893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23280" y="5516640"/>
            <a:ext cx="815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La magnetósfera terrestre actúa como un escu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protector para la atmósfera y la vida en la Tierr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03236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264560" y="158760"/>
            <a:ext cx="4326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La nube original es grande 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rota muy lentam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289400" y="1413000"/>
            <a:ext cx="4594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Por conservación de la energ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la nube se calienta al colaps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Por conservación del mom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angular rota más rápi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283640" y="3645000"/>
            <a:ext cx="404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Colisiones entre partícul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aplanan la nub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320720" y="4797360"/>
            <a:ext cx="4580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El resultado es un disco con 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mayor parte de la masa en s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centro donde la temperatu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también es más al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7619760" cy="56894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689280" y="107316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N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704920" y="34495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V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77280" y="330516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Mu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71320" y="0"/>
            <a:ext cx="476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Formación de los elemen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-2880" y="260280"/>
            <a:ext cx="8799120" cy="73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La nube inicial estaba compuesta de 98% H + 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y sólo 2% de otros elemen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En este escenario un parámetro que es crucial es 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distancia al Sol a la que los compuestos de H se conge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(150 K), se llama la </a:t>
            </a:r>
            <a:r>
              <a:rPr b="0" lang="es-MX" sz="2800" spc="-1" strike="noStrike" u="sng">
                <a:solidFill>
                  <a:srgbClr val="dddddd"/>
                </a:solidFill>
                <a:uFillTx/>
                <a:latin typeface="Times New Roman"/>
              </a:rPr>
              <a:t>línea de congelación</a:t>
            </a: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. Para el Sistem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Solar esta línea está entre Marte y Júpi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En el interior de la línea de congelación lo único que form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sólidos fue el material rocoso y los minerales que en total 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eran más que el 2% del todo lo que había. Las partícula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minerales primero se adherían por fuerzas electrostática 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luego crecían por gravedad y colisiones (planetesimale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Debido a que la materia prima disponible era poca (&lt; 2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se formaron planetas pequeñ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755640" y="0"/>
            <a:ext cx="7848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2349360"/>
            <a:ext cx="9144000" cy="36403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754200" y="0"/>
            <a:ext cx="688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Simulación de formación de planetas interi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0120" y="981000"/>
            <a:ext cx="7483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ddddd"/>
                </a:solidFill>
                <a:latin typeface="Times New Roman"/>
              </a:rPr>
              <a:t>La simulación parte con 100 planetesimales, en 30 mill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ddddd"/>
                </a:solidFill>
                <a:latin typeface="Times New Roman"/>
              </a:rPr>
              <a:t>de años hay 22 protoplanetas, después de 150 millones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ddddd"/>
                </a:solidFill>
                <a:latin typeface="Times New Roman"/>
              </a:rPr>
              <a:t>años se forman los 4 planetas interi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182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684360" y="6021360"/>
            <a:ext cx="793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Límite de formación de planetas rocosos y gaseo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236960" y="326880"/>
            <a:ext cx="41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Formación de plane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epartamento de Astronomia</cp:lastModifiedBy>
  <dcterms:modified xsi:type="dcterms:W3CDTF">2007-09-06T13:22:07Z</dcterms:modified>
  <cp:revision>58</cp:revision>
  <dc:subject/>
  <dc:title>PowerPoint Presentation</dc:title>
</cp:coreProperties>
</file>