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C73-A7D2-4193-95EE-39836F82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4B8-1FFA-41F8-9D32-67B828C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63E-5976-44E3-99B7-958F9D5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E70-4BE4-475E-BE0A-1090C3C7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FF5-0E3D-41F7-AE7B-D4BCED9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5F7-F35D-475C-9D2B-426D5F85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760-1EC6-4ECF-8A10-EC621F41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63B-5C0E-40FE-B1D4-AB55E46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2FD-F0AB-46B0-96A0-B8F3B347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496-1F1D-4F0C-89AC-780F99C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F58-6B98-4293-B86A-894355A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3C1-FD80-45F4-8859-A1F1585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EC5-63C7-4A9B-B9D7-37C31D6AC2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1600" y="83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ccff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40" y="189000"/>
            <a:ext cx="8256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400" y="446040"/>
            <a:ext cx="8062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0" y="-475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620640"/>
            <a:ext cx="8708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7280" y="260280"/>
            <a:ext cx="80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11240" y="1844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0" y="549360"/>
            <a:ext cx="8431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ccff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ddddd"/>
                </a:solidFill>
                <a:latin typeface="Times New Roman"/>
              </a:rPr>
              <a:t>Proto –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4876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LANET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0160" y="92880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G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ierra     Venus     Marte     Mercurio     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37680" y="333360"/>
            <a:ext cx="822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tamaño, la composición, la orbita, y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los planetas terrestres no 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biado en los últimos 4500 millones de añ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u superficie y estructura interior sí cambia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eaeaea"/>
                </a:solidFill>
                <a:uFillTx/>
                <a:latin typeface="Times New Roman"/>
              </a:rPr>
              <a:t>SUPERFICIES PLANET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as deben haber sido similares al comienz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s diferencias se produjeron después, debido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erremotos, volcanismo, tectónica, impact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gua, viento, erosión por hi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9120" y="285840"/>
            <a:ext cx="48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TRUCTURA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1520" y="1365120"/>
            <a:ext cx="861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NUCLEO: material más denso, princip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tales como Hierro y Níqu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: material rocoso, compuesto de much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zclas minerales que cont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licio y Oxí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RTEZA: roca de menor densidad como Gran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y Bas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80320" y="326880"/>
            <a:ext cx="760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oy  el núcleo de la Tierra y Venus aún t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muy densa y sólida de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a la alta presión y una región externa líqu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19120" y="42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2840" y="0"/>
            <a:ext cx="848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odos los planetas tienen un gradiente de d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eciendo hacia el centro, esto sugiere que 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fueron líquidos en un comienzo para que así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haya producido la diferen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128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333360"/>
            <a:ext cx="827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ás importante que la densidad del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s la dureza de éste, la cual depende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mposición, temperatura y p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define la Litósfera como la capa de roca rí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que flota sobre el material más deform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caso de la Tierra y Venus la Litósfera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delgada, comparada con la de 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o cuál influye en su actividad tectó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12000" cy="561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5640" y="158760"/>
            <a:ext cx="82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Temperatura y punto en que se funde la roca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363600" y="0"/>
            <a:ext cx="8969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l calor en el interior de los planetas se debe 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lor generado por acreción de planetes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(Energía cinética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) Calor debido a la difere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Energía potencial → cal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 Decaimiento radioactivo  (masa → energ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s planetas pequeños se demoran menos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friarse ya que la razón entre su superficie y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olumen es mayor  que para el caso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ás grand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2120" y="333360"/>
            <a:ext cx="821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principal conección entre la 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eológica y la estructura interna es la conv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de rocas sólidas en el ma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ípicamente toma unos 100 millones de añ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ara que una roca se desplace desde la base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nto terrestre hasta la superficie de 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la litósfera no hay convección por que 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uy rígida. A medida que el manto se enfrí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itósfera se hace mas gru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ercurio y la Luna (y posiblemente Marte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tienen convección en el manto, y litósferas mu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gruesas que se extienden casi hasta el núcle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9800" y="765000"/>
            <a:ext cx="684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uena teoría de la forma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debe ser capaz de explic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racterísticas de ést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•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8000" y="333360"/>
            <a:ext cx="46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AMPOS MAGNE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468360" y="981000"/>
            <a:ext cx="945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e producen por el movimiento de electr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en el núcleo metálico del planeta, un mecan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milar a un electro-magne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equisitos para que exista un campo magnét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una región interna de fluido eléctr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onductor (líquido ó g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2) convección en esa capa de flu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3) ro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Tierra es la única que cumple las 3 condi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3920" y="0"/>
            <a:ext cx="779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Luna no tiene campo magnético, el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Marte es casi 0 y Venus también (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rotación de 243 días), Mercurio si tiene ca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¿por qué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620120" cy="328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3280" y="5516640"/>
            <a:ext cx="81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La magnetósfera terrestre actúa como un esc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tector para la atmósfera y la vida en la Tier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4560" y="158760"/>
            <a:ext cx="432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89400" y="1413000"/>
            <a:ext cx="459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3640" y="364500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720" y="4797360"/>
            <a:ext cx="458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1320" y="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880" y="260280"/>
            <a:ext cx="8799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(150 K), se llama la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línea de congela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4200" y="0"/>
            <a:ext cx="68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0120" y="981000"/>
            <a:ext cx="74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simulación parte con 100 planetesimales, en 3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años hay 22 protoplanetas, después de 150 mill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ños se forman los 4 planetas i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9-06T13:22:07Z</dcterms:modified>
  <cp:revision>58</cp:revision>
  <dc:subject/>
  <dc:title>PowerPoint Presentation</dc:title>
</cp:coreProperties>
</file>