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3BC-14A5-481C-8411-355B1D6D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D0A-2190-4F34-841A-15AAA7FE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F6E-C4B5-4EAD-A786-BE70BA90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82A-5F7B-44EB-B7CF-1FD57DF3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AB8-2061-43E5-9EBE-5191A8DD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D28-D291-4A0A-98E9-5BB5245C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4FD-59B0-4937-B429-B0B9BC67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E37-5762-4D39-B19E-78F1B222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782-374D-4DFD-BCB3-9962A8D7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0F0-D686-4D7E-9764-07A014D9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A76-66F7-4035-B6CE-C8C4C490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D7C-A432-4FAA-B745-A8F74135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082E-B404-4A45-B484-7501937D665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18760" y="38160"/>
            <a:ext cx="24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7280" y="4960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u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94360" y="3952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ept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1280" y="3952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U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6560" y="38098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Jú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6200" y="3952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Satu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03840" y="114444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08560" y="10018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1640" y="1360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907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8651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00720" y="-1279440"/>
            <a:ext cx="2736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708360" cy="3841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11640" y="765000"/>
            <a:ext cx="4659480" cy="2818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648320" y="4311720"/>
            <a:ext cx="3809880" cy="2212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9280" y="1587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49120" y="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isión artística basada en datos de rad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omadas por la sonda Magallanes (N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1280" y="371628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Foto tomada por Ve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96 %  CO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, 3.5 %  N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90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470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entos, lluvia ácida, nubes de ácido sulfú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fecto invernad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8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91480" y="22971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8400" y="244152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infrarro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31280" y="5877000"/>
            <a:ext cx="36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uperficie absorbe la luz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transforma en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3672000" cy="6310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348000" y="134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53480" y="1268280"/>
            <a:ext cx="4232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istancia : 1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orbital :  1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ecuatorial : 6378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de rotación : 23.93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Inclinación del eje : 23.5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1 mas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ensidad : 5.52 gr/cm</a:t>
            </a:r>
            <a:r>
              <a:rPr b="0" lang="es-MX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locidad de escape : 11.2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sup. : 29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omposición : roca y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1 luna ( la Lu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o tiene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Inclinación del eje de la 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840360" cy="5732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516720" y="3716280"/>
            <a:ext cx="232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o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661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45280" y="13143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Times New Roman"/>
              </a:rPr>
              <a:t>Rayos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6036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Rayos-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69800" y="105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98000" y="1050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24920" y="2730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Term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96200" y="38098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Estrat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25440" y="5805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op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6085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la 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203328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77 % nitró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21 % oxí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1 % arg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1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5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entos, huracanes, nubes de agua, pol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istema Tierra L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0770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la L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1916280"/>
            <a:ext cx="5435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lio, sodio, arg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10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-14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25 C (día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-175 (noc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No hay vientos ni n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20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3348000" cy="6165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19640" y="1628640"/>
            <a:ext cx="572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1.52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: 1.8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3397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24.6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25.2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 : 0.11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3.93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5.03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24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rocas y me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05800" cy="5472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8360" y="0"/>
            <a:ext cx="70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Foto tomada por satélite TRACE (NASA)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ercurio transitando en frente del Sol (luz UV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427640" cy="446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643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atélites de 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241520" cy="4248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103640" cy="424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6560" y="152568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0200" y="152568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Fob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: 95% dióxido de carbono (CO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2.7 % nitrógeno (N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1.6 % arg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0.007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-50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entos, tormentas de polvo, nubes de agua , dióxido de carbono y pol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99640" y="333000"/>
            <a:ext cx="738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Los planetas con mayor diámetro demo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ás en enfriarse ya que la razón volu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superficie es may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A mayor superficie radiante el planeta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nfría más ráp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 los planetas rocosos la Tierra y Venus a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n un núcleo líquido y cal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inturón de Astero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40000" y="1341360"/>
            <a:ext cx="5003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entre 2 y 3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promedio : aprox. 5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de 1 a 3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7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rocas y mi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Algunos tienen lunas p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no tienen ani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3743280" cy="3600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33800" y="155736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Júpiter (visto desde 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41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Jú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764640"/>
            <a:ext cx="7772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11.9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71492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9.93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5.20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: 3.1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 : 318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1.33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59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2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61 lunas y tiene anillos (Io, Europ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Ganymede y Callis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atu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atu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9.54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29.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6026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10.6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26.7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: 95.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0.70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35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9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31 lunas y varios anillos (Titán más grand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ercurio y tiene atmósf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11120" y="8568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Movimien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558720"/>
            <a:ext cx="856908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3516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67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19.2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83.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25559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17.2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97.9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: 14.5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1.32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21.3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metano (CH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, amoníaco (NH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21 lunas y también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Nept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1981080"/>
            <a:ext cx="8642160" cy="4543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08920" y="123840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sta desde Trit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Nept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30.1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16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24764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16.1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28.8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 : 17.1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1.64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23.6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metano, amoní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11 lunas y también tiene anillos (Tritón más grande que Plutón, tiene geysers de N, rota al rev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( ex planeta : Plutón y Char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39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lut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24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116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39.5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6.38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119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: 0.00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2.0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1.2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4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ielo y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1 luna (Charón) y no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m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4876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2360" y="105264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Hale – Bopp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m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32000" y="1700280"/>
            <a:ext cx="691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n promedio, los cometas están a u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10000 a 50000 AU del Sol,  su tamaño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 unos pocos kilómetros.  Se cre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n una densidad similar al agua (hiel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stán a una temperatura de unos po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grados Kelvin . Están compuestos de hi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y polvo (hielo sucio). Algunos tienen lu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35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84720" y="3333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63640" y="64008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aste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560" y="422100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inturón de Kui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8920" y="546588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ube de O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3480" y="209520"/>
            <a:ext cx="30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809880" cy="3403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432320" cy="5400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-3240" y="0"/>
            <a:ext cx="40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: 69500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333000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: 6000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320" y="5013360"/>
            <a:ext cx="416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ada segundo el Sol trans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600 millones de tonelada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en 596 millones de tonelada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He, el resto se va como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63840" y="301680"/>
            <a:ext cx="826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odas las orbitas son casi circulares y están casi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un pl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odos los planetas orbitan el Sol en la misma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a mayoría de los planetas rotan en la misma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en que se desplazan en su orbita. El Sol también rota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a misma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a mayor parte de las lunas gigantes del sistema sol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ienen movimientos similares orbitando y rotando e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misma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0760" y="5630760"/>
            <a:ext cx="687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Esto se debe a que el sistema solar se form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del colapso de una misma nube de polvo y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Orión</a:t>
            </a:r>
            <a:br>
              <a:rPr sz="4000"/>
            </a:b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Región de formación este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112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692360" y="765000"/>
          <a:ext cx="5832360" cy="574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765000"/>
                    <a:ext cx="5832360" cy="57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975680" y="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rmación del 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Nacen nuevas estrellas en Or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58920" y="1981080"/>
            <a:ext cx="64818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roto – Sistemas Plan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056360" cy="626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10400" y="39852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2592360" cy="496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048200" y="16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84400" y="1341360"/>
            <a:ext cx="572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istancia al Sol : 0.387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orbital: 87.9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ecuatorial : 24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de rotación : 58.6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Inclinación del eje : 0.0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0.06 masa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ensidad media : 5.43 gr/cm</a:t>
            </a:r>
            <a:r>
              <a:rPr b="0" lang="es-MX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locidad de escape : 4.43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sup. : 700K (día), 100K (no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omposición : rocas, metales (casi puro 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5969160"/>
            <a:ext cx="84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Lo visitarán Messenger (NASA) en el 2007 y Bepi-Colombo (E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en el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2560" y="177336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ine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495680" cy="4608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716360" cy="4680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60360" y="60213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60213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lio, Sodio, Oxí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10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-14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425 C  (día), -175 C (noc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No hay vientos ni nub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La noche y el día duran como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24360" cy="5554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21120" y="907920"/>
            <a:ext cx="413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istancia: 0.723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orbital : 225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ecuatorial : 6051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de rotación : 243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Inclinación del eje : 17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0.82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ensidad : 5.24 gr/cm</a:t>
            </a:r>
            <a:r>
              <a:rPr b="0" lang="es-MX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locidad de escape : 10.4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sup. : 74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omposición : roca y 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28T13:57:39Z</dcterms:modified>
  <cp:revision>52</cp:revision>
  <dc:subject/>
  <dc:title>PowerPoint Presentation</dc:title>
</cp:coreProperties>
</file>