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B40-A25B-4DA3-A9D3-E76003F6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F87-F729-44DD-8D93-C7B74C25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980-0160-42C8-A3AE-F7C1E354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473-8357-4D9E-9223-B343D333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0D4-B93F-4966-8AFF-6B0B7FB8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02C-1B59-43E7-A898-4D8AB957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791-AD74-4134-AE2B-890583B6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2C7-1D77-49DA-8D32-EA77C768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018-9CA3-457E-B002-17F7DCD9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A69-EB01-4AD1-AC4F-269A66C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6A8-07BF-4ABD-9D53-F52DAA49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21F-3A70-4DF5-97AD-CE55EED1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9F95-D68A-45FC-A013-E337335BAEC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18760" y="3816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7280" y="4960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94360" y="395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1280" y="3952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6560" y="38098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3952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11444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08560" y="1001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640" y="13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907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8651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0720" y="-1279440"/>
            <a:ext cx="273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708360" cy="3841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659480" cy="2818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8320" y="4311720"/>
            <a:ext cx="3809880" cy="221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280" y="1587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49120" y="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isión artística basada en datos de rad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omadas por la sonda Magallanes (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1280" y="37162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Foto tomada por V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96 %  CO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, 3.5 %  N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90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70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lluvia ácida, nubes de ácido sulfú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fecto invernad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91480" y="2297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8400" y="244152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infrar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1280" y="587700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perficie absorbe la luz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transforma en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3672000" cy="6310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4800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53480" y="1268280"/>
            <a:ext cx="4232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 : 1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 :  1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6378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23.93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23.5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1 mas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: 5.52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11.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29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 y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1 luna ( la L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Inclinación del eje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840360" cy="5732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516720" y="3716280"/>
            <a:ext cx="232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66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45280" y="1314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Rayo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6036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Rayo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69800" y="105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98000" y="105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24920" y="2730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Term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96200" y="38098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Estrat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5440" y="5805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p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6085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203328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77 % nitró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21 % oxí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 %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5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huracanes, nubes de agua, p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stema Tierra L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077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la L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1916280"/>
            <a:ext cx="5435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lio, sodio,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0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-14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25 C (día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-175 (no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hay vientos ni n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2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348000" cy="616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19640" y="1628640"/>
            <a:ext cx="57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1.52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: 1.8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3397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24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5.2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0.1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3.9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5.0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2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rocas y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05800" cy="54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8360" y="0"/>
            <a:ext cx="70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Foto tomada por satélite TRACE (NASA)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ercurio transitando en frente del Sol (luz U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643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élites de 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241520" cy="4248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3640" cy="424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6560" y="152568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0200" y="152568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Fo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: 95% dióxido de carbono (CO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2.7 % nitrógeno (N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.6 %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0.007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-50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tormentas de polvo, nubes de agua , dióxido de carbono y pol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333000"/>
            <a:ext cx="73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Los planetas con mayor diámetro demo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ás en enfriarse ya que la razón volu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superficie es ma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A mayor superficie radiante el planet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nfría más ráp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 los planetas rocosos la Tierra y Venus a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n un núcleo líquido y cal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inturón de Aster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40000" y="1341360"/>
            <a:ext cx="5003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entre 2 y 3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promedio : aprox.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de 1 a 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7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rocas y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Algunos tienen lunas p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tienen ani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3800" y="15573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Júpiter (visto desde 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Jú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11.9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71492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9.93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5.20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: 3.1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318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3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59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2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61 lunas y tiene anillos (Io, Europ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Ganymede y Call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9.54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29.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6026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0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6.7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95.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0.70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35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9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31 lunas y varios anillos (Titán más grand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ercurio y tiene atmósf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11120" y="8568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ovimien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558720"/>
            <a:ext cx="856908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3516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67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19.2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83.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25559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7.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97.9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14.5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32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21.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metano (CH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, amoníaco (NH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21 lunas y también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1981080"/>
            <a:ext cx="8642160" cy="4543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08920" y="123840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sta desde Trit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30.1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16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24764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6.1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8.8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17.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64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23.6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metano, amoní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11 lunas y también tiene anillos (Tritón más grande que Plutón, tiene geysers de N, rota al rev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( ex planeta : Plutón y Char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3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lut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24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116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39.5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6.38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119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0.00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2.0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1.2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ielo y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1 luna (Charón) y no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876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2360" y="105264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Hale – Bopp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32000" y="1700280"/>
            <a:ext cx="691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n promedio, los cometas están a u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0000 a 50000 AU del Sol,  su tamañ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 unos pocos kilómetros.  Se cre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n una densidad similar al agua (hiel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stán a una temperatura de unos po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grados Kelvin . Están compuestos de hi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y polvo (hielo sucio). Algunos tienen lu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84720" y="333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63640" y="64008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as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560" y="4221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inturón de Kui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920" y="546588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ube de O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3480" y="20952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340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432320" cy="5400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3240" y="0"/>
            <a:ext cx="40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: 6950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333000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: 6000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320" y="5013360"/>
            <a:ext cx="416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ada segundo el Sol trans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600 millones de tonelada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 596 millones de tonelad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He, el resto se va como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63840" y="301680"/>
            <a:ext cx="826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odas las orbitas son casi circulares y están casi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un pl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odos los planetas orbitan el Sol en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ayoría de los planetas rotan en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n que se desplazan en su orbita. El Sol también rota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isma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ayor parte de las lunas gigantes del sistema so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ienen movimientos similares orbitando y rotando e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isma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0760" y="5630760"/>
            <a:ext cx="687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sto se debe a que el sistema solar s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del colapso de una misma nube de polvo y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Orión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Región de formación este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11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692360" y="765000"/>
          <a:ext cx="5832360" cy="57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65000"/>
                    <a:ext cx="583236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97568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acen nuevas estrellas en Or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10400" y="39852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48200" y="16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84400" y="1341360"/>
            <a:ext cx="572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 al Sol : 0.387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: 87.9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24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58.6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0.0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0.06 mas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media : 5.43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4.43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700K (día), 100K (no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s, metales (casi puro 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969160"/>
            <a:ext cx="84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Lo visitarán Messenger (NASA) en el 2007 y Bepi-Colombo (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 el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560" y="17733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in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495680" cy="460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46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60360" y="6021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60213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lio, Sodio, Oxí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0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-14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25 C  (día), -175 C (no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hay vientos ni n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La noche y el día duran como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24360" cy="555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21120" y="907920"/>
            <a:ext cx="413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: 0.723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 : 225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605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243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17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0.82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: 5.24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10.4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74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 y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8T13:57:39Z</dcterms:modified>
  <cp:revision>52</cp:revision>
  <dc:subject/>
  <dc:title>PowerPoint Presentation</dc:title>
</cp:coreProperties>
</file>