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649-1FD7-41DD-A3F0-F29E5281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202-4453-43EC-B1B0-5EF02986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0C4-4160-4B68-A689-16B66B5E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5E8-CE87-4CF8-84CD-8BA71B12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975-2F0E-46E6-B0AE-A498A0D4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B8F-76DF-4188-B473-73C9576D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052-946A-4F00-8192-DF6020C1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B2C-041E-4CFE-90D4-DC80289B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1CA-03C8-41C9-9E76-79312F69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DD4-ED6D-4A21-A514-A65C194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CF8-A194-4A78-89C9-D9B6ADA0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D25-E8A9-43FF-B232-2740E101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C69C-561C-423A-A7E2-9E00755686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760" y="3816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280" y="1587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1280" y="3716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Foto tomada por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96 %  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, 3.5 %  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90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7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lluvia ácida, nubes de ácido sulfú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fecto invernad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53480" y="1268280"/>
            <a:ext cx="423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: 1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52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Inclinación del eje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085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77 % nitró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1 %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huracanes, nubes de agua, p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stema Tierr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077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916280"/>
            <a:ext cx="54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C (día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-175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19640" y="1628640"/>
            <a:ext cx="57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.5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: 1.8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3397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24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5.2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0.1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3.9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.0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2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8360" y="0"/>
            <a:ext cx="70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to tomada por satélite TRACE (NASA)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transitando en frente del Sol (luz U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élites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6560" y="15256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0200" y="152568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: 95% dióxido de carbono (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.7 % nitrógeno (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.6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0.007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-5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tormentas de polvo, nubes de agua , dióxido de carbono y pol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3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os planetas con mayor diámetro demo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ás en enfriarse ya que la razón volu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uperficie es ma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 mayor superficie radiante el planet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fría más ráp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los planetas rocosos la Tierra y Venus a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 núcleo líquido y cal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inturón de Aster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5003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entre 2 y 3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de 1 a 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3800" y="15573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 (visto desde 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5.20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9.54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0.7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11120" y="8568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ovimien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558720"/>
            <a:ext cx="85690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3516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9.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2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 (C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, amoníaco (N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08920" y="12384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0.1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64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 ex planeta : Plutón y Char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ut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9.5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2.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2360" y="105264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91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 promedio, los cometas están a u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0000 a 50000 AU del Sol,  su tamañ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unos pocos kilómetros.  Se cre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a densidad similar al agua (hie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stán a una temperatura de unos po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rados Kelvin . Están compuesto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y polvo (hielo sucio). Algunos tienen lu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84720" y="333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63640" y="64008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560" y="4221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920" y="546588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3240" y="0"/>
            <a:ext cx="40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320" y="5013360"/>
            <a:ext cx="416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63840" y="301680"/>
            <a:ext cx="826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as las orbitas son casi circulares y están casi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os los planetas orbitan el Sol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ía de los planetas rotan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que se desplazan en su orbita. El Sol también rota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 parte de las lunas gigantes del sistema so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ienen movimientos similares orbitando y rotando e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0760" y="5630760"/>
            <a:ext cx="687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sto se debe a que el sistema solar s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del colapso de una misma nube de polvo y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84400" y="1341360"/>
            <a:ext cx="572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al Sol : 0.387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media : 5.43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60360" y="6021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6021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25 C  (día), -175 C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a noche y el día duran como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21120" y="907920"/>
            <a:ext cx="413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: 0.723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24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13:57:39Z</dcterms:modified>
  <cp:revision>52</cp:revision>
  <dc:subject/>
  <dc:title>PowerPoint Presentation</dc:title>
</cp:coreProperties>
</file>