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F27-EEE2-4667-A9C5-6011EF17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528-76AB-45A1-802A-92478606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92D-EBE4-4ED0-B849-036D6808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C56-3EC3-4C20-8EF6-3532CC68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08C-46DC-4EEB-92A0-9D22D306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7D3-9BAF-46CB-B5A7-DD9E7B08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85B-C494-4AAF-BE87-0A32AF92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710-7040-4079-9E59-85F9E914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3D7-9A28-481A-93A6-9079618E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832-52FB-4637-A5B6-B1BDD773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3D1-8DE3-4C64-9C42-3F85133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557-94A7-4276-A5A7-0E403239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E30B-D3B6-42C7-A6E8-675CD9EB0B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640" y="3860280"/>
            <a:ext cx="7526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3600" y="2781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ddddd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15640" y="404640"/>
            <a:ext cx="64094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 velocidad con que el Sol orbita en 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 CM (Júpiter – Sol) es de 12,5 m/s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gnifica que , por ejemplo, la línea de H</a:t>
            </a:r>
            <a:r>
              <a:rPr b="0" lang="el-GR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 656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 se desplazaría 2,6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Å,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edir act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58200" y="3500280"/>
            <a:ext cx="642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 más fácil detectar planetas masivos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ercanos a su estrella ya que estos produ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yores variaciones en las velo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adiales observ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3480" y="578484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Será la respues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02560" y="18900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715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240" y="64008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lano del la orbita de la Tierra en torno al Sol se llama eclíp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equinoccio de primavera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punto Vernal)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esde el Sur hacia el Norte (21 de Marzo).  El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equinoccio de otoño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el 21 de Septiembre, marca el momento en que el Sol cruza el ecuador celeste  desde el Norte hacia el Sur.  En esos puntos el día y 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A 9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están el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l  21 de junio, cuando  el 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ás largo 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 el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l 21 de Diciembre cuando el hemisferio Norte tiene el día más corto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Ascensión Recta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 RA  ó 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0440" y="260280"/>
            <a:ext cx="807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Declinación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δ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δ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240" y="4862520"/>
            <a:ext cx="81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0920" y="85680"/>
            <a:ext cx="748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03640" y="211140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Eclip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72200" y="37476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1280" y="267804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44200" y="5486400"/>
            <a:ext cx="31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120" y="2822400"/>
            <a:ext cx="80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7320" y="4478400"/>
            <a:ext cx="878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producen eclipses cad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173 días. 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Solar, habrá otro en 18 años 11.33 días, este perí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 llamado 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692280"/>
            <a:ext cx="8352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ara el caso de la Luna se puede determin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que su velocidad de escape, ésta 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≈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,4 km/s,  su temperatura en el día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 = 400 K.   A esa temperatura los áto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 sodio tienen una velocidad térmic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,5 km/s , por lo tanto los átomos de so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on retenidos y constituyen la delg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tmósfera de la Luna.  La masa del so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 23  veces mayor que la del hidroge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que es de 1,67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27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6280" y="611352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velocidad de escape de la Tierra es 11,2 k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8836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2240" y="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dddddd"/>
                </a:solidFill>
                <a:uFillTx/>
                <a:latin typeface="Times New Roman"/>
              </a:rPr>
              <a:t>Planetas terrestres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dddddd"/>
                </a:solidFill>
                <a:uFillTx/>
                <a:latin typeface="Times New Roman"/>
              </a:rPr>
              <a:t>Planetas jovianos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Por qué los exo-planetas son distint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59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osible explica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00" y="1413000"/>
            <a:ext cx="687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caso del sistema Sol – Júpiter, amb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iran en torno a su centro de masa con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eríodo de 5,2 años.  La órbita de Júp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ne un semieje mayor de 7,78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k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entras que la del Sol es de 742000 k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ómo el Sol tiene un radio de 696000 k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éste lentamente se bambolea en torno a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unto (CM) que está no muy lejos de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320" y="20304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Sistema Sol -Jú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3T14:40:50Z</dcterms:modified>
  <cp:revision>62</cp:revision>
  <dc:subject/>
  <dc:title>PowerPoint Presentation</dc:title>
</cp:coreProperties>
</file>