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97CD-FDE7-4A6A-B451-ED9547A9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9A73-68B5-48BD-9C5E-4A7EE923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33A1-768D-4F01-9B29-890ED5D0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2001-084F-430A-B09A-E55E6638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759B-C7DB-40B2-81C9-BD10DFB3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2710-AA27-4A82-AA51-3EA3547F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5CC0-049C-4F8D-ACCB-92B60273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0943-D37B-47E3-B4C3-857EBF25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3C7F-615A-45FA-A4F9-7AD3982E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8202-62B0-4881-A2A4-087AAE6F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F057-6A4A-4DF0-81EC-1A97C625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FC12-D3A0-4E84-96ED-B5BAE518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5685-EDCB-475E-9B0E-5963FA14D38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¿Está esto de acuerdo con lo que sabemos de la formación del Sistema Sola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99640" y="3860280"/>
            <a:ext cx="752652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No podemos explicar la formació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planetas jovianos tan cerca de la estrel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83600" y="2781360"/>
            <a:ext cx="15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dddddd"/>
                </a:solidFill>
                <a:latin typeface="Times New Roman"/>
              </a:rPr>
              <a:t>¡ NO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15640" y="404640"/>
            <a:ext cx="640944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  velocidad con que el Sol orbita en 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al CM (Júpiter – Sol) es de 12,5 m/s, e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gnifica que , por ejemplo, la línea de H</a:t>
            </a:r>
            <a:r>
              <a:rPr b="0" lang="el-GR" sz="28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n 6563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Å se desplazaría 2,6 1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-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Å,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que está en el límite de lo que se pue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medir actual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58200" y="3500280"/>
            <a:ext cx="642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 más fácil detectar planetas masivos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ercanos a su estrella ya que estos produc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ayores variaciones en las veloc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radiales observ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93480" y="5784840"/>
            <a:ext cx="34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¿ Será la respuest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561400" y="0"/>
            <a:ext cx="658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Búsqueda de vida extraterrest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2120" y="1035000"/>
            <a:ext cx="7619760" cy="478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290720" y="138276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434000" y="282240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76920" y="426240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a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35080" y="5846760"/>
            <a:ext cx="47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ongitud de onda en micr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17800" y="189000"/>
            <a:ext cx="72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Agua y oxígeno sólo se encuentran en la 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549440"/>
            <a:ext cx="9144000" cy="4471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03520" y="111240"/>
            <a:ext cx="53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Zona habitable : agua líqu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60360" y="6021360"/>
            <a:ext cx="22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istema S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13800" y="5199120"/>
            <a:ext cx="309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trella con  ½ M</a:t>
            </a:r>
            <a:r>
              <a:rPr b="1" lang="es-MX" sz="2800" spc="-1" strike="noStrike" baseline="-25000">
                <a:solidFill>
                  <a:srgbClr val="000000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756600" y="254160"/>
            <a:ext cx="34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¿ Dónde estamo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48920" y="3543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02560" y="189000"/>
            <a:ext cx="28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La esfera cele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63640" y="836640"/>
            <a:ext cx="5715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195640" y="620640"/>
            <a:ext cx="4781520" cy="5715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329280" y="14400"/>
            <a:ext cx="282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49800" y="6338880"/>
            <a:ext cx="25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82160" y="2781360"/>
            <a:ext cx="148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6360" y="3135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62120" y="514440"/>
            <a:ext cx="7619760" cy="5829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920920" y="130968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3440" y="1628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0000" y="2894040"/>
            <a:ext cx="167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olstici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de ver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4200" y="5054760"/>
            <a:ext cx="18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olstici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inv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893080" cy="4365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481840" y="260280"/>
            <a:ext cx="42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Solsticios y equinoc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45080" y="19890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Dic.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94880" y="213372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Jun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0360" y="19162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Mar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18520" y="414972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Sep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7280" y="5486400"/>
            <a:ext cx="759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Es la inclinación del eje terrestre lo que causa 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est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3240" y="6400800"/>
            <a:ext cx="81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Plano del la orbita de la Tierra en torno al Sol se llama eclípt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El  </a:t>
            </a:r>
            <a:r>
              <a:rPr b="0" lang="es-MX" sz="3200" spc="-1" strike="noStrike">
                <a:solidFill>
                  <a:srgbClr val="ffff99"/>
                </a:solidFill>
                <a:latin typeface="Times New Roman"/>
              </a:rPr>
              <a:t>equinoccio de primavera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 (punto Vernal)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el punto en que el Sol cruza el  ecuador celes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desde el Sur hacia el Norte (21 de Marzo).  El </a:t>
            </a:r>
            <a:r>
              <a:rPr b="0" lang="es-MX" sz="3200" spc="-1" strike="noStrike">
                <a:solidFill>
                  <a:srgbClr val="ffff99"/>
                </a:solidFill>
                <a:latin typeface="Times New Roman"/>
              </a:rPr>
              <a:t>equinoccio de otoño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 el 21 de Septiembre, marca el momento en que el Sol cruza el ecuador celeste  desde el Norte hacia el Sur.  En esos puntos el día y la noche tienen igual du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A 90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° están el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lsticio de verano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el  21 de junio, cuando  el hemisferio Norte tiene el d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más largo (el día más corto en el hemisferio Su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y el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lsticio de invierno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el 21 de Diciembre cuando el hemisferio Norte tiene el día más corto y la noche más larga (lo opuesto ocurre en el hemisferio Su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356000" y="692280"/>
            <a:ext cx="478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Colapso de una nebulo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para formar una estrel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y su sistema plane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1003320"/>
            <a:ext cx="7619760" cy="4851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120400" y="333360"/>
            <a:ext cx="479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recesión  del eje terres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79680" y="6021360"/>
            <a:ext cx="45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eríodo es de 26000 añ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16720" y="2781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17800" y="2708280"/>
            <a:ext cx="4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07280" y="2924280"/>
            <a:ext cx="17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θ</a:t>
            </a:r>
            <a:r>
              <a:rPr b="1" lang="es-MX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s-MX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= 23.5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1111320"/>
            <a:ext cx="8057880" cy="4635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71840" y="179388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merid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80200" y="6415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ze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2200" y="272880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horizo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93280" y="24415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ong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93640" y="539424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28720" y="4508640"/>
            <a:ext cx="167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Ecuador </a:t>
            </a:r>
            <a:r>
              <a:rPr b="1" lang="es-MX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89880" y="1844640"/>
            <a:ext cx="155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Merid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        </a:t>
            </a: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17280" y="68724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708360" y="5805360"/>
            <a:ext cx="27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scensión rec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horas, min., s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41800" y="58770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52360" y="2637000"/>
            <a:ext cx="287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cl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grados, min., s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27640" y="328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10360" y="330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60" y="33577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ong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0" y="47242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378936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Meridian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-90360" y="53942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3640" y="30891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2276640"/>
            <a:ext cx="9061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La </a:t>
            </a:r>
            <a:r>
              <a:rPr b="0" lang="es-MX" sz="3200" spc="-1" strike="noStrike">
                <a:solidFill>
                  <a:srgbClr val="ffff99"/>
                </a:solidFill>
                <a:latin typeface="Times New Roman"/>
              </a:rPr>
              <a:t>Ascensión Recta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 ( RA  ó  </a:t>
            </a:r>
            <a:r>
              <a:rPr b="0" lang="el-GR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α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) se mide a part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del equinoccio de primavera ( Mar 21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RA se mide en horas, minutos y segundos, el círculo completo de 360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° corresponde a 24 ho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-10440" y="260280"/>
            <a:ext cx="807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La </a:t>
            </a:r>
            <a:r>
              <a:rPr b="0" lang="es-MX" sz="3200" spc="-1" strike="noStrike">
                <a:solidFill>
                  <a:srgbClr val="ffff99"/>
                </a:solidFill>
                <a:latin typeface="Times New Roman"/>
              </a:rPr>
              <a:t>Declinación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 ( </a:t>
            </a:r>
            <a:r>
              <a:rPr b="0" lang="el-GR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δ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) se mide a partir del ecu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 </a:t>
            </a:r>
            <a:r>
              <a:rPr b="0" lang="el-GR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δ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0 ) en grados, minutos (de arco), segun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de arco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7240" y="4862520"/>
            <a:ext cx="815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El 21 de Marzo (equinoccio de primavera) el 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tiene ascensión recta 0 y declinación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920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80920" y="85680"/>
            <a:ext cx="748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 rotación de la Tierra se refleja en el mov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de las estrellas en el cie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631840" y="20098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Polo Sur cel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37080" y="2133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02000" y="40258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Cruz del S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642160" cy="3789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494160" y="33336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66"/>
                </a:solidFill>
                <a:latin typeface="Times New Roman"/>
              </a:rPr>
              <a:t>visibil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93280" y="90324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94160" y="83664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41080" y="544500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65440" y="551664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43840" y="18651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ze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296560" y="48895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ze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203640" y="2111400"/>
            <a:ext cx="204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ddddd"/>
                </a:solidFill>
                <a:latin typeface="Times New Roman"/>
              </a:rPr>
              <a:t>Eclip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4360" y="6021360"/>
            <a:ext cx="79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ímite de formación de planetas rocosos y gase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36960" y="32688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ormación de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62120" y="1962000"/>
            <a:ext cx="7619760" cy="2934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51840" y="426240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97280" y="397512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117440" y="1916280"/>
            <a:ext cx="37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lipse parcial de L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44720" y="4221000"/>
            <a:ext cx="33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lipse total de L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8036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2300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clipse total de Luna, la Tierra se interpone entre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ol y la Lu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272200" y="374760"/>
            <a:ext cx="29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clipse total de 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01280" y="2678040"/>
            <a:ext cx="32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clipse parcial de 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44200" y="5486400"/>
            <a:ext cx="319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clipse anular de 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Debido a que la órbita de la Luna tiene una inclinación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° con respecto a la eclíptica, sólo se producen eclip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uando los nodos de la órbita de la Luna están aline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on la Tierra y el Sol , lo que ocurre 2 veces al año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durante Luna llena (eclipse de Luna) y Luna nue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eclipse de So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9120" y="2822400"/>
            <a:ext cx="800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 el eclipse ocurre cuando la Luna está más lejos de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Tierra, la umbra no llega a la Tierra y se produce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clipse solar an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7320" y="4478400"/>
            <a:ext cx="8789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Debido a que los nodos de la órbita de la Luna se mu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e producen eclipses cada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~ 173 días.  Combinado con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período de las fases de la Luna de 29.5, si hoy tenemos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clipse Solar, habrá otro en 18 años 11.33 días, este perí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s llamado Ciclo de Saro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-4017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0" y="3716280"/>
                <a:ext cx="392436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cape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G</m:t>
                            </m:r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0" y="692280"/>
                <a:ext cx="381636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érmica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k</m:t>
                            </m:r>
                            <m:r>
                              <m:t xml:space="preserve">×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4423320" y="981000"/>
            <a:ext cx="43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temp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masa de la partíc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const. de Boltz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20960" y="3573360"/>
            <a:ext cx="450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masa del cuer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: distancia (radi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: const. de gravi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60880" y="25653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1280" y="2444760"/>
            <a:ext cx="33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(1.38 10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-23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joule/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920" y="5084640"/>
            <a:ext cx="37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(6.67 10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/ kg s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95280" y="692280"/>
            <a:ext cx="83520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Para el caso de la Luna se puede determin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que su velocidad de escape, ésta es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≈ 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2,4 km/s,  su temperatura en el día 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T = 400 K.   A esa temperatura los átom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de sodio tienen una velocidad térmica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0,5 km/s , por lo tanto los átomos de sod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son retenidos y constituyen la delga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tmósfera de la Luna.  La masa del sod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s 23  veces mayor que la del hidrogen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que es de 1,67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-27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kg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6280" y="611352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velocidad de escape de la Tierra es 11,2 km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47640" y="812880"/>
            <a:ext cx="7596360" cy="5236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350520" y="6338880"/>
            <a:ext cx="296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locidad en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40" y="1125360"/>
            <a:ext cx="186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Númer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áto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88360" y="333360"/>
            <a:ext cx="41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áximo de la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11920" y="5877000"/>
            <a:ext cx="32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locidad de esc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62240" y="0"/>
            <a:ext cx="328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átomos de so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3600" y="5559480"/>
            <a:ext cx="165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MX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= 40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dddddd"/>
                </a:solidFill>
                <a:uFillTx/>
                <a:latin typeface="Times New Roman"/>
              </a:rPr>
              <a:t>Planetas terrestres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 (rocosos) se forman más ce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del Sol, donde está más caliente.  El hidrógen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helio y algunos otros elementos están en forma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gas que se escapan del planeta el cual se que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principalmente con minerales y rocas que tiene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temperaturas de condensación más al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dddddd"/>
                </a:solidFill>
                <a:uFillTx/>
                <a:latin typeface="Times New Roman"/>
              </a:rPr>
              <a:t>Planetas jovianos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 (gaseosos), más lejanos al So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todo está congelado son capaces de retener t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el material de la nube inicial finalizando 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grandes mas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¿ Por qué los exo-planetas son distinto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596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Posible explicació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Migración de planetas hacia la estrella p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viscosidad con el gas y polvo que no ha s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barrido por la estrella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¿ Efecto de selecció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16000" y="1413000"/>
            <a:ext cx="687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n el caso del sistema Sol – Júpiter, amb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giran en torno a su centro de masa con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período de 5,2 años.  La órbita de Júpi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tiene un semieje mayor de 7,78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k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mientras que la del Sol es de 742000 k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ómo el Sol tiene un radio de 696000 k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éste lentamente se bambolea en torno a 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punto (CM) que está no muy lejos de 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superfic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1320" y="203040"/>
            <a:ext cx="52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Sistema Sol -Júp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partamento de Astronomia</cp:lastModifiedBy>
  <dcterms:modified xsi:type="dcterms:W3CDTF">2007-08-23T14:40:50Z</dcterms:modified>
  <cp:revision>62</cp:revision>
  <dc:subject/>
  <dc:title>PowerPoint Presentation</dc:title>
</cp:coreProperties>
</file>