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A7B-6218-43B7-A6F6-248B58BD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5AE-B50D-4E3C-BF60-51F52BD9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8BF-7391-42BA-8B32-6A2D71F7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29B-8C48-48E0-A69F-A05AFFCE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D7E-CE22-4DF8-B6ED-164BB06A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EFA-8FF2-48C3-8A04-800FA14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B47-B4A2-4FDD-A111-B4B9B611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03F-9A7D-4C0C-B807-65F61FC2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D05-8AB7-4152-BF34-9D4A5135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428-06FB-4833-88FC-EE58A91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586-6FE6-4FD7-91C8-7E6B36A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E32-5229-41F5-94E0-E1205CC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26F-79A1-4CE7-A203-B7F9F4DE06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15640" y="404640"/>
            <a:ext cx="64094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 velocidad con que el Sol orbita en 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 CM (Júpiter – Sol) es de 12,5 m/s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gnifica que , por ejemplo, la línea de H</a:t>
            </a:r>
            <a:r>
              <a:rPr b="0" lang="el-GR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 656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 se desplazaría 2,6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Å,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edir act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58200" y="3500280"/>
            <a:ext cx="642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 más fácil detectar planetas masivos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rcanos a su estrella ya que estos produ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es variaciones en las velo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adiales observ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3480" y="578484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Será la respues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02560" y="18900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715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240" y="64008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lano del la orbita de la Tierra en torno al Sol se llama eclíp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equinoccio de primavera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punto Vernal)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esde el Sur hacia el Norte (21 de Marzo).  El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equinoccio de otoño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el 21 de Septiembre, marca el momento en que el Sol cruza el ecuador celeste  desde el Norte hacia el Sur.  En esos puntos el día y 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A 9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están el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l  21 de junio, cuando  el 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ás largo 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l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l 21 de Diciembre cuando el hemisferio Norte tiene el día más corto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Ascensión Recta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 RA  ó 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0440" y="260280"/>
            <a:ext cx="807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Declinación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δ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δ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240" y="486252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0920" y="85680"/>
            <a:ext cx="748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3640" y="211140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Ecli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72200" y="37476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1280" y="267804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4200" y="5486400"/>
            <a:ext cx="31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120" y="2822400"/>
            <a:ext cx="80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7320" y="4478400"/>
            <a:ext cx="878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producen eclipses cad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173 días. 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clipse Solar, habrá otro en 18 años 11.33 días, este perí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 llamado 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692280"/>
            <a:ext cx="835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ara el caso de la Luna se puede determin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que su velocidad de escape, ésta 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,4 km/s,  su temperatura en el dí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 = 400 K.   A esa temperatura los áto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 sodio tienen una velocidad térmic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,5 km/s , por lo tanto los átomos de so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on retenidos y constituyen la delg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 de la Luna.  La masa del so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 23  veces mayor que la del hidroge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que es de 1,67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27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6280" y="611352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velocidad de escape de la Tierra es 11,2 k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8836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2240" y="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dddddd"/>
                </a:solidFill>
                <a:uFillTx/>
                <a:latin typeface="Times New Roman"/>
              </a:rPr>
              <a:t>Planetas terrestres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dddddd"/>
                </a:solidFill>
                <a:uFillTx/>
                <a:latin typeface="Times New Roman"/>
              </a:rPr>
              <a:t>Planetas jovianos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Por qué los exo-planetas son distint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59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osible explica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1413000"/>
            <a:ext cx="687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caso del sistema Sol – Júpiter, amb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ran en torno a su centro de masa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eríodo de 5,2 años.  La órbita de Júp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ne un semieje mayor de 7,78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k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entras que la del Sol es de 742000 k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ómo el Sol tiene un radio de 696000 k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éste lentamente se bambolea en torno a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unto (CM) que está no muy lejos de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320" y="20304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istema Sol -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3T14:40:50Z</dcterms:modified>
  <cp:revision>62</cp:revision>
  <dc:subject/>
  <dc:title>PowerPoint Presentation</dc:title>
</cp:coreProperties>
</file>