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11A-1C1C-47FF-AC92-5EB94777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5FF-571C-4DFB-A6B2-2D33885B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48F-2ADD-4BFA-A880-44F69875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308-8E2F-48D4-96AC-1B61E10A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4F6-6047-4A0A-B475-92EF373B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EAB-39DD-44D9-862A-232CE974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836-CC40-4B8C-8804-C15E488B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8B3-D464-4266-8165-13AB2161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4FD-08A1-432D-8E3C-EDAA483D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37D-4940-4567-BCC2-069760EE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768-B943-4359-89E7-74F25FD8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2F3-2611-4EF7-84FF-EA024F2E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E1EC-4A0C-4F4B-95D4-8037036A949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4520" y="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ddddd"/>
                </a:solidFill>
                <a:latin typeface="Times New Roman"/>
              </a:rPr>
              <a:t>Mov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736880" cy="540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6000" y="1052640"/>
            <a:ext cx="21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Tycho Bra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(1546 – 16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3120" y="2492280"/>
            <a:ext cx="38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ataba 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Tierra giraba alre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Sol (teoría de Copern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95880" y="3736800"/>
            <a:ext cx="39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tó medir paralajes tr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s estrellas más cerc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sin tener aún telescopios)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bar que la Tierra se mov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rededor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046960" y="4762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dobles (binari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1628640"/>
            <a:ext cx="69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70 % de las estrellas forman sistemas d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o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5640" y="3284640"/>
            <a:ext cx="72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sistemas binarios permiten medir la mas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da una de las estrellas (o bien su fun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sas en caso de que la inclinación de la órbita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se conoz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97840" y="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07360" y="1557360"/>
            <a:ext cx="6494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 de estrellas que se ven claramente orbitand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orno a su centro de masas común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8800" y="600084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este caso, tanto Mizar A cómo Mizar B son bi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000" y="955800"/>
            <a:ext cx="26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inarias visu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0080" y="35712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Otro ejemplo de binaria visual es Sirio A y 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000" y="3645000"/>
            <a:ext cx="83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A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B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70560" y="260280"/>
            <a:ext cx="35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480" y="1125360"/>
            <a:ext cx="809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1268280"/>
            <a:ext cx="76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ejemplo más conocido de binaria eclipsante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(en la constelación de Perse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se hace 3 veces más débil por unas po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ras cada 3 días, cuando la componente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 del sistema es eclipsada por su compañ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déb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77120" y="26028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spectroscóp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280" y="1052640"/>
            <a:ext cx="7313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n sistemas en que sólo podemos detect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ariaciones de velocidades radiales de am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s debido a su movimiento en torno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ún. En este caso vemos dos sistemas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pectrales que se mueven periódicamente ha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azul y el rojo, con distintas veloc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muchos casos sólo vemos un sistema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otra estrella es muy débil, e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so sólo podemos dar una masa mínim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estrella que no se detecta (Función de Ma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0400" y="189000"/>
            <a:ext cx="41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09840" y="42418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95120" y="39852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341360"/>
            <a:ext cx="781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líneas del espectro de dos estrellas que for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se mueven con un perío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2 años (p = 6.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alcular amba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4760" y="517680"/>
            <a:ext cx="79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9840" y="35434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líneas de la estrella 1 se desplazan el doble que la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67280" cy="568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602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Johannes Kepler (1571 – 16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5840" y="517680"/>
            <a:ext cx="61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00000" y="1484280"/>
                <a:ext cx="7056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933080" y="2924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716280"/>
            <a:ext cx="7667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189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extra-solares (exo-planet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000" y="1725480"/>
            <a:ext cx="79120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étodos de detec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recto (aún en el futuro 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movimiento propio en torno al CM  (po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variación de velocidad radial (método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sad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urva de velocidad radial de 51 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58040" y="61848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724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7800" y="1844640"/>
            <a:ext cx="662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planeta de 51 Peg tiene 60% de la mas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,  pero gira en torno a su estr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4 días, su temperatura es de ~ 10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680" y="260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54936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perpendicular al plano del ciel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0" y="765000"/>
            <a:ext cx="37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 se detecta variación de v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ránsito de HD2094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04520" y="671400"/>
            <a:ext cx="31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en este caso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laneta tapa el 1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la luz de l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urante el tránsito,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mite estimar el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l planeta conoc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de l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9560" y="3827520"/>
            <a:ext cx="296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la órbita está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plano de la líne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visual, po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alcular su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Resultó ser un plan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ecido a 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álculo de masas de exo-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 la estrella (se conoce por el espect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l exo-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 la estrella c/r  al centro de masas (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l exo-planeta c/r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 la estrella al CM (normalmente muy        pequeñ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l exo-planeta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8360" y="333360"/>
                <a:ext cx="25588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692280"/>
                <a:ext cx="2663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0920" y="1916280"/>
                <a:ext cx="4033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883840" y="2424240"/>
            <a:ext cx="1893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0320" y="4334040"/>
            <a:ext cx="489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velocidad orbital de obje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: velocidad orbital de objet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 : semieje mayor de la órb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511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248360" cy="511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6400" y="189000"/>
            <a:ext cx="19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Galileo Gali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564 – 16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3640" y="20952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saac New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642 – 17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79080" y="469800"/>
            <a:ext cx="519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resión final para M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4360" y="1268280"/>
                <a:ext cx="77040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220360" y="2708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3933720"/>
            <a:ext cx="7596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puede esti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pectro Sol -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3860280"/>
            <a:ext cx="7526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83600" y="2781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ddddd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4640" y="501336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0464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09 – 16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     objeto se mueve con velocidad constante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 o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5080" y="4046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471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932360" y="1197000"/>
                <a:ext cx="3960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892040" y="364500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 = 6.67 10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ddddd"/>
                </a:solidFill>
                <a:latin typeface="Times New Roman"/>
              </a:rPr>
              <a:t>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0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332000" y="1413000"/>
                <a:ext cx="648180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972360" y="3716280"/>
            <a:ext cx="58608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 : período de la órbita en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: semieje mayor de la órbita en 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 : const. Gravitación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03:55:32Z</dcterms:modified>
  <cp:revision>86</cp:revision>
  <dc:subject/>
  <dc:title>PowerPoint Presentation</dc:title>
</cp:coreProperties>
</file>