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1BD-978C-4EC4-8D61-6E5349A9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10C-0FC6-475C-8F30-4B84E95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2D0-1580-4538-94B6-99B1F05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890-1355-4C75-B098-C98F0D76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5CE-0B90-4CDE-B1C4-4A10BDA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FE7-7661-4238-9CB2-6A25B808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A48-B436-45D8-BAE6-2F50A266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15D-BE2D-40BE-BC96-79CE949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80E-3BF0-4442-8CB3-D65453C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B86-59A9-425C-A2A2-D9AE3F7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79A-9252-4B25-A8CA-120C23C5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73D-61E8-4DAE-B35C-10ABF12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B596-B662-40A0-A63C-E722E8102FB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4520" y="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ddddd"/>
                </a:solidFill>
                <a:latin typeface="Times New Roman"/>
              </a:rPr>
              <a:t>Mov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736880" cy="540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796000" y="1052640"/>
            <a:ext cx="219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(1546 – 16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3120" y="249228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rataba 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a Tierra giraba alre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l Sol (teoría de Copernic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95880" y="3736800"/>
            <a:ext cx="39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tó medir paralajes tr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s estrellas más cerc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sin tener aún telescopios)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obar que la Tierra se mov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lrededor del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46960" y="47628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trellas dobles (binari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162864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70 % de las estrellas forman sistemas d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o múlt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15640" y="3284640"/>
            <a:ext cx="728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os sistemas binarios permiten medir la mas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da una de las estrellas (o bien su fun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asas en caso de que la inclinación de la órbita 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no se conoz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697840" y="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07360" y="1557360"/>
            <a:ext cx="6494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 de estrellas que se ven claramente orbitando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orno a su centro de masas común (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58800" y="600084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n este caso, tanto Mizar A cómo Mizar B son bin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000" y="955800"/>
            <a:ext cx="26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inarias visu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0080" y="357120"/>
            <a:ext cx="84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Otro ejemplo de binaria visual es Sirio A y 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000" y="3645000"/>
            <a:ext cx="83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A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irio B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70560" y="260280"/>
            <a:ext cx="35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9480" y="1125360"/>
            <a:ext cx="809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1268280"/>
            <a:ext cx="76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ejemplo más conocido de binaria eclipsante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(en la constelación de Perse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Algol se hace 3 veces más débil por unas po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horas cada 3 días, cuando la componente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brillante del sistema es eclipsada por su compañ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ás déb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77120" y="26028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Binarias espectroscóp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1280" y="1052640"/>
            <a:ext cx="73130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Son sistemas en que sólo podemos detectar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ariaciones de velocidades radiales de amb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trellas debido a su movimiento en torno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omún. En este caso vemos dos sistemas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spectrales que se mueven periódicamente ha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azul y el rojo, con distintas veloc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muchos casos sólo vemos un sistema de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ebido a que la otra estrella es muy débil, e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caso sólo podemos dar una masa mínima 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 estrella que no se detecta (Función de Mas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0400" y="189000"/>
            <a:ext cx="41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09840" y="424188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95120" y="39852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781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Las líneas del espectro de dos estrellas que for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na binaria eclipsante se mueven con un períod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2 años (p = 6.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lcular amba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74760" y="51768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9840" y="3543480"/>
            <a:ext cx="14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líneas de la estrella 1 se desplazan el doble que la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867280" cy="568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4360" y="260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Johannes Kepler (1571 – 16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5840" y="51768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900000" y="1484280"/>
                <a:ext cx="7056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933080" y="2924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716280"/>
            <a:ext cx="7667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0328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extra-solares (exo-planet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5000" y="1725480"/>
            <a:ext cx="7912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Métodos de detección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Directo (aún en el futuro 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movimiento propio en torno al CM  (po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or variación de velocidad radial (método má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usad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urva de velocidad radial de 51 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58040" y="61848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724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7800" y="1844640"/>
            <a:ext cx="662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l planeta de 51 Peg tiene 60% de la mas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Júpiter,  pero gira en torno a su estr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en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~ 4 días, su temperatura es de ~ 10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4680" y="260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936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Orbita perpendicular al plano del ciel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00" y="765000"/>
            <a:ext cx="374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No se detecta variación de v</a:t>
            </a:r>
            <a:r>
              <a:rPr b="0" lang="es-MX" sz="2400" spc="-1" strike="noStrike" baseline="-25000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Tránsito de HD2094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04520" y="671400"/>
            <a:ext cx="31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en este caso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laneta tapa el 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 la luz de la 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urante el tránsito,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ermite estimar el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del planeta conoc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de la estr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560" y="3827520"/>
            <a:ext cx="296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omo la órbita está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el plano de la líne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la visual, po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calcular su 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Resultó ser un plan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arecido a Jú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Cálculo de masas de exo-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 la estrella (se conoce por el espect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masa del exo-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 la estrella c/r  al centro de masas (C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velocidad orbital del exo-planeta c/r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 la estrella al CM (normalmente muy        pequeñ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s-MX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 : distancia del exo-planeta al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360" y="333360"/>
                <a:ext cx="25588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692280"/>
                <a:ext cx="2663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0920" y="1916280"/>
                <a:ext cx="40338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883840" y="2424240"/>
            <a:ext cx="1893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0320" y="4334040"/>
            <a:ext cx="489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velocidad orbital de obje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: velocidad orbital de objet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 : semieje mayor de la órb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48360" cy="5113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248360" cy="511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56400" y="189000"/>
            <a:ext cx="19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564 – 16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3640" y="209520"/>
            <a:ext cx="19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642 – 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9080" y="469800"/>
            <a:ext cx="519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expresión final para M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1268280"/>
                <a:ext cx="7704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220360" y="270828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933720"/>
            <a:ext cx="7596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es la masa de la estrella que se puede esti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Espectro Sol - 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ddddd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9640" y="3860280"/>
            <a:ext cx="7526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ddddd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83600" y="278136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ddddd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4640" y="501336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04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09 – 16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     objeto se mueve con velocidad constante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0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 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5080" y="40464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16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4716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932360" y="1197000"/>
                <a:ext cx="39607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892040" y="36450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 = 6.67 10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ddddd"/>
                </a:solidFill>
                <a:latin typeface="Times New Roman"/>
              </a:rPr>
              <a:t>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0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332000" y="1413000"/>
                <a:ext cx="648180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972360" y="3716280"/>
            <a:ext cx="5860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 : período de la órbita en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 : semieje mayor de la órbita en 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 : const. Gravitación uni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28T03:55:32Z</dcterms:modified>
  <cp:revision>86</cp:revision>
  <dc:subject/>
  <dc:title>PowerPoint Presentation</dc:title>
</cp:coreProperties>
</file>