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361E-1F2E-430F-94D0-2DB06883F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F66E-AE50-4016-BA99-2480F250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AE91-9E22-4540-99A2-AD867B414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A6A5-8D09-438A-AF94-E3A94E5A6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693B-FF3A-4ED0-92F5-563D14B1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3598-C970-4323-9FDC-068C1455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CB7E-5EE5-4886-B1E0-E218D7E4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0F20-F15F-41BC-8E33-8900A6D7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3ECA-C3D0-4D0E-8503-EC48E917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48AD-9BBD-405F-9D72-9FE0AA3C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791F-22CC-406F-AA04-E5DDA4FA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99BB-880F-4B9C-AA03-05C8C863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DBF2-981A-48EE-BF45-B0C6A5268C4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4520" y="0"/>
            <a:ext cx="243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dddddd"/>
                </a:solidFill>
                <a:latin typeface="Times New Roman"/>
              </a:rPr>
              <a:t>Movi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4736880" cy="5402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796000" y="1052640"/>
            <a:ext cx="219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Tycho Bra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(1546 – 160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73120" y="2492280"/>
            <a:ext cx="380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Trataba 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Tierra giraba alre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l Sol (teoría de Copernic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95880" y="3736800"/>
            <a:ext cx="398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Intentó medir paralajes tri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 las estrellas más cerc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sin tener aún telescopios)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robar que la Tierra se mov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lrededor del S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046960" y="476280"/>
            <a:ext cx="451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Estrellas dobles (binaria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87280" y="1628640"/>
            <a:ext cx="691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l 70 % de las estrellas forman sistemas do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o múlti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15640" y="3284640"/>
            <a:ext cx="7281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os sistemas binarios permiten medir la masa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cada una de las estrellas (o bien su función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asas en caso de que la inclinación de la órbita 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no se conozc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697840" y="0"/>
            <a:ext cx="32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Tipos de binaria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07360" y="1557360"/>
            <a:ext cx="64947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par de estrellas que se ven claramente orbitando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torno a su centro de masas común (C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9144000" cy="2840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58800" y="600084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En este caso, tanto Mizar A cómo Mizar B son bina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8000" y="955800"/>
            <a:ext cx="269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Binarias visua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-10080" y="357120"/>
            <a:ext cx="844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Otro ejemplo de binaria visual es Sirio A y Sirio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1871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96000" y="3645000"/>
            <a:ext cx="8367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irio A es una estrella de tipo espectral A1 con una ma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aproximada de 2 veces la masa del S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irio B es una enana blanca con una masa similar a la 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70560" y="260280"/>
            <a:ext cx="350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Binarias eclipsante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9480" y="1125360"/>
            <a:ext cx="809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Una binaria eclipsante está compuesta por dos estrel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cuya órbita esta en el plano de la vis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24000" y="2387520"/>
            <a:ext cx="856908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26920" y="1268280"/>
            <a:ext cx="7667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l ejemplo más conocido de binaria eclipsante 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Algol (en la constelación de Perseo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Algol se hace 3 veces más débil por unas po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horas cada 3 días, cuando la componente má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brillante del sistema es eclipsada por su compañ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ás déb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977120" y="260280"/>
            <a:ext cx="438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Binarias espectroscóp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71280" y="1052640"/>
            <a:ext cx="73130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on sistemas en que sólo podemos detectar 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variaciones de velocidades radiales de amb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strellas debido a su movimiento en torno al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común. En este caso vemos dos sistemas de lín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spectrales que se mueven periódicamente hac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l azul y el rojo, con distintas veloc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n muchos casos sólo vemos un sistema de lín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debido a que la otra estrella es muy débil, en 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caso sólo podemos dar una masa mínima p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a estrella que no se detecta (Función de Mas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48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21337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2060640"/>
            <a:ext cx="47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spectro corrido hacia el az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2920" y="4334040"/>
            <a:ext cx="469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spectro corrido hacia el ro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95840" y="3398760"/>
            <a:ext cx="31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hacia el observ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37640" y="1093680"/>
            <a:ext cx="258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objeto se ace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4720" y="6093000"/>
            <a:ext cx="23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objeto se ale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120400" y="189000"/>
            <a:ext cx="419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Determinación de ma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50920" y="1052640"/>
                <a:ext cx="475272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6443640" y="1268280"/>
                <a:ext cx="216072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609840" y="4241880"/>
            <a:ext cx="3047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eríodo orb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emieje may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velocidad orb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003640" y="2924280"/>
                <a:ext cx="2376720" cy="18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95120" y="398520"/>
            <a:ext cx="167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341360"/>
            <a:ext cx="7812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as líneas del espectro de dos estrellas que form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una binaria eclipsante se mueven con un período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2 años (p = 6.2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10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7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s). Las líneas de una estrell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estrella 1) se desplazan el doble que las de la ot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estrella 2). El desplazamiento Doppler indic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que la estrella 1 tiene una velocidad rad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v = 100000 m/s (suponer que ambas estrel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tienen órbitas circularesen torno a su C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alcular ambas mas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74760" y="517680"/>
            <a:ext cx="795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omo tenemos el período orbital, podemos determin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l semieje mayor  dado qu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0" y="1773360"/>
                <a:ext cx="91440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×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00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</m:sSup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159840" y="3543480"/>
            <a:ext cx="145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Usando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835280" y="3213000"/>
                <a:ext cx="6624360" cy="12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k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0" y="4767120"/>
            <a:ext cx="91440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i las líneas de la estrella 1 se desplazan el doble que las de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2, esto implica que su velocidad es el doble (Doppler) , y s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masa la mitad, M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= 2M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= 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g  ; 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.5 ×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19280" y="981000"/>
            <a:ext cx="5867280" cy="5689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484360" y="26028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Johannes Kepler (1571 – 163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75840" y="517680"/>
            <a:ext cx="617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n el caso que la estrella 2 no sea visibl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900000" y="1484280"/>
                <a:ext cx="705672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G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bs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4933080" y="2924280"/>
            <a:ext cx="27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Función de mas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71640" y="3716280"/>
            <a:ext cx="766764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MX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(obs) = velocidad radial med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= 1  si la órbita está en el plano de la vi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es la masa de la estrella que se 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03280" y="18900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Planetas extra-solares (exo-planet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5000" y="1725480"/>
            <a:ext cx="791208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Métodos de detección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Directo (aún en el futuro ?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Por movimiento propio en torno al CM  (poc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dddddd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Por variación de velocidad radial (método má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    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usado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47640" y="620640"/>
            <a:ext cx="6048720" cy="568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000760" y="3860640"/>
            <a:ext cx="23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uz corrida al az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11680" y="3716280"/>
            <a:ext cx="308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uz corrida hacia el ro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19480" y="6041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95640" y="64008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39120" y="251316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Estr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72240" y="71280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Planeta extra-s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97800" y="119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Curva de velocidad radial de 51 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258920" y="1052640"/>
            <a:ext cx="7056360" cy="4898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758040" y="618480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Tiempo (dí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1268280"/>
            <a:ext cx="54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472428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(m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17800" y="1844640"/>
            <a:ext cx="6628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l planeta de 51 Peg tiene 60% de la masa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Júpiter,  pero gira en torno a su estrel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n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~ 4 días, su temperatura es de ~ 1000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-4680" y="260280"/>
            <a:ext cx="34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Orbita en el plano del ci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11640" y="549360"/>
            <a:ext cx="49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Orbita perpendicular al plano del cielo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00" y="765000"/>
            <a:ext cx="374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No se detecta variación de v</a:t>
            </a:r>
            <a:r>
              <a:rPr b="0" lang="es-MX" sz="2400" spc="-1" strike="noStrike" baseline="-25000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76960" y="1766880"/>
            <a:ext cx="421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Inclinación de la órb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del planeta extra-s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8317080" cy="5761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068720" y="6021360"/>
            <a:ext cx="19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4000" y="267804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2000" y="198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85280" y="354348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clip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072920" y="419112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clip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Tránsito de HD20945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5113440" cy="5832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204520" y="671400"/>
            <a:ext cx="316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Como en este caso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planeta tapa el 1.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de la luz de la estr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durante el tránsito, 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permite estimar el ra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del planeta conocie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el de la estrel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79560" y="3827520"/>
            <a:ext cx="2962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Como la órbita está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el plano de la líne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la visual, podem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calcular su ma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Resultó ser un plane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parecido a Júp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Cálculo de masas de exo-plan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820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s-MX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: masa de la estrella (se conoce por el espectr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s-MX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: masa del exo-plan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v</a:t>
            </a:r>
            <a:r>
              <a:rPr b="0" lang="es-MX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: velocidad orbital de la estrella c/r  al centro de masas (C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v</a:t>
            </a:r>
            <a:r>
              <a:rPr b="0" lang="es-MX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: velocidad orbital del exo-planeta c/r al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es-MX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: distancia de la estrella al CM (normalmente muy        pequeñ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es-MX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: distancia del exo-planeta al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6920" y="-637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68360" y="333360"/>
                <a:ext cx="255888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435640" y="692280"/>
                <a:ext cx="266364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50920" y="1916280"/>
                <a:ext cx="403380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5883840" y="2424240"/>
            <a:ext cx="1893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i="1" lang="es-MX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 =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0320" y="4334040"/>
            <a:ext cx="48960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: velocidad orbital de objeto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 : velocidad orbital de objeto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  : semieje mayor de la órb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248360" cy="5113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16360" y="1341360"/>
            <a:ext cx="4248360" cy="5112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56400" y="189000"/>
            <a:ext cx="198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Galileo Galil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1564 – 164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633640" y="209520"/>
            <a:ext cx="19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Isaac New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1642 – 172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79080" y="469800"/>
            <a:ext cx="5190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La expresión final para M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684360" y="1268280"/>
                <a:ext cx="770400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G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bs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5220360" y="2708280"/>
            <a:ext cx="27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Función de mas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4360" y="3933720"/>
            <a:ext cx="7596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MX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(obs) = velocidad radial med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in i = 1  si la órbita está en el plano de la vi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es la masa de la estrella que se puede esti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1280" y="-3121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-360" y="259920"/>
            <a:ext cx="38098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Usando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843280" y="0"/>
                <a:ext cx="525780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5067360" y="4114800"/>
            <a:ext cx="29718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50920" y="1557360"/>
                <a:ext cx="669744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G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042920" y="3716280"/>
                <a:ext cx="297180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bservada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843280" y="4149720"/>
                <a:ext cx="297180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bservada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411280" y="3933720"/>
                <a:ext cx="297180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bservada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0" y="4941720"/>
            <a:ext cx="914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Para el caso de exo-planetas la masa de la estrella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se conoce, v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se mide, y   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 / 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141720"/>
            <a:ext cx="9144000" cy="17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( v = v</a:t>
            </a:r>
            <a:r>
              <a:rPr b="1" i="1" lang="es-MX" sz="3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observada</a:t>
            </a: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inación de la órbita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 i ~ 90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hay un eclip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Espectro Sol - Ti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920000" cy="51134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264920" y="4070520"/>
            <a:ext cx="13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Ti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49280" y="169560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S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32960" y="198612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tección indirecta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81080" y="3357720"/>
            <a:ext cx="10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Jupit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926040" y="2994120"/>
            <a:ext cx="17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espectroscop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48360" cy="64533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547640" y="6461280"/>
            <a:ext cx="103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dddddd"/>
                </a:solidFill>
                <a:latin typeface="Times New Roman"/>
              </a:rPr>
              <a:t>1 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36720" y="5950080"/>
            <a:ext cx="2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01080" y="6461280"/>
            <a:ext cx="7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dddddd"/>
                </a:solidFill>
                <a:latin typeface="Times New Roman"/>
              </a:rPr>
              <a:t>4 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789440" y="5950080"/>
            <a:ext cx="2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56360" y="2276640"/>
            <a:ext cx="208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Primeros 77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Planetas descubier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¿Está esto de acuerdo con lo que sabemos de la formación del Sistema Solar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9640" y="3860280"/>
            <a:ext cx="752652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No podemos explicar la formación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planetas jovianos tan cerca de la estrel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83600" y="2781360"/>
            <a:ext cx="153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dddddd"/>
                </a:solidFill>
                <a:latin typeface="Times New Roman"/>
              </a:rPr>
              <a:t>¡ NO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Leyes de Kep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s-MX" sz="2800" spc="-1" strike="noStrike" baseline="30000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  Ley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: los planetas giran en torno al Sol con órbitas que son elipses con el Sol en un fo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s-MX" sz="28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  Ley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: la línea que une el Sol y un planeta barre áreas iguales en tiempos igu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s-MX" sz="28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  Ley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: el cuadrado del período orbital es proporcional al cubo de su semieje mayor :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4640" y="5013360"/>
            <a:ext cx="162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MX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</a:t>
            </a:r>
            <a:r>
              <a:rPr b="0" i="1" lang="es-MX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s-MX" sz="3200" spc="-1" strike="noStrike" baseline="30000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32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19640" y="404640"/>
            <a:ext cx="21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(1609 – 161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Leyes de New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38600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s-MX" sz="28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  Ley de Newton</a:t>
            </a:r>
            <a:r>
              <a:rPr b="0" lang="es-MX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s-MX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n ausencia de una fuerza externa un      objeto se mueve con velocidad constante</a:t>
            </a:r>
            <a:r>
              <a:rPr b="0" lang="es-MX" sz="28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s-MX" sz="28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  Ley de Newton</a:t>
            </a:r>
            <a:r>
              <a:rPr b="0" lang="es-MX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: fuerza = mas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acel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y de Newton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ara cualquier fuerza existe 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erza de reacción de igual magnitud y dirección opue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25080" y="40464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(168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487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Ley de gravitación universal (Newt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981000"/>
            <a:ext cx="4716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 materia atrae a la materia por la fuerza  de grav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 fuerza de atracción entre dos objetos es directamente proporcional al producto de sus ma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 fuerza de atracción entre dos cuerpos es inversamente proporcional al cuadrado de la distancia entre sus cent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67000" y="4114440"/>
            <a:ext cx="2971800" cy="1981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932360" y="1197000"/>
                <a:ext cx="396072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4892040" y="3645000"/>
            <a:ext cx="388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G = 6.67 10</a:t>
            </a:r>
            <a:r>
              <a:rPr b="0" lang="es-MX" sz="3200" spc="-1" strike="noStrike" baseline="30000">
                <a:solidFill>
                  <a:srgbClr val="000000"/>
                </a:solidFill>
                <a:latin typeface="Times New Roman"/>
              </a:rPr>
              <a:t>-11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s-MX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/kg s</a:t>
            </a:r>
            <a:r>
              <a:rPr b="0" lang="es-MX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dddddd"/>
                </a:solidFill>
                <a:latin typeface="Times New Roman"/>
              </a:rPr>
              <a:t>Gravitación univer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120" y="2711520"/>
            <a:ext cx="7619760" cy="2654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401920" y="378288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642280" y="378288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MX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57080" y="364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40360" y="3860640"/>
            <a:ext cx="8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Versión de Newton de la 3</a:t>
            </a:r>
            <a:r>
              <a:rPr b="0" lang="es-MX" sz="32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 ley de  Kep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332000" y="1413000"/>
                <a:ext cx="648180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972360" y="3716280"/>
            <a:ext cx="58608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 : período de la órbita en segun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 : semieje mayor de la órbita en met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: masa del primer objeto en ki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: masa del segundo objeto en ki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G : const. Gravitación univer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Times New Roman"/>
              </a:rPr>
              <a:t>Ejemplo:   cálculo de la masa del S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964720" y="333360"/>
            <a:ext cx="1792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50920" y="981000"/>
                <a:ext cx="806616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erra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o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rra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erra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395280" y="2997360"/>
            <a:ext cx="6769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como :  </a:t>
            </a: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(M</a:t>
            </a:r>
            <a:r>
              <a:rPr b="0" i="1" lang="es-MX" sz="3600" spc="-1" strike="noStrike" baseline="-25000">
                <a:solidFill>
                  <a:srgbClr val="000000"/>
                </a:solidFill>
                <a:latin typeface="Times New Roman"/>
              </a:rPr>
              <a:t>sol</a:t>
            </a: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+ M</a:t>
            </a:r>
            <a:r>
              <a:rPr b="0" i="1" lang="es-MX" sz="3600" spc="-1" strike="noStrike" baseline="-25000">
                <a:solidFill>
                  <a:srgbClr val="000000"/>
                </a:solidFill>
                <a:latin typeface="Times New Roman"/>
              </a:rPr>
              <a:t>tierra </a:t>
            </a: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M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50920" y="4221000"/>
                <a:ext cx="5111640" cy="16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rra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rra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6253920" y="4379760"/>
            <a:ext cx="23857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MX" sz="3600" spc="-1" strike="noStrike" baseline="-25000">
                <a:solidFill>
                  <a:srgbClr val="000000"/>
                </a:solidFill>
                <a:latin typeface="Times New Roman"/>
              </a:rPr>
              <a:t>tierra</a:t>
            </a: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1 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MX" sz="3600" spc="-1" strike="noStrike" baseline="-25000">
                <a:solidFill>
                  <a:srgbClr val="000000"/>
                </a:solidFill>
                <a:latin typeface="Times New Roman"/>
              </a:rPr>
              <a:t>tierra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= 1 añ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partamento de Astronomia</cp:lastModifiedBy>
  <dcterms:modified xsi:type="dcterms:W3CDTF">2007-08-28T03:55:32Z</dcterms:modified>
  <cp:revision>86</cp:revision>
  <dc:subject/>
  <dc:title>PowerPoint Presentation</dc:title>
</cp:coreProperties>
</file>