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5B4F-8331-43B8-9499-04B22179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A46A-741E-49FA-9395-E1EC6C93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38C0-8603-49F5-88D1-8054A0E5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2FB5-0057-4920-BBA9-31E4F3B6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6F25-8DFD-480F-AC3A-28CFBEA8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9DD2-5B61-429C-B120-21BBA4FB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C83E-7BE6-492A-8E92-918E1DF2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F4C3-F4C5-43DA-8731-C42F4407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4597-FCA3-4C4E-97F7-C4B3F080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0798-F124-4F82-81AF-0B940147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C747-F115-492F-A8D5-8CD34F80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AB7D-C9F9-49E3-B67B-6358D362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BF72-BABE-4702-AAC9-A8DD61BDEC3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4520" y="0"/>
            <a:ext cx="24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ddddd"/>
                </a:solidFill>
                <a:latin typeface="Times New Roman"/>
              </a:rPr>
              <a:t>Mov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4736880" cy="5402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796000" y="1052640"/>
            <a:ext cx="219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Tycho Bra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(1546 – 16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73120" y="2492280"/>
            <a:ext cx="380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rataba 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Tierra giraba alre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l Sol (teoría de Copernic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95880" y="3736800"/>
            <a:ext cx="39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Intentó medir paralajes tr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 las estrellas más cerc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sin tener aún telescopios)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robar que la Tierra se mov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lrededor del S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046960" y="476280"/>
            <a:ext cx="45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strellas dobles (binari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1628640"/>
            <a:ext cx="691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 70 % de las estrellas forman sistemas do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o múlt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15640" y="3284640"/>
            <a:ext cx="728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os sistemas binarios permiten medir la mas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ada una de las estrellas (o bien su función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asas en caso de que la inclinación de la órbita 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no se conozc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697840" y="0"/>
            <a:ext cx="32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Tipos de binaria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07360" y="1557360"/>
            <a:ext cx="6494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par de estrellas que se ven claramente orbitando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torno a su centro de masas común (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2840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58800" y="600084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En este caso, tanto Mizar A cómo Mizar B son bin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8000" y="955800"/>
            <a:ext cx="269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Binarias visu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10080" y="357120"/>
            <a:ext cx="84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Otro ejemplo de binaria visual es Sirio A y Sirio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6000" y="3645000"/>
            <a:ext cx="8367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rio A es una estrella de tipo espectral A1 con una 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proximada de 2 veces la masa del S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rio B es una enana blanca con una masa similar a la 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70560" y="260280"/>
            <a:ext cx="350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Binarias eclipsant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9480" y="1125360"/>
            <a:ext cx="809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Una binaria eclipsante está compuesta por dos estrel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uya órbita esta en el plano de la vis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2387520"/>
            <a:ext cx="856908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26920" y="1268280"/>
            <a:ext cx="766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 ejemplo más conocido de binaria eclipsante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lgol (en la constelación de Perseo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lgol se hace 3 veces más débil por unas po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horas cada 3 días, cuando la componente má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brillante del sistema es eclipsada por su compañ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ás déb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77120" y="260280"/>
            <a:ext cx="438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Binarias espectroscóp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1280" y="1052640"/>
            <a:ext cx="73130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on sistemas en que sólo podemos detectar 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variaciones de velocidades radiales de am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rellas debido a su movimiento en torno al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omún. En este caso vemos dos sistemas de lín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pectrales que se mueven periódicamente hac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 azul y el rojo, con distintas veloc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 muchos casos sólo vemos un sistema de lín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ebido a que la otra estrella es muy débil, en 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aso sólo podemos dar una masa mínima p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 estrella que no se detecta (Función de Mas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48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21337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2060640"/>
            <a:ext cx="47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pectro corrido hacia el az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2920" y="4334040"/>
            <a:ext cx="46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pectro corrido hacia el ro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95840" y="339876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acia el observ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37640" y="109368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objeto se ace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4720" y="609300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objeto se ale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20400" y="189000"/>
            <a:ext cx="41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Determinación de m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50920" y="1052640"/>
                <a:ext cx="475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443640" y="1268280"/>
                <a:ext cx="21607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609840" y="4241880"/>
            <a:ext cx="304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eríodo orb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emieje may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velocidad orb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003640" y="2924280"/>
                <a:ext cx="2376720" cy="18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95120" y="398520"/>
            <a:ext cx="167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341360"/>
            <a:ext cx="781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s líneas del espectro de dos estrellas que form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una binaria eclipsante se mueven con un períod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2 años (p = 6.2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s). Las líneas de una estrell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estrella 1) se desplazan el doble que las de la ot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estrella 2). El desplazamiento Doppler indic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que la estrella 1 tiene una velocidad ra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v = 100000 m/s (suponer que ambas estrel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tienen órbitas circularesen torno a su C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alcular ambas ma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74760" y="517680"/>
            <a:ext cx="795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mo tenemos el período orbital, podemos determ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l semieje mayor  dado qu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0" y="1773360"/>
                <a:ext cx="9144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59840" y="354348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Usando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3213000"/>
                <a:ext cx="662436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0" y="4767120"/>
            <a:ext cx="9144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 las líneas de la estrella 1 se desplazan el doble que las de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2, esto implica que su velocidad es el doble (Doppler) , y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asa la mitad, M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= 2M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g  ; 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5 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5867280" cy="568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84360" y="26028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Johannes Kepler (1571 – 16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75840" y="517680"/>
            <a:ext cx="617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n el caso que la estrella 2 no sea visibl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900000" y="1484280"/>
                <a:ext cx="7056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933080" y="2924280"/>
            <a:ext cx="27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Función de ma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3716280"/>
            <a:ext cx="766764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(obs) = velocidad radial med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= 1  si la órbita está en el plano de la 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es la masa de la estrella que se 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03280" y="1890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lanetas extra-solares (exo-planet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5000" y="1725480"/>
            <a:ext cx="79120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Métodos de detección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irecto (aún en el futuro ?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or movimiento propio en torno al CM  (poc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or variación de velocidad radial (método má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usado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6048720" cy="568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000760" y="386064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corrida al az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11680" y="371628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corrida hacia el ro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9480" y="604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64008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39120" y="251316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str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72240" y="71280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laneta extra-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7800" y="119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Curva de velocidad radial de 51 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7056360" cy="4898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758040" y="618480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Tiempo (dí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268280"/>
            <a:ext cx="54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472428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(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17800" y="1844640"/>
            <a:ext cx="6628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 planeta de 51 Peg tiene 60% de la masa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Júpiter,  pero gira en torno a su estrel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~ 4 días, su temperatura es de ~ 100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-4680" y="26028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Orbita en el plano del ci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549360"/>
            <a:ext cx="49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Orbita perpendicular al plano del cielo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00" y="765000"/>
            <a:ext cx="374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No se detecta variación de v</a:t>
            </a:r>
            <a:r>
              <a:rPr b="0" lang="es-MX" sz="2400" spc="-1" strike="noStrike" baseline="-25000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76960" y="1766880"/>
            <a:ext cx="421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clinación de la órb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del planeta extra-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8317080" cy="5761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068720" y="602136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" y="267804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2000" y="19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85280" y="354348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72920" y="419112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Tránsito de HD2094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5113440" cy="5832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204520" y="671400"/>
            <a:ext cx="316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Como en este caso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planeta tapa el 1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e la luz de la estr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urante el tránsito, 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permite estimar el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el planeta conoc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el de la estre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79560" y="3827520"/>
            <a:ext cx="2962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Como la órbita está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el plano de la líne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la visual, podem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calcular su 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Resultó ser un plane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parecido a Júp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Cálculo de masas de exo-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 masa de la estrella (se conoce por el espectr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 masa del exo-pla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 velocidad orbital de la estrella c/r  al centro de masas (C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 velocidad orbital del exo-planeta c/r al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 distancia de la estrella al CM (normalmente muy        pequeñ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 distancia del exo-planeta al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920" y="-637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68360" y="333360"/>
                <a:ext cx="25588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435640" y="692280"/>
                <a:ext cx="26636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50920" y="1916280"/>
                <a:ext cx="40338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5883840" y="2424240"/>
            <a:ext cx="1893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=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0320" y="4334040"/>
            <a:ext cx="48960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: velocidad orbital de objet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: velocidad orbital de objet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  : semieje mayor de la órb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248360" cy="5113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4248360" cy="5112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56400" y="189000"/>
            <a:ext cx="198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Galileo Galil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1564 – 16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33640" y="209520"/>
            <a:ext cx="19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Isaac New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1642 – 172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79080" y="469800"/>
            <a:ext cx="5190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expresión final para M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84360" y="1268280"/>
                <a:ext cx="77040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220360" y="2708280"/>
            <a:ext cx="27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Función de ma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3933720"/>
            <a:ext cx="7596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(obs) = velocidad radial med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n i = 1  si la órbita está en el plano de la 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es la masa de la estrella que se puede esti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-312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38098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Usando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843280" y="0"/>
                <a:ext cx="525780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067360" y="4114800"/>
            <a:ext cx="2971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0920" y="1557360"/>
                <a:ext cx="66974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042920" y="3716280"/>
                <a:ext cx="29718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843280" y="4149720"/>
                <a:ext cx="297180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411280" y="3933720"/>
                <a:ext cx="29718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0" y="4941720"/>
            <a:ext cx="914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ara el caso de exo-planetas la masa de la estrell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se conoce, v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se mide, y   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141720"/>
            <a:ext cx="914400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( v = v</a:t>
            </a:r>
            <a:r>
              <a:rPr b="1" i="1" lang="es-MX" sz="3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servada</a:t>
            </a: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inación de la órbita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i ~ 90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hay un eclip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spectro Sol - 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920000" cy="51134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264920" y="407052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49280" y="169560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32960" y="198612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tección indirecta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81080" y="335772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Jupit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26040" y="299412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espectroscop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48360" cy="6453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547640" y="6461280"/>
            <a:ext cx="103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dddddd"/>
                </a:solidFill>
                <a:latin typeface="Times New Roman"/>
              </a:rPr>
              <a:t>1 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36720" y="5950080"/>
            <a:ext cx="2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01080" y="646128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dddddd"/>
                </a:solidFill>
                <a:latin typeface="Times New Roman"/>
              </a:rPr>
              <a:t>4 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89440" y="5950080"/>
            <a:ext cx="2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56360" y="2276640"/>
            <a:ext cx="20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rimeros 7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lanetas descubie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¿Está esto de acuerdo con lo que sabemos de la formación del Sistema Sola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9640" y="3860280"/>
            <a:ext cx="75265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No podemos explicar la formació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lanetas jovianos tan cerca de la estre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83600" y="2781360"/>
            <a:ext cx="15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dddddd"/>
                </a:solidFill>
                <a:latin typeface="Times New Roman"/>
              </a:rPr>
              <a:t>¡ NO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Leyes de Kep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s-MX" sz="2800" spc="-1" strike="noStrike" baseline="30000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: los planetas giran en torno al Sol con órbitas que son elipses con el Sol en un fo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: la línea que une el Sol y un planeta barre áreas iguales en tiempos igu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: el cuadrado del período orbital es proporcional al cubo de su semieje mayor :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4640" y="5013360"/>
            <a:ext cx="16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</a:t>
            </a:r>
            <a:r>
              <a:rPr b="0" i="1" lang="es-MX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s-MX" sz="3200" spc="-1" strike="noStrike" baseline="30000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404640"/>
            <a:ext cx="21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(1609 – 16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Leyes de New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386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  Ley de Newton</a:t>
            </a:r>
            <a:r>
              <a:rPr b="0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n ausencia de una fuerza externa un      objeto se mueve con velocidad constante</a:t>
            </a:r>
            <a:r>
              <a:rPr b="0" lang="es-MX" sz="28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  Ley de Newton</a:t>
            </a:r>
            <a:r>
              <a:rPr b="0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: fuerza = mas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acel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y de Newton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ra cualquier fuerza existe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rza de reacción de igual magnitud y dirección opue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5080" y="40464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(168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48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Ley de gravitación universal (Newt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4716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materia atrae a la materia por la fuerza  de grav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fuerza de atracción entre dos objetos es directamente proporcional al producto de sus ma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fuerza de atracción entre dos cuerpos es inversamente proporcional al cuadrado de la distancia entre sus cen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67000" y="4114440"/>
            <a:ext cx="2971800" cy="198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932360" y="1197000"/>
                <a:ext cx="39607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892040" y="3645000"/>
            <a:ext cx="38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 = 6.67 10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/kg s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dddddd"/>
                </a:solidFill>
                <a:latin typeface="Times New Roman"/>
              </a:rPr>
              <a:t>Gravitación uni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2711520"/>
            <a:ext cx="7619760" cy="2654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01920" y="378288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42280" y="378288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57080" y="36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3860640"/>
            <a:ext cx="8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Versión de Newton de la 3</a:t>
            </a:r>
            <a:r>
              <a:rPr b="0" lang="es-MX" sz="32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 ley de  Kep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332000" y="1413000"/>
                <a:ext cx="648180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972360" y="3716280"/>
            <a:ext cx="58608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 : período de la órbita en segu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 : semieje mayor de la órbita en me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: masa del primer objeto en ki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: masa del segundo objeto en ki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G : const. Gravitación univer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Ejemplo:   cálculo de la masa del S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964720" y="333360"/>
            <a:ext cx="1792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50920" y="981000"/>
                <a:ext cx="80661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err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err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395280" y="2997360"/>
            <a:ext cx="6769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omo :  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sol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+ M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 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M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50920" y="4221000"/>
                <a:ext cx="511164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6253920" y="4379760"/>
            <a:ext cx="23857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 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= 1 a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8-28T03:55:32Z</dcterms:modified>
  <cp:revision>86</cp:revision>
  <dc:subject/>
  <dc:title>PowerPoint Presentation</dc:title>
</cp:coreProperties>
</file>