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C2F-302B-4EF7-94B3-4DDD2682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2EF-4B85-466F-B392-E5CE006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342-3C22-4C1D-B993-55A75846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AB9-0A09-49AA-880F-DE9EC17C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38F-11E4-42DF-AB20-F0EA6CB7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D71-3ADE-44E3-8F4F-CCBC3927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74F-D558-4BC2-A168-764105F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C07-7917-4D64-A9FC-8C8CF143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896-F778-434D-8465-2BC9C97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80E-C62A-467B-861E-003F459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BAB-ECDA-468E-933E-F507FC6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AFB-BE68-4D5F-B0DB-5D05E70A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37B-6460-45B7-8CD3-58662F84668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1480" y="144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5400" y="857160"/>
            <a:ext cx="743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bido a que las estrellas emiten un espectro muy par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un cuerpo negro (BB) podemos usar la ley de Stefan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oltzmann para relacionarla con la temperatura  T y 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480" y="3881520"/>
            <a:ext cx="7855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muchos cálculos es conveniente expresar estas ca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relación a sus valores solares  que son conoci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T / T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so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3840" y="18900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7360" y="9810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on variables pulsantes, es decir presentan una var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su tamaño (~10%), de su temperatura (color) con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íodo de horas (~0.6 dí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0280" y="5950080"/>
            <a:ext cx="55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RR Lyrae tienen una magnitud M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3400" y="2997360"/>
            <a:ext cx="78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tipo Cefeida la descubrió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784 un joven sordo mudo llamado Jhon Goodricke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9 años. Desgraciadamente este astrónomo aficionado per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vida por esta actividad ya que falleció de pulmonía ant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mplir los 2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9840" y="189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Variables Cefe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480" y="10731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n variables pulsantes con períodos que van desde u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ías hasta un par de meses. Son estrellas intrínsec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brillantes que las RR Lyr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2602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elación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Período - Luminosidad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200" y="1197000"/>
            <a:ext cx="76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descubrió (Henrieta Leavit, 1912) que existe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tre el período y la luminosidad (promedio) de las Cefe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minosa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efeidas en NGC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oyecto Arauc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0640" y="38160"/>
            <a:ext cx="59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de largo per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1560" y="641520"/>
            <a:ext cx="793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que se descubrió fu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variable tipo Mira en 1595 por el astrónomo afi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nacionalidad Holandesa David Fabricius, él notó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strella  “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ο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eti” en ocasiones se podía ver a simple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n otras desaparecía de la vista. En 1660 los astrón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dieron cuenta que esto se repetía con un período de 332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astrónomos  del siglo 17 estaban tan maravillad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variable que la rebautizaron “Mira” (marravillo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6120" y="388152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variables tipo Mira varían su luminosidad por u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00 o más en períodos que van de meses hasta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9640" y="15876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56320" y="136440"/>
            <a:ext cx="653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omemos el caso de Betelgeuse, estrella brillante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ojiza en la constelación de Orión. Betelgeuse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0.000 veces más luminosa que el Sol y tien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superficial  T = 3500 K , cuál sería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de Betelgeuse en radios so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25560" y="2441520"/>
            <a:ext cx="64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5800 K / 3500 K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6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= 6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1200" y="3305160"/>
            <a:ext cx="78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 Betelgeuse es 670 veces más grande que el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l Sol es de 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por lo tanto el rad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etelgeuse es  670 × (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 ) = 4,7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s más de 3 veces la distancia de la Tierra al S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 Betelgeuse estuviera en el lugar del Sol su tamaño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xtendería más allá de la órbita de Marte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3320" y="189000"/>
            <a:ext cx="66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dddddd"/>
                </a:solidFill>
                <a:uFillTx/>
                <a:latin typeface="Times New Roman"/>
              </a:rPr>
              <a:t>Cúmulos estelares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: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 globular M80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56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62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63640" y="189000"/>
            <a:ext cx="51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s abiertos : ej. Las Plei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Pleiades son 7.5 veces mas débiles que las Hy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o =&gt;  que están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√ 7.5 = 2.5 veces más le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2616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8120" y="-64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Secuencia Principal del diagrama H-R hay una re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re la masa y la luminosidad de un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380880"/>
            <a:ext cx="7200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4120" y="571680"/>
            <a:ext cx="54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640" y="1890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Times New Roman"/>
              </a:rPr>
              <a:t>Escala de di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720" y="6516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GC 36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440" y="0"/>
            <a:ext cx="8526960" cy="6858000"/>
            <a:chOff x="685440" y="0"/>
            <a:chExt cx="852696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332000" y="692280"/>
              <a:ext cx="6697440" cy="61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86520" y="4365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27520" y="441468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5480" y="5229360"/>
              <a:ext cx="12888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0,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9200" y="3500280"/>
              <a:ext cx="1224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13160" y="2565360"/>
              <a:ext cx="1299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2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720" y="1628640"/>
              <a:ext cx="1299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3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2880" y="0"/>
              <a:ext cx="22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Diagrama H-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560" y="357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3068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560" y="26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25080" y="213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560" y="1698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560" y="1266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3840" y="4002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1400" y="443376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1920" y="48690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1920" y="537372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440" y="3284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44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80880"/>
            <a:ext cx="6481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46980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5229360"/>
            <a:ext cx="6890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enana (V) : Algol con un tipo espec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8 (T=13400 K) y L=1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5440" y="57085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rica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56560" y="145404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pobre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5076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etal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78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5040" y="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ción de parámetros fundamental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42200" y="26028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5640" y="12477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RR Lyrae y Cefei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7120" y="2133720"/>
            <a:ext cx="67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estrellas variables en una cierta constelación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nominaron con la letra R, S, T, U, V……Z, c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llegó a ZZ siguieron con AA,……QZ, así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mbraron las primeras 334 estrellas variables,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iguientes se denominan  V381, V382, V383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0200" y="4869000"/>
            <a:ext cx="73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tre las estrellas variables más importantes es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variables pul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5640" y="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6T14:24:16Z</dcterms:modified>
  <cp:revision>60</cp:revision>
  <dc:subject/>
  <dc:title>PowerPoint Presentation</dc:title>
</cp:coreProperties>
</file>