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E449-2158-472A-8EE1-934AC4B06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B643-A0E6-4193-8D5C-BB902AE81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737D-1624-4F60-91E1-90B97FA39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553E-EB63-44FA-96B2-F6F7F2C0E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41F8-4526-41D4-AB0F-4361293AC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DD9A-0E8E-4B60-BEA3-898169CE0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81CB-F978-4385-A5CF-7C8E768AA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43F7-9B14-4000-821F-111A2DE1C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328D-B967-4A65-8240-0EFA30CCB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69FF-7C72-4921-A952-316D1338F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29B8-C3AE-453B-9765-FF13F4302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CBA1-C7AD-416B-8793-4C58D6C17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72ED7-86AC-479D-8B89-960FB02C8B5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751480" y="14400"/>
            <a:ext cx="20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ddddd"/>
                </a:solidFill>
                <a:latin typeface="Times New Roman"/>
              </a:rPr>
              <a:t>Luminos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25400" y="857160"/>
            <a:ext cx="7431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Debido a que las estrellas emiten un espectro muy parec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a un cuerpo negro (BB) podemos usar la ley de Stefan 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Boltzmann para relacionarla con la temperatura  T y a s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radio R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                                 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 = 4</a:t>
            </a:r>
            <a:r>
              <a:rPr b="0" lang="el-GR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π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R</a:t>
            </a:r>
            <a:r>
              <a:rPr b="0" lang="es-ES" sz="24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2 </a:t>
            </a:r>
            <a:r>
              <a:rPr b="0" lang="el-GR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σ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T</a:t>
            </a:r>
            <a:r>
              <a:rPr b="0" lang="es-ES" sz="24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4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98480" y="3881520"/>
            <a:ext cx="785556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Para muchos cálculos es conveniente expresar estas cant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n relación a sus valores solares  que son conocido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                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 / L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sol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= ( R / R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sol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)</a:t>
            </a:r>
            <a:r>
              <a:rPr b="0" lang="es-ES" sz="24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× ( T / T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  <a:ea typeface="Times New Roman"/>
              </a:rPr>
              <a:t>sol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)</a:t>
            </a:r>
            <a:r>
              <a:rPr b="0" lang="en-US" sz="24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553840" y="189000"/>
            <a:ext cx="365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Variables RR Lyrae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47360" y="981000"/>
            <a:ext cx="711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Son variables pulsantes, es decir presentan una vari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en su tamaño (~10%), de su temperatura (color) con 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período de horas (~0.6 dí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50920" y="2421000"/>
            <a:ext cx="8534160" cy="34210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465280" y="2751120"/>
            <a:ext cx="19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imes New Roman"/>
              </a:rPr>
              <a:t>Curva de lu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40280" y="5950080"/>
            <a:ext cx="559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Las RR Lyrae tienen una magnitud M</a:t>
            </a:r>
            <a:r>
              <a:rPr b="0" lang="es-MX" sz="2400" spc="-1" strike="noStrike" baseline="-25000">
                <a:solidFill>
                  <a:srgbClr val="dddddd"/>
                </a:solidFill>
                <a:latin typeface="Times New Roman"/>
              </a:rPr>
              <a:t>B </a:t>
            </a: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= 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63480" y="878040"/>
            <a:ext cx="8024760" cy="53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Si observamos una estrella cuya luz varía de una for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similar a la de una RR Lyrae , entonces del diagr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H-R sabemos que la magnitud absoluta será M</a:t>
            </a:r>
            <a:r>
              <a:rPr b="0" lang="es-MX" sz="2800" spc="-1" strike="noStrike" baseline="-25000">
                <a:solidFill>
                  <a:srgbClr val="dddddd"/>
                </a:solidFill>
                <a:latin typeface="Times New Roman"/>
              </a:rPr>
              <a:t>B 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= 0.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Si tenemos que su magnitud aparente (promedio) 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s-MX" sz="2800" spc="-1" strike="noStrike" baseline="-25000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 = 7.4  (curva de luz en lámina anterior), ento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m – M = 7.4 – 0.6 = 6.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m – M = 5 log (d/10)  =&gt; d = 10pc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× 10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(m-M)/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      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d = 10 × 10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6.8/5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= 229 p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43400" y="2997360"/>
            <a:ext cx="784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a primera variable pulsante tipo Cefeida la descubrió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1784 un joven sordo mudo llamado Jhon Goodricke a 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19 años. Desgraciadamente este astrónomo aficionado perdió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a vida por esta actividad ya que falleció de pulmonía antes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cumplir los 22 añ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049840" y="189000"/>
            <a:ext cx="32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dddddd"/>
                </a:solidFill>
                <a:latin typeface="Times New Roman"/>
              </a:rPr>
              <a:t>Variables Cefei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98480" y="1073160"/>
            <a:ext cx="720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Son variables pulsantes con períodos que van desde u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días hasta un par de meses. Son estrellas intrínsecamen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Más brillantes que las RR Lyr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00000" y="260280"/>
            <a:ext cx="73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Relación </a:t>
            </a:r>
            <a:r>
              <a:rPr b="0" lang="es-MX" sz="2800" spc="-1" strike="noStrike" u="sng">
                <a:solidFill>
                  <a:srgbClr val="dddddd"/>
                </a:solidFill>
                <a:uFillTx/>
                <a:latin typeface="Times New Roman"/>
              </a:rPr>
              <a:t>Período - Luminosidad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45200" y="1197000"/>
            <a:ext cx="766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Se descubrió (Henrieta Leavit, 1912) que existe una re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entre el período y la luminosidad (promedio) de las Cefei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04920" y="2276640"/>
            <a:ext cx="8534160" cy="40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17680" y="517680"/>
            <a:ext cx="79243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Las Cefeidas pueden llegar a ser 5 magnitudes má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brillantes que las RR Ly , es decir un factor 100 má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luminosas lo que =&gt; un factor 10 en distancia, por 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que las Cefeidas permiten medir distancias a todas l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galaxias cerca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213000"/>
            <a:ext cx="4716360" cy="3240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788000" y="3213000"/>
            <a:ext cx="4356000" cy="32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Cefeidas en NGC 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6327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Proyecto Arauca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734544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547640" y="765000"/>
            <a:ext cx="5977080" cy="57326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520640" y="38160"/>
            <a:ext cx="594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Variables de largo período (Mira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871560" y="641520"/>
            <a:ext cx="7938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a primera variable pulsante que se descubrió fue u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variable tipo Mira en 1595 por el astrónomo aficion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de nacionalidad Holandesa David Fabricius, él notó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a estrella  “</a:t>
            </a:r>
            <a:r>
              <a:rPr b="0" lang="el-GR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ο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Ceti” en ocasiones se podía ver a simple vi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y en otras desaparecía de la vista. En 1660 los astróno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se dieron cuenta que esto se repetía con un período de 332 dí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Los astrónomos  del siglo 17 estaban tan maravillados c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esta variable que la rebautizaron “Mira” (marravillos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86120" y="3881520"/>
            <a:ext cx="745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as variables tipo Mira varían su luminosidad por un 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100 o más en períodos que van de meses hasta añ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65040" y="682560"/>
            <a:ext cx="8412120" cy="54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49640" y="158760"/>
            <a:ext cx="68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ddddd"/>
                </a:solidFill>
                <a:latin typeface="Times New Roman"/>
              </a:rPr>
              <a:t>Ej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56320" y="136440"/>
            <a:ext cx="6534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Tomemos el caso de Betelgeuse, estrella brillante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rojiza en la constelación de Orión. Betelgeuse 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60.000 veces más luminosa que el Sol y tiene u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temperatura superficial  T = 3500 K , cuál sería 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radio R de Betelgeuse en radios sola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25560" y="2441520"/>
            <a:ext cx="6482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R / R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sol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= ( 5800 K / 3500 K )</a:t>
            </a:r>
            <a:r>
              <a:rPr b="0" lang="es-ES" sz="24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× ( 6 × 10</a:t>
            </a:r>
            <a:r>
              <a:rPr b="0" lang="en-US" sz="24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)</a:t>
            </a:r>
            <a:r>
              <a:rPr b="0" lang="en-US" sz="24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1/2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 = 6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71200" y="3305160"/>
            <a:ext cx="7852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l radio de Betelgeuse es 670 veces más grande que el del S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l radio del Sol es de 6,96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× 10</a:t>
            </a:r>
            <a:r>
              <a:rPr b="0" lang="en-US" sz="2400" spc="-1" strike="noStrike" baseline="30000">
                <a:solidFill>
                  <a:srgbClr val="dddddd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km, por lo tanto el radi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Betelgeuse es  670 × (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6,96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× 10</a:t>
            </a:r>
            <a:r>
              <a:rPr b="0" lang="en-US" sz="2400" spc="-1" strike="noStrike" baseline="30000">
                <a:solidFill>
                  <a:srgbClr val="dddddd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km ) = 4,7 × 10</a:t>
            </a:r>
            <a:r>
              <a:rPr b="0" lang="en-US" sz="2400" spc="-1" strike="noStrike" baseline="30000">
                <a:solidFill>
                  <a:srgbClr val="dddddd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km,  e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es más de 3 veces la distancia de la Tierra al So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i Betelgeuse estuviera en el lugar del Sol su tamaño 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extendería más allá de la órbita de Marte 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183320" y="189000"/>
            <a:ext cx="66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dddddd"/>
                </a:solidFill>
                <a:uFillTx/>
                <a:latin typeface="Times New Roman"/>
              </a:rPr>
              <a:t>Cúmulos estelares</a:t>
            </a:r>
            <a:r>
              <a:rPr b="0" lang="es-ES" sz="3200" spc="-1" strike="noStrike">
                <a:solidFill>
                  <a:srgbClr val="dddddd"/>
                </a:solidFill>
                <a:latin typeface="Times New Roman"/>
              </a:rPr>
              <a:t> : </a:t>
            </a:r>
            <a:r>
              <a:rPr b="0" lang="es-ES" sz="2800" spc="-1" strike="noStrike">
                <a:solidFill>
                  <a:srgbClr val="dddddd"/>
                </a:solidFill>
                <a:latin typeface="Times New Roman"/>
              </a:rPr>
              <a:t>cúmulo globular M80</a:t>
            </a:r>
            <a:r>
              <a:rPr b="0" lang="es-E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268360" y="907920"/>
            <a:ext cx="45626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55640" y="907920"/>
            <a:ext cx="7620120" cy="56260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763640" y="189000"/>
            <a:ext cx="517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ddddd"/>
                </a:solidFill>
                <a:latin typeface="Times New Roman"/>
              </a:rPr>
              <a:t>Cúmulos abiertos : ej. Las Plei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900000" y="18900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Las Pleiades son 7.5 veces mas débiles que las Hy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esto =&gt;  que están 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√ 7.5 = 2.5 veces más lej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258920" y="1268280"/>
            <a:ext cx="66261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258920" y="907920"/>
            <a:ext cx="6626160" cy="5715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38120" y="-6480"/>
            <a:ext cx="774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n la Secuencia Principal del diagrama H-R hay una rel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ntre la masa y la luminosidad de una estrel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971640" y="380880"/>
            <a:ext cx="720072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824120" y="571680"/>
            <a:ext cx="5495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403640" y="189000"/>
            <a:ext cx="302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92929"/>
                </a:solidFill>
                <a:latin typeface="Times New Roman"/>
              </a:rPr>
              <a:t>Escala de distanc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50720" y="65160"/>
            <a:ext cx="150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NGC 36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685440" y="0"/>
            <a:ext cx="8526960" cy="6858000"/>
            <a:chOff x="685440" y="0"/>
            <a:chExt cx="8526960" cy="6858000"/>
          </a:xfrm>
        </p:grpSpPr>
        <p:pic>
          <p:nvPicPr>
            <p:cNvPr id="49" name="" descr=""/>
            <p:cNvPicPr/>
            <p:nvPr/>
          </p:nvPicPr>
          <p:blipFill>
            <a:blip r:embed="rId1"/>
            <a:stretch/>
          </p:blipFill>
          <p:spPr>
            <a:xfrm>
              <a:off x="1332000" y="692280"/>
              <a:ext cx="6697440" cy="616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7886520" y="43657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327520" y="4414680"/>
              <a:ext cx="715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dddddd"/>
                  </a:solidFill>
                  <a:latin typeface="Times New Roman"/>
                </a:rPr>
                <a:t>1 R</a:t>
              </a:r>
              <a:r>
                <a:rPr b="0" lang="es-ES" sz="2000" spc="-1" strike="noStrike" baseline="-25000">
                  <a:solidFill>
                    <a:srgbClr val="dddddd"/>
                  </a:solidFill>
                  <a:latin typeface="Times New Roman"/>
                </a:rPr>
                <a:t>so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45480" y="5229360"/>
              <a:ext cx="1288800" cy="49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← </a:t>
              </a:r>
              <a:r>
                <a:rPr b="0" lang="es-ES" sz="20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0,1 R</a:t>
              </a:r>
              <a:r>
                <a:rPr b="0" lang="es-ES" sz="2000" spc="-1" strike="noStrike" baseline="-25000">
                  <a:solidFill>
                    <a:srgbClr val="dddddd"/>
                  </a:solidFill>
                  <a:latin typeface="Times New Roman"/>
                  <a:ea typeface="Times New Roman"/>
                </a:rPr>
                <a:t>so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09200" y="3500280"/>
              <a:ext cx="1224720" cy="49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← </a:t>
              </a:r>
              <a:r>
                <a:rPr b="0" lang="es-ES" sz="20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10 R</a:t>
              </a:r>
              <a:r>
                <a:rPr b="0" lang="es-ES" sz="2000" spc="-1" strike="noStrike" baseline="-25000">
                  <a:solidFill>
                    <a:srgbClr val="dddddd"/>
                  </a:solidFill>
                  <a:latin typeface="Times New Roman"/>
                  <a:ea typeface="Times New Roman"/>
                </a:rPr>
                <a:t>so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913160" y="2565360"/>
              <a:ext cx="129924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← </a:t>
              </a:r>
              <a:r>
                <a:rPr b="0" lang="es-ES" sz="20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10</a:t>
              </a:r>
              <a:r>
                <a:rPr b="0" lang="es-ES" sz="2000" spc="-1" strike="noStrike" baseline="30000">
                  <a:solidFill>
                    <a:srgbClr val="dddddd"/>
                  </a:solidFill>
                  <a:latin typeface="Times New Roman"/>
                  <a:ea typeface="Times New Roman"/>
                </a:rPr>
                <a:t>2</a:t>
              </a:r>
              <a:r>
                <a:rPr b="0" lang="es-ES" sz="20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 R</a:t>
              </a:r>
              <a:r>
                <a:rPr b="0" lang="es-ES" sz="2000" spc="-1" strike="noStrike" baseline="-25000">
                  <a:solidFill>
                    <a:srgbClr val="dddddd"/>
                  </a:solidFill>
                  <a:latin typeface="Times New Roman"/>
                  <a:ea typeface="Times New Roman"/>
                </a:rPr>
                <a:t>so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830720" y="1628640"/>
              <a:ext cx="1299240" cy="49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← </a:t>
              </a:r>
              <a:r>
                <a:rPr b="0" lang="es-ES" sz="20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10</a:t>
              </a:r>
              <a:r>
                <a:rPr b="0" lang="es-ES" sz="2000" spc="-1" strike="noStrike" baseline="30000">
                  <a:solidFill>
                    <a:srgbClr val="dddddd"/>
                  </a:solidFill>
                  <a:latin typeface="Times New Roman"/>
                  <a:ea typeface="Times New Roman"/>
                </a:rPr>
                <a:t>3</a:t>
              </a:r>
              <a:r>
                <a:rPr b="0" lang="es-ES" sz="20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 R</a:t>
              </a:r>
              <a:r>
                <a:rPr b="0" lang="es-ES" sz="2000" spc="-1" strike="noStrike" baseline="-25000">
                  <a:solidFill>
                    <a:srgbClr val="dddddd"/>
                  </a:solidFill>
                  <a:latin typeface="Times New Roman"/>
                  <a:ea typeface="Times New Roman"/>
                </a:rPr>
                <a:t>so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422880" y="0"/>
              <a:ext cx="227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dddddd"/>
                  </a:solidFill>
                  <a:latin typeface="Times New Roman"/>
                </a:rPr>
                <a:t>Diagrama H-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104560" y="35701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24000" y="306864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104560" y="26337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dddddd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25080" y="21337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dddddd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104560" y="16984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dddddd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104560" y="12668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dddddd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103840" y="4002120"/>
              <a:ext cx="50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dddddd"/>
                  </a:solidFill>
                  <a:latin typeface="Times New Roman"/>
                </a:rPr>
                <a:t>0.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11400" y="4433760"/>
              <a:ext cx="56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dddddd"/>
                  </a:solidFill>
                  <a:latin typeface="Times New Roman"/>
                </a:rPr>
                <a:t>10</a:t>
              </a:r>
              <a:r>
                <a:rPr b="0" lang="es-ES" sz="2000" spc="-1" strike="noStrike" baseline="30000">
                  <a:solidFill>
                    <a:srgbClr val="dddddd"/>
                  </a:solidFill>
                  <a:latin typeface="Times New Roman"/>
                </a:rPr>
                <a:t>-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31920" y="4869000"/>
              <a:ext cx="56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dddddd"/>
                  </a:solidFill>
                  <a:latin typeface="Times New Roman"/>
                </a:rPr>
                <a:t>10</a:t>
              </a:r>
              <a:r>
                <a:rPr b="0" lang="es-ES" sz="2000" spc="-1" strike="noStrike" baseline="30000">
                  <a:solidFill>
                    <a:srgbClr val="dddddd"/>
                  </a:solidFill>
                  <a:latin typeface="Times New Roman"/>
                </a:rPr>
                <a:t>-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131920" y="5373720"/>
              <a:ext cx="56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dddddd"/>
                  </a:solidFill>
                  <a:latin typeface="Times New Roman"/>
                </a:rPr>
                <a:t>10</a:t>
              </a:r>
              <a:r>
                <a:rPr b="0" lang="es-ES" sz="2000" spc="-1" strike="noStrike" baseline="30000">
                  <a:solidFill>
                    <a:srgbClr val="dddddd"/>
                  </a:solidFill>
                  <a:latin typeface="Times New Roman"/>
                </a:rPr>
                <a:t>-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440" y="328464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dddddd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85440" y="2781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↑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403280" y="380880"/>
            <a:ext cx="64818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04920" y="2193840"/>
            <a:ext cx="8534160" cy="24685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68360" y="469800"/>
            <a:ext cx="845820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Estrella Supergigante (I) : Rigel con un tipo espectral B8 (T=13400 K) y L= 58000 L</a:t>
            </a:r>
            <a:r>
              <a:rPr b="0" lang="es-MX" sz="2800" spc="-1" strike="noStrike" baseline="-25000">
                <a:solidFill>
                  <a:srgbClr val="dddddd"/>
                </a:solidFill>
                <a:latin typeface="Times New Roman"/>
              </a:rPr>
              <a:t>s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71640" y="5229360"/>
            <a:ext cx="68907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Estrella enana (V) : Algol con un tipo espect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B8 (T=13400 K) y L=100 L</a:t>
            </a:r>
            <a:r>
              <a:rPr b="0" lang="es-MX" sz="2800" spc="-1" strike="noStrike" baseline="-25000">
                <a:solidFill>
                  <a:srgbClr val="dddddd"/>
                </a:solidFill>
                <a:latin typeface="Times New Roman"/>
              </a:rPr>
              <a:t>sol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193640" y="15508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36560" y="46465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24000" y="2276640"/>
            <a:ext cx="8534160" cy="3240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510520" y="458136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↑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65440" y="5708520"/>
            <a:ext cx="348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Estrella rica en me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634360" y="185580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↓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56560" y="1454040"/>
            <a:ext cx="376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Estrella pobre en me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492360" y="50760"/>
            <a:ext cx="212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Metalic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900000" y="692280"/>
            <a:ext cx="7417080" cy="57848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815040" y="0"/>
            <a:ext cx="751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Determinación de parámetros fundamentales de las estrel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842200" y="260280"/>
            <a:ext cx="324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Estrellas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915640" y="1247760"/>
            <a:ext cx="29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(RR Lyrae y Cefeid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97120" y="2133720"/>
            <a:ext cx="6737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Las estrellas variables en una cierta constelación 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denominaron con la letra R, S, T, U, V……Z, cua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se llegó a ZZ siguieron con AA,……QZ, así 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nombraron las primeras 334 estrellas variables, l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siguientes se denominan  V381, V382, V383 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70200" y="4869000"/>
            <a:ext cx="7304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Entre las estrellas variables más importantes está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las variables pulsan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03280" y="836640"/>
            <a:ext cx="6553440" cy="5715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275640" y="0"/>
            <a:ext cx="259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Diagrama H-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epartamento de Astronomia</cp:lastModifiedBy>
  <dcterms:modified xsi:type="dcterms:W3CDTF">2007-08-16T14:24:16Z</dcterms:modified>
  <cp:revision>60</cp:revision>
  <dc:subject/>
  <dc:title>PowerPoint Presentation</dc:title>
</cp:coreProperties>
</file>