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40F-2AC1-4284-8471-35EA6FD9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A07-D134-4DF5-A8DB-4F3E9946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697-2A10-415B-826E-5A0E11B4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812-C70C-44A9-A258-464F3985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5D5-590D-4193-B67F-348B816C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133-B2E1-42AB-B112-E123D53B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CCF-04F1-4CF7-A8B8-0C937E3C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14B-E771-449B-A6FC-EEB3BFC3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3A9-E471-41CE-B4CB-174D5C7A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7E2-DF76-4754-9AD7-FF1B9C8E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076-08AC-4E15-993C-F67ADA3C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25C-930E-4547-9572-80F0E2B2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7537-E542-41B1-9ECA-B8B91F37BA0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51480" y="144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5400" y="857160"/>
            <a:ext cx="743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bido a que las estrellas emiten un espectro muy pare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un cuerpo negro (BB) podemos usar la ley de Stefan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oltzmann para relacionarla con la temperatura  T y a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 =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8480" y="3881520"/>
            <a:ext cx="78555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muchos cálculos es conveniente expresar estas cant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relación a sus valores solares  que son conoci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R /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( T / T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sol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3840" y="18900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ariables RR Lyra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7360" y="981000"/>
            <a:ext cx="71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on variables pulsantes, es decir presentan una var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 su tamaño (~10%), de su temperatura (color) con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eríodo de horas (~0.6 dí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416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65280" y="275112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Times New Roman"/>
              </a:rPr>
              <a:t>Curva de lu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40280" y="5950080"/>
            <a:ext cx="55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s RR Lyrae tienen una magnitud M</a:t>
            </a:r>
            <a:r>
              <a:rPr b="0" lang="es-MX" sz="2400" spc="-1" strike="noStrike" baseline="-25000">
                <a:solidFill>
                  <a:srgbClr val="dddddd"/>
                </a:solidFill>
                <a:latin typeface="Times New Roman"/>
              </a:rPr>
              <a:t>B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= 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63480" y="878040"/>
            <a:ext cx="80247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observamos una estrella cuya luz varía de una for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milar a la de una RR Lyrae , entonces del dia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-R sabemos que la magnitud absoluta será 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B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= 0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 tenemos que su magnitud aparente (promedio)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= 7.4  (curva de luz en lámina anterior),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 – M = 7.4 – 0.6 = 6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 – M = 5 log (d/10)  =&gt; d = 10pc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(m-M)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 = 10 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6.8/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229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43400" y="2997360"/>
            <a:ext cx="78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primera variable pulsante tipo Cefeida la descubrió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784 un joven sordo mudo llamado Jhon Goodricke a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9 años. Desgraciadamente este astrónomo aficionado per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vida por esta actividad ya que falleció de pulmonía ante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mplir los 22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9840" y="189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Variables Cefe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8480" y="1073160"/>
            <a:ext cx="720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on variables pulsantes con períodos que van desde u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ías hasta un par de meses. Son estrellas intrínsec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ás brillantes que las RR Lyr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2602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elación </a:t>
            </a:r>
            <a:r>
              <a:rPr b="0" lang="es-MX" sz="2800" spc="-1" strike="noStrike" u="sng">
                <a:solidFill>
                  <a:srgbClr val="dddddd"/>
                </a:solidFill>
                <a:uFillTx/>
                <a:latin typeface="Times New Roman"/>
              </a:rPr>
              <a:t>Período - Luminosidad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5200" y="1197000"/>
            <a:ext cx="76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e descubrió (Henrieta Leavit, 1912) que existe una 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tre el período y la luminosidad (promedio) de las Cefe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2276640"/>
            <a:ext cx="853416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7680" y="517680"/>
            <a:ext cx="7924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Cefeidas pueden llegar a ser 5 magnitudes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rillantes que las RR Ly , es decir un factor 100 m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uminosas lo que =&gt; un factor 10 en distancia,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que las Cefeidas permiten medir distancias a todas 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galaxias cerc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4716360" cy="324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4356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efeidas en NGC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royecto Arauc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34544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73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0640" y="38160"/>
            <a:ext cx="59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Variables de largo período (Mira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71560" y="641520"/>
            <a:ext cx="793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primera variable pulsante que se descubrió fu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variable tipo Mira en 1595 por el astrónomo aficio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nacionalidad Holandesa David Fabricius, él notó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strella  “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ο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eti” en ocasiones se podía ver a simple 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 en otras desaparecía de la vista. En 1660 los astróno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e dieron cuenta que esto se repetía con un período de 332 d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os astrónomos  del siglo 17 estaban tan maravillado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ta variable que la rebautizaron “Mira” (marravillo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86120" y="3881520"/>
            <a:ext cx="74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variables tipo Mira varían su luminosidad por u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00 o más en períodos que van de meses hasta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41212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9640" y="15876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j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56320" y="136440"/>
            <a:ext cx="653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omemos el caso de Betelgeuse, estrella brillante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ojiza en la constelación de Orión. Betelgeuse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60.000 veces más luminosa que el Sol y tiene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mperatura superficial  T = 3500 K , cuál sería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o R de Betelgeuse en radios so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25560" y="2441520"/>
            <a:ext cx="648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 /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5800 K / 3500 K 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( 6 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= 6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1200" y="3305160"/>
            <a:ext cx="78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radio de Betelgeuse es 670 veces más grande que el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radio del Sol es de 6,9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, por lo tanto el radi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Betelgeuse es  670 × (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6,9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 ) = 4,7 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km, 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s más de 3 veces la distancia de la Tierra al S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 Betelgeuse estuviera en el lugar del Sol su tamaño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xtendería más allá de la órbita de Marte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3320" y="189000"/>
            <a:ext cx="66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dddddd"/>
                </a:solidFill>
                <a:uFillTx/>
                <a:latin typeface="Times New Roman"/>
              </a:rPr>
              <a:t>Cúmulos estelares</a:t>
            </a: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 :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úmulo globular M80</a:t>
            </a: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562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62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63640" y="189000"/>
            <a:ext cx="51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úmulos abiertos : ej. Las Plei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0000" y="189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Pleiades son 7.5 veces mas débiles que las Hy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o =&gt;  que están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√ 7.5 = 2.5 veces más le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626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62616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8120" y="-6480"/>
            <a:ext cx="77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Secuencia Principal del diagrama H-R hay una rel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tre la masa y la luminosidad de una est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380880"/>
            <a:ext cx="7200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24120" y="571680"/>
            <a:ext cx="54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3640" y="189000"/>
            <a:ext cx="30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Times New Roman"/>
              </a:rPr>
              <a:t>Escala de dista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0720" y="6516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GC 36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440" y="0"/>
            <a:ext cx="8526960" cy="6858000"/>
            <a:chOff x="685440" y="0"/>
            <a:chExt cx="852696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332000" y="692280"/>
              <a:ext cx="6697440" cy="61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886520" y="4365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27520" y="441468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45480" y="5229360"/>
              <a:ext cx="128880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0,1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9200" y="3500280"/>
              <a:ext cx="12247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13160" y="2565360"/>
              <a:ext cx="1299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  <a:ea typeface="Times New Roman"/>
                </a:rPr>
                <a:t>2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720" y="1628640"/>
              <a:ext cx="129924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← 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  <a:ea typeface="Times New Roman"/>
                </a:rPr>
                <a:t>3</a:t>
              </a: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R</a:t>
              </a:r>
              <a:r>
                <a:rPr b="0" lang="es-ES" sz="2000" spc="-1" strike="noStrike" baseline="-25000">
                  <a:solidFill>
                    <a:srgbClr val="dddddd"/>
                  </a:solidFill>
                  <a:latin typeface="Times New Roman"/>
                  <a:ea typeface="Times New Roman"/>
                </a:rPr>
                <a:t>s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22880" y="0"/>
              <a:ext cx="227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dddddd"/>
                  </a:solidFill>
                  <a:latin typeface="Times New Roman"/>
                </a:rPr>
                <a:t>Diagrama H-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4560" y="357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4000" y="3068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04560" y="2633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25080" y="2133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4560" y="1698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4560" y="1266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03840" y="4002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0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11400" y="443376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1920" y="486900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1920" y="537372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dddddd"/>
                  </a:solidFill>
                  <a:latin typeface="Times New Roman"/>
                </a:rPr>
                <a:t>10</a:t>
              </a:r>
              <a:r>
                <a:rPr b="0" lang="es-ES" sz="2000" spc="-1" strike="noStrike" baseline="30000">
                  <a:solidFill>
                    <a:srgbClr val="dddddd"/>
                  </a:solidFill>
                  <a:latin typeface="Times New Roman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440" y="3284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dddddd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44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380880"/>
            <a:ext cx="6481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193840"/>
            <a:ext cx="853416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469800"/>
            <a:ext cx="84582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Supergigante (I) : Rigel con un tipo espectral B8 (T=13400 K) y L= 58000 L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5229360"/>
            <a:ext cx="6890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enana (V) : Algol con un tipo espec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8 (T=13400 K) y L=100 L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3640" y="1550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560" y="4646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534160" cy="3240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10520" y="45813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65440" y="5708520"/>
            <a:ext cx="34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rica en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4360" y="1855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56560" y="1454040"/>
            <a:ext cx="37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 pobre en me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5076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etal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417080" cy="5784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15040" y="0"/>
            <a:ext cx="75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rminación de parámetros fundamentales de las estr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42200" y="26028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trella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5640" y="12477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(RR Lyrae y Cefei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7120" y="2133720"/>
            <a:ext cx="673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s estrellas variables en una cierta constelación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nominaron con la letra R, S, T, U, V……Z, cu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e llegó a ZZ siguieron con AA,……QZ, así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nombraron las primeras 334 estrellas variables,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siguientes se denominan  V381, V382, V383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70200" y="4869000"/>
            <a:ext cx="730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tre las estrellas variables más importantes es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variables puls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55344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5640" y="0"/>
            <a:ext cx="25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Diagrama H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16T14:24:16Z</dcterms:modified>
  <cp:revision>60</cp:revision>
  <dc:subject/>
  <dc:title>PowerPoint Presentation</dc:title>
</cp:coreProperties>
</file>