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EA34-7072-46D1-8A8C-E3981CF0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8DC5-3190-493E-995B-C0960F53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2D4D-A455-4B2A-B5E6-D41D71DD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37D6-C30D-4D5A-929D-7F908CA0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D8D3-ADBE-4BD4-B41A-9DF9F92D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7391-E73A-4F3F-8293-7A6A1EF3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38ED-74C7-4C11-9C2A-5A59CFEB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DF43-C63E-44C9-AED4-57E81600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D257-19F0-4D72-9F52-BFE4EEB7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A91-F537-4F8D-9681-478D3D07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54F7-9BF4-42F4-B7B6-F204DBCB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38A-73AC-4C73-8FC7-11EDFBB0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BBBC-5E71-46C0-845A-252F3956AC7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2000" y="138240"/>
            <a:ext cx="32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Propagación de la lu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9680" y="712800"/>
            <a:ext cx="35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ey del cuadrado inverso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824360" cy="4818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44040" y="2133720"/>
            <a:ext cx="376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superficie de la esfera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adio d es 4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π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, por lo ta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l brillo disminuye con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uadrado de la distancia.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isma cantidad de luz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istribuye en una superfic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que crece como d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41400" y="641520"/>
            <a:ext cx="702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s estrellas en el diagrama H-R se pueden clasificar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lase de Luminosidad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lase I   : Supergig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lase II  : Gigantes brill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lase III : Gig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lase  V : Secuencia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anas blan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5400" y="4168800"/>
            <a:ext cx="812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clase de luminosidad se puede determinar del ancho de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íneas del espectro, las más angostas son las de las Supergig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y las más anchas las de las Enanas blan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37040" y="230040"/>
            <a:ext cx="83113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j.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Si vemos una estrella de tipo espectral F0 y magnitud apa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+8  ¿ cuál es su distancia 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0760" y="1382760"/>
            <a:ext cx="69548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F0   implica   M</a:t>
            </a:r>
            <a:r>
              <a:rPr b="0" lang="es-ES" sz="2800" spc="-1" strike="noStrike" baseline="-25000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 = +3   por lo tanto  m – M =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d(pc) = 10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(m-M)/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100 p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005360"/>
            <a:ext cx="736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aplicar este método es importante conocer la Clase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uminosidad de la estrella, la cual se puede determinar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ncho de las líneas del espectro y otras caracterís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pect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80" y="836640"/>
            <a:ext cx="845748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conocer la luminosidad de una estrella debemos determi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us magnitudes en todas las longitudes de onda. Esta magn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e llama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Magnitud Bolométrica (M</a:t>
            </a:r>
            <a:r>
              <a:rPr b="0" lang="es-ES" sz="2400" spc="-1" strike="noStrike" u="sng" baseline="-25000">
                <a:solidFill>
                  <a:srgbClr val="dddddd"/>
                </a:solidFill>
                <a:uFillTx/>
                <a:latin typeface="Times New Roman"/>
              </a:rPr>
              <a:t>bol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magnitud bolométrica sólo se conoce bien para el Sol, para o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rellas se calcula a partir de mode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–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b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BC   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Corrección Bolométr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C está definida para ser 0 para estrellas cuya distribu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ergía sea similar a la respuesta del ojo humano. La cor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uede ser muy grande para estrellas muy calientes o muy frías.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7280" y="981000"/>
            <a:ext cx="794268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lgunas magnitudes absolutas en el visual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de estrellas en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ecuencia Principa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ipo espectral                    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O5                                     -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0                                     -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0                                     +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F0                                      +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K0                                     +4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0                                    +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8                                    +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8000" y="620640"/>
            <a:ext cx="5315040" cy="5715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77080" y="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Lumino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79240" y="496800"/>
            <a:ext cx="767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luminosidad de una estrella está definida como la tasa a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que ésta emite energía, medida normalmente en  erg/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4600" y="1720800"/>
            <a:ext cx="806616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luminosidad solar que llega a la Tierra en 1 cm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e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1,36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erg/s , ésta se llama Constante Solar (se mide sobr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tmósfer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Para tener la luminosidad total tenemos que multiplicar por 4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π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d = 1AU = 1,5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13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c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a luminosidad de Sol 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0" lang="en-US" sz="2400" spc="-1" strike="noStrike" u="sng" baseline="-25000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sol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= 1,36 × 10</a:t>
            </a:r>
            <a:r>
              <a:rPr b="0" lang="en-US" sz="2400" spc="-1" strike="noStrike" u="sng" baseline="30000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× 2,8 × 10</a:t>
            </a:r>
            <a:r>
              <a:rPr b="0" lang="en-US" sz="2400" spc="-1" strike="noStrike" u="sng" baseline="30000">
                <a:solidFill>
                  <a:srgbClr val="dddddd"/>
                </a:solidFill>
                <a:uFillTx/>
                <a:latin typeface="Times New Roman"/>
              </a:rPr>
              <a:t>27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 erg/s = 3,8 × 10</a:t>
            </a:r>
            <a:r>
              <a:rPr b="0" lang="en-US" sz="2400" spc="-1" strike="noStrike" u="sng" baseline="30000">
                <a:solidFill>
                  <a:srgbClr val="dddddd"/>
                </a:solidFill>
                <a:uFillTx/>
                <a:latin typeface="Times New Roman"/>
              </a:rPr>
              <a:t>33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  erg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29920" y="209520"/>
            <a:ext cx="52664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magnitud bolométrica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b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del Sol 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              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b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(Sol) = +4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880" y="1720800"/>
            <a:ext cx="8239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or lo tanto si conocemos la magnitud bolométrica de una estr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odemos determinar su luminosidad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26160" y="3213000"/>
            <a:ext cx="583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es-ES" sz="2800" spc="-1" strike="noStrike" baseline="-25000">
                <a:solidFill>
                  <a:srgbClr val="eaeaea"/>
                </a:solidFill>
                <a:latin typeface="Times New Roman"/>
              </a:rPr>
              <a:t>bol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(Sol) – M</a:t>
            </a:r>
            <a:r>
              <a:rPr b="0" lang="es-ES" sz="2800" spc="-1" strike="noStrike" baseline="-25000">
                <a:solidFill>
                  <a:srgbClr val="eaeaea"/>
                </a:solidFill>
                <a:latin typeface="Times New Roman"/>
              </a:rPr>
              <a:t>bol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*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) = 2.5 log (L</a:t>
            </a:r>
            <a:r>
              <a:rPr b="0" lang="es-ES" sz="2800" spc="-1" strike="noStrike" baseline="-25000">
                <a:solidFill>
                  <a:srgbClr val="eaeaea"/>
                </a:solidFill>
                <a:latin typeface="Times New Roman"/>
              </a:rPr>
              <a:t>*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/ L</a:t>
            </a:r>
            <a:r>
              <a:rPr b="0" lang="es-ES" sz="2800" spc="-1" strike="noStrike" baseline="-25000">
                <a:solidFill>
                  <a:srgbClr val="eaeaea"/>
                </a:solidFill>
                <a:latin typeface="Times New Roman"/>
              </a:rPr>
              <a:t>sol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47640" y="3141720"/>
            <a:ext cx="4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8760" y="3089160"/>
            <a:ext cx="128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cono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= +4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20560" y="3567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92640" y="4025880"/>
            <a:ext cx="3045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Se determina a par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de la distancia más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BC  obtenida d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teoría (M</a:t>
            </a:r>
            <a:r>
              <a:rPr b="0" lang="es-ES" sz="2400" spc="-1" strike="noStrike" baseline="-25000">
                <a:solidFill>
                  <a:srgbClr val="ffff66"/>
                </a:solidFill>
                <a:latin typeface="Times New Roman"/>
              </a:rPr>
              <a:t>bol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 = M</a:t>
            </a:r>
            <a:r>
              <a:rPr b="0" lang="es-ES" sz="2400" spc="-1" strike="noStrike" baseline="-25000">
                <a:solidFill>
                  <a:srgbClr val="ffff66"/>
                </a:solidFill>
                <a:latin typeface="Times New Roman"/>
              </a:rPr>
              <a:t>B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– B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09800" y="36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24800" y="4168800"/>
            <a:ext cx="228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Cono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= 3,8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ffff66"/>
                </a:solidFill>
                <a:latin typeface="Times New Roman"/>
                <a:ea typeface="Times New Roman"/>
              </a:rPr>
              <a:t>33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erg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5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20720" y="282600"/>
            <a:ext cx="116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ríf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85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20720" y="282600"/>
            <a:ext cx="116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ríf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8680" y="209520"/>
            <a:ext cx="819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unque ya definimos las magnitudes aparentes de las estr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ún no hemos visto cuál es su brillo real ya que para ello ten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que conocer su dista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440" y="1557360"/>
            <a:ext cx="548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algunas estrellas, las más cercanas,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uede determinar su distancia midiendo 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aralaje trigonométr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227640" y="1197000"/>
            <a:ext cx="2590920" cy="5473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97720" y="2944800"/>
            <a:ext cx="5694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i p es el ángulo paraláctico y d la distanci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dddddd"/>
                </a:solidFill>
                <a:latin typeface="Times New Roman"/>
              </a:rPr>
              <a:t>tg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 = 1 AU / d    pero como p es muy ch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&lt; 1”) esto implica que </a:t>
            </a:r>
            <a:r>
              <a:rPr b="0" i="1" lang="es-ES" sz="2800" spc="-1" strike="noStrike">
                <a:solidFill>
                  <a:srgbClr val="dddddd"/>
                </a:solidFill>
                <a:latin typeface="Times New Roman"/>
              </a:rPr>
              <a:t>tg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≈ p en radia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69480" y="5013360"/>
            <a:ext cx="403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π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radianes = (360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60 × 60) 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 radian = 206265 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78920" y="836640"/>
            <a:ext cx="481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 (”) = 206265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 UA /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omo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1 pc = 206265 UA    entonc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 (”) = 1 / d (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48720" y="2637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0360" y="3933720"/>
            <a:ext cx="73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Un paralaje  p = 1”  corresponde a una distancia  d = 1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 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 = 0.5”                                              d = 2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 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 = 0.1”                                              d = 10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0320" y="981000"/>
            <a:ext cx="850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poder comparar una estrella con otra habría que poner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 la misma distancia. Se eligió como la distancia estándar  d = 10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9200" y="2133720"/>
            <a:ext cx="85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e define como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Magnitud absoluta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( M ) de una estrella como la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endría si estuviera a una distancia de  10 p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4280" y="3213000"/>
            <a:ext cx="836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i una estrella está justo a 10 pc de nosotros entonces su magnitu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parente ( m ) sería igual a su magnitud absoluta ( M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920" y="4653000"/>
            <a:ext cx="8539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 Recuerden que 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–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2,5 log (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/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  y que una diferenci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una magnitud corresponde a un factor 2.5 en bril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56280" y="230040"/>
            <a:ext cx="7293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j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: si una estrella está a 20 pc de nosotros y su magnitu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parente m es +4 ¿ cuál es su magnitud absoluta M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4680" y="2781360"/>
            <a:ext cx="2639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= +4     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= M      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4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6680" y="1433520"/>
            <a:ext cx="79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i ponemos a la estrella a 10 pc estará 2 veces más ce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 decir se verá 4 veces más brillante (ley del cuadrado inver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1680" y="4168800"/>
            <a:ext cx="507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 – 4 = 2.5 log (1/4) = 2.5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-0.6 = -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Por lo tanto :  M = 4 – 1.5 = 2.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39400" y="333360"/>
            <a:ext cx="814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l ejercicio anterior podemos obtener la siguiente relación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terminar la magnitud absoluta M de una estrella conociendo 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stancia d y su magnitud aparente  m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3640" y="1793880"/>
            <a:ext cx="381708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= m       magnitud apa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= M       magnitu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 = distancia en parsecs (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= brillo a 10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= brillo a distancia  d en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85120" y="1793880"/>
            <a:ext cx="3145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/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( d(pc) / 10 pc)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(ley del cuadrado inver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37000" y="2997360"/>
            <a:ext cx="43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g (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/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) = 2 log (d(pc) / 10 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1600" y="4149720"/>
            <a:ext cx="825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m – M = 5 log (d / 10)        m – M = </a:t>
            </a:r>
            <a:r>
              <a:rPr b="0" lang="es-ES" sz="2800" spc="-1" strike="noStrike" u="sng">
                <a:solidFill>
                  <a:srgbClr val="dddddd"/>
                </a:solidFill>
                <a:uFillTx/>
                <a:latin typeface="Times New Roman"/>
              </a:rPr>
              <a:t>módulo de dist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01560" y="5343480"/>
            <a:ext cx="34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d (pc) = 10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(m – M) /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1857240" y="114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360" y="41497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9080" y="530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0280" y="260280"/>
            <a:ext cx="8301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uando se habla de una magnitud aparente o absoluta es neces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indicar en que rango de longitud de onda se defini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 más común es determinar las magnitudes en diferentes filtr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U : ultravioleta (3700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Å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B : azul (4400 Å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V : visual (5500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Å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R rojo, I infrarojo, 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419640" y="2781360"/>
            <a:ext cx="5562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411280" y="836640"/>
            <a:ext cx="40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Paralajes Espectroscóp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48480" y="1989000"/>
            <a:ext cx="7017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aquellas estrellas a las que le podemos medir 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stancia con paralajes trigonométricos ( unas 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rellas aprox.), se les puede determinar su magnitu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bsoluta M, ya que la magnitud aparente m se obser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or otro lado, del espectro podemos clasificar 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rella cuyo paralaje haya sido medido para así ob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una relación entre magnitud absoluta M y tipo espec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temperatura). Esta relación es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“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agrama de Hertzprung – Russell” ( HR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una de las herramientas mas útiles para estudi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s estrel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4690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76320" y="3573360"/>
            <a:ext cx="17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c1c1c"/>
                </a:solidFill>
                <a:latin typeface="Times New Roman"/>
              </a:rPr>
              <a:t>Secuencia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30360" y="4699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c1c1c"/>
                </a:solidFill>
                <a:latin typeface="Times New Roman"/>
              </a:rPr>
              <a:t>Enanas  blan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97800" y="22766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c1c1c"/>
                </a:solidFill>
                <a:latin typeface="Times New Roman"/>
              </a:rPr>
              <a:t>Gig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85400" y="260280"/>
            <a:ext cx="44647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on este diagrama pod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terminar la distancia a estr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ás lejanas cuyos paral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rigonométricos son demas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equeños para ser med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asta tener la magnitud apa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observada) y su tipo espec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también observad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e método de medir distancias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lam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E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aralajes espectroscóp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8-15T16:46:58Z</dcterms:modified>
  <cp:revision>65</cp:revision>
  <dc:subject/>
  <dc:title>PowerPoint Presentation</dc:title>
</cp:coreProperties>
</file>