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FB3-C554-4D81-ABBF-E666D2BD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164-386C-4D4C-A59E-E1E7D2B9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B8F-92EB-4642-B4DE-11BF77DB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513-6AE2-4DFD-870F-E6A61CA5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3BE-014E-40E7-9FBE-72F84B5A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F78-3C50-4050-88E6-FC147FE4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6BE-5D61-4835-9E9B-1D2BF528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C5E-3E4C-4638-BCC0-3310A880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F8E-BB09-4564-824D-BA856A9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053-294B-4522-9FB3-48C99F10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74D-8EC3-4100-BEF0-F885FBEA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001-21F6-4244-BABF-CEEA1A9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E104-CFB3-4CF3-913F-4861590C6A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2000" y="13824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ropagación de la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9680" y="7128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ey del cuadrado inverso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824360" cy="481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4040" y="2133720"/>
            <a:ext cx="376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superficie de la esfer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d es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 por lo t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brillo disminuy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uadrado de la distancia.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sma cantidad de luz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istribuye en un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crece como 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41400" y="641520"/>
            <a:ext cx="70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 en el diagrama H-R se pueden clasificar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de Luminosid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   :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  : Gigantes bril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III : 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lase  V : Secuenc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anas bla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5400" y="4168800"/>
            <a:ext cx="81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clase de luminosidad se puede determinar del ancho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íneas del espectro, las más angostas son las de las Supergig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y las más anchas las de las Enanas blan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7040" y="230040"/>
            <a:ext cx="8311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.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Si vemos una estrella de tipo espectral F0 y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+8  ¿ cuál es su distancia 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760" y="1382760"/>
            <a:ext cx="6954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F0   implica   M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 = +3   por lo tanto  m – M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100 p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005360"/>
            <a:ext cx="736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plicar este método es importante conocer la Clas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uminosidad de la estrella, la cual se puede determina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cho de las líneas del espectro y otras caracterí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pect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80" y="836640"/>
            <a:ext cx="84574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conocer la luminosidad de una estrella debemos deter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us magnitudes en todas las longitudes de onda. Esta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llam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Bolométrica (M</a:t>
            </a:r>
            <a:r>
              <a:rPr b="0" lang="es-ES" sz="2400" spc="-1" strike="noStrike" u="sng" baseline="-25000">
                <a:solidFill>
                  <a:srgbClr val="dddddd"/>
                </a:solidFill>
                <a:uFillTx/>
                <a:latin typeface="Times New Roman"/>
              </a:rPr>
              <a:t>bol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sólo se conoce bien para el Sol, para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se calcula a partir de mod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C   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Corrección Bolomét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C está definida para ser 0 para estrellas cuya distribu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 sea similar a la respuesta del ojo humano. La cor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ser muy grande para estrellas muy calientes o muy frías.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7280" y="981000"/>
            <a:ext cx="79426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gunas magnitudes absolutas en el visual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 estrellas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cuencia Princip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ipo espectral                   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5                                     -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0                                     -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0                                     +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0                                      +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K0                                     +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0                                    +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8                                    +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31504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7080" y="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9240" y="496800"/>
            <a:ext cx="76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de una estrella está definida como la tasa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ésta emite energía, medida normalmente en  erg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4600" y="1720800"/>
            <a:ext cx="80661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luminosidad solar que llega a la Tierra en 1 cm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,3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rg/s , ésta se llama Constante Solar (se mide sobr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tmósf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ara tener la luminosidad total tenemos que multiplicar por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d = 1AU = 1,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luminosidad de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n-US" sz="2400" spc="-1" strike="noStrike" u="sng" baseline="-25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sol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= 1,36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× 2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27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erg/s = 3,8 × 10</a:t>
            </a:r>
            <a:r>
              <a:rPr b="0" lang="en-US" sz="2400" spc="-1" strike="noStrike" u="sng" baseline="30000">
                <a:solidFill>
                  <a:srgbClr val="dddddd"/>
                </a:solidFill>
                <a:uFillTx/>
                <a:latin typeface="Times New Roman"/>
              </a:rPr>
              <a:t>33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9920" y="209520"/>
            <a:ext cx="5266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gnitud bolométrica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del Sol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Sol) 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880" y="1720800"/>
            <a:ext cx="823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lo tanto si conocemos la magnitud bolométrica de un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demos determinar su luminosidad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6160" y="3213000"/>
            <a:ext cx="583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Sol) – M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b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= 2.5 log (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/ L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Times New Roman"/>
              </a:rPr>
              <a:t>sol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14172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308916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+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20560" y="3567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92640" y="4025880"/>
            <a:ext cx="3045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Se determina a pa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de la distancia más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C  obtenida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teoría (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ol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= M</a:t>
            </a:r>
            <a:r>
              <a:rPr b="0" lang="es-ES" sz="2400" spc="-1" strike="noStrike" baseline="-25000">
                <a:solidFill>
                  <a:srgbClr val="ffff66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– 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0980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4168800"/>
            <a:ext cx="22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= 3,8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ffff66"/>
                </a:solidFill>
                <a:latin typeface="Times New Roman"/>
                <a:ea typeface="Times New Roman"/>
              </a:rPr>
              <a:t>3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erg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20720" y="28260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í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680" y="2095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unque ya definimos las magnitudes aparent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ún no hemos visto cuál es su brillo real ya que para ello ten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conocer su di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440" y="1557360"/>
            <a:ext cx="54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lgunas estrellas, las más cercanas,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uede determinar su distancia midiendo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aralaje trigonomé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590920" cy="5473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720" y="2944800"/>
            <a:ext cx="5694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 es el ángulo paraláctico y d la distanci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1 AU / d    pero como p es muy ch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&lt; 1”) esto implica que </a:t>
            </a:r>
            <a:r>
              <a:rPr b="0" i="1" lang="es-ES" sz="2800" spc="-1" strike="noStrike">
                <a:solidFill>
                  <a:srgbClr val="dddddd"/>
                </a:solidFill>
                <a:latin typeface="Times New Roman"/>
              </a:rPr>
              <a:t>tg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≈ p en radi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69480" y="501336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adianes = (36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60 × 60)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 radian = 206265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8920" y="836640"/>
            <a:ext cx="48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20626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 UA /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m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1 pc = 206265 UA    enton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(”) = 1 / d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8720" y="2637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360" y="3933720"/>
            <a:ext cx="73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 paralaje  p = 1”  corresponde a una distancia  d = 1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5”                                              d = 2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 = 0.1”                                            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0320" y="981000"/>
            <a:ext cx="85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poder comparar una estrella con otra habría que pone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la misma distancia. Se eligió como la distancia estándar  d =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00" y="213372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define com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gnitud absoluta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 M ) de una estrella como l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ndría si estuviera a una distancia de  10 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4280" y="321300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una estrella está justo a 10 pc de nosotros entonces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( m ) sería igual a su magnitud absoluta ( M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920" y="4653000"/>
            <a:ext cx="853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 Recuerden que 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,5 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 y que una diferenc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magnitud corresponde a un factor 2.5 en bri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56280" y="230040"/>
            <a:ext cx="7293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: si una estrella está a 20 pc de nosotros y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 m es +4 ¿ cuál es su magnitud absoluta 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4680" y="2781360"/>
            <a:ext cx="2639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+4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4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6680" y="1433520"/>
            <a:ext cx="79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ponemos a la estrella a 10 pc estará 2 veces más 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 decir se verá 4 veces más brillante 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680" y="4168800"/>
            <a:ext cx="507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 – 4 = 2.5 log (1/4) = 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-0.6 = -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or lo tanto :  M = 4 – 1.5 = 2.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9400" y="333360"/>
            <a:ext cx="81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ejercicio anterior podemos obtener la siguiente relación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magnitud absoluta M de una estrella conociendo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d y su magnitud aparente  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3640" y="1793880"/>
            <a:ext cx="38170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M       magnitu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 = distancia en parsecs (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1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= brillo a distancia  d en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85120" y="1793880"/>
            <a:ext cx="3145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d(pc) / 10 pc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(ley del cuadrado inver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37000" y="2997360"/>
            <a:ext cx="43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= 2 log (d(pc) / 10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600" y="4149720"/>
            <a:ext cx="82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m – M = 5 log (d / 10)        m – M =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ódulo de dis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01560" y="534348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d (pc) = 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 – M) /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857240" y="114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360" y="4149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9080" y="530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0280" y="260280"/>
            <a:ext cx="830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se habla de una magnitud aparente o absoluta 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dicar en que rango de longitud de onda se defin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más común es determinar las magnitudes en diferentes filtr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 : ultravioleta (37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 : azul (4400 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: visual (550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Å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R rojo, I infrarojo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556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11280" y="83664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48480" y="1989000"/>
            <a:ext cx="701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aquellas estrellas a las que le podemos medir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ancia con paralajes trigonométricos ( unas 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s aprox.), se les puede determinar su magn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luta M, ya que la magnitud aparente m se obser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r otro lado, del espectro podemos clasificar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cuyo paralaje haya sido medido para así ob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relación entre magnitud absoluta M y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emperatura). Esta relación es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“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agrama de Hertzprung – Russell” ( HR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de las herramientas mas útiles para estud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estr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4690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6320" y="3573360"/>
            <a:ext cx="17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Secuencia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0360" y="4699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Enanas  blan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7800" y="22766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c1c1c"/>
                </a:solidFill>
                <a:latin typeface="Times New Roman"/>
              </a:rPr>
              <a:t>G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5400" y="260280"/>
            <a:ext cx="4464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 este diagrama pod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r la distancia a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lejanas cuyos paral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igonométricos son demas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equeños para ser med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asta tener la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observada) y su tipo e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también observa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método de medir distancia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lam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aralajes espectroscó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5T16:46:58Z</dcterms:modified>
  <cp:revision>65</cp:revision>
  <dc:subject/>
  <dc:title>PowerPoint Presentation</dc:title>
</cp:coreProperties>
</file>