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EEC7-07FA-4773-A496-6E15C190F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4F32-B6B3-454B-B857-FA9006812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2402-7A65-4F82-BFD2-44B2232E2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DCAA-DB7C-431B-BAFD-9FDD32FA9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7F7A-64EA-429B-894D-E47A5534D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72D8-1E2C-49A4-B6C0-9C88893BB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A1E2-7893-4007-BED7-B4F95BFF7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82E0-EC81-4457-977B-77456859E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ABAF-E346-40C3-B635-A5A9B407B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C5BE-9BB2-434E-A29E-B222AE75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11AB-5BDF-4013-87B0-C9640B51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8D70-3750-4932-834B-7877EADD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D0997-BD5F-46E2-B27E-9ED173A194C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72000" y="138240"/>
            <a:ext cx="325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Propagación de la lu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89680" y="712800"/>
            <a:ext cx="351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ey del cuadrado inverso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4824360" cy="4818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144040" y="2133720"/>
            <a:ext cx="3768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a superficie de la esfera 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radio d es 4</a:t>
            </a:r>
            <a:r>
              <a:rPr b="0" lang="el-GR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π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d</a:t>
            </a:r>
            <a:r>
              <a:rPr b="0" lang="es-ES" sz="24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2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, por lo ta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el brillo disminuye con 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cuadrado de la distancia.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misma cantidad de luz 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distribuye en una superfic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que crece como d</a:t>
            </a:r>
            <a:r>
              <a:rPr b="0" lang="es-ES" sz="24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2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941400" y="641520"/>
            <a:ext cx="7025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as estrellas en el diagrama H-R se pueden clasificar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Clase de Luminosidad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Clase I   : Supergig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Clase II  : Gigantes brill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Clase III : Gig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Clase  V : Secuencia Princi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nanas blan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25400" y="4168800"/>
            <a:ext cx="812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a clase de luminosidad se puede determinar del ancho de 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íneas del espectro, las más angostas son las de las Supergig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y las más anchas las de las Enanas blan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37040" y="230040"/>
            <a:ext cx="83113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Ej.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Si vemos una estrella de tipo espectral F0 y magnitud apar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V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= +8  ¿ cuál es su distancia 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0760" y="1382760"/>
            <a:ext cx="695484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F0   implica   M</a:t>
            </a:r>
            <a:r>
              <a:rPr b="0" lang="es-ES" sz="2800" spc="-1" strike="noStrike" baseline="-25000">
                <a:solidFill>
                  <a:srgbClr val="dddddd"/>
                </a:solidFill>
                <a:latin typeface="Times New Roman"/>
              </a:rPr>
              <a:t>V</a:t>
            </a: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 = +3   por lo tanto  m – M =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d(pc) = 10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× 10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(m-M)/5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= 100 p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4005360"/>
            <a:ext cx="7364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ara aplicar este método es importante conocer la Clase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uminosidad de la estrella, la cual se puede determinar 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ancho de las líneas del espectro y otras característi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spectr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12480" y="836640"/>
            <a:ext cx="8457480" cy="49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ara conocer la luminosidad de una estrella debemos determin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sus magnitudes en todas las longitudes de onda. Esta magn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se llama </a:t>
            </a:r>
            <a:r>
              <a:rPr b="0" lang="es-ES" sz="2400" spc="-1" strike="noStrike" u="sng">
                <a:solidFill>
                  <a:srgbClr val="dddddd"/>
                </a:solidFill>
                <a:uFillTx/>
                <a:latin typeface="Times New Roman"/>
              </a:rPr>
              <a:t>Magnitud Bolométrica (M</a:t>
            </a:r>
            <a:r>
              <a:rPr b="0" lang="es-ES" sz="2400" spc="-1" strike="noStrike" u="sng" baseline="-25000">
                <a:solidFill>
                  <a:srgbClr val="dddddd"/>
                </a:solidFill>
                <a:uFillTx/>
                <a:latin typeface="Times New Roman"/>
              </a:rPr>
              <a:t>bol</a:t>
            </a:r>
            <a:r>
              <a:rPr b="0" lang="es-ES" sz="2400" spc="-1" strike="noStrike" u="sng">
                <a:solidFill>
                  <a:srgbClr val="dddddd"/>
                </a:solidFill>
                <a:uFillTx/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a magnitud bolométrica sólo se conoce bien para el Sol, para ot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strellas se calcula a partir de model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– M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bol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= BC    </a:t>
            </a:r>
            <a:r>
              <a:rPr b="0" lang="es-ES" sz="2400" spc="-1" strike="noStrike" u="sng">
                <a:solidFill>
                  <a:srgbClr val="dddddd"/>
                </a:solidFill>
                <a:uFillTx/>
                <a:latin typeface="Times New Roman"/>
              </a:rPr>
              <a:t>Corrección Bolométr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BC está definida para ser 0 para estrellas cuya distribución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nergía sea similar a la respuesta del ojo humano. La corr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uede ser muy grande para estrellas muy calientes o muy frías.</a:t>
            </a:r>
            <a:r>
              <a:rPr b="0" lang="es-ES" sz="24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7280" y="981000"/>
            <a:ext cx="7942680" cy="45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Algunas magnitudes absolutas en el visual M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V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de estrellas en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Secuencia Principal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Tipo espectral                     M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V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-----------------------------------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O5                                     -5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B0                                     -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A0                                     +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F0                                      +3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K0                                     +4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M0                                    +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M8                                    +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08000" y="620640"/>
            <a:ext cx="5315040" cy="5715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277080" y="0"/>
            <a:ext cx="20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Luminos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79240" y="496800"/>
            <a:ext cx="767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a luminosidad de una estrella está definida como la tasa a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que ésta emite energía, medida normalmente en  erg/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4600" y="1720800"/>
            <a:ext cx="8066160" cy="41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a luminosidad solar que llega a la Tierra en 1 cm</a:t>
            </a:r>
            <a:r>
              <a:rPr b="0" lang="es-ES" sz="24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es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1,36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× 10</a:t>
            </a:r>
            <a:r>
              <a:rPr b="0" lang="en-US" sz="24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6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erg/s , ésta se llama Constante Solar (se mide sobre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atmósfer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Para tener la luminosidad total tenemos que multiplicar por 4</a:t>
            </a:r>
            <a:r>
              <a:rPr b="0" lang="el-GR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π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d</a:t>
            </a:r>
            <a:r>
              <a:rPr b="0" lang="es-ES" sz="24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(d = 1AU = 1,5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× 10</a:t>
            </a:r>
            <a:r>
              <a:rPr b="0" lang="en-US" sz="24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13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cm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La luminosidad de Sol 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ea typeface="Times New Roman"/>
              </a:rPr>
              <a:t>L</a:t>
            </a:r>
            <a:r>
              <a:rPr b="0" lang="en-US" sz="2400" spc="-1" strike="noStrike" u="sng" baseline="-25000">
                <a:solidFill>
                  <a:srgbClr val="dddddd"/>
                </a:solidFill>
                <a:uFillTx/>
                <a:latin typeface="Times New Roman"/>
                <a:ea typeface="Times New Roman"/>
              </a:rPr>
              <a:t>sol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ea typeface="Times New Roman"/>
              </a:rPr>
              <a:t>= 1,36 × 10</a:t>
            </a:r>
            <a:r>
              <a:rPr b="0" lang="en-US" sz="2400" spc="-1" strike="noStrike" u="sng" baseline="30000">
                <a:solidFill>
                  <a:srgbClr val="dddddd"/>
                </a:solidFill>
                <a:uFillTx/>
                <a:latin typeface="Times New Roman"/>
                <a:ea typeface="Times New Roman"/>
              </a:rPr>
              <a:t>6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× 2,8 × 10</a:t>
            </a:r>
            <a:r>
              <a:rPr b="0" lang="en-US" sz="2400" spc="-1" strike="noStrike" u="sng" baseline="30000">
                <a:solidFill>
                  <a:srgbClr val="dddddd"/>
                </a:solidFill>
                <a:uFillTx/>
                <a:latin typeface="Times New Roman"/>
              </a:rPr>
              <a:t>27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 erg/s = 3,8 × 10</a:t>
            </a:r>
            <a:r>
              <a:rPr b="0" lang="en-US" sz="2400" spc="-1" strike="noStrike" u="sng" baseline="30000">
                <a:solidFill>
                  <a:srgbClr val="dddddd"/>
                </a:solidFill>
                <a:uFillTx/>
                <a:latin typeface="Times New Roman"/>
              </a:rPr>
              <a:t>33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  erg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29920" y="209520"/>
            <a:ext cx="526644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a magnitud bolométrica M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bol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del Sol 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                              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bol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(Sol) = +4,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4880" y="1720800"/>
            <a:ext cx="82396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or lo tanto si conocemos la magnitud bolométrica de una estr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odemos determinar su luminosidad L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*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26160" y="3213000"/>
            <a:ext cx="5837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M</a:t>
            </a:r>
            <a:r>
              <a:rPr b="0" lang="es-ES" sz="2800" spc="-1" strike="noStrike" baseline="-25000">
                <a:solidFill>
                  <a:srgbClr val="eaeaea"/>
                </a:solidFill>
                <a:latin typeface="Times New Roman"/>
              </a:rPr>
              <a:t>bol</a:t>
            </a: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 (Sol) – M</a:t>
            </a:r>
            <a:r>
              <a:rPr b="0" lang="es-ES" sz="2800" spc="-1" strike="noStrike" baseline="-25000">
                <a:solidFill>
                  <a:srgbClr val="eaeaea"/>
                </a:solidFill>
                <a:latin typeface="Times New Roman"/>
              </a:rPr>
              <a:t>bol</a:t>
            </a: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*</a:t>
            </a: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) = 2.5 log (L</a:t>
            </a:r>
            <a:r>
              <a:rPr b="0" lang="es-ES" sz="2800" spc="-1" strike="noStrike" baseline="-25000">
                <a:solidFill>
                  <a:srgbClr val="eaeaea"/>
                </a:solidFill>
                <a:latin typeface="Times New Roman"/>
              </a:rPr>
              <a:t>*</a:t>
            </a: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 / L</a:t>
            </a:r>
            <a:r>
              <a:rPr b="0" lang="es-ES" sz="2800" spc="-1" strike="noStrike" baseline="-25000">
                <a:solidFill>
                  <a:srgbClr val="eaeaea"/>
                </a:solidFill>
                <a:latin typeface="Times New Roman"/>
              </a:rPr>
              <a:t>sol</a:t>
            </a: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47640" y="3141720"/>
            <a:ext cx="45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8760" y="3089160"/>
            <a:ext cx="128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Times New Roman"/>
              </a:rPr>
              <a:t>conoc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0" lang="es-ES" sz="2400" spc="-1" strike="noStrike">
                <a:solidFill>
                  <a:srgbClr val="ffff66"/>
                </a:solidFill>
                <a:latin typeface="Times New Roman"/>
              </a:rPr>
              <a:t>= +4,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20560" y="35672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492640" y="4025880"/>
            <a:ext cx="30459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Times New Roman"/>
              </a:rPr>
              <a:t>Se determina a part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Times New Roman"/>
              </a:rPr>
              <a:t>de la distancia más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Times New Roman"/>
              </a:rPr>
              <a:t>BC  obtenida de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Times New Roman"/>
              </a:rPr>
              <a:t>teoría (M</a:t>
            </a:r>
            <a:r>
              <a:rPr b="0" lang="es-ES" sz="2400" spc="-1" strike="noStrike" baseline="-25000">
                <a:solidFill>
                  <a:srgbClr val="ffff66"/>
                </a:solidFill>
                <a:latin typeface="Times New Roman"/>
              </a:rPr>
              <a:t>bol</a:t>
            </a:r>
            <a:r>
              <a:rPr b="0" lang="es-ES" sz="2400" spc="-1" strike="noStrike">
                <a:solidFill>
                  <a:srgbClr val="ffff66"/>
                </a:solidFill>
                <a:latin typeface="Times New Roman"/>
              </a:rPr>
              <a:t> = M</a:t>
            </a:r>
            <a:r>
              <a:rPr b="0" lang="es-ES" sz="2400" spc="-1" strike="noStrike" baseline="-25000">
                <a:solidFill>
                  <a:srgbClr val="ffff66"/>
                </a:solidFill>
                <a:latin typeface="Times New Roman"/>
              </a:rPr>
              <a:t>B </a:t>
            </a:r>
            <a:r>
              <a:rPr b="0" lang="es-ES" sz="2400" spc="-1" strike="noStrike">
                <a:solidFill>
                  <a:srgbClr val="ffff66"/>
                </a:solidFill>
                <a:latin typeface="Times New Roman"/>
              </a:rPr>
              <a:t>– B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309800" y="3645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24800" y="4168800"/>
            <a:ext cx="228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Times New Roman"/>
              </a:rPr>
              <a:t>Conoc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Times New Roman"/>
              </a:rPr>
              <a:t>= 3,8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× 10</a:t>
            </a:r>
            <a:r>
              <a:rPr b="0" lang="en-US" sz="2400" spc="-1" strike="noStrike" baseline="30000">
                <a:solidFill>
                  <a:srgbClr val="ffff66"/>
                </a:solidFill>
                <a:latin typeface="Times New Roman"/>
                <a:ea typeface="Times New Roman"/>
              </a:rPr>
              <a:t>33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erg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85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620720" y="282600"/>
            <a:ext cx="116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Tríf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985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620720" y="282600"/>
            <a:ext cx="116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Tríf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08680" y="209520"/>
            <a:ext cx="819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Aunque ya definimos las magnitudes aparentes de las estrel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aún no hemos visto cuál es su brillo real ya que para ello tene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que conocer su dista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8440" y="1557360"/>
            <a:ext cx="548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ara algunas estrellas, las más cercanas, 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uede determinar su distancia midiendo s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dddddd"/>
                </a:solidFill>
                <a:uFillTx/>
                <a:latin typeface="Times New Roman"/>
              </a:rPr>
              <a:t>paralaje trigonométr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227640" y="1197000"/>
            <a:ext cx="2590920" cy="5473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97720" y="2944800"/>
            <a:ext cx="56944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Si p es el ángulo paraláctico y d la distancia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s-ES" sz="2800" spc="-1" strike="noStrike">
                <a:solidFill>
                  <a:srgbClr val="dddddd"/>
                </a:solidFill>
                <a:latin typeface="Times New Roman"/>
              </a:rPr>
              <a:t>tg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 = 1 AU / d    pero como p es muy ch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(&lt; 1”) esto implica que </a:t>
            </a:r>
            <a:r>
              <a:rPr b="0" i="1" lang="es-ES" sz="2800" spc="-1" strike="noStrike">
                <a:solidFill>
                  <a:srgbClr val="dddddd"/>
                </a:solidFill>
                <a:latin typeface="Times New Roman"/>
              </a:rPr>
              <a:t>tg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≈ p en radia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69480" y="5013360"/>
            <a:ext cx="403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l-GR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π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radianes = (360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× 60 × 60) 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1 radian = 206265 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78920" y="836640"/>
            <a:ext cx="481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 (”) = 206265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× 1 UA /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como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1 pc = 206265 UA    entonc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 (”) = 1 / d (p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48720" y="2637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00360" y="3933720"/>
            <a:ext cx="734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Un paralaje  p = 1”  corresponde a una distancia  d = 1 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                 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 = 0.5”                                              d = 2 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                 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 = 0.1”                                              d = 10 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0320" y="981000"/>
            <a:ext cx="850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ara poder comparar una estrella con otra habría que poner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a la misma distancia. Se eligió como la distancia estándar  d = 10 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9200" y="2133720"/>
            <a:ext cx="855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Se define como </a:t>
            </a:r>
            <a:r>
              <a:rPr b="0" lang="es-ES" sz="2400" spc="-1" strike="noStrike" u="sng">
                <a:solidFill>
                  <a:srgbClr val="dddddd"/>
                </a:solidFill>
                <a:uFillTx/>
                <a:latin typeface="Times New Roman"/>
              </a:rPr>
              <a:t>Magnitud absoluta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( M ) de una estrella como la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tendría si estuviera a una distancia de  10 p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4280" y="3213000"/>
            <a:ext cx="836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Si una estrella está justo a 10 pc de nosotros entonces su magnitu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aparente ( m ) sería igual a su magnitud absoluta ( M 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8920" y="4653000"/>
            <a:ext cx="85392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( Recuerden que  m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– m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= 2,5 log (b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/ b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)  y que una diferenci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una magnitud corresponde a un factor 2.5 en brill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56280" y="230040"/>
            <a:ext cx="72932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Ej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: si una estrella está a 20 pc de nosotros y su magnitu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aparente m es +4 ¿ cuál es su magnitud absoluta M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4680" y="2781360"/>
            <a:ext cx="26391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1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= +4      b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= b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= M       b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= 4 b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6680" y="1433520"/>
            <a:ext cx="79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Si ponemos a la estrella a 10 pc estará 2 veces más ce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s decir se verá 4 veces más brillante (ley del cuadrado invers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1680" y="4168800"/>
            <a:ext cx="507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M – 4 = 2.5 log (1/4) = 2.5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× -0.6 = -1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Por lo tanto :  M = 4 – 1.5 = 2.4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39400" y="333360"/>
            <a:ext cx="814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el ejercicio anterior podemos obtener la siguiente relación 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eterminar la magnitud absoluta M de una estrella conociendo 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istancia d y su magnitud aparente  m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3640" y="1793880"/>
            <a:ext cx="3817080" cy="21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= m       magnitud apar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= M       magnitud absol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 = distancia en parsecs (p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= brillo a 10 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= brillo a distancia  d en p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785120" y="1793880"/>
            <a:ext cx="31453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/ b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= ( d(pc) / 10 pc)</a:t>
            </a:r>
            <a:r>
              <a:rPr b="0" lang="es-ES" sz="24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baseline="30000">
                <a:solidFill>
                  <a:srgbClr val="dddddd"/>
                </a:solidFill>
                <a:latin typeface="Times New Roman"/>
              </a:rPr>
              <a:t>(ley del cuadrado invers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37000" y="2997360"/>
            <a:ext cx="4346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og (b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/ b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) = 2 log (d(pc) / 10 p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71600" y="4149720"/>
            <a:ext cx="825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m – M = 5 log (d / 10)        m – M = </a:t>
            </a:r>
            <a:r>
              <a:rPr b="0" lang="es-ES" sz="2800" spc="-1" strike="noStrike" u="sng">
                <a:solidFill>
                  <a:srgbClr val="dddddd"/>
                </a:solidFill>
                <a:uFillTx/>
                <a:latin typeface="Times New Roman"/>
              </a:rPr>
              <a:t>módulo de dista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401560" y="5343480"/>
            <a:ext cx="34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d (pc) = 10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× 10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(m – M) /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-1857240" y="114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0360" y="41497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9080" y="5300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0280" y="260280"/>
            <a:ext cx="8301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Cuando se habla de una magnitud aparente o absoluta es neces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indicar en que rango de longitud de onda se defini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o más común es determinar las magnitudes en diferentes filtro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U : ultravioleta (3700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Å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B : azul (4400 Å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V : visual (5500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Å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(R rojo, I infrarojo, 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419640" y="2781360"/>
            <a:ext cx="556236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411280" y="836640"/>
            <a:ext cx="40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Paralajes Espectroscóp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48480" y="1989000"/>
            <a:ext cx="7017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ara aquellas estrellas a las que le podemos medir 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istancia con paralajes trigonométricos ( unas 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strellas aprox.), se les puede determinar su magnitu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absoluta M, ya que la magnitud aparente m se observ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or otro lado, del espectro podemos clasificar c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strella cuyo paralaje haya sido medido para así obte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una relación entre magnitud absoluta M y tipo espec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(temperatura). Esta relación es 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“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iagrama de Hertzprung – Russell” ( HR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una de las herramientas mas útiles para estudi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as estrell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446904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976320" y="3573360"/>
            <a:ext cx="17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1c1c1c"/>
                </a:solidFill>
                <a:latin typeface="Times New Roman"/>
              </a:rPr>
              <a:t>Secuencia princip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30360" y="46990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1c1c1c"/>
                </a:solidFill>
                <a:latin typeface="Times New Roman"/>
              </a:rPr>
              <a:t>Enanas  blan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97800" y="22766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1c1c1c"/>
                </a:solidFill>
                <a:latin typeface="Times New Roman"/>
              </a:rPr>
              <a:t>Giga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85400" y="260280"/>
            <a:ext cx="446472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Con este diagrama pode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eterminar la distancia a estrel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más lejanas cuyos paral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trigonométricos son demasi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equeños para ser medi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Basta tener la magnitud apar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(observada) y su tipo espec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(también observad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ste método de medir distancias 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lama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ES" sz="2800" spc="-1" strike="noStrike" u="sng">
                <a:solidFill>
                  <a:srgbClr val="dddddd"/>
                </a:solidFill>
                <a:uFillTx/>
                <a:latin typeface="Times New Roman"/>
              </a:rPr>
              <a:t>paralajes espectroscóp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partamento de Astronomia</cp:lastModifiedBy>
  <dcterms:modified xsi:type="dcterms:W3CDTF">2007-08-15T16:46:58Z</dcterms:modified>
  <cp:revision>65</cp:revision>
  <dc:subject/>
  <dc:title>PowerPoint Presentation</dc:title>
</cp:coreProperties>
</file>