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E7D-62D0-47EA-8B10-57117B4A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6AF1-8208-480D-997B-67335B7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566-E603-43B7-94B9-CA347081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74D-53C5-4518-8653-9A9C5AAE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C91-B70F-41DF-8925-59BC0EDE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D62-DF15-4BB8-8A4A-6C8680D6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00C-7E9F-46EB-B986-0AC27CE5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5C5-678C-46CA-9CF4-2188B795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30E-4024-4404-B386-FA9A3289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107-8239-4B48-A965-A6E1DA64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62F-F906-4C3A-A2E1-DA2D37E4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542-3F35-4A7C-81E8-F61C6244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C741-F46D-4130-AC09-0CAE345E31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6920" y="260280"/>
            <a:ext cx="62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Absorción y emisión de la luz por áto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63600" y="1197000"/>
            <a:ext cx="66168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58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1880" y="189000"/>
            <a:ext cx="54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es de energía del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62040" y="85680"/>
            <a:ext cx="80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¿Cómo se producen las líneas de absorción y emis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620120" cy="5524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29242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49800" y="450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7000" y="12682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de la nube de gas absorben los fotones de c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que están en la línea de visión y luego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emiten en todas direcciones, dejando muy pocos fot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as longitudes de onda y que estén en la línea de la vis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observador no ve la fuente de emisión continua y só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tecta líneas de emisión de los átomos exci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355680"/>
            <a:ext cx="7619760" cy="6146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59520" y="3736800"/>
            <a:ext cx="44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emis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1520" y="51055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spectro de absorción del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642160" cy="208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8642160" cy="295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61320" y="388152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pectro de la Nebulosa de Or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33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he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60560" y="136044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52720" y="2421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3240" y="836640"/>
            <a:ext cx="851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absorbe suficiente energía, el electrón puede esca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letamente y dejar 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átomo ioniz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con una carga positiv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energía necesaria para ionizar un átomo es distinta para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mento y se llam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nergía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tencial de ioniz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ionización del hidrógeno es de 13.6 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2280" y="3500280"/>
            <a:ext cx="77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átomo ionizado (carga positiva) atrapa eventualmente 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ectrón (carga negativa) y se emiten uno o más fot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pendiendo del nivel en que fue atrapado (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Recombinació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2374920" cy="494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5080" y="5229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2000" y="29973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000" y="191628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4842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90792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n=</a:t>
            </a:r>
            <a:r>
              <a:rPr b="0" lang="es-E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5280" y="93024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3.6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4360" y="1484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8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4360" y="19162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2.1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85280" y="30178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10.2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86000" y="5249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ddddd"/>
                </a:solidFill>
                <a:latin typeface="Times New Roman"/>
              </a:rPr>
              <a:t>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33336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209520"/>
            <a:ext cx="4916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energía de un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ntinuo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½ m v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(v : veloc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15480" y="1484280"/>
            <a:ext cx="46324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i el átomo captura al electrón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nivel n=4, y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&gt;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, entonces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 un fotón de energí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e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-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n=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más 3 fotones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es de onda correspo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y L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06600" y="4005360"/>
            <a:ext cx="476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e proceso depende de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y la temperatura del g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fotosfera del Sol la mayor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hidrógeno y el helio están ne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el calcio y otros m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án ioniz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5960" y="1268280"/>
            <a:ext cx="804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tro proceso que produce radiación en el continuo es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racció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bre - libre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o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Bremsstrahl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ión le puede entregar o quitar energía al electrón sin atrapa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ciendo que el electrón aumente o disminuya su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endo o emitiendo un fotón de cualquier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18600" cy="2860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5445000"/>
            <a:ext cx="7620120" cy="82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40160" y="4889520"/>
            <a:ext cx="324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idrógeno molecular H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3160" y="260280"/>
            <a:ext cx="61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moléculas al igual que los átomos tambi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ducen líneas de absorción y emisión debid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u rotación y su vib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947880"/>
            <a:ext cx="8534160" cy="4962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2040" y="6516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lor -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25280" y="589752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filtros U, B, V  (R, I, J, H, K, L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795320" cy="1727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18400" y="136440"/>
            <a:ext cx="66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lectrone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tienen carga negativa (e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, y 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tones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p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carga positiva y de la misma magn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la de la del electr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masa del protón es 1835 veces la del electr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680" y="2152800"/>
            <a:ext cx="8975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 atómico está formado por protones y neutrones. Estos últi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ienen casi la misma masa que la de los protones pero no tienen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número atómic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o por el número de prot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masa atómica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está dada por el número de protones y neutron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xisten átomos con el mismo número atómico y distinta masa atóm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os son los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isótopos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, es decir son versiones del mismo elemento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stinto número de neutrones en el núcl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534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982800"/>
            <a:ext cx="7200720" cy="4951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2560" y="0"/>
            <a:ext cx="55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ificación espectral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960" y="618480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Henry Draper 1837-1882 ;  Edward Pickering 1846-19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76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Harvard Observ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619760" cy="5545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440" y="260280"/>
            <a:ext cx="79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quipo de “computadores” de Pickering en 1913 en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49576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9200" y="6516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se dió cuenta que la clasificación basada sól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s líneas de H no servía, propuso la clasific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88960" y="281160"/>
            <a:ext cx="805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 :   &gt;  30.000 K   líneas de He ionizado, líneas débiles d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: 30.000 K – 10.000 K   He neutro y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 : 10.000 K – 7.500 K  líneas de H muy fu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 : 7.500 K – 6.000 K,  H y Ca ionizado de intensidad mod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 : 6.000 K – 5.000 K,  H débil  Ca ionizado muy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K : 5.000 K – 3.500 K, metales neutros y algunas 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 :  &lt; 3.500 K, fuertes absorciones mole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7040" y="34495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nie Cannon clasifìcó más de 400.000 estrellas, se transform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a primera mujer en recibir un grado (honor) de la Un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Oxford en 192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027080"/>
            <a:ext cx="8534160" cy="48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16480" y="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s líneas en los distintos tipos espect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3311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405680" y="281160"/>
            <a:ext cx="472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1910 la comunidad astr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doptó la clasificación de Ca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ero no de sabía por qué se prod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uchos creyeron incorrect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que se debía a diferencias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mposición de las estrell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120" y="3881520"/>
            <a:ext cx="74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Fue Cecilia Payne-Gaposchkin, también trabajando en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bservatorio de Harvard, quién en 1925 publicó un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que usó la mecánica cuántica para demostrar que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ferencias en los tipos espectrales, reflejaban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los niveles de ionización de los átomos en las atmósf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(temperatu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34160" cy="332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280" y="33336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Clase de lumino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1440" y="5249880"/>
            <a:ext cx="81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a es una gigante (líneas delgadas) mientras qu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b es una enana (líneas más anch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52720" y="260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át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7840" y="85680"/>
            <a:ext cx="56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Átomo de hidrógeno : modelo de Bo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1560" y="620640"/>
            <a:ext cx="78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átomos tienen niveles discretos de energía que pueden 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cupados por los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913800" cy="511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95280" y="335772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ado fundam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032000" cy="388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4087800" cy="388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6480" y="-6480"/>
            <a:ext cx="78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 puede calcular la longitud de onda de los fotones emitid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bsorbidos en cada uno de estos salt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2640" y="806400"/>
            <a:ext cx="83552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 /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si el átomo pasa de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 una energía E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tonces : 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hc/ (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E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0120" y="584280"/>
            <a:ext cx="7403760" cy="568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920" y="-648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nsiciones de los electrones en un átomo de hidr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1040" y="209520"/>
            <a:ext cx="8377920" cy="31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ntes del modelo de Bohr, el físico Balmer encontró qu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ngitud de onda de las líneas  del espectro del hidrógeno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er representadas co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2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Rydberg = 109678 cm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n que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3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4 para H</a:t>
            </a:r>
            <a:r>
              <a:rPr b="0" lang="el-GR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β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…… etc. , y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e ll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Número cuántico principa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560" y="3325680"/>
            <a:ext cx="837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∞,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alcanza el valor límite de 3650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Å, conocido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ímite de Balmer.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8880" y="4149720"/>
            <a:ext cx="5980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spués esta relación se generalizó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1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R (1/m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1/n</a:t>
            </a:r>
            <a:r>
              <a:rPr b="0" lang="es-E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        (n entero &gt;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360" y="51577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3200" y="333360"/>
            <a:ext cx="83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simple modelo de Bohr ha sido reemplazado por la Me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ántica que habla de probabilidad de encontrar un electró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una órbita dada. Para el átomo de hidrógeno la mayor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oincide con los niveles permitidos de Boh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640" y="2133720"/>
            <a:ext cx="85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ndo un átomo absorbe energía y su electrón se encuentra en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órbita de mayor energía que la del estado fundamental (n = 1),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ce que está en un </a:t>
            </a:r>
            <a:r>
              <a:rPr b="0" lang="es-ES" sz="2400" spc="-1" strike="noStrike" u="sng">
                <a:solidFill>
                  <a:srgbClr val="dddddd"/>
                </a:solidFill>
                <a:uFillTx/>
                <a:latin typeface="Times New Roman"/>
              </a:rPr>
              <a:t>estado excitado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. Al poco tiempo el electr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egresa a su estado fundamental emitiendo uno o más fotone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s bien defin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53880" y="4292640"/>
            <a:ext cx="38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 : energía en e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dddddd"/>
                </a:solidFill>
                <a:latin typeface="Times New Roman"/>
              </a:rPr>
              <a:t>λ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: longitud de onda en 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 : velocidad de la luz en c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h : constante de Plan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6,625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-27 (c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2520" y="4653000"/>
            <a:ext cx="13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 = hc/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9T14:25:53Z</dcterms:modified>
  <cp:revision>56</cp:revision>
  <dc:subject/>
  <dc:title>PowerPoint Presentation</dc:title>
</cp:coreProperties>
</file>