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479-30B9-4F63-982F-A3F64DD3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E2D-C709-4AFB-8FA7-BC4D8D84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BA6-E484-4C3C-B436-5CA79A01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E83-17D2-4224-A48A-CC8C9F1C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9DC-B8F7-468E-B693-1BDAAC5E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71F-20A5-4AF8-A0FF-DF638562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08C-5BB9-4F7B-9FDA-7EE86293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E3A-55A5-4807-B12C-BCCD1C5D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440-EF25-483C-9408-16806CEC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4FD-9A2E-4341-95A0-70AC2719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824-B2E7-4127-9C49-E23FAA33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7F8-70CD-4355-B247-F288EF7A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AAD4-DA0C-4429-ADF3-A7FE6AD1002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6920" y="260280"/>
            <a:ext cx="62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Absorción y emisión de la luz por áto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63600" y="1197000"/>
            <a:ext cx="66168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69440" cy="558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1880" y="189000"/>
            <a:ext cx="54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iveles de energía del átomo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62040" y="85680"/>
            <a:ext cx="80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¿Cómo se producen las líneas de absorción y emis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620120" cy="5524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29242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9800" y="450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7000" y="1268280"/>
            <a:ext cx="88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átomos de la nube de gas absorben los fotones de ci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es de onda que están en la línea de visión y luego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eemiten en todas direcciones, dejando muy pocos foton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as longitudes de onda y que estén en la línea de la vis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observador no ve la fuente de emisión continua y só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cta líneas de emisión de los átomos exci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355680"/>
            <a:ext cx="7619760" cy="6146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459520" y="37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spectro de emisión del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1520" y="51055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spectro de absorción del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8642160" cy="208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642160" cy="295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1320" y="388152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pectro de la Nebulosa de Or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33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he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0560" y="13604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2720" y="2421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3240" y="836640"/>
            <a:ext cx="851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el átomo absorbe suficiente energía, el electrón puede esca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mpletamente y dejar el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átomo ionizad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con una carga positiv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 energía necesaria para ionizar un átomo es distinta para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emento y se llam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nergía de ioniz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tencial de ioniz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nergía de ionización del hidrógeno es de 13.6 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2280" y="3500280"/>
            <a:ext cx="77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átomo ionizado (carga positiva) atrapa eventualmente a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ectrón (carga negativa) y se emiten uno o más fot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pendiendo del nivel en que fue atrapado (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Recombin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2374920" cy="494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5080" y="5229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2000" y="2997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000" y="19162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4842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90792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</a:t>
            </a:r>
            <a:r>
              <a:rPr b="0" lang="es-E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5280" y="930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3.6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4360" y="1484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2.8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4360" y="1916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2.1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85280" y="30178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0.2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86000" y="5249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0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333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209520"/>
            <a:ext cx="491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nergía de un electrón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tinuo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½ m v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(v : veloc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15480" y="1484280"/>
            <a:ext cx="46324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el átomo captura al electrón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ivel n=4, y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&gt;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n=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, entonce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duce un fotón de energí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-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n=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más 3 fotones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es de onda correspo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y L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06600" y="4005360"/>
            <a:ext cx="476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proceso depende de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y la temperatura del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fotosfera del Sol la mayor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hidrógeno y el helio están neu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ientras el calcio y otros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án ion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25960" y="1268280"/>
            <a:ext cx="804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tro proceso que produce radiación en el continuo es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racción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bre - libre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Bremsstrahl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ión le puede entregar o quitar energía al electrón sin atrap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aciendo que el electrón aumente o disminuya su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rbiendo o emitiendo un fotón de cualquier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18600" cy="286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5445000"/>
            <a:ext cx="7620120" cy="82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40160" y="4889520"/>
            <a:ext cx="324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idrógeno molecular H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3160" y="2602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moléculas al igual que los átomos tambi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ducen líneas de absorción y emisión debi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u rotación y su vib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947880"/>
            <a:ext cx="8534160" cy="4962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2040" y="6516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lor -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25280" y="589752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filtros U, B, V  (R, I, J, H, K, L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79532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18400" y="136440"/>
            <a:ext cx="66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lectrones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tienen carga negativa (e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, y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tones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p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carga positiva y de la misma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la de la del electr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sa del protón es 1835 veces la del elect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2152800"/>
            <a:ext cx="8975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núcleo atómico está formado por protones y neutrones. Estos úl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ienen casi la misma masa que la de los protones pero no tienen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número atómic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está dado por el número de protones en 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sa atómica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está dada por el número de protones y neutron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xisten átomos con el mismo número atómico y distinta masa atóm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os son los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isótopos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, es decir son versiones del mismo elemento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into número de neutrones en 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534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982800"/>
            <a:ext cx="7200720" cy="495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62560" y="0"/>
            <a:ext cx="55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lasificación espectral de l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0960" y="618480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Henry Draper 1837-1882 ;  Edward Pickering 1846-19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76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arvard Observ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836640"/>
            <a:ext cx="7619760" cy="5545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440" y="260280"/>
            <a:ext cx="79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quipo de “computadores” de Pickering en 1913 en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49576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9200" y="6516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nie Cannon se dió cuenta que la clasificación basada sól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líneas de H no servía, propuso la clasific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88960" y="281160"/>
            <a:ext cx="805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 :   &gt;  30.000 K   líneas de He ionizado, líneas débile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 : 30.000 K – 10.000 K   He neutro y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: 10.000 K – 7.500 K  líneas de H muy fu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 : 7.500 K – 6.000 K,  H y Ca ionizado de inten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G : 6.000 K – 5.000 K,  H débil  Ca ionizado muy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K : 5.000 K – 3.500 K, metales neutros y algunas 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 :  &lt; 3.500 K, fuertes absorcione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7040" y="34495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nie Cannon clasifìcó más de 400.000 estrellas, se transform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primera mujer en recibir un grado (honor) de la Un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Oxford en 19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027080"/>
            <a:ext cx="8534160" cy="48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16480" y="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sidad de las líneas en los distintos tipos espect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3311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05680" y="281160"/>
            <a:ext cx="472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1910 la comunidad astr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doptó la clasificación de Ca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ero no de sabía por qué se produc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uchos creyeron incorrect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se debía a diferencias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mposición de las estrell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120" y="38815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ue Cecilia Payne-Gaposchkin, también trabajando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bservatorio de Harvard, quién en 1925 publicó un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l que usó la mecánica cuántica para demostrar qu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ferencias en los tipos espectrales, reflejaban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os niveles de ionización de los átomos en las atmós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s estrellas (temperatu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34160" cy="332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280" y="33336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lase de 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440" y="524988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a es una gigante (líneas delgadas) mientras que l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 es una enana (líneas más anch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2720" y="2602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l át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7840" y="85680"/>
            <a:ext cx="56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Átomo de hidrógeno : modelo de Bo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560" y="620640"/>
            <a:ext cx="78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átomos tienen niveles discretos de energía que pueden 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cupados por los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913800" cy="511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95280" y="33577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ado funda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032000" cy="388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087800" cy="388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6480" y="-6480"/>
            <a:ext cx="788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puede calcular la longitud de onda de los fotones emitido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rbidos en cada uno de estos salt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2640" y="806400"/>
            <a:ext cx="8355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 = hc /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si el átomo pasa de una energía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 una energía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tonces : 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hc/ (E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E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0120" y="584280"/>
            <a:ext cx="7403760" cy="568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920" y="-648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ansiciones de los electrones en un átomo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01040" y="209520"/>
            <a:ext cx="8377920" cy="31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tes del modelo de Bohr, el físico Balmer encontró qu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 de onda de las líneas  del espectro del hidrógeno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r representadas co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1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R (1/2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1/n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constante de Rydberg = 109678 cm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 que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3 par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4 par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…… etc. , y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se ll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Número cuántico principa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7560" y="3325680"/>
            <a:ext cx="837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∞,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alcanza el valor límite de 365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, conocido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ímite de Balmer.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8880" y="4149720"/>
            <a:ext cx="5980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spués esta relación se generalizó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1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R (1/m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1/n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       (n entero &gt;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360" y="5157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3200" y="333360"/>
            <a:ext cx="83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simple modelo de Bohr ha sido reemplazado por la 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ántica que habla de probabilidad de encontrar un electró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órbita dada. Para el átomo de hidrógeno la mayor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incide con los niveles permitidos de Boh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640" y="2133720"/>
            <a:ext cx="85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un átomo absorbe energía y su electrón se encuentra en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órbita de mayor energía que la del estado fundamental (n = 1),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ce que está en un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stado excitad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. Al poco tiempo el electr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egresa a su estado fundamental emitiendo uno o más fotone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s bien defi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53880" y="4292640"/>
            <a:ext cx="387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 : energía en e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dddddd"/>
                </a:solidFill>
                <a:latin typeface="Times New Roman"/>
              </a:rPr>
              <a:t>λ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: longitud de onda en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 : velocidad de la luz en c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h : constante de Plan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6,625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-27 (c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2520" y="4653000"/>
            <a:ext cx="13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 = hc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09T14:25:53Z</dcterms:modified>
  <cp:revision>56</cp:revision>
  <dc:subject/>
  <dc:title>PowerPoint Presentation</dc:title>
</cp:coreProperties>
</file>