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14E-313B-4C5F-8282-D4C13BCE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B57-3426-4D84-96DA-5F4E4461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D74-51B5-4327-8F23-FE1FFCDB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175-24D6-41A6-94EA-2838DBBC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E36-A926-46C1-90AC-BF7EC90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7B4-154E-4E58-892F-94BEA0CA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58A-85E7-43E8-8474-36E696DE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AF7-31AA-4120-922B-42C450ED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E44-9E5F-4017-B27F-27807671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2CF-020C-4914-B606-DEAFFBE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C02-0728-4068-88C1-11744E3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78B-23C9-41BF-8CE1-FBDBDD43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C1B-7404-491E-8438-02931782F4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6920" y="26028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Absorción y emisión de la luz por áto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3600" y="1197000"/>
            <a:ext cx="66168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58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1880" y="189000"/>
            <a:ext cx="54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es de energía del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62040" y="85680"/>
            <a:ext cx="80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¿Cómo se producen las líneas de absorción y emis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620120" cy="5524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29242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980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7000" y="12682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de la nube de gas absorben los fotones de c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que están en la línea de visión y luego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emiten en todas direcciones, dejando muy pocos fot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as longitudes de onda y que estén en la línea de la vis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observador no ve la fuente de emisión continua y só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cta líneas de emisión de los átomos exc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355680"/>
            <a:ext cx="7619760" cy="6146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59520" y="37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emis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1520" y="51055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absorc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642160" cy="208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295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1320" y="388152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o de la Nebulosa de Or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33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he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0560" y="136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2720" y="2421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3240" y="836640"/>
            <a:ext cx="851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absorbe suficiente energía, el electrón puede esca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letamente y dejar 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átomo ioniz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con una carga positiv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energía necesaria para ionizar un átomo es distinta para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mento y 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nergía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tencial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ionización del hidrógeno es de 13.6 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2280" y="3500280"/>
            <a:ext cx="77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átomo ionizado (carga positiva) atrapa eventualmente 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ctrón (carga negativa) y se emiten uno o más fo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pendiendo del nivel en que fue atrapado (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Recombin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2374920" cy="494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5080" y="5229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2000" y="2997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916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484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90792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</a:t>
            </a:r>
            <a:r>
              <a:rPr b="0" lang="es-E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5280" y="930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3.6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360" y="1484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8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4360" y="1916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1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85280" y="30178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0.2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86000" y="5249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333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209520"/>
            <a:ext cx="491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un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½ m v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(v : veloc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15480" y="1484280"/>
            <a:ext cx="4632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captura al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 n=4, y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&gt;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, entonce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 un fotón de energí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-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más 3 fotones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y L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06600" y="4005360"/>
            <a:ext cx="476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proceso depende de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 temperatura del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fotosfera del Sol la mayor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hidrógeno y el helio están ne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el calcio y otros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án ion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5960" y="1268280"/>
            <a:ext cx="804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tro proceso que produce radiación en el continuo es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racció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bre - libre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Bremsstrahl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ión le puede entregar o quitar energía al electrón sin atrap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ciendo que el electrón aumente o disminuya su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endo o emitiendo un fotón de cualquier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18600" cy="286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5445000"/>
            <a:ext cx="7620120" cy="82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40160" y="4889520"/>
            <a:ext cx="324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idrógeno molecular H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3160" y="2602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moléculas al igual que los átomos tambi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n líneas de absorción y emisión debi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 rotación y su vib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947880"/>
            <a:ext cx="8534160" cy="496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2040" y="6516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lor -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25280" y="589752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filtros U, B, V  (R, I, J, H, K, L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79532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400" y="136440"/>
            <a:ext cx="66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lectrone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tienen carga negativa (e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,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tones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p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carga positiva y de la mism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la de la del electr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sa del protón es 1835 veces la del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152800"/>
            <a:ext cx="8975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 atómico está formado por protones y neutrones. Estos úl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enen casi la misma masa que la de los protones pero no tienen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número atómic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o por el número de prot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sa atómic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a por el número de protones y neutr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xisten átomos con el mismo número atómico y distinta masa atóm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os son 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isótopo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, es decir son versiones del mismo elemento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into número de neutr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534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982800"/>
            <a:ext cx="7200720" cy="495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2560" y="0"/>
            <a:ext cx="55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ificación espectral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960" y="61848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Henry Draper 1837-1882 ;  Edward Pickering 1846-19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76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rvard Observ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619760" cy="554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440" y="260280"/>
            <a:ext cx="79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quipo de “computadores” de Pickering en 1913 en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49576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9200" y="6516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se dió cuenta que la clasificación basada sól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líneas de H no servía, propuso la clasific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88960" y="281160"/>
            <a:ext cx="805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 :   &gt;  30.000 K   líneas de He ionizado, líneas débile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: 30.000 K – 10.000 K   He neutro y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: 10.000 K – 7.500 K  líneas de H muy fu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 : 7.500 K – 6.000 K,  H y Ca ionizado de inten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 : 6.000 K – 5.000 K,  H débil  Ca ionizado muy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 : 5.000 K – 3.500 K, metales neutros y algunas 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:  &lt; 3.500 K, fuertes absorcion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7040" y="344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clasifìcó más de 400.000 estrellas, se transform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primera mujer en recibir un grado (honor) de la 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Oxford en 19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027080"/>
            <a:ext cx="8534160" cy="48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6480" y="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s líneas en los distintos tipos espect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3311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05680" y="281160"/>
            <a:ext cx="472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1910 la comunidad astr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doptó la clasificación d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ro no de sabía por qué se prod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uchos creyeron incorrect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se debía a diferenci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osición de las estrell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120" y="38815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ue Cecilia Payne-Gaposchkin, también trabajand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bservatorio de Harvard, quién en 1925 publicó un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que usó la mecánica cuántica para demostrar qu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ferencias en los tipos espectrales, reflejaban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os niveles de ionización de los átomos en las atmó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(temperatu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34160" cy="332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280" y="33336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e de 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440" y="524988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a es una gigante (líneas delgadas) mientras qu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es una enana (líneas más anch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2720" y="260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át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7840" y="85680"/>
            <a:ext cx="56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Átomo de hidrógeno : modelo de Bo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560" y="620640"/>
            <a:ext cx="78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tienen niveles discretos de energía que pueden 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cupados por l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913800" cy="511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95280" y="33577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do fund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38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87800" cy="388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6480" y="-6480"/>
            <a:ext cx="78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puede calcular la longitud de onda de los fotones emitid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dos en cada uno de estos salt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2640" y="806400"/>
            <a:ext cx="8355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 /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si el átomo pasa de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tonces : 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hc/ (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0120" y="584280"/>
            <a:ext cx="7403760" cy="568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920" y="-648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nsiciones de los electrones en un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1040" y="209520"/>
            <a:ext cx="8377920" cy="31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tes del modelo de Bohr, el físico Balmer encontró qu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 de onda de las líneas  del espectro del hidrógeno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r representadas co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2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Rydberg = 109678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que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…… etc. , y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e ll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Número cuántico principa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560" y="3325680"/>
            <a:ext cx="837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∞,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alcanza el valor límite de 365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, conocido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ímite de Balmer.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8880" y="4149720"/>
            <a:ext cx="5980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spués esta relación se generalizó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m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       (n entero &gt;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60" y="5157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3200" y="333360"/>
            <a:ext cx="83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simple modelo de Bohr ha sido reemplazado por la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ántica que habla de probabilidad de encontrar un electró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órbita dada. Para el átomo de hidrógeno la mayor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incide con los niveles permitidos de Boh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640" y="2133720"/>
            <a:ext cx="85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un átomo absorbe energía y su electrón se encuentra en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órbita de mayor energía que la del estado fundamental (n = 1),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ce que está en u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stado excit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 Al poco tiempo el electr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gresa a su estado fundamental emitiendo uno o más fotone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s bien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53880" y="4292640"/>
            <a:ext cx="38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 : energía en e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dddddd"/>
                </a:solidFill>
                <a:latin typeface="Times New Roman"/>
              </a:rPr>
              <a:t>λ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: longitud de onda en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 : velocidad de la luz en c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h : constante de Plan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6,625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-27 (c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2520" y="4653000"/>
            <a:ext cx="13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9T14:25:53Z</dcterms:modified>
  <cp:revision>56</cp:revision>
  <dc:subject/>
  <dc:title>PowerPoint Presentation</dc:title>
</cp:coreProperties>
</file>