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0E8C-CA0C-42CD-AD6D-9A101C23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6D8-287B-488C-B3E2-43FC0C45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FF9-EDAC-460D-AEC9-959DAC9F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23C-AE2B-4CB1-B29A-B7A31283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23F-CED7-4FB1-B367-68556929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27F-B6C5-446E-891B-CDC16162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AF6-DC0F-4563-897B-6A8DCFE1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5D7-0F28-41EC-8C25-94B4909E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B58-C2FB-4216-AA66-B32DEDF0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7DB-00CB-40C4-AA3A-43CE4508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EDC-CF69-4B6B-80D0-9B048F2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AE1-4885-4273-8463-8CB9086D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7616-333F-4554-BB1E-713C5783E83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64720" y="26028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dddddd"/>
                </a:solidFill>
                <a:latin typeface="Times New Roman"/>
              </a:rPr>
              <a:t>Estr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840" y="836640"/>
            <a:ext cx="8431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que define una estrella como tal es que en su centro se ge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  por combustión nuclear (transformación de materi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). Las capas más externas están más frías, no gener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ergía, sólo la transm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astrónomo griego Hipparco dividió las estrellas por su bri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aparente, clasificación que fue perfeccionada por Ptolomeo.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 clasificación las estrellas más brillantes se definieron com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rimera magnitud y las más débiles visibles a ojo desnudo,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6. Cuando en el siglo 19 se pudo medir cuantita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brillo de las estrellas se descubrió que una estrella de prim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es 100 veces más brillante que una de magnitu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5 magnitudes de diferencia = factor 100 en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8360" y="3645000"/>
            <a:ext cx="2108160" cy="2361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210816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2121120" cy="2400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21200" y="1197000"/>
            <a:ext cx="696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ste metal a medida que aumenta su temperatura 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ambiando de color, el más rojo está más frío mient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blanco azuloso es el más caliente y brill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79480" y="28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8160" y="352440"/>
            <a:ext cx="81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 el caso de un cuerpo negro (BB) la energía sólo dep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e la temperatura, por esto se llama radiación térmica. El Sol,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lanetas e incluso nosotros mismos somos “cuerpos negros”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mitimos  radiación tér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1520" y="2152800"/>
            <a:ext cx="899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os reglas simples describen cómo depende de la temperatura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spectro térmico de un obje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objetos más calientes emiten más radiació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s objetos más calientes emiten fotones de mayor energía, 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 que significa una longitud de onda menor (E = hc/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2200" y="460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4840" y="467352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as dos reglas tienen una expres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9080" y="425520"/>
            <a:ext cx="80964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) La energía total radiada por segundo y por centíme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uadrado, sumada sobre todo el rango de longitud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onda 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             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(T) =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T</a:t>
            </a:r>
            <a:r>
              <a:rPr b="0" lang="en-US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800" spc="-1" strike="noStrike" u="sng">
                <a:solidFill>
                  <a:srgbClr val="dddddd"/>
                </a:solidFill>
                <a:uFillTx/>
                <a:latin typeface="Times New Roman"/>
                <a:ea typeface="Times New Roman"/>
              </a:rPr>
              <a:t>Ley de Stefan – Boltz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 : en (ergs/cm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× s), T en grados Kel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constante de Stefan = 5,67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-5 (cgs)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sta relación fue derivada primero a partir de termodinámica (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l siglo 19), pero también de deduce de la ley de Plan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6836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2360" y="1484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2800" y="785880"/>
            <a:ext cx="7196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) </a:t>
            </a:r>
            <a:r>
              <a:rPr b="0" lang="es-ES" sz="2800" spc="-1" strike="noStrike" u="sng">
                <a:solidFill>
                  <a:srgbClr val="dddddd"/>
                </a:solidFill>
                <a:uFillTx/>
                <a:latin typeface="Times New Roman"/>
              </a:rPr>
              <a:t>Ley de Wien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: la longitud de onda del máximo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intensidad de la radiación emitida es menor mient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ientras mayor sea la temperatur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56760" y="2852640"/>
            <a:ext cx="282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max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0,2897 / T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23840" y="280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10240" y="3933720"/>
            <a:ext cx="3854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T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: temperatura e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λ</a:t>
            </a:r>
            <a:r>
              <a:rPr b="0" lang="es-ES" sz="28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max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: longitud de onda en c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285264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44000" y="90792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uación de Planc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403280" y="2133720"/>
                <a:ext cx="561672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c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058400" y="3716280"/>
            <a:ext cx="58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la constante de Boltzman = 1.3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560" y="359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32000" y="584280"/>
            <a:ext cx="6335640" cy="594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5040" y="6516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espectro emitido por las estrellas se parece mucho a un 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2840" y="765000"/>
            <a:ext cx="75765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(T) es la energía por unidad de superficie, a la energía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adiada por toda la superficie se le llama luminosidad (L)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      </a:t>
            </a: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L = 4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    L </a:t>
            </a:r>
            <a:r>
              <a:rPr b="0" lang="el-G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R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8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3716280"/>
            <a:ext cx="51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R =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L / 4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π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σ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T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    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R </a:t>
            </a:r>
            <a:r>
              <a:rPr b="0" lang="el-GR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α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L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/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T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r>
              <a:rPr b="0" lang="es-MX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7080" y="24922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2320" y="281160"/>
            <a:ext cx="80233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jemplo:  supongamos que tenemos una estrella con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temperatura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igual a 3000 K (la mitad de la temperatura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Sol) y con un radio de 1,4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  <a:ea typeface="Times New Roman"/>
              </a:rPr>
              <a:t>13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cm (200 veces el radio del S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¿cuál sería su luminosidad L</a:t>
            </a:r>
            <a:r>
              <a:rPr b="0" lang="en-US" sz="2400" spc="-1" strike="noStrike" baseline="-25000">
                <a:solidFill>
                  <a:srgbClr val="dddddd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440" y="2297160"/>
            <a:ext cx="438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(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/ ( R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800" y="3233880"/>
            <a:ext cx="5660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 /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 / (200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1 / (0.5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  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500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4120" y="4508640"/>
            <a:ext cx="7840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j. para la casa :  ¿cuál sería el radio (en radios solares) de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strella con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12000 K y una luminosidad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0.1 L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dato : T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sol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6000 K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1920" y="42552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ara determinar la diferencia en brillo correspondiente 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agnitud hay que encontrar un número que elevado a 5 de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76560" y="172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0040" y="1576440"/>
            <a:ext cx="42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100)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1/5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.512…..    (se usa 2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17800" y="2637000"/>
            <a:ext cx="89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ntonces una estrella que tie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1 magnitud más brillante tiene 2.5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2 magnitudes más brillante tiene (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 2.5) 6.3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dddddd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ag. más brillante (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2.5 × 2.5) 15.8 veces más b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8680" y="5394240"/>
            <a:ext cx="82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( ¡ojo! que hasta aquí sólo hemos hablado de la magnitud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 las estrellas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9120" y="5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332000" y="1268280"/>
                <a:ext cx="62643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901800" y="353880"/>
            <a:ext cx="41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sto lo podemos escribi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19280" y="3068640"/>
                <a:ext cx="35751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195640" y="4581360"/>
                <a:ext cx="511308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1405080" y="4869000"/>
            <a:ext cx="56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680" y="333360"/>
            <a:ext cx="7892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: una estrella tiene una magnitud m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3  y otra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agnitud m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=5  ¿cuál es la razón de sus bril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19280" y="1484280"/>
                <a:ext cx="48974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11280" y="3068640"/>
                <a:ext cx="2520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211640" y="3213000"/>
                <a:ext cx="26305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7381080" y="364500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2.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2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07960" y="496800"/>
            <a:ext cx="782964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Calculemos la diferencia entre lo que puede ver el oj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(lo más débil) y lo más débil que ve el VL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VLT) = 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(ojo)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– m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29 – 6 = 23 = 2.5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 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log (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) = 9.2      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/b</a:t>
            </a:r>
            <a:r>
              <a:rPr b="0" lang="es-ES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0</a:t>
            </a:r>
            <a:r>
              <a:rPr b="0" lang="es-ES" sz="2400" spc="-1" strike="noStrike" baseline="30000">
                <a:solidFill>
                  <a:srgbClr val="dddddd"/>
                </a:solidFill>
                <a:latin typeface="Times New Roman"/>
              </a:rPr>
              <a:t>9.2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 = 1.6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× 10</a:t>
            </a:r>
            <a:r>
              <a:rPr b="0" lang="en-US" sz="2400" spc="-1" strike="noStrike" baseline="30000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El telescopio VLT ve objetos 1600 millones de vec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ébiles que el ojo hu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001000" cy="223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40360" y="260280"/>
            <a:ext cx="39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spectro electromagn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8026560" cy="23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3680" y="-79200"/>
            <a:ext cx="8914320" cy="6939720"/>
            <a:chOff x="13680" y="-79200"/>
            <a:chExt cx="8914320" cy="6939720"/>
          </a:xfrm>
        </p:grpSpPr>
        <p:sp>
          <p:nvSpPr>
            <p:cNvPr id="64" name=""/>
            <p:cNvSpPr/>
            <p:nvPr/>
          </p:nvSpPr>
          <p:spPr>
            <a:xfrm>
              <a:off x="13680" y="6400800"/>
              <a:ext cx="312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(1nm = 10</a:t>
              </a:r>
              <a:r>
                <a:rPr b="0" lang="es-ES" sz="2400" spc="-1" strike="noStrike" baseline="30000">
                  <a:solidFill>
                    <a:srgbClr val="dddddd"/>
                  </a:solidFill>
                  <a:latin typeface="Times New Roman"/>
                </a:rPr>
                <a:t>-7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es-ES" sz="2400" spc="-1" strike="noStrike" baseline="30000">
                  <a:solidFill>
                    <a:srgbClr val="dddddd"/>
                  </a:solidFill>
                  <a:latin typeface="Times New Roman"/>
                </a:rPr>
                <a:t> 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cm = 10 </a:t>
              </a: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Å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600" y="549360"/>
              <a:ext cx="266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des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el espacio (satélit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7320" y="2276640"/>
              <a:ext cx="27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c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elescopios terrest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200" y="414972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observa con anten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13720" y="-79200"/>
              <a:ext cx="622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(el ojo humano sólo sensible entre 400 – 700 n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3276720" y="549360"/>
              <a:ext cx="5651280" cy="604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43640" y="333360"/>
            <a:ext cx="34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Times New Roman"/>
              </a:rPr>
              <a:t>El color de las estrel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14680" y="981000"/>
            <a:ext cx="5715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0" y="0"/>
            <a:ext cx="8898840" cy="6414480"/>
            <a:chOff x="0" y="0"/>
            <a:chExt cx="8898840" cy="6414480"/>
          </a:xfrm>
        </p:grpSpPr>
        <p:sp>
          <p:nvSpPr>
            <p:cNvPr id="73" name=""/>
            <p:cNvSpPr/>
            <p:nvPr/>
          </p:nvSpPr>
          <p:spPr>
            <a:xfrm>
              <a:off x="5104800" y="893520"/>
              <a:ext cx="37940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Un </a:t>
              </a:r>
              <a:r>
                <a:rPr b="0" lang="es-ES" sz="2400" spc="-1" strike="noStrike" u="sng">
                  <a:solidFill>
                    <a:srgbClr val="dddddd"/>
                  </a:solidFill>
                  <a:uFillTx/>
                  <a:latin typeface="Times New Roman"/>
                </a:rPr>
                <a:t>cuerpo negro </a:t>
              </a: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se def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como un objeto que absorbe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oda la energía que le llega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hasta alcanzar la tempera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en que emite a la misma tas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a la que le llega energía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alcanzando el equilibrio a 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temperatur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0" y="893520"/>
              <a:ext cx="5003640" cy="54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791800" y="0"/>
              <a:ext cx="300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dddddd"/>
                  </a:solidFill>
                  <a:latin typeface="Times New Roman"/>
                </a:rPr>
                <a:t>Cuerpo Negro (B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000" y="42987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524560" y="3938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94000" y="4370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85280" y="5954760"/>
              <a:ext cx="6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dddddd"/>
                  </a:solidFill>
                  <a:latin typeface="Times New Roman"/>
                </a:rPr>
                <a:t>ro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69640" y="595476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ro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9280" y="5883120"/>
              <a:ext cx="72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azu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partamento de Astronomia</cp:lastModifiedBy>
  <dcterms:modified xsi:type="dcterms:W3CDTF">2007-08-07T13:13:25Z</dcterms:modified>
  <cp:revision>51</cp:revision>
  <dc:subject/>
  <dc:title>PowerPoint Presentation</dc:title>
</cp:coreProperties>
</file>