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E0C-1845-40E9-9DC3-63E18A56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0FB-CBFD-452E-AFE9-AC2ED8C8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575-7940-434D-9959-67D6D143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6D1-B7B4-468E-9B73-70B55BAF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9D0-244A-48EC-8FD4-8E92A91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E8B-EC7F-4AF8-AC7E-585384A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14F-E60C-4E14-9204-C307FD0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503-A0D9-460E-B314-6CBD90B8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5C3-9644-4402-BBE0-AC3C7B8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A6F-5D5C-4A30-8A82-4B15978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2D1-A3E2-44C9-A045-F3EE520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9CD-00B5-42E1-BAF5-11ED145C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E5AE-D868-4781-847D-49AA805CE4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720" y="2602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40" y="836640"/>
            <a:ext cx="843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define una estrella como tal es que en su centro se g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 por combustión nuclear (transformación de materi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). Las capas más externas están más frías, no gene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, sólo la transm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astrónomo griego Hipparco dividió las estrellas por su bri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, clasificación que fue perfeccionada por Ptolomeo.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clasificación las estrellas más brillantes se definieron co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imera magnitud y las más débiles visibles a ojo desnudo,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6. Cuando en el siglo 19 se pudo medir cuantita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rillo de las estrellas se descubrió que una estrella de prim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es 100 veces más brillante que una de magnitu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5 magnitudes de diferencia = factor 100 en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108160" cy="23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210816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121120" cy="2400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21200" y="1197000"/>
            <a:ext cx="69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ste metal a medida que aumenta su temperatura 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mbiando de color, el más rojo está más frío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lanco azuloso es el más caliente y bril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948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160" y="352440"/>
            <a:ext cx="81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caso de un cuerpo negro (BB) la energía sólo dep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 temperatura, por esto se llama radiación térmica. El Sol,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lanetas e incluso nosotros mismos somos “cuerpos negros”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mitimos  radiación tér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520" y="2152800"/>
            <a:ext cx="899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os reglas simples describen cómo depende de la temperatura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térmico de un obje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más rad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fotones de mayor energía,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significa una longitud de onda menor (E = hc/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200" y="460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840" y="467352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s dos reglas tienen una expres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9080" y="425520"/>
            <a:ext cx="8096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) La energía total radiada por segundo y por centíme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drado, sumada sobre todo el rango de longitu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nda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(T) =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T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ey de Stefan – Boltz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 : en (ergs/cm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× s), T en grados Kel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Stefan = 5,67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5 (cgs)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relación fue derivada primero a partir de termodinámica (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siglo 19), pero también de deduce de la ley de Plan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360" y="1484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785880"/>
            <a:ext cx="7196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Ley de Wie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 la longitud de onda del máximo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 radiación emitida es menor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mayor sea la temperatur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6760" y="2852640"/>
            <a:ext cx="282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,2897 / 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3840" y="280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10240" y="3933720"/>
            <a:ext cx="385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temperatura e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longitud de onda en c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852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4000" y="90792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Planc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03280" y="2133720"/>
                <a:ext cx="561672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058400" y="3716280"/>
            <a:ext cx="58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la constante de Boltzman = 1.3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335640" cy="59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5040" y="6516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emitido por las estrellas se parece mucho a un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2840" y="765000"/>
            <a:ext cx="7576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(T) es la energía por unidad de superficie, a la energí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ada por toda la superficie se le llama luminosidad (L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L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3716280"/>
            <a:ext cx="51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=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L /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R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L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70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2320" y="281160"/>
            <a:ext cx="8023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emplo:  supongamos que tenemos una estrella con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igual a 3000 K (la mitad de la temperatur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l) y con un radio de 1,4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 (200 veces el radio del 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¿cuál sería su luminosidad L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440" y="2297160"/>
            <a:ext cx="438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/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800" y="3233880"/>
            <a:ext cx="566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 / (2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/ (0.5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500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120" y="4508640"/>
            <a:ext cx="7840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. para la casa :  ¿cuál sería el radio (en radios solares)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on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12000 K y una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0.1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dato :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6000 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1920" y="42552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determinar la diferencia en brillo correspondiente 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hay que encontrar un número que elevado a 5 de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76560" y="172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0040" y="1576440"/>
            <a:ext cx="42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1/5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.512…..    (se usa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7800" y="2637000"/>
            <a:ext cx="89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onces una estrella que tie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magnitud más brillante tiene 2.5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 magnitudes más brillante tien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2.5) 6.3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ag. más brillant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2.5 × 2.5) 15.8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8680" y="5394240"/>
            <a:ext cx="82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 ¡ojo! que hasta aquí sólo hemos hablado de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 las estrellas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2000" y="1268280"/>
                <a:ext cx="6264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01800" y="35388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to lo podemos escribi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19280" y="3068640"/>
                <a:ext cx="35751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95640" y="4581360"/>
                <a:ext cx="511308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405080" y="4869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680" y="333360"/>
            <a:ext cx="789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: una estrella tiene una 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3  y otr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5  ¿cuál es la razón de sus bri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19280" y="1484280"/>
                <a:ext cx="4897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11280" y="3068640"/>
                <a:ext cx="252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11640" y="3213000"/>
                <a:ext cx="2630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7381080" y="36450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960" y="496800"/>
            <a:ext cx="782964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lculemos la diferencia entre lo que puede ver el oj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lo más débil) y lo más débil que ve el VL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VLT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ojo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9 – 6 = 23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= 9.2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0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9.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.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telescopio VLT ve objetos 1600 millones de vec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ébiles que el oj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01000" cy="223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360" y="260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spectro electro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02656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3680" y="-79200"/>
            <a:ext cx="8914320" cy="6939720"/>
            <a:chOff x="13680" y="-79200"/>
            <a:chExt cx="8914320" cy="6939720"/>
          </a:xfrm>
        </p:grpSpPr>
        <p:sp>
          <p:nvSpPr>
            <p:cNvPr id="64" name=""/>
            <p:cNvSpPr/>
            <p:nvPr/>
          </p:nvSpPr>
          <p:spPr>
            <a:xfrm>
              <a:off x="13680" y="6400800"/>
              <a:ext cx="31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1nm = 10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-7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m = 10 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Å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600" y="549360"/>
              <a:ext cx="26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des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l espacio (satélit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320" y="2276640"/>
              <a:ext cx="27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lescopios terrest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200" y="414972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ante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13720" y="-79200"/>
              <a:ext cx="62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el ojo humano sólo sensible entre 400 – 700 n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276720" y="549360"/>
              <a:ext cx="5651280" cy="604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3640" y="3333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color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8898840" cy="6414480"/>
            <a:chOff x="0" y="0"/>
            <a:chExt cx="8898840" cy="6414480"/>
          </a:xfrm>
        </p:grpSpPr>
        <p:sp>
          <p:nvSpPr>
            <p:cNvPr id="73" name=""/>
            <p:cNvSpPr/>
            <p:nvPr/>
          </p:nvSpPr>
          <p:spPr>
            <a:xfrm>
              <a:off x="5104800" y="893520"/>
              <a:ext cx="37940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Un </a:t>
              </a:r>
              <a:r>
                <a:rPr b="0" lang="es-ES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cuerpo negro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def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omo un objeto que absorb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oda la energía que le llega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hasta alcanzar la tempera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n que emite a la misma tas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 la que le llega energía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lcanzando el equilibrio a 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mperatur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893520"/>
              <a:ext cx="5003640" cy="54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91800" y="0"/>
              <a:ext cx="30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Cuerpo Negro (B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00" y="4298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24560" y="3938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94000" y="4370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85280" y="5954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69640" y="59547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9280" y="58831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az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7T13:13:25Z</dcterms:modified>
  <cp:revision>51</cp:revision>
  <dc:subject/>
  <dc:title>PowerPoint Presentation</dc:title>
</cp:coreProperties>
</file>