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F75E-DD5B-412E-8865-1E9198542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A815-9655-4A8C-B859-733BAAB1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AC77-E2BE-4B3D-B9CE-49C2BE4D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BE59-5EFC-4A3A-BD36-269B2F901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B0C3-FFD7-40C7-94EB-54927622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95B2-A109-4A91-A79C-B1E105A8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05ED-D30E-4303-9028-F013569A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E71E-4294-4B96-ADEB-90804B62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5701-6C47-4623-B012-CDA0242B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7536-7195-4723-8040-EA33B24D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3739-1B87-405B-99AB-96886B11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26EB-ACB2-4D9C-A761-1B96E4BB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1CEC-2B91-436C-B05A-891AE6CA2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1527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: Optimización de la Fer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03640" y="323208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se 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4579920"/>
            <a:ext cx="3168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parar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gnacio B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drés Fau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Javier Pé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laudia Vid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260280"/>
            <a:ext cx="561636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idad de Chile – Fcf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amento de Ingeniería Química y Bio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ario de Diseñ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96360" y="333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upo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0200" y="196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28720" y="1638360"/>
            <a:ext cx="4103640" cy="2077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148360" y="1484280"/>
            <a:ext cx="322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veles de biomasa aumentan con respecto al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385128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observación de la fase estacion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tapa lag, etapa exponencial y etapa muerte soli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uena coordinación implicó desarrollo ópt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01840" y="2349360"/>
            <a:ext cx="8027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Dudas y consulta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00200" y="412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Qué es un cultiv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ed-batc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20509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á entre un cultivo Batch y uno continu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utiliza para evitar inhibiciones por exceso de sustr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volumen varía durante 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o o mas (en algunos casos todos) nutrientes son adicionados al reactor durante el cul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55640" y="54936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evita la represión catab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obtienen productos asociados al cre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 las células se encuentran “hambrientas”, se optimiza el proceso de cre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0" t="0" r="0" b="15641"/>
          <a:stretch/>
        </p:blipFill>
        <p:spPr>
          <a:xfrm>
            <a:off x="2050920" y="3716280"/>
            <a:ext cx="504036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00200" y="4428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 Te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47628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ototipo 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1844640"/>
            <a:ext cx="7543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ed-Batch + perfu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8360" y="2781360"/>
            <a:ext cx="3527280" cy="3479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8360" y="2781360"/>
            <a:ext cx="3527280" cy="3456000"/>
          </a:xfrm>
          <a:prstGeom prst="rect">
            <a:avLst/>
          </a:prstGeom>
          <a:solidFill>
            <a:srgbClr val="3366ff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11640" y="2852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aso Precipi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13080" y="572616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13080" y="4076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li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13080" y="536580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13080" y="4508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xí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13080" y="371016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Buf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13080" y="3284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gi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13080" y="493380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entrif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00200" y="4428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 Prác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47628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ototipo 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547640" y="1773360"/>
            <a:ext cx="583272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00200" y="196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as Prototipo 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212256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i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min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ros de 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a de Mues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00200" y="4428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 Prác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47628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ototipo 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547640" y="1773360"/>
            <a:ext cx="583272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258920" y="3279600"/>
            <a:ext cx="6553080" cy="3318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908000" y="355680"/>
            <a:ext cx="5040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00200" y="196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4360" y="212256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jor oxigen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or producción de cél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emplazo del agua que se eva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ciones control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sobre represión catab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19:01:47Z</dcterms:created>
  <dc:creator>.</dc:creator>
  <dc:description/>
  <dc:language>en-US</dc:language>
  <cp:lastModifiedBy>.</cp:lastModifiedBy>
  <dcterms:modified xsi:type="dcterms:W3CDTF">2006-11-21T20:17:22Z</dcterms:modified>
  <cp:revision>5</cp:revision>
  <dc:subject/>
  <dc:title>Diapositiva 1</dc:title>
</cp:coreProperties>
</file>