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F0D-9F36-4B79-BD4D-035920A1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83B-D4F1-4269-B6BD-61E43E5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819-0383-42CD-A78B-44694C8C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F65-EEA5-485A-8198-341475C2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55E-4E1C-4755-8394-2BB4C13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D53-1CC5-4520-B86E-C057557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A26-BBB4-407C-9DE7-844BE71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FF2-BB33-43AD-9739-F1B64AC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D71-03BE-4533-9B88-084F6B5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EE4-5C10-4400-98E8-52D0B39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9BD-92FB-494C-B4A9-D966BAA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F82-618E-4D21-8F92-F609D87A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23E5-ECA3-4D95-936A-95A404B6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.</cp:lastModifiedBy>
  <dcterms:modified xsi:type="dcterms:W3CDTF">2006-11-21T20:17:22Z</dcterms:modified>
  <cp:revision>5</cp:revision>
  <dc:subject/>
  <dc:title>Diapositiva 1</dc:title>
</cp:coreProperties>
</file>