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986-BC3C-4D62-A995-640B4E65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1B7-3B60-4B89-B857-94762B0E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641-F5D6-41CC-9F7E-6C037176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BCD-B110-4A7A-AF1F-33124334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A4E-8A9A-41DC-814E-ACB1D6F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A1C-B2A3-4DD1-86D7-5394CB5F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8C8-7CF3-499F-A24C-C7E16459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892-BDDC-4335-B75A-0F73C077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714-3D30-4797-AA7B-C8A3C7F4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4F7-29DD-4576-9228-70B6B985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0A9-95A8-418A-BC55-94157A5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F85-466C-468F-8907-6FF8EEC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8789-4600-4056-9E84-ACEABACDD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: Optimización de la Fer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323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e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4579920"/>
            <a:ext cx="31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naci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drés Fau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vier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udia 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60280"/>
            <a:ext cx="5616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dad de Chile – Fcf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ario de Diseñ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8720" y="1638360"/>
            <a:ext cx="41036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84280"/>
            <a:ext cx="32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veles de biomasa aumentan con respecto a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8512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bservación de la fase estacio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lag, etapa exponencial y etapa muerte sol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coordinación implicó desarrollo óp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1840" y="2349360"/>
            <a:ext cx="802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Dudas y consult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0200" y="412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 un culti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d-b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 entre un cultivo Batch y un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para evitar inhibiciones por exceso de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olumen varía durante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o o mas (en algunos casos todos) nutrientes son adicionados al reactor durante el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vita la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btienen productos asociados a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las células se encuentran “hambrientas”, se optimiza el proceso de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15641"/>
          <a:stretch/>
        </p:blipFill>
        <p:spPr>
          <a:xfrm>
            <a:off x="2050920" y="3716280"/>
            <a:ext cx="50403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844640"/>
            <a:ext cx="7543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ed-Batch + per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35272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781360"/>
            <a:ext cx="3527280" cy="3456000"/>
          </a:xfrm>
          <a:prstGeom prst="rect">
            <a:avLst/>
          </a:prstGeom>
          <a:solidFill>
            <a:srgbClr val="3366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28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so Precip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3080" y="5726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3080" y="4076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3080" y="5365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3080" y="45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3080" y="3710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3080" y="3284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080" y="4933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 Prototipo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os de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58920" y="3279600"/>
            <a:ext cx="6553080" cy="331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908000" y="355680"/>
            <a:ext cx="504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 oxige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producción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mplazo del agua que se eva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ciones contro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obre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1:47Z</dcterms:created>
  <dc:creator>.</dc:creator>
  <dc:description/>
  <dc:language>en-US</dc:language>
  <cp:lastModifiedBy>.</cp:lastModifiedBy>
  <dcterms:modified xsi:type="dcterms:W3CDTF">2006-11-21T20:17:22Z</dcterms:modified>
  <cp:revision>5</cp:revision>
  <dc:subject/>
  <dc:title>Diapositiva 1</dc:title>
</cp:coreProperties>
</file>