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05FC-C7ED-413D-8530-FDE61E1E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626-F993-495A-B145-F76EC033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6ADC-A0F1-48DD-B720-CE4363B9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56F-533E-4BB4-A5BE-87D800E6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100-DC27-48C0-86D3-CD6FD489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7747-8730-4A09-B7C7-7F54DD8A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241-281A-441E-B4DC-19873CCD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078F-8A21-42A8-AE45-6B9290DF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E823-CD65-4D30-BA86-A0EA9D2A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CDE-D596-40AA-AB62-49E1CE23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0686-6694-4E10-A0FF-3CF2040C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11AC-435B-4CAD-A58E-81A4ED40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350A-56F2-43C0-B65E-D67FB4B51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52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: Optimización de la Fer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3640" y="32320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se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4579920"/>
            <a:ext cx="316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gnacio B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drés Fau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vier Pé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audia Vi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260280"/>
            <a:ext cx="5616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dad de Chile – Fcf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ario de Diseñ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96360" y="333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p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28720" y="1638360"/>
            <a:ext cx="4103640" cy="2077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148360" y="1484280"/>
            <a:ext cx="322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veles de biomasa aumentan con respecto a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38512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observación de la fase estacio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tapa lag, etapa exponencial y etapa muerte sol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uena coordinación implicó desarrollo ópt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1840" y="2349360"/>
            <a:ext cx="8027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Dudas y consulta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0200" y="412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é es un cultiv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ed-bat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á entre un cultivo Batch y uno contin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utiliza para evitar inhibiciones por exceso de sus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volumen varía durante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o o mas (en algunos casos todos) nutrientes son adicionados al reactor durante el cul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5493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evita la represión cata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obtienen productos asociados al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las células se encuentran “hambrientas”, se optimiza el proceso de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0" b="15641"/>
          <a:stretch/>
        </p:blipFill>
        <p:spPr>
          <a:xfrm>
            <a:off x="2050920" y="3716280"/>
            <a:ext cx="50403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tipo 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1844640"/>
            <a:ext cx="7543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ed-Batch + perf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3527280" cy="3479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2781360"/>
            <a:ext cx="3527280" cy="3456000"/>
          </a:xfrm>
          <a:prstGeom prst="rect">
            <a:avLst/>
          </a:prstGeom>
          <a:solidFill>
            <a:srgbClr val="3366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11640" y="28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aso Precip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3080" y="57261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13080" y="4076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li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3080" y="53658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13080" y="4508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13080" y="37101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3080" y="3284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gi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3080" y="49338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entrif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Prác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tipo 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58327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s Prototipo 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os de 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 de M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Prác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tipo 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58327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58920" y="3279600"/>
            <a:ext cx="6553080" cy="3318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908000" y="355680"/>
            <a:ext cx="5040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 oxige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producción de cél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mplazo del agua que se eva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ciones control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sobre represión cata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9:01:47Z</dcterms:created>
  <dc:creator>.</dc:creator>
  <dc:description/>
  <dc:language>en-US</dc:language>
  <cp:lastModifiedBy>.</cp:lastModifiedBy>
  <dcterms:modified xsi:type="dcterms:W3CDTF">2006-11-21T20:17:22Z</dcterms:modified>
  <cp:revision>5</cp:revision>
  <dc:subject/>
  <dc:title>Diapositiva 1</dc:title>
</cp:coreProperties>
</file>