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82F-6D49-4B50-9A35-EA2690A4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421-94EB-40FC-8398-85C63589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AF4-EF27-4B69-8D63-0E2B8B4D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EB5-8038-451A-9E42-FEC15F0E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A41-A716-4EA5-80E4-735F4451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85C-0669-44D3-9E9E-F9B720A5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79D-8486-409F-84E2-AD16A727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B46-0681-4E69-9C37-63F03438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FB7-1F58-4056-BDAA-50D0BC2D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965-EBC0-44F9-B823-23118166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F92-D4D3-466C-B500-ABAE6E32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FD0-A2D3-4B3E-9745-9B8BFFE4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2982-3FE3-4940-A80B-358251E8B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: Optimización de la Fer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323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e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4579920"/>
            <a:ext cx="31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gnacio B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drés Fau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vier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udia V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60280"/>
            <a:ext cx="5616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dad de Chile – Fcf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ario de Diseñ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33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8720" y="1638360"/>
            <a:ext cx="4103640" cy="2077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8360" y="1484280"/>
            <a:ext cx="322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veles de biomasa aumentan con respecto a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8512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bservación de la fase estacio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apa lag, etapa exponencial y etapa muerte sol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coordinación implicó desarrollo ópt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1840" y="2349360"/>
            <a:ext cx="802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Dudas y consult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0200" y="412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 un cultiv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ed-b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 entre un cultivo Batch y un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para evitar inhibiciones por exceso de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olumen varía durante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o o mas (en algunos casos todos) nutrientes son adicionados al reactor durante el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vita la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btienen productos asociados al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las células se encuentran “hambrientas”, se optimiza el proceso de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15641"/>
          <a:stretch/>
        </p:blipFill>
        <p:spPr>
          <a:xfrm>
            <a:off x="2050920" y="3716280"/>
            <a:ext cx="50403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844640"/>
            <a:ext cx="7543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ed-Batch + per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35272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781360"/>
            <a:ext cx="3527280" cy="3456000"/>
          </a:xfrm>
          <a:prstGeom prst="rect">
            <a:avLst/>
          </a:prstGeom>
          <a:solidFill>
            <a:srgbClr val="3366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28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so Precip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3080" y="5726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3080" y="4076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3080" y="5365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3080" y="450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3080" y="3710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3080" y="3284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gi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3080" y="4933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 Prototipo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os de 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58920" y="3279600"/>
            <a:ext cx="6553080" cy="3318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908000" y="355680"/>
            <a:ext cx="5040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 oxige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producción de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mplazo del agua que se eva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ciones contro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sobre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1:47Z</dcterms:created>
  <dc:creator>.</dc:creator>
  <dc:description/>
  <dc:language>en-US</dc:language>
  <cp:lastModifiedBy>.</cp:lastModifiedBy>
  <dcterms:modified xsi:type="dcterms:W3CDTF">2006-11-21T20:17:22Z</dcterms:modified>
  <cp:revision>5</cp:revision>
  <dc:subject/>
  <dc:title>Diapositiva 1</dc:title>
</cp:coreProperties>
</file>