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BE2F-2922-42E0-8FCB-E84D5286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307A5-57FC-4EE4-9CD1-4D24DA6B7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674AE-6D48-4D97-A2A4-1C19B559E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D0DE8-FCE7-4838-9748-B45EBA60E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BAD89-7AE8-43CD-BC89-7A4510F11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CB5CF-7A93-4C2B-870B-B339D9E9E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776DE-2186-4D3A-B07C-11786443A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8F80A1-633C-406F-8C71-0AC859214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0E633-C657-4E39-B9CB-43D472A4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96A8E7-C9BA-4464-A32F-237F7D356C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7143A-721D-4712-9D5E-F779C84C16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58F2-2350-4297-860D-74178C21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B4009F-E72E-4FF8-AE96-4D15D3AB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2ABEFE-9835-4790-9E26-AFE751F5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C776F-C686-4599-9BC6-07A850679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ADE0E-5046-4AF8-BA57-6D4671FA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144273-84D9-4483-A896-98669C4F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0B124-C2AF-4962-912D-91C0E8C59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D75A9-C2C7-4BA6-AE9C-297A2F4D4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BBE86-6BD0-433F-B38D-CFF6F8E44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6D52-CBFD-4BC4-A7E4-10D3AAC12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B8858-83FF-45B8-BE5B-D6496932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FEE8-E8F0-4FF6-9ECE-7625E3AD3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899EC-BFBE-49AF-82D5-B4A3B4C20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64215-FE7C-4B09-896D-681B1221AB74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606D-FBC9-4ABA-ACB9-A3975B647882}" type="slidenum"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611280" y="476280"/>
            <a:ext cx="8137440" cy="580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SD20A-12</a:t>
            </a:r>
            <a:br>
              <a:rPr sz="1800"/>
            </a:br>
            <a:r>
              <a:rPr b="1" lang="es-ES" sz="1800" spc="-1" strike="noStrike">
                <a:solidFill>
                  <a:srgbClr val="ffffff"/>
                </a:solidFill>
                <a:latin typeface="Times New Roman"/>
              </a:rPr>
              <a:t>Primavera 2006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feec94"/>
                </a:solidFill>
                <a:latin typeface="Times New Roman"/>
              </a:rPr>
              <a:t>PROTOTIPO FINAL DE BIORREACTOR PARA LA PRODUCCIÓN DE BIOMASA Y OBTENCIÓN DE ETANO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Javiera Mul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Jesarella Molin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imes New Roman"/>
              </a:rPr>
              <a:t>Hortencia Jorquer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Times New Roman"/>
              </a:rPr>
              <a:t>Departamento de Ing. Química y Biotecnologí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OBJETIVOS DEL PROYECTO</a:t>
            </a:r>
            <a:endParaRPr b="1" lang="en-US" sz="36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4360" y="1557360"/>
            <a:ext cx="482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ceso de Fermentación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692360" y="3357720"/>
            <a:ext cx="6551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050920" y="3902760"/>
            <a:ext cx="41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Obtención de Energí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771640" y="5213520"/>
            <a:ext cx="309744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ffffff"/>
                </a:solidFill>
                <a:latin typeface="Times New Roman"/>
              </a:rPr>
              <a:t>Biocombustible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6877080" y="529740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ETAN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332000" y="2708280"/>
            <a:ext cx="47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</a:rPr>
              <a:t>Producción de </a:t>
            </a:r>
            <a:r>
              <a:rPr b="1" lang="en-US" sz="3200" spc="-1" strike="noStrike">
                <a:solidFill>
                  <a:srgbClr val="cccc00"/>
                </a:solidFill>
                <a:latin typeface="Times New Roman"/>
              </a:rPr>
              <a:t>BIOMAS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195640" y="4581360"/>
            <a:ext cx="576000" cy="1224000"/>
          </a:xfrm>
          <a:custGeom>
            <a:avLst/>
            <a:gdLst>
              <a:gd name="textAreaLeft" fmla="*/ 0 w 576000"/>
              <a:gd name="textAreaRight" fmla="*/ 576000 w 576000"/>
              <a:gd name="textAreaTop" fmla="*/ 360 h 1224000"/>
              <a:gd name="textAreaBottom" fmla="*/ 12247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476360" y="3357000"/>
            <a:ext cx="576360" cy="1223640"/>
          </a:xfrm>
          <a:custGeom>
            <a:avLst/>
            <a:gdLst>
              <a:gd name="textAreaLeft" fmla="*/ 0 w 576360"/>
              <a:gd name="textAreaRight" fmla="*/ 576720 w 576360"/>
              <a:gd name="textAreaTop" fmla="*/ -360 h 1223640"/>
              <a:gd name="textAreaBottom" fmla="*/ 1223640 h 12236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755640" y="2133720"/>
            <a:ext cx="576360" cy="1224000"/>
          </a:xfrm>
          <a:custGeom>
            <a:avLst/>
            <a:gdLst>
              <a:gd name="textAreaLeft" fmla="*/ 0 w 576360"/>
              <a:gd name="textAreaRight" fmla="*/ 576720 w 576360"/>
              <a:gd name="textAreaTop" fmla="*/ 360 h 1224000"/>
              <a:gd name="textAreaBottom" fmla="*/ 1224720 h 1224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867280" y="5372280"/>
            <a:ext cx="935280" cy="433080"/>
          </a:xfrm>
          <a:custGeom>
            <a:avLst/>
            <a:gdLst>
              <a:gd name="textAreaLeft" fmla="*/ 146160 w 935280"/>
              <a:gd name="textAreaRight" fmla="*/ 818640 w 935280"/>
              <a:gd name="textAreaTop" fmla="*/ 108360 h 433080"/>
              <a:gd name="textAreaBottom" fmla="*/ 325080 h 4330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516720" y="1916280"/>
            <a:ext cx="1942920" cy="194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000"/>
                            </p:stCondLst>
                            <p:childTnLst>
                              <p:par>
                                <p:cTn id="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Descripción del Proyecto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324000" y="1413000"/>
            <a:ext cx="8496000" cy="493704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24000" y="1413000"/>
            <a:ext cx="849600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700360" y="0"/>
            <a:ext cx="30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ARA LAG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50920" y="907920"/>
            <a:ext cx="3168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Prolongación de la fase La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50920" y="134136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jor homogenizació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79280" y="1700280"/>
            <a:ext cx="44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ejor Distribución de los nutrient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9280" y="2060640"/>
            <a:ext cx="352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Nivel de Oxigenación más al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79280" y="2492280"/>
            <a:ext cx="388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recimiento regulado si se controlan los parámetr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476280"/>
            <a:ext cx="23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TAJ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372360" y="47628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VENTAJ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5003640" y="907920"/>
            <a:ext cx="3780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ifícil toma de muestras debido al aparataj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003640" y="148428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to peligro de contaminación por microorganismos extrañ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003640" y="1989000"/>
            <a:ext cx="374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volumen en el matraz no es constan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35280" y="2997360"/>
            <a:ext cx="51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AMARA LOGARÍTM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4000" y="35672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VENTAJ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5796000" y="3567240"/>
            <a:ext cx="26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SVENTAJA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50920" y="4032360"/>
            <a:ext cx="4105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Poca Probabilidad de Contaminación por microorganismos aeróbic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50920" y="4681440"/>
            <a:ext cx="3816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 posterior Destilación del Etanol es más simpl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50920" y="5257800"/>
            <a:ext cx="460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 obliga a las levaduras a solo producir etanol por medio de nutrientes especial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79280" y="5832360"/>
            <a:ext cx="4248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l medio es más “limpio”: Existe salida de Efluentes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50920" y="6408720"/>
            <a:ext cx="4248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El medio es homogéneo y está a Tº óptima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788000" y="4008600"/>
            <a:ext cx="39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La Filtración se torna complicada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88000" y="4437000"/>
            <a:ext cx="435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25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imes New Roman"/>
              </a:rPr>
              <a:t>Debido a lo complicado del aparataje el proceso se torna discontinu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140360" y="620640"/>
            <a:ext cx="1944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140360" y="47628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339640" y="62064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H="1">
            <a:off x="2123640" y="3716280"/>
            <a:ext cx="180036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24360" y="3716280"/>
            <a:ext cx="194472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924360" y="3571920"/>
            <a:ext cx="0" cy="144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4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1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7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-108000" y="189000"/>
            <a:ext cx="1011708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Times New Roman"/>
              </a:rPr>
              <a:t>DESARROLLO DEL PROYECTO Y CALENDARIO DE ACTIVIDADES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692280"/>
            <a:ext cx="36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ana 1: 23 al 29 de O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067280" y="620640"/>
            <a:ext cx="4681440" cy="92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ienzo del Desarrol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grupación de Materiale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1916280"/>
            <a:ext cx="4500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ana 2: 30 de Oct al 5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 N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3357720"/>
            <a:ext cx="37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ana 3: 6 al 12 de N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0" y="5373720"/>
            <a:ext cx="3673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emana 4:  13 al 19 de Nov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1700280"/>
            <a:ext cx="5148360" cy="138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mienzo Armado del Prototi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idráulica del Model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aboración Medio de Cultivo Fase 1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95640" y="3271680"/>
            <a:ext cx="5148360" cy="17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rmado Final del Prototip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se 1 del Experimento: Determinación del Tiempo de dura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laboración Medio de Cultivo Fase 2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5640" y="5229360"/>
            <a:ext cx="5400720" cy="170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se 1 y Fase 2 del proces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oma de Muestras Final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Extracción de Aire por medio de la Bomba de vací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RESULTADOS DEL EXPERIMENT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2560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826920" y="1739880"/>
          <a:ext cx="7490160" cy="4241880"/>
        </p:xfrm>
        <a:graphic>
          <a:graphicData uri="http://schemas.openxmlformats.org/drawingml/2006/table">
            <a:tbl>
              <a:tblPr/>
              <a:tblGrid>
                <a:gridCol w="1873440"/>
                <a:gridCol w="1871640"/>
                <a:gridCol w="1873080"/>
                <a:gridCol w="1872000"/>
              </a:tblGrid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º de hora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ranscurridas</a:t>
                      </a: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del </a:t>
                      </a: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perimento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bsorbancia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 620nm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Disolució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Concentración de células en </a:t>
                      </a:r>
                      <a:r>
                        <a:rPr b="1" lang="es-CL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[g/L]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32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0.2503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16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11.476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6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5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43.258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0.098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00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71.298 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5" name=""/>
          <p:cNvSpPr/>
          <p:nvPr/>
        </p:nvSpPr>
        <p:spPr>
          <a:xfrm>
            <a:off x="3255840" y="2730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974160" y="3141000"/>
            <a:ext cx="7319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ffffff"/>
                </a:solidFill>
                <a:latin typeface="Times New Roman"/>
              </a:rPr>
              <a:t>x (g/l) =(7.01*Ab +0.026)*D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eec94"/>
                </a:solidFill>
                <a:latin typeface="Times New Roman"/>
              </a:rPr>
              <a:t>Optimización y diseño de un nuevo prototipo</a:t>
            </a:r>
            <a:endParaRPr b="1" lang="en-US" sz="40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1989000"/>
            <a:ext cx="338472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actores a mejorar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2179800"/>
            <a:ext cx="49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istema de calefacción de la 1ª etap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3707640" y="2755800"/>
            <a:ext cx="233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ajada de suero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701520" y="3259080"/>
            <a:ext cx="447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falta de vitaminas del complejo 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706200" y="3763800"/>
            <a:ext cx="345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uso de la bomba de vací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98640" y="4340160"/>
            <a:ext cx="5522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eterminación del tiempo de crecimiento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24000" y="5205240"/>
            <a:ext cx="254304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Nuevo diseñ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1000"/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0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5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3277800" y="404640"/>
            <a:ext cx="248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eec94"/>
                </a:solidFill>
                <a:latin typeface="Times New Roman"/>
              </a:rPr>
              <a:t>Conclusió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08200" y="1217520"/>
            <a:ext cx="750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 quiso crear una herramienta para la investigar la relación entre la cantidad de biomasa y la cantidad de etanol obtenido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2914560"/>
            <a:ext cx="7535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 sólo se considera la primera etapa, es un prototipo que puede ser elaborado a nivel escola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5640" y="4365720"/>
            <a:ext cx="75279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n embargo, si se quiere llevar a cabo la totalidad del proceso se debe hacer con los materiales y recursos necesarios para costearlo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24000" y="134136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24000" y="443700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24000" y="2997360"/>
            <a:ext cx="433080" cy="360360"/>
          </a:xfrm>
          <a:prstGeom prst="rightArrow">
            <a:avLst>
              <a:gd name="adj1" fmla="val 50000"/>
              <a:gd name="adj2" fmla="val 30045"/>
            </a:avLst>
          </a:prstGeom>
          <a:solidFill>
            <a:srgbClr val="ff99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8T15:14:32Z</dcterms:created>
  <dc:creator>jmulet</dc:creator>
  <dc:description/>
  <dc:language>en-US</dc:language>
  <cp:lastModifiedBy>alumno</cp:lastModifiedBy>
  <dcterms:modified xsi:type="dcterms:W3CDTF">2006-11-21T21:12:33Z</dcterms:modified>
  <cp:revision>10</cp:revision>
  <dc:subject/>
  <dc:title>Diapositiva 1</dc:title>
</cp:coreProperties>
</file>