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2AD-8588-4EE4-B975-4AB4112D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AAB-0F29-4815-8FB6-A7FA2DB3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CDB-D0AB-4771-A15C-6EC96E08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CE7-0E98-4C91-A0CC-E5B2B988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CE78-C3CC-41BF-B293-17C7094B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DBF0-7620-4572-931B-56ECD81A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6358-69BB-4DC6-BD0F-BE9AF7A5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5EBF-2212-4E99-91B2-84474846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739C-317B-4C39-8857-BCE6E664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5215-983B-4F05-989A-801AE358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10CD-C900-41F1-A0B9-DB39F744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4EB-A2EB-4B37-980D-075D1B5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1259-EA94-4FC7-BC69-3E4B2F77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436D-C625-4507-827E-8ACC009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5CC9-0067-4854-B1A8-5C065505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08B5-2BA1-43FF-A222-E275F886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7F82-BC78-4318-BCF7-EBFA7D5F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239-7329-47B3-8171-69F5672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F98-92DF-497F-A58F-BAF6DDA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1C5-DD85-4623-AFE5-13CB1DAD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AC3-EBEA-4EA6-8747-17EC6DB1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5F7-272E-436B-B4ED-6299E75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D62-243B-4BDB-9A33-9E55C784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B3A-BCEA-485A-BE7E-1C3580DE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782-5583-4881-8C7F-BF1FFB4F40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98E1-44FA-4EF1-B327-7F9E9E0CBAC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476280"/>
            <a:ext cx="813744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D20A-12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rimavera 2006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Times New Roman"/>
              </a:rPr>
              <a:t>PROTOTIPO FINAL DE BIORREACTOR PARA LA PRODUCCIÓN DE BIOMASA Y OBTENCIÓN DE ETAN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aviera Mu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esarella M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ortencia Jorqu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epartamento de Ing. Química y Biotecnolo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OBJETIVOS DEL PROYECT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o de Fermentació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357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9027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nción de Ener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52135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iocombusti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529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708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ción de 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95640" y="4581360"/>
            <a:ext cx="576000" cy="1224000"/>
          </a:xfrm>
          <a:custGeom>
            <a:avLst/>
            <a:gdLst>
              <a:gd name="textAreaLeft" fmla="*/ 0 w 576000"/>
              <a:gd name="textAreaRight" fmla="*/ 576000 w 57600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76360" y="3357000"/>
            <a:ext cx="576360" cy="1223640"/>
          </a:xfrm>
          <a:custGeom>
            <a:avLst/>
            <a:gdLst>
              <a:gd name="textAreaLeft" fmla="*/ 0 w 576360"/>
              <a:gd name="textAreaRight" fmla="*/ 576720 w 576360"/>
              <a:gd name="textAreaTop" fmla="*/ -360 h 1223640"/>
              <a:gd name="textAreaBottom" fmla="*/ 12236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5640" y="2133720"/>
            <a:ext cx="576360" cy="122400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5372280"/>
            <a:ext cx="935280" cy="433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08360 h 433080"/>
              <a:gd name="textAreaBottom" fmla="*/ 325080 h 43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scripción del Proyec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937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00360" y="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ARA LA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07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longación de la fase L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jor homoge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jor Distribución de los nutr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20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vel de Oxigenación más al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492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cimiento regulado si se controlan los paráme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47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9079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ícil toma de muestras debido al aparat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484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o peligro de contaminación por microorganismos extr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989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volumen en el matraz no es const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9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ARA LOGARÍT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6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35672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03236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ca Probabilidad de Contaminación por microorganismos aerób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6814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posterior Destilación del Etanol es más si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25780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obliga a las levaduras a solo producir etanol por medio de nutrientes espec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58323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medio es más “limpio”: Existe salida de Eflu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408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homogéneo y está a Tº ópt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0086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Filtración se torna complic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4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do a lo complicado del aparataje el proceso se torna discontin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62064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47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339640" y="62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123640" y="3716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3716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108000" y="189000"/>
            <a:ext cx="1011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SARROLLO DEL PROYECTO Y CALENDARIO DE ACTIVIDAD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1: 23 al 29 de O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620640"/>
            <a:ext cx="4681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ienzo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upación de Mater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916280"/>
            <a:ext cx="450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2: 30 de Oct al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3: 6 al 12 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373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4:  13 al 19 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1700280"/>
            <a:ext cx="514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ienzo Armado del Proto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dráulica del Mod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boración Medio de Cultivo Fase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3271680"/>
            <a:ext cx="51483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mado Final del Proto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1 del Experimento: Determinación del Tiempo de du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boración Medio de Cultivo Fase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229360"/>
            <a:ext cx="54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1 y Fase 2 del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a de Muestras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cción de Aire por medio de la Bomba de vací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RESULTADOS DEL EXPERIM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739880"/>
          <a:ext cx="7490160" cy="4241880"/>
        </p:xfrm>
        <a:graphic>
          <a:graphicData uri="http://schemas.openxmlformats.org/drawingml/2006/table">
            <a:tbl>
              <a:tblPr/>
              <a:tblGrid>
                <a:gridCol w="1873440"/>
                <a:gridCol w="1871640"/>
                <a:gridCol w="1873080"/>
                <a:gridCol w="187200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º de h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curridas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l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per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62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olu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ración de células en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0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47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25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29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255840" y="273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4160" y="3141000"/>
            <a:ext cx="73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x (g/l) =(7.01*Ab +0.026)*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ptimización y diseño de un nuevo prototip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84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es a mejo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179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 de calefacción de la 1ª et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7640" y="2755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jada de su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1520" y="3259080"/>
            <a:ext cx="44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ta de vitaminas del complejo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6200" y="3763800"/>
            <a:ext cx="34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la bomba de vací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98640" y="434016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ación del tiempo de crecimien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205240"/>
            <a:ext cx="2543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evo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77800" y="404640"/>
            <a:ext cx="24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Conclusió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8200" y="1217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quiso crear una herramienta para la investigar la relación entre la cantidad de biomasa y la cantidad de etanol obteni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914560"/>
            <a:ext cx="75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sólo se considera la primera etapa, es un prototipo que puede ser elaborado a nivel esc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36572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embargo, si se quiere llevar a cabo la totalidad del proceso se debe hacer con los materiales y recursos necesarios para costear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341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43700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2997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4:32Z</dcterms:created>
  <dc:creator>jmulet</dc:creator>
  <dc:description/>
  <dc:language>en-US</dc:language>
  <cp:lastModifiedBy>alumno</cp:lastModifiedBy>
  <dcterms:modified xsi:type="dcterms:W3CDTF">2006-11-21T21:12:33Z</dcterms:modified>
  <cp:revision>10</cp:revision>
  <dc:subject/>
  <dc:title>Diapositiva 1</dc:title>
</cp:coreProperties>
</file>