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76E-4B37-4B59-9FDA-1C5A45D8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87C-C9E4-4FBB-93C4-6A534000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888-69F5-4BB2-9AFF-E2953D2C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97A-9BDF-4A64-8B78-61E45C8E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6FE4-09D8-4E59-81C6-D8219790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299-EEB4-4472-808B-8D4DA6EC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06C8-5B4C-43BA-AAE3-A543E42C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92C1-ED31-4E2C-95E1-0A2AADBC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0A9F-3111-4229-B52F-1628532B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9321-2E4A-4710-8342-7D15A1D7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51F6-00F6-4EFB-B26D-3EE080F9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944-51DC-462C-8F1A-04124B39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C96C-2A74-4F83-80EE-398CA645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60D0-1578-49A7-9872-1B170337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DCA2-366D-47CB-944E-619B4B05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2275-A763-41BA-B2AA-6D9D3DBC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6079-F82D-4A20-9C33-73F682E4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F77-D8D0-47FB-AA56-7BDDF43C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5E8-9CE8-42F7-A1E0-4EB80239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9F7-F820-4E1A-8CB0-40037716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095-114C-4CD8-82BC-8A0C657E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07E-0A0A-43D8-B3B3-FCE9853D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E42-7845-4603-838B-D6D2471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C78-C31C-4550-B1BC-6A7D3EE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8A83-E358-4186-8E03-2CE2E7523F8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E572-76B5-432A-A8AD-FCFEAD452F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476280"/>
            <a:ext cx="813744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D20A-12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rimavera 2006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Times New Roman"/>
              </a:rPr>
              <a:t>PROTOTIPO FINAL DE BIORREACTOR PARA LA PRODUCCIÓN DE BIOMASA Y OBTENCIÓN DE ETAN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aviera Mu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esarella M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ortencia Jorqu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epartamento de Ing. Química y Biotecnolo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OBJETIVOS DEL PROYECT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55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o de Fermentació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3357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39027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nción de Ener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52135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iocombusti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5297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708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ción de 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95640" y="4581360"/>
            <a:ext cx="576000" cy="1224000"/>
          </a:xfrm>
          <a:custGeom>
            <a:avLst/>
            <a:gdLst>
              <a:gd name="textAreaLeft" fmla="*/ 0 w 576000"/>
              <a:gd name="textAreaRight" fmla="*/ 576000 w 57600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76360" y="3357000"/>
            <a:ext cx="576360" cy="1223640"/>
          </a:xfrm>
          <a:custGeom>
            <a:avLst/>
            <a:gdLst>
              <a:gd name="textAreaLeft" fmla="*/ 0 w 576360"/>
              <a:gd name="textAreaRight" fmla="*/ 576720 w 576360"/>
              <a:gd name="textAreaTop" fmla="*/ -360 h 1223640"/>
              <a:gd name="textAreaBottom" fmla="*/ 12236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5640" y="2133720"/>
            <a:ext cx="576360" cy="1224000"/>
          </a:xfrm>
          <a:custGeom>
            <a:avLst/>
            <a:gdLst>
              <a:gd name="textAreaLeft" fmla="*/ 0 w 576360"/>
              <a:gd name="textAreaRight" fmla="*/ 576720 w 57636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5372280"/>
            <a:ext cx="935280" cy="433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08360 h 433080"/>
              <a:gd name="textAreaBottom" fmla="*/ 325080 h 43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scripción del Proyec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937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00360" y="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ARA LA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079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longación de la fase L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jor homoge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jor Distribución de los nutr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206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vel de Oxigenación más al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492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cimiento regulado si se controlan los paráme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47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47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90792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ícil toma de muestras debido al aparat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484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o peligro de contaminación por microorganismos extr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98900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volumen en el matraz no es const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997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ARA LOGARÍT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67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35672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03236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ca Probabilidad de Contaminación por microorganismos aerób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6814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posterior Destilación del Etanol es más si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25780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obliga a las levaduras a solo producir etanol por medio de nutrientes espec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583236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medio es más “limpio”: Existe salida de Eflu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408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homogéneo y está a Tº ópt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0086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Filtración se torna complic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44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bido a lo complicado del aparataje el proceso se torna discontin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62064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47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339640" y="62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123640" y="3716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3716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108000" y="189000"/>
            <a:ext cx="1011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SARROLLO DEL PROYECTO Y CALENDARIO DE ACTIVIDAD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1: 23 al 29 de O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620640"/>
            <a:ext cx="4681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ienzo d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rupación de Mater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916280"/>
            <a:ext cx="450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2: 30 de Oct al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3: 6 al 12 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3737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4:  13 al 19 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1700280"/>
            <a:ext cx="514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ienzo Armado del Proto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dráulica del Mode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aboración Medio de Cultivo Fase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3271680"/>
            <a:ext cx="51483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mado Final del Proto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1 del Experimento: Determinación del Tiempo de du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aboración Medio de Cultivo Fase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5229360"/>
            <a:ext cx="54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1 y Fase 2 del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a de Muestras F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cción de Aire por medio de la Bomba de vací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RESULTADOS DEL EXPERIMEN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1739880"/>
          <a:ext cx="7490160" cy="4241880"/>
        </p:xfrm>
        <a:graphic>
          <a:graphicData uri="http://schemas.openxmlformats.org/drawingml/2006/table">
            <a:tbl>
              <a:tblPr/>
              <a:tblGrid>
                <a:gridCol w="1873440"/>
                <a:gridCol w="1871640"/>
                <a:gridCol w="1873080"/>
                <a:gridCol w="1872000"/>
              </a:tblGrid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º de h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curridas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del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per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a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620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olu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ración de células en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0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47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25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29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255840" y="273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4160" y="3141000"/>
            <a:ext cx="73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imes New Roman"/>
              </a:rPr>
              <a:t>x (g/l) =(7.01*Ab +0.026)*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ptimización y diseño de un nuevo prototip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84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es a mejor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179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 de calefacción de la 1ª et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7640" y="27558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jada de su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1520" y="3259080"/>
            <a:ext cx="44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ta de vitaminas del complejo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6200" y="3763800"/>
            <a:ext cx="34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la bomba de vací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98640" y="4340160"/>
            <a:ext cx="55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ación del tiempo de crecimien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205240"/>
            <a:ext cx="2543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evo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77800" y="404640"/>
            <a:ext cx="24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Conclusió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8200" y="121752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quiso crear una herramienta para la investigar la relación entre la cantidad de biomasa y la cantidad de etanol obteni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914560"/>
            <a:ext cx="75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sólo se considera la primera etapa, es un prototipo que puede ser elaborado a nivel esc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365720"/>
            <a:ext cx="75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embargo, si se quiere llevar a cabo la totalidad del proceso se debe hacer con los materiales y recursos necesarios para costear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341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43700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2997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4:32Z</dcterms:created>
  <dc:creator>jmulet</dc:creator>
  <dc:description/>
  <dc:language>en-US</dc:language>
  <cp:lastModifiedBy>alumno</cp:lastModifiedBy>
  <dcterms:modified xsi:type="dcterms:W3CDTF">2006-11-21T21:12:33Z</dcterms:modified>
  <cp:revision>10</cp:revision>
  <dc:subject/>
  <dc:title>Diapositiva 1</dc:title>
</cp:coreProperties>
</file>