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BE3-1E51-452F-99B4-D26A0CB7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4C2-FFE0-46B2-8C4C-1FDE6239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C89-139A-43AD-9470-1470CF17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99E-8DAF-4C5B-A033-55EC90C7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EE96-838D-4FF9-9432-80CEAC19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5BE8-1A18-4A6D-B5A9-4D4C3463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C2FF-7C01-402A-BD18-7E2759D6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6201-98BB-4AF0-B3BB-46911E3C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AA56-9609-409E-AC1B-9F1E9E8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F883-8922-4BE8-A44C-021F1860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37EA-0C09-4956-8268-3ADB44B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2DD-AD03-4D11-8DBB-8773526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7BFF-4ABD-4D71-82BF-C322BB2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DF18-D526-4E9B-A7AF-70F89DB7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BD67-6891-4023-9AF7-84EEBF9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5C27-8501-4CC3-B20E-2E3A9E67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B6E8-547B-4413-A6DA-9B3E9A33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E2D-83DC-4EE8-A913-033FA43F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A0B-6C7A-4E15-933A-342CFC4F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DC9-B4F9-45B7-8908-7850B335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4CD-E95B-4AF0-AB25-B3ED3AC9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B53-AE7E-42B7-833D-A9707560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819-86CA-4455-AA37-A985031B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973-AFE6-40B1-A217-BCAAE2C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5F6F-008C-4269-AD83-BDE47122F3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2072-E6AC-497B-B6D1-DF899FC1491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95640" y="4581360"/>
            <a:ext cx="576000" cy="1224000"/>
          </a:xfrm>
          <a:custGeom>
            <a:avLst/>
            <a:gdLst>
              <a:gd name="textAreaLeft" fmla="*/ 0 w 576000"/>
              <a:gd name="textAreaRight" fmla="*/ 576000 w 57600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76360" y="3357000"/>
            <a:ext cx="576360" cy="1223640"/>
          </a:xfrm>
          <a:custGeom>
            <a:avLst/>
            <a:gdLst>
              <a:gd name="textAreaLeft" fmla="*/ 0 w 576360"/>
              <a:gd name="textAreaRight" fmla="*/ 576720 w 576360"/>
              <a:gd name="textAreaTop" fmla="*/ -360 h 1223640"/>
              <a:gd name="textAreaBottom" fmla="*/ 12236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5640" y="2133720"/>
            <a:ext cx="576360" cy="122400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372280"/>
            <a:ext cx="935280" cy="433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739880"/>
          <a:ext cx="7490160" cy="4241880"/>
        </p:xfrm>
        <a:graphic>
          <a:graphicData uri="http://schemas.openxmlformats.org/drawingml/2006/table">
            <a:tbl>
              <a:tblPr/>
              <a:tblGrid>
                <a:gridCol w="1873440"/>
                <a:gridCol w="1871640"/>
                <a:gridCol w="1873080"/>
                <a:gridCol w="187200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4160" y="314100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alumno</cp:lastModifiedBy>
  <dcterms:modified xsi:type="dcterms:W3CDTF">2006-11-21T21:12:33Z</dcterms:modified>
  <cp:revision>10</cp:revision>
  <dc:subject/>
  <dc:title>Diapositiva 1</dc:title>
</cp:coreProperties>
</file>