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0055-63F9-43DF-8548-CE6EF764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E722-11EC-4924-A269-8270809A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5D9A-8B07-4D71-BE79-5E0426AF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49F0-8421-4746-B599-FAE8E8B7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5DC2-8E2D-4265-AF89-299BA426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164F-FD0F-4213-9265-92B933A1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C37-2633-477D-8E5D-F8416FFA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B5A-5B0B-433F-A1F9-C81FA209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CD1E-4825-4C8D-826F-88593CD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9F3B-525F-49F1-A6FB-AC776644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EDD7-5A57-476B-89B7-51C5405B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7FE0-6DF6-4208-AF54-057624C9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F4A3-5FE7-4E05-B148-D4F1A7D4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541D-DEAA-4C8C-ACAB-C6A1082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F863-5CE1-40B6-839C-57D29CD3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3FF4-312B-45F1-A76B-8DB83C3C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33B7-491B-44F1-B352-ADDA003A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B4D5-54A0-4257-A9A5-D5FB991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99CF-08FC-4EC2-8A05-5491A550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C615-1F9D-4132-9D48-E4715FA6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4260-1479-4AEB-9372-48AEEE0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BF8D-17D8-4534-9D8A-E7CCD8B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FB89-5654-42F6-BD60-49BB121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FDAF-8DD5-4BDB-9A63-5E202101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3C30-E037-4122-9580-25F9300866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BB4-0A15-473D-97E4-FF98CA371BD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totipos de fermentador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133360" y="4343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Oscar Bustam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stian 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odrigo Var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lipe Zúñi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cha:        21/11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26028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versidad de Chile                                                        Facultad de Ciencias Físicas y Matemáticas                     Depto. De Ing. Química y Biotecnología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D20A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o de Fermentador Nº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2387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urante el experimento de Prueb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e de la Levadura permanecía sedimentada por falta de ag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Sistema de calefacción no funcionó correctam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la estimación del Tiempo de decan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51055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5146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zcla ine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puesta de Fermentador Nº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33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Modelo Realizado de Fermentador Nº 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incipal ventaja de este reactor es su capacidad para retener la biomasa producida en su interi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 ventaja propia de este modelo es su autonomía de funcionami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Ventajas Con Respecto al Batc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eguir recipiente adecuado para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usar agitadores mecánicos o magnéticos debido la reducido tamaño del re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calefaccionar el reactor debido a las características físicas del re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aminación del sus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ños físicos en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ados experimental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88000" y="1413000"/>
          <a:ext cx="4031640" cy="179964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040"/>
                <a:gridCol w="806400"/>
                <a:gridCol w="806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[h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.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50920" y="1125360"/>
          <a:ext cx="43923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4392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5292720" y="177336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250920" y="3716280"/>
          <a:ext cx="4321080" cy="232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32108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514836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859280" y="4005360"/>
          <a:ext cx="3884760" cy="258120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6520"/>
                <a:gridCol w="777600"/>
                <a:gridCol w="77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h]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395280" y="6308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Absorbancia*7.01+0.026)* Dil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Modelo optimiz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10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4:46:15Z</dcterms:created>
  <dc:creator>Patricio Escobar Ferrand</dc:creator>
  <dc:description/>
  <dc:language>en-US</dc:language>
  <cp:lastModifiedBy>usuario</cp:lastModifiedBy>
  <dcterms:modified xsi:type="dcterms:W3CDTF">2006-11-22T02:06:01Z</dcterms:modified>
  <cp:revision>47</cp:revision>
  <dc:subject/>
  <dc:title>Fermentación por cultivos en Perfusión</dc:title>
</cp:coreProperties>
</file>