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E672-5C52-4933-9461-E2961D83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8A12-F833-4BE0-B839-4ADD4DAF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0FFB-2DFB-4191-BBB2-A0DBA79F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BC2-7186-411F-9EB3-421CB68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047-230F-4737-8853-85F94F16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A676-1225-4956-B7C1-C1071C9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6DE8-86B8-4B6C-9FDB-856315D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926-6ECC-467D-9CC6-D739979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C5B3-C4E3-4DCF-8050-D2D1F0CF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01D-70E6-4112-951F-E706ED9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8364-DBF5-495E-A283-7B1E818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BC78-A68E-4B0A-88D2-14261DA0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C180-19D1-47FD-8FA6-644128B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4C4F-3DEC-4EAA-A97B-7662A12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70E1-968B-4D47-8D2D-CC86E06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B04A-7DA1-4120-8D4D-AC87FB3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EE4-9055-4C0B-B7D2-C5BD7869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A271-B174-4E81-B640-030C49A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E727-F17D-416D-BFDE-D3B8F5DF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188-1EF4-4D20-BE8F-3C58C4C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2D15-87A6-4F11-9332-5889839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9B44-B07E-48B9-B883-3E709BE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6411-AE36-4ACD-8FA1-ABD940C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2A89-B285-4A3A-87CB-8C1A356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468-20E6-4944-A8B2-501C106CBA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F6FD-7241-420B-982C-DF23551322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1640" cy="179964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04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8120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usuario</cp:lastModifiedBy>
  <dcterms:modified xsi:type="dcterms:W3CDTF">2006-11-22T02:06:01Z</dcterms:modified>
  <cp:revision>47</cp:revision>
  <dc:subject/>
  <dc:title>Fermentación por cultivos en Perfusión</dc:title>
</cp:coreProperties>
</file>