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002C-81E6-44C8-8168-E5D2C73D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6B01-CE57-4FD9-B701-8FDEF2FE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CFDB-B3B4-4B46-A89C-2DB06F3E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F2D7-00A6-4EC5-8454-24DB9053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E6AE-3256-4129-9A6B-A8B5ACA3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9C0B-2667-4787-9325-F1C9D3E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E273-C242-493E-A346-91EB9CA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A9AE-8FD8-4DF9-9644-841A029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B92-D91D-432F-AE4B-E4AE1AD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D20-12A0-4401-8F03-C364091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545-7F4E-4A9E-B4A6-7414996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7CC7-730B-44CE-BF24-FCD437E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E90B-9434-4395-8F49-1D276CA4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778-100B-4350-9387-A69D7DB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EAE2-CE88-43DC-A971-AB96BF8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00F0-A56B-4480-878F-85DCE064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9B53-9C6C-48EE-85EC-7146C8CD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4587-14C7-4FDF-9D7F-B304C26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69C5-D3C1-49B8-92A8-7F18DF26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7546-E0B9-4E57-A219-7CA18FBC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E828-2722-4148-8F48-A99082C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73B6-78D4-4113-9DD6-0EB0EA59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AF9D-4F2B-4493-BD8C-A283C24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48A6-6BF2-40C8-A5D2-10B013F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FCE-98E0-4578-84C7-114F5846BE6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2B99-50D8-4B22-973B-7ADC04AC5E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1640" cy="179964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04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8120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usuario</cp:lastModifiedBy>
  <dcterms:modified xsi:type="dcterms:W3CDTF">2006-11-22T02:06:01Z</dcterms:modified>
  <cp:revision>47</cp:revision>
  <dc:subject/>
  <dc:title>Fermentación por cultivos en Perfusión</dc:title>
</cp:coreProperties>
</file>