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FB40-142B-43DD-97EF-E5DF87DF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D3DC-A84C-4EAD-A82A-86A65A95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6D82-7E27-42F9-8FC1-F1607BE1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3C9D-9195-4B7C-B926-0E3945A0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8FAC-9FCD-48E7-9177-C14223D4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8DF7-DE0E-4273-87E6-E5B125E8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B90D-4ECA-4979-8F0A-61715499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2833-CECC-4F05-9F50-17FC5D36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8A64-712C-43FB-9A0E-8DF4F2F2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76A6-DA8E-4AF7-90FF-8C4273C3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A662-57FE-4946-A421-8C5102DD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B174-E3C7-43F1-9804-8F6B3E2F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0BAA-C477-414F-8359-8B4DF1F7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2A2D-FE54-428D-996A-C2898079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19BB-556B-41AE-BDBF-BC56BFFB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1A04-23C9-4646-BAC4-32DD3A7A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A8AF-1081-4EA2-96DB-CCE2BBF4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3FD5-55A6-4AD8-BE8C-BB0E404C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14A2-A6F4-40D5-9B0F-38B7D43F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5C71-0099-4DD3-93BC-119BE359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C000-70F2-45A6-A55C-45D87AB9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ADF0-6DC9-4A7F-BDC3-1C75929C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EDEA-AD87-493A-8B04-83FE427E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A7A3-3D23-448B-A6D9-43FF37AE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723F-47CA-4D24-A92C-8828401A2A7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4E6D-5B3B-4D82-A03E-4B6D9098B61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dfdef6"/>
                </a:solidFill>
                <a:latin typeface="Arial"/>
              </a:rPr>
              <a:t>Prototipos de fermentador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133360" y="43434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grantes: Oscar Bustam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ristian 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odrigo Var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elipe Zúñi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echa:        21/11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9280" y="260280"/>
            <a:ext cx="62215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Universidad de Chile                                                        Facultad de Ciencias Físicas y Matemáticas                     Depto. De Ing. Química y Biotecnología                         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D20A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Conclusion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delo de Fermentador Nº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2387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ificultades en la Implementació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urante el experimento de Prueb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te de la Levadura permanecía sedimentada por falta de agitació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Sistema de calefacción no funcionó correctamen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la estimación del Tiempo de decantació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10280" cy="51055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251460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l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38280" y="480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zcla ine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puesta de Fermentador Nº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449360" y="1600200"/>
            <a:ext cx="6245280" cy="45338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Modelo Realizado de Fermentador Nº 2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incipal ventaja de este reactor es su capacidad para retener la biomasa producida en su interi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 ventaja propia de este modelo es su autonomía de funcionamien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Ventajas Con Respecto al Batc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seguir recipiente adecuado para el mod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osibilidad de usar agitadores mecánicos o magnéticos debido la reducido tamaño del rea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osibilidad de calefaccionar el reactor debido a las características físicas del rea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taminación del sus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ños físicos en el mod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ificultades en la Implement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Resultados experimental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788000" y="1413000"/>
          <a:ext cx="4031640" cy="1799640"/>
        </p:xfrm>
        <a:graphic>
          <a:graphicData uri="http://schemas.openxmlformats.org/drawingml/2006/table">
            <a:tbl>
              <a:tblPr/>
              <a:tblGrid>
                <a:gridCol w="806400"/>
                <a:gridCol w="806400"/>
                <a:gridCol w="806040"/>
                <a:gridCol w="806400"/>
                <a:gridCol w="8064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empo[h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lució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.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3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8.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50920" y="1125360"/>
          <a:ext cx="4392360" cy="23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43923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5292720" y="1773360"/>
            <a:ext cx="31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250920" y="3716280"/>
          <a:ext cx="4321080" cy="2320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716280"/>
                    <a:ext cx="432108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5148360" y="3860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859280" y="4005360"/>
          <a:ext cx="3884760" cy="2581200"/>
        </p:xfrm>
        <a:graphic>
          <a:graphicData uri="http://schemas.openxmlformats.org/drawingml/2006/table">
            <a:tbl>
              <a:tblPr/>
              <a:tblGrid>
                <a:gridCol w="776520"/>
                <a:gridCol w="777600"/>
                <a:gridCol w="776520"/>
                <a:gridCol w="777600"/>
                <a:gridCol w="776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emp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h]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lució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9.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2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"/>
          <p:cNvSpPr/>
          <p:nvPr/>
        </p:nvSpPr>
        <p:spPr>
          <a:xfrm>
            <a:off x="395280" y="630864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Absorbancia*7.01+0.026)* Dilu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Modelo optimiza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668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102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04:46:15Z</dcterms:created>
  <dc:creator>Patricio Escobar Ferrand</dc:creator>
  <dc:description/>
  <dc:language>en-US</dc:language>
  <cp:lastModifiedBy>usuario</cp:lastModifiedBy>
  <dcterms:modified xsi:type="dcterms:W3CDTF">2006-11-22T02:06:01Z</dcterms:modified>
  <cp:revision>47</cp:revision>
  <dc:subject/>
  <dc:title>Fermentación por cultivos en Perfusión</dc:title>
</cp:coreProperties>
</file>