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210-1C2B-49D8-ACAD-E4F1EFA3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69EA-D143-47CE-9B0A-2CF20C914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2DA4-DABC-41D1-868F-E6F9DDFD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CD32-8D06-41D2-AF16-F0F7574D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B609-4DD7-40B5-9599-4E9AAB8D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90B8-1C36-4484-AF07-44E28ACE3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F250-0F0F-473F-8B99-9C89A21E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CF21-2EF7-4632-B653-B4609015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60E2-C9C7-45FC-86A5-003AAB36C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E0FE-E2FC-4FE7-BE61-252200F7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2F35-76CC-4230-BEE1-E4D1D6BA4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1F8F-B312-42D7-89FA-00D0F23E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E0B2-3D3F-469F-BE36-C1F63CCCC9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s-ES_tradnl" sz="2400" spc="-1" strike="noStrike">
                <a:solidFill>
                  <a:srgbClr val="ffff00"/>
                </a:solidFill>
                <a:latin typeface="Comic Sans MS"/>
              </a:rPr>
              <a:t>Diseño e implementación un proceso de producción de biomasa optimizada</a:t>
            </a: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 </a:t>
            </a:r>
            <a:br>
              <a:rPr sz="3600"/>
            </a:br>
            <a:br>
              <a:rPr sz="3600"/>
            </a:br>
            <a:r>
              <a:rPr b="1" lang="es-ES" sz="3600" spc="-1" strike="noStrike">
                <a:solidFill>
                  <a:srgbClr val="ffff00"/>
                </a:solidFill>
                <a:latin typeface="Comic Sans MS"/>
              </a:rPr>
              <a:t>Normas de Bioseguridad y materiales de laboratorio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560" y="4876920"/>
            <a:ext cx="6945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M.Elena Lienque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Prof. Auxiliar: Verónica Martíne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Ayudantes: Mary Robinson- J.Pablo Martinez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Comic Sans MS"/>
              </a:rPr>
              <a:t>Departamento de Ing. Química y Biotecnología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0" lang="es-ES_tradnl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mlienque@ing.uchile.c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8353440" cy="1959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619280" y="3500280"/>
            <a:ext cx="590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637000"/>
            <a:ext cx="66960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En la imagen superior se pueden ver cultivos de esporas ambientales (hong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Arial"/>
              </a:rPr>
              <a:t>En la imagen inferior es posible ver bacterias ambient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348000" y="3789360"/>
            <a:ext cx="3529080" cy="2647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Biotecnología </a:t>
            </a:r>
            <a:br>
              <a:rPr sz="3600"/>
            </a:b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ateriales Laborator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4935960" y="242100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Autor: Juan Pablo Elgu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IFQ.p.075-262" descr=""/>
          <p:cNvPicPr/>
          <p:nvPr/>
        </p:nvPicPr>
        <p:blipFill>
          <a:blip r:embed="rId2"/>
          <a:stretch/>
        </p:blipFill>
        <p:spPr>
          <a:xfrm>
            <a:off x="826920" y="2066760"/>
            <a:ext cx="7874280" cy="4791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ateriales Según Su Uso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83552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En los que se combinan sustanci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Suelen ser de vidrios especiales, como de borosilicato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ubo de ensay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Vaso de precipit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atraz Erlenme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Tubos eppendorf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Matraz de destilación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4" name="1341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7736040" y="1628640"/>
            <a:ext cx="1407960" cy="1756080"/>
          </a:xfrm>
          <a:prstGeom prst="rect">
            <a:avLst/>
          </a:prstGeom>
          <a:ln w="0">
            <a:noFill/>
          </a:ln>
        </p:spPr>
      </p:pic>
      <p:pic>
        <p:nvPicPr>
          <p:cNvPr id="75" name="1124" descr=""/>
          <p:cNvPicPr/>
          <p:nvPr/>
        </p:nvPicPr>
        <p:blipFill>
          <a:blip r:embed="rId3"/>
          <a:stretch/>
        </p:blipFill>
        <p:spPr>
          <a:xfrm>
            <a:off x="7740720" y="4005360"/>
            <a:ext cx="1006560" cy="1993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4356000" y="3429000"/>
            <a:ext cx="2508480" cy="2508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5580000" y="1773360"/>
            <a:ext cx="1728720" cy="147636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ateriales Según Su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Para medir volúm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os materiales para medir volúmenes son de vidrio o de plástico transparente y están graduados.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robe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ipe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Bure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icropipet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atraz afora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132680" y="1773360"/>
            <a:ext cx="2011320" cy="37018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4284720" y="1916280"/>
            <a:ext cx="2736720" cy="3881160"/>
          </a:xfrm>
          <a:prstGeom prst="rect">
            <a:avLst/>
          </a:prstGeom>
          <a:ln w="0">
            <a:noFill/>
          </a:ln>
        </p:spPr>
      </p:pic>
      <p:pic>
        <p:nvPicPr>
          <p:cNvPr id="82" name="1455" descr=""/>
          <p:cNvPicPr/>
          <p:nvPr/>
        </p:nvPicPr>
        <p:blipFill>
          <a:blip r:embed="rId4"/>
          <a:stretch/>
        </p:blipFill>
        <p:spPr>
          <a:xfrm>
            <a:off x="0" y="5532480"/>
            <a:ext cx="4140360" cy="11620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ateriales Según Su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ahoma"/>
              </a:rPr>
              <a:t>Soporte y suje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En cuanto a los materiales de soporte y sujeción, con excepción de la gradilla, que puede ser de madera o de plástico, son de met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oporte universal con anillo de fierro, pinzas para bureta y tela de alambre con asbest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Gradilla para tubos de ensay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Tripié y triángulo de porcelan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inzas para tubo de ensay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inzas para cris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Pinzas de 2 o 3 dedos con nuez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ateriales Según Su Us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Otros materi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Lámpara de alcohol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mbud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Vidrio de reloj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ortero con pistil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Agitador de vid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Frascos goter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pátul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Tap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Escobill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Mechero de Buns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</a:rPr>
              <a:t>Placas Pet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740560" y="1700280"/>
            <a:ext cx="2920680" cy="31687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2376720" cy="352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Gradill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26080" indent="-226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Pinz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9" name="0347" descr=""/>
          <p:cNvPicPr/>
          <p:nvPr/>
        </p:nvPicPr>
        <p:blipFill>
          <a:blip r:embed="rId2"/>
          <a:stretch/>
        </p:blipFill>
        <p:spPr>
          <a:xfrm rot="16200000">
            <a:off x="3181320" y="-149400"/>
            <a:ext cx="3176640" cy="4284720"/>
          </a:xfrm>
          <a:prstGeom prst="rect">
            <a:avLst/>
          </a:prstGeom>
          <a:ln w="0">
            <a:noFill/>
          </a:ln>
        </p:spPr>
      </p:pic>
      <p:pic>
        <p:nvPicPr>
          <p:cNvPr id="90" name="pag088pinzas_tubos" descr=""/>
          <p:cNvPicPr/>
          <p:nvPr/>
        </p:nvPicPr>
        <p:blipFill>
          <a:blip r:embed="rId3"/>
          <a:stretch/>
        </p:blipFill>
        <p:spPr>
          <a:xfrm>
            <a:off x="2340000" y="4221000"/>
            <a:ext cx="4176720" cy="194328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7020000" y="3284640"/>
            <a:ext cx="865080" cy="288720"/>
          </a:xfrm>
          <a:custGeom>
            <a:avLst/>
            <a:gdLst>
              <a:gd name="textAreaLeft" fmla="*/ 18720 w 865080"/>
              <a:gd name="textAreaRight" fmla="*/ 846360 w 86508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64666" h="21600">
                <a:moveTo>
                  <a:pt x="0" y="0"/>
                </a:moveTo>
                <a:lnTo>
                  <a:pt x="64666" y="0"/>
                </a:lnTo>
                <a:lnTo>
                  <a:pt x="64666" y="21600"/>
                </a:lnTo>
                <a:lnTo>
                  <a:pt x="0" y="21600"/>
                </a:lnTo>
                <a:close/>
              </a:path>
              <a:path fill="lightenLess" w="64666" h="21600">
                <a:moveTo>
                  <a:pt x="0" y="0"/>
                </a:moveTo>
                <a:lnTo>
                  <a:pt x="64666" y="0"/>
                </a:lnTo>
                <a:lnTo>
                  <a:pt x="63266" y="1400"/>
                </a:lnTo>
                <a:lnTo>
                  <a:pt x="1400" y="1400"/>
                </a:lnTo>
                <a:close/>
              </a:path>
              <a:path fill="darken" w="64666" h="21600">
                <a:moveTo>
                  <a:pt x="64666" y="0"/>
                </a:moveTo>
                <a:lnTo>
                  <a:pt x="64666" y="21600"/>
                </a:lnTo>
                <a:lnTo>
                  <a:pt x="63266" y="20200"/>
                </a:lnTo>
                <a:lnTo>
                  <a:pt x="63266" y="1400"/>
                </a:lnTo>
                <a:close/>
              </a:path>
              <a:path fill="darkenLess" w="64666" h="21600">
                <a:moveTo>
                  <a:pt x="646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66" y="20200"/>
                </a:lnTo>
                <a:close/>
              </a:path>
              <a:path fill="lighten" w="646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66" h="21600">
                <a:moveTo>
                  <a:pt x="25326" y="10800"/>
                </a:moveTo>
                <a:lnTo>
                  <a:pt x="39339" y="3794"/>
                </a:lnTo>
                <a:lnTo>
                  <a:pt x="39339" y="17806"/>
                </a:lnTo>
                <a:close/>
              </a:path>
            </a:pathLst>
          </a:custGeom>
          <a:solidFill>
            <a:srgbClr val="41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6948360" y="5734080"/>
            <a:ext cx="865440" cy="288720"/>
          </a:xfrm>
          <a:custGeom>
            <a:avLst/>
            <a:gdLst>
              <a:gd name="textAreaLeft" fmla="*/ 18720 w 865440"/>
              <a:gd name="textAreaRight" fmla="*/ 846720 w 865440"/>
              <a:gd name="textAreaTop" fmla="*/ 18720 h 288720"/>
              <a:gd name="textAreaBottom" fmla="*/ 270000 h 288720"/>
            </a:gdLst>
            <a:ahLst/>
            <a:rect l="textAreaLeft" t="textAreaTop" r="textAreaRight" b="textAreaBottom"/>
            <a:pathLst>
              <a:path w="64692" h="21600">
                <a:moveTo>
                  <a:pt x="0" y="0"/>
                </a:moveTo>
                <a:lnTo>
                  <a:pt x="64692" y="0"/>
                </a:lnTo>
                <a:lnTo>
                  <a:pt x="64692" y="21600"/>
                </a:lnTo>
                <a:lnTo>
                  <a:pt x="0" y="21600"/>
                </a:lnTo>
                <a:close/>
              </a:path>
              <a:path fill="lightenLess" w="64692" h="21600">
                <a:moveTo>
                  <a:pt x="0" y="0"/>
                </a:moveTo>
                <a:lnTo>
                  <a:pt x="64692" y="0"/>
                </a:lnTo>
                <a:lnTo>
                  <a:pt x="63292" y="1400"/>
                </a:lnTo>
                <a:lnTo>
                  <a:pt x="1400" y="1400"/>
                </a:lnTo>
                <a:close/>
              </a:path>
              <a:path fill="darken" w="64692" h="21600">
                <a:moveTo>
                  <a:pt x="64692" y="0"/>
                </a:moveTo>
                <a:lnTo>
                  <a:pt x="64692" y="21600"/>
                </a:lnTo>
                <a:lnTo>
                  <a:pt x="63292" y="20200"/>
                </a:lnTo>
                <a:lnTo>
                  <a:pt x="63292" y="1400"/>
                </a:lnTo>
                <a:close/>
              </a:path>
              <a:path fill="darkenLess" w="64692" h="21600">
                <a:moveTo>
                  <a:pt x="64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292" y="20200"/>
                </a:lnTo>
                <a:close/>
              </a:path>
              <a:path fill="lighten" w="64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692" h="21600">
                <a:moveTo>
                  <a:pt x="25340" y="10800"/>
                </a:moveTo>
                <a:lnTo>
                  <a:pt x="39353" y="3794"/>
                </a:lnTo>
                <a:lnTo>
                  <a:pt x="39353" y="17806"/>
                </a:lnTo>
                <a:close/>
              </a:path>
            </a:pathLst>
          </a:custGeom>
          <a:solidFill>
            <a:srgbClr val="41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3960720" cy="583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Lámpara de Alcoh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Vidrio Relo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Mechero de Bun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0398" descr=""/>
          <p:cNvPicPr/>
          <p:nvPr/>
        </p:nvPicPr>
        <p:blipFill>
          <a:blip r:embed="rId2"/>
          <a:stretch/>
        </p:blipFill>
        <p:spPr>
          <a:xfrm>
            <a:off x="5219640" y="620640"/>
            <a:ext cx="25923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627280" y="2852640"/>
            <a:ext cx="1943280" cy="1644840"/>
          </a:xfrm>
          <a:prstGeom prst="rect">
            <a:avLst/>
          </a:prstGeom>
          <a:ln w="0">
            <a:noFill/>
          </a:ln>
        </p:spPr>
      </p:pic>
      <p:pic>
        <p:nvPicPr>
          <p:cNvPr id="96" name="pag084mechero_bunsen" descr=""/>
          <p:cNvPicPr/>
          <p:nvPr/>
        </p:nvPicPr>
        <p:blipFill>
          <a:blip r:embed="rId4"/>
          <a:stretch/>
        </p:blipFill>
        <p:spPr>
          <a:xfrm>
            <a:off x="5508720" y="3645000"/>
            <a:ext cx="2852640" cy="2997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Laboratorio 1 Biosegurid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39640" y="944640"/>
            <a:ext cx="7885080" cy="5913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116000" y="400536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987640" y="633888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Mech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211640" y="1557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Filtros de 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92720" y="3645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a3ffe7"/>
                </a:solidFill>
                <a:latin typeface="Times New Roman"/>
              </a:rPr>
              <a:t>Fermen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763640" y="2492280"/>
            <a:ext cx="4678560" cy="3508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Arial Black"/>
              </a:rPr>
              <a:t>Si no se toman esas medidas el cultivo y nosotros nos podemos contamin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Biotecnologí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Condiciones Aseps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"/>
          <p:cNvSpPr/>
          <p:nvPr/>
        </p:nvSpPr>
        <p:spPr>
          <a:xfrm>
            <a:off x="5583600" y="5013360"/>
            <a:ext cx="283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Autor: Juan Pablo Elgu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Aspectos Genera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99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Se sabe que en el aire se encuentran una serie de partículas y bacterias asociadas, a éstas se encuentran grandes poblaciones de microorganismos, en general bacterias y esporas de hongos, los que pueden entrar en los medios aptos para desarrollars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ara trabajar con cultivos de microorganismos y en general en microbiología se requiere mantener condiciones de aseps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¿Qué se entiende por asepsia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>
            <a:hlinkClick r:id="rId2" action="ppaction://hlinksldjump"/>
          </p:cNvPr>
          <p:cNvSpPr/>
          <p:nvPr/>
        </p:nvSpPr>
        <p:spPr>
          <a:xfrm>
            <a:off x="7236000" y="429264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41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8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Aspectos Genera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</a:rPr>
              <a:t>Asepsia: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Procedimientos científicos destinados a preservar de gérmenes infecciosos el organismo. Ausencia de microbios.  Procedimiento para eliminarl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¿Cómo se pueden lograr estas condiciones en el laboratorio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étod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xisten tanto métodos químicos como físic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¿Algunos métodos físicos y sus característic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lor Sec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alor Húme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Filtr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Radi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7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Black"/>
              </a:rPr>
              <a:t>Método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¿Algunos métodos químicos y sus característica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loro (Hipoclorito de Sodi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lcoholes, en particular Etan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 Black"/>
              </a:rPr>
              <a:t>Protocolo de Esterilización y Manejo de Lugar de Trabaj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Es imprescindible mantener el orden en el lugar de trabaj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Prender meche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Limpiar el mesón de trabajo con una solución de Etanol al 70% (para 100 ml de solución, 70 ml de etanol puro y 30 ml de agua destilada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Mantener el material de trabajo cercano al mecher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3T16:21:00Z</dcterms:created>
  <dc:creator>Pc</dc:creator>
  <dc:description/>
  <dc:language>en-US</dc:language>
  <cp:lastModifiedBy>Ing Quimica</cp:lastModifiedBy>
  <dcterms:modified xsi:type="dcterms:W3CDTF">2007-03-20T21:03:14Z</dcterms:modified>
  <cp:revision>144</cp:revision>
  <dc:subject/>
  <dc:title>Sin título de diapositiva</dc:title>
</cp:coreProperties>
</file>