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160-8C4F-44C8-B8BA-AD2AB667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8E44-D0A0-4B6C-84AC-ACEEC68D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4725-1792-4A86-9353-3DB4C2A2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BED-DD39-44F8-A109-525866E0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21E3-A812-46B9-81D3-AB445742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07E-29CE-4D9C-885E-FE69EDA7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C0BF-9DC7-4BA3-9DA9-9E37C014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C95-01B5-4FCB-97C0-AB9768A4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6104-9BAA-48A9-B8A4-67075CB2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1D2-1FC8-49A9-A0EC-68B4B6F1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D99D-6500-4C67-986C-B55A89E8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26A-DBCE-4CAC-9441-23B18B29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4A9C-DD22-4BE3-864D-B540102E5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 optimizad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Normas de Bioseguridad y materiales de laboratori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rof. Auxiliar: Verónica Martíne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yudantes: Mary Robinson- J.Pablo Martine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mlienque@ing.uchile.c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353440" cy="1959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19280" y="3500280"/>
            <a:ext cx="59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637000"/>
            <a:ext cx="6696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En la imagen superior se pueden ver cultivos de esporas ambientales (hong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En la imagen inferior es posible ver bacterias ambient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348000" y="3789360"/>
            <a:ext cx="3529080" cy="2647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Biotecnología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ateriales Laborator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4935960" y="242100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Autor: Juan Pablo Elgu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IFQ.p.075-262" descr=""/>
          <p:cNvPicPr/>
          <p:nvPr/>
        </p:nvPicPr>
        <p:blipFill>
          <a:blip r:embed="rId2"/>
          <a:stretch/>
        </p:blipFill>
        <p:spPr>
          <a:xfrm>
            <a:off x="826920" y="2066760"/>
            <a:ext cx="7874280" cy="4791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ateriales Según Su Uso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En los que se combinan sustanc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elen ser de vidrios especiales, como de borosilica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ubo de ensay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Vaso de precipit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atraz Erlenme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ubos eppendor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atraz de destilación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1341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7736040" y="1628640"/>
            <a:ext cx="1407960" cy="1756080"/>
          </a:xfrm>
          <a:prstGeom prst="rect">
            <a:avLst/>
          </a:prstGeom>
          <a:ln w="0">
            <a:noFill/>
          </a:ln>
        </p:spPr>
      </p:pic>
      <p:pic>
        <p:nvPicPr>
          <p:cNvPr id="75" name="1124" descr=""/>
          <p:cNvPicPr/>
          <p:nvPr/>
        </p:nvPicPr>
        <p:blipFill>
          <a:blip r:embed="rId3"/>
          <a:stretch/>
        </p:blipFill>
        <p:spPr>
          <a:xfrm>
            <a:off x="7740720" y="4005360"/>
            <a:ext cx="1006560" cy="1993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356000" y="3429000"/>
            <a:ext cx="2508480" cy="2508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580000" y="1773360"/>
            <a:ext cx="1728720" cy="147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ateriales Según Su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ara medir volúm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materiales para medir volúmenes son de vidrio o de plástico transparente y están graduados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be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ipe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ure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icropipe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traz afor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132680" y="1773360"/>
            <a:ext cx="2011320" cy="37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284720" y="1916280"/>
            <a:ext cx="2736720" cy="3881160"/>
          </a:xfrm>
          <a:prstGeom prst="rect">
            <a:avLst/>
          </a:prstGeom>
          <a:ln w="0">
            <a:noFill/>
          </a:ln>
        </p:spPr>
      </p:pic>
      <p:pic>
        <p:nvPicPr>
          <p:cNvPr id="82" name="1455" descr=""/>
          <p:cNvPicPr/>
          <p:nvPr/>
        </p:nvPicPr>
        <p:blipFill>
          <a:blip r:embed="rId4"/>
          <a:stretch/>
        </p:blipFill>
        <p:spPr>
          <a:xfrm>
            <a:off x="0" y="5532480"/>
            <a:ext cx="4140360" cy="1162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ateriales Según Su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oporte y suje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cuanto a los materiales de soporte y sujeción, con excepción de la gradilla, que puede ser de madera o de plástico, son de me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porte universal con anillo de fierro, pinzas para bureta y tela de alambre con asbes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radilla para tubos de ensay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ipié y triángulo de porcela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inzas para tubo de ensay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inzas para cris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inzas de 2 o 3 dedos con nuez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ateriales Según Su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Otros materi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ámpara de alcoho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mbu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drio de relo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ortero con pisti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gitador de vid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rascos goter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pátul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ap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cobill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echero de Buns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lacas Pet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40560" y="1700280"/>
            <a:ext cx="2920680" cy="316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237672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Gradill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inz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0347" descr=""/>
          <p:cNvPicPr/>
          <p:nvPr/>
        </p:nvPicPr>
        <p:blipFill>
          <a:blip r:embed="rId2"/>
          <a:stretch/>
        </p:blipFill>
        <p:spPr>
          <a:xfrm rot="16200000">
            <a:off x="3181320" y="-149400"/>
            <a:ext cx="3176640" cy="4284720"/>
          </a:xfrm>
          <a:prstGeom prst="rect">
            <a:avLst/>
          </a:prstGeom>
          <a:ln w="0">
            <a:noFill/>
          </a:ln>
        </p:spPr>
      </p:pic>
      <p:pic>
        <p:nvPicPr>
          <p:cNvPr id="90" name="pag088pinzas_tubos" descr=""/>
          <p:cNvPicPr/>
          <p:nvPr/>
        </p:nvPicPr>
        <p:blipFill>
          <a:blip r:embed="rId3"/>
          <a:stretch/>
        </p:blipFill>
        <p:spPr>
          <a:xfrm>
            <a:off x="2340000" y="4221000"/>
            <a:ext cx="4176720" cy="194328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7020000" y="3284640"/>
            <a:ext cx="865080" cy="288720"/>
          </a:xfrm>
          <a:custGeom>
            <a:avLst/>
            <a:gdLst>
              <a:gd name="textAreaLeft" fmla="*/ 18720 w 865080"/>
              <a:gd name="textAreaRight" fmla="*/ 846360 w 86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64666" h="21600">
                <a:moveTo>
                  <a:pt x="0" y="0"/>
                </a:moveTo>
                <a:lnTo>
                  <a:pt x="64666" y="0"/>
                </a:lnTo>
                <a:lnTo>
                  <a:pt x="64666" y="21600"/>
                </a:lnTo>
                <a:lnTo>
                  <a:pt x="0" y="21600"/>
                </a:lnTo>
                <a:close/>
              </a:path>
              <a:path fill="lightenLess" w="64666" h="21600">
                <a:moveTo>
                  <a:pt x="0" y="0"/>
                </a:moveTo>
                <a:lnTo>
                  <a:pt x="64666" y="0"/>
                </a:lnTo>
                <a:lnTo>
                  <a:pt x="63266" y="1400"/>
                </a:lnTo>
                <a:lnTo>
                  <a:pt x="1400" y="1400"/>
                </a:lnTo>
                <a:close/>
              </a:path>
              <a:path fill="darken" w="64666" h="21600">
                <a:moveTo>
                  <a:pt x="64666" y="0"/>
                </a:moveTo>
                <a:lnTo>
                  <a:pt x="64666" y="21600"/>
                </a:lnTo>
                <a:lnTo>
                  <a:pt x="63266" y="20200"/>
                </a:lnTo>
                <a:lnTo>
                  <a:pt x="63266" y="1400"/>
                </a:lnTo>
                <a:close/>
              </a:path>
              <a:path fill="darkenLess" w="64666" h="21600">
                <a:moveTo>
                  <a:pt x="64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66" y="20200"/>
                </a:lnTo>
                <a:close/>
              </a:path>
              <a:path fill="lighten" w="64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66" h="21600">
                <a:moveTo>
                  <a:pt x="25326" y="10800"/>
                </a:moveTo>
                <a:lnTo>
                  <a:pt x="39339" y="3794"/>
                </a:lnTo>
                <a:lnTo>
                  <a:pt x="39339" y="17806"/>
                </a:lnTo>
                <a:close/>
              </a:path>
            </a:pathLst>
          </a:custGeom>
          <a:solidFill>
            <a:srgbClr val="41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6948360" y="5734080"/>
            <a:ext cx="865440" cy="288720"/>
          </a:xfrm>
          <a:custGeom>
            <a:avLst/>
            <a:gdLst>
              <a:gd name="textAreaLeft" fmla="*/ 18720 w 865440"/>
              <a:gd name="textAreaRight" fmla="*/ 846720 w 8654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92" h="21600">
                <a:moveTo>
                  <a:pt x="25340" y="10800"/>
                </a:moveTo>
                <a:lnTo>
                  <a:pt x="39353" y="3794"/>
                </a:lnTo>
                <a:lnTo>
                  <a:pt x="39353" y="17806"/>
                </a:lnTo>
                <a:close/>
              </a:path>
            </a:pathLst>
          </a:custGeom>
          <a:solidFill>
            <a:srgbClr val="41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3960720" cy="583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Lámpara de Alcoh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Vidrio Relo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Mechero de Bun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0398" descr=""/>
          <p:cNvPicPr/>
          <p:nvPr/>
        </p:nvPicPr>
        <p:blipFill>
          <a:blip r:embed="rId2"/>
          <a:stretch/>
        </p:blipFill>
        <p:spPr>
          <a:xfrm>
            <a:off x="5219640" y="620640"/>
            <a:ext cx="25923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627280" y="2852640"/>
            <a:ext cx="1943280" cy="1644840"/>
          </a:xfrm>
          <a:prstGeom prst="rect">
            <a:avLst/>
          </a:prstGeom>
          <a:ln w="0">
            <a:noFill/>
          </a:ln>
        </p:spPr>
      </p:pic>
      <p:pic>
        <p:nvPicPr>
          <p:cNvPr id="96" name="pag084mechero_bunsen" descr=""/>
          <p:cNvPicPr/>
          <p:nvPr/>
        </p:nvPicPr>
        <p:blipFill>
          <a:blip r:embed="rId4"/>
          <a:stretch/>
        </p:blipFill>
        <p:spPr>
          <a:xfrm>
            <a:off x="5508720" y="3645000"/>
            <a:ext cx="2852640" cy="2997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Laboratorio 1 Biosegur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944640"/>
            <a:ext cx="7885080" cy="5913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4005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87640" y="63388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Mech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1557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Filtros de 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92720" y="3645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Fermen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63640" y="2492280"/>
            <a:ext cx="4678560" cy="3508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Si no se toman esas medidas el cultivo y nosotros nos podemos contamin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Biotecnologí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Condiciones Aseps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5583600" y="501336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Autor: Juan Pablo Elgu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Aspectos Genera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99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sabe que en el aire se encuentran una serie de partículas y bacterias asociadas, a éstas se encuentran grandes poblaciones de microorganismos, en general bacterias y esporas de hongos, los que pueden entrar en los medios aptos para desarrollar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a trabajar con cultivos de microorganismos y en general en microbiología se requiere mantener condiciones de aseps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¿Qué se entiende por asepsi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7236000" y="4292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41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Aspectos Genera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Asepsia: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Procedimientos científicos destinados a preservar de gérmenes infecciosos el organismo. Ausencia de microbios.  Procedimiento para eliminarl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¿Cómo se pueden lograr estas condiciones en el laboratori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étod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xisten tanto métodos químicos como fís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¿Algunos métodos físicos y sus característic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lor Se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lor Húme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ilt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adi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étod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¿Algunos métodos químicos y sus característic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loro (Hipoclorito de Sodi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lcoholes, en particular Etan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Protocolo de Esterilización y Manejo de Lugar de Trabaj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 imprescindible mantener el orden en el lugar de trabaj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nder meche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impiar el mesón de trabajo con una solución de Etanol al 70% (para 100 ml de solución, 70 ml de etanol puro y 30 ml de agua destilad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ntener el material de trabajo cercano al meche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7-03-20T21:03:14Z</dcterms:modified>
  <cp:revision>144</cp:revision>
  <dc:subject/>
  <dc:title>Sin título de diapositiva</dc:title>
</cp:coreProperties>
</file>