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4BB-C2C5-4DA8-87DF-D9C81D9B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D7F-DAF3-477B-9342-3746F43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709-4B91-4FE0-A0C7-D6F0ED2B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C79-C540-4B17-9815-B282DB53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3D0-0CAA-4630-954A-214319F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414-4C30-493F-8744-0C357E3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0F0-2AC4-4611-BAA5-E33C125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DE2-CDD3-4681-8E4D-2DBA868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C7C-5854-4074-A877-B20E893D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E59-F7C7-438C-B226-9F4D6B9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78A-45F6-47AB-BF89-13A820F9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528-56BD-4BBD-A6F4-90F38EB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2C13-C272-4CA7-99C8-E62983EE9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ormas de Bioseguridad y materiales de laborator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f. Auxiliar: Verónica Martí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yudantes: Mary Robinson- J.Pablo Marti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353440" cy="19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9280" y="350028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637000"/>
            <a:ext cx="669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superior se pueden ver cultivos de esporas ambientales (hong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inferior es posible ver bacterias ambi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Laborato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935960" y="2421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FQ.p.075-262" descr=""/>
          <p:cNvPicPr/>
          <p:nvPr/>
        </p:nvPicPr>
        <p:blipFill>
          <a:blip r:embed="rId2"/>
          <a:stretch/>
        </p:blipFill>
        <p:spPr>
          <a:xfrm>
            <a:off x="826920" y="2066760"/>
            <a:ext cx="787428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n los que se combinan sust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n ser de vidrios especiales, como de borosilic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 de ensay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so de precipi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Erlenme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s eppendor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de destilació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1341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7736040" y="1628640"/>
            <a:ext cx="1407960" cy="1756080"/>
          </a:xfrm>
          <a:prstGeom prst="rect">
            <a:avLst/>
          </a:prstGeom>
          <a:ln w="0">
            <a:noFill/>
          </a:ln>
        </p:spPr>
      </p:pic>
      <p:pic>
        <p:nvPicPr>
          <p:cNvPr id="75" name="1124" descr=""/>
          <p:cNvPicPr/>
          <p:nvPr/>
        </p:nvPicPr>
        <p:blipFill>
          <a:blip r:embed="rId3"/>
          <a:stretch/>
        </p:blipFill>
        <p:spPr>
          <a:xfrm>
            <a:off x="7740720" y="4005360"/>
            <a:ext cx="1006560" cy="1993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508480" cy="250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80000" y="177336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medir volú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materiales para medir volúmenes son de vidrio o de plástico transparente y están graduad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ip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cropip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traz afo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132680" y="1773360"/>
            <a:ext cx="201132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2736720" cy="3881160"/>
          </a:xfrm>
          <a:prstGeom prst="rect">
            <a:avLst/>
          </a:prstGeom>
          <a:ln w="0">
            <a:noFill/>
          </a:ln>
        </p:spPr>
      </p:pic>
      <p:pic>
        <p:nvPicPr>
          <p:cNvPr id="82" name="1455" descr=""/>
          <p:cNvPicPr/>
          <p:nvPr/>
        </p:nvPicPr>
        <p:blipFill>
          <a:blip r:embed="rId4"/>
          <a:stretch/>
        </p:blipFill>
        <p:spPr>
          <a:xfrm>
            <a:off x="0" y="5532480"/>
            <a:ext cx="4140360" cy="116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porte y suje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uanto a los materiales de soporte y sujeción, con excepción de la gradilla, que puede ser de madera o de plástico, son de me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porte universal con anillo de fierro, pinzas para bureta y tela de alambre con asb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dilla para tubos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ipié y triángulo de porcel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tubo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cris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de 2 o 3 dedos con nuez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tros mater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ámpara de alcoh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mbu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drio de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ortero con pisti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itador de vid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scos gote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át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p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obill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cas P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92068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237672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radil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inz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0347" descr=""/>
          <p:cNvPicPr/>
          <p:nvPr/>
        </p:nvPicPr>
        <p:blipFill>
          <a:blip r:embed="rId2"/>
          <a:stretch/>
        </p:blipFill>
        <p:spPr>
          <a:xfrm rot="16200000">
            <a:off x="3181320" y="-149400"/>
            <a:ext cx="3176640" cy="4284720"/>
          </a:xfrm>
          <a:prstGeom prst="rect">
            <a:avLst/>
          </a:prstGeom>
          <a:ln w="0">
            <a:noFill/>
          </a:ln>
        </p:spPr>
      </p:pic>
      <p:pic>
        <p:nvPicPr>
          <p:cNvPr id="90" name="pag088pinzas_tubos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4176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020000" y="3284640"/>
            <a:ext cx="865080" cy="288720"/>
          </a:xfrm>
          <a:custGeom>
            <a:avLst/>
            <a:gdLst>
              <a:gd name="textAreaLeft" fmla="*/ 18720 w 865080"/>
              <a:gd name="textAreaRight" fmla="*/ 846360 w 86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66" h="21600">
                <a:moveTo>
                  <a:pt x="0" y="0"/>
                </a:moveTo>
                <a:lnTo>
                  <a:pt x="64666" y="0"/>
                </a:lnTo>
                <a:lnTo>
                  <a:pt x="64666" y="21600"/>
                </a:lnTo>
                <a:lnTo>
                  <a:pt x="0" y="21600"/>
                </a:lnTo>
                <a:close/>
              </a:path>
              <a:path fill="lightenLess" w="64666" h="21600">
                <a:moveTo>
                  <a:pt x="0" y="0"/>
                </a:moveTo>
                <a:lnTo>
                  <a:pt x="64666" y="0"/>
                </a:lnTo>
                <a:lnTo>
                  <a:pt x="63266" y="1400"/>
                </a:lnTo>
                <a:lnTo>
                  <a:pt x="1400" y="1400"/>
                </a:lnTo>
                <a:close/>
              </a:path>
              <a:path fill="darken" w="64666" h="21600">
                <a:moveTo>
                  <a:pt x="64666" y="0"/>
                </a:moveTo>
                <a:lnTo>
                  <a:pt x="64666" y="21600"/>
                </a:lnTo>
                <a:lnTo>
                  <a:pt x="63266" y="20200"/>
                </a:lnTo>
                <a:lnTo>
                  <a:pt x="63266" y="1400"/>
                </a:lnTo>
                <a:close/>
              </a:path>
              <a:path fill="darkenLess" w="64666" h="21600">
                <a:moveTo>
                  <a:pt x="64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6" y="20200"/>
                </a:lnTo>
                <a:close/>
              </a:path>
              <a:path fill="lighten" w="64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66" h="21600">
                <a:moveTo>
                  <a:pt x="25326" y="10800"/>
                </a:moveTo>
                <a:lnTo>
                  <a:pt x="39339" y="3794"/>
                </a:lnTo>
                <a:lnTo>
                  <a:pt x="3933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6948360" y="573408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396072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ámpara de Alcoh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Vidrio Relo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0398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943280" cy="1644840"/>
          </a:xfrm>
          <a:prstGeom prst="rect">
            <a:avLst/>
          </a:prstGeom>
          <a:ln w="0">
            <a:noFill/>
          </a:ln>
        </p:spPr>
      </p:pic>
      <p:pic>
        <p:nvPicPr>
          <p:cNvPr id="96" name="pag084mechero_bunsen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852640" cy="29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Laboratorio 1 Biosegur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Mec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55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iltros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36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4678560" cy="350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Si no se toman esas medidas el cultivo y nosotros nos podemos conta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diciones Ase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5583600" y="5013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en el aire se encuentran una serie de partículas y bacterias asociadas, a éstas se encuentran grandes poblaciones de microorganismos, en general bacterias y esporas de hongos, los que pueden entrar en los medios aptos para desarrolla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 trabajar con cultivos de microorganismos y en general en microbiología se requiere mantener condiciones de asep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Qué se entiende por asepsi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7236000" y="4292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rocedimientos científicos destinados a preservar de gérmenes infecciosos el organismo. Ausencia de microbios.  Procedimiento para eliminar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Cómo se pueden lograr estas condiciones en el laborator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n tanto métodos químicos como fís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fís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S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Húme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d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quím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oro (Hipoclorito de Sod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oholes, en particular 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otocolo de Esterilización y Manejo de Lugar de Trabaj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rescindible mantener el orden en el lugar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nder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piar el mesón de trabajo con una solución de Etanol al 70% (para 100 ml de solución, 70 ml de etanol puro y 30 ml de agua destilad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ener el material de trabajo cercano al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20T21:03:14Z</dcterms:modified>
  <cp:revision>144</cp:revision>
  <dc:subject/>
  <dc:title>Sin título de diapositiva</dc:title>
</cp:coreProperties>
</file>