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687-1AB9-467D-8765-2084C482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C8B-36A3-4CF5-A178-B4CD49B7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F70-29C8-4F33-87E4-C53AE0A7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D0A-E795-4E47-8F98-D25CDBF5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3FA-002A-4D17-B955-6C0F3405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940-C143-4BF6-A900-F73824A1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B3A-A238-435A-B42E-02D4B1C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99C-3CE5-448D-9489-77C28B61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601-4EE0-4F63-9993-529C6286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DD1-CDA2-48E1-BAC9-161C59B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432-168B-46AF-8443-7BA492E3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60F-92E7-4FD2-984B-9F3A35B7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6E2-9373-4E5F-B4F0-F409BB50E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12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Prof. Auxiliar Verónica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FERMENTAC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277164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 Biotecnológ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04920" y="3851280"/>
            <a:ext cx="1817280" cy="2701800"/>
            <a:chOff x="304920" y="3851280"/>
            <a:chExt cx="1817280" cy="270180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04920" y="3851280"/>
              <a:ext cx="1279440" cy="27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1189080" y="5168880"/>
              <a:ext cx="933120" cy="11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6415200" y="1204920"/>
            <a:ext cx="2178000" cy="8254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ente Biodegra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78440"/>
            <a:ext cx="209088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19320" y="457200"/>
            <a:ext cx="2772000" cy="1875600"/>
            <a:chOff x="3019320" y="457200"/>
            <a:chExt cx="2772000" cy="1875600"/>
          </a:xfrm>
        </p:grpSpPr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352680" y="457200"/>
              <a:ext cx="2133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19320" y="1873080"/>
              <a:ext cx="27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uimos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491160" y="3505320"/>
            <a:ext cx="2216160" cy="240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68960" y="585000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xiviación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92280" y="4187880"/>
            <a:ext cx="3641760" cy="2327400"/>
            <a:chOff x="2492280" y="4187880"/>
            <a:chExt cx="3641760" cy="2327400"/>
          </a:xfrm>
        </p:grpSpPr>
        <p:grpSp>
          <p:nvGrpSpPr>
            <p:cNvPr id="58" name=""/>
            <p:cNvGrpSpPr/>
            <p:nvPr/>
          </p:nvGrpSpPr>
          <p:grpSpPr>
            <a:xfrm>
              <a:off x="2492280" y="4191120"/>
              <a:ext cx="2057400" cy="2324160"/>
              <a:chOff x="2492280" y="4191120"/>
              <a:chExt cx="2057400" cy="2324160"/>
            </a:xfrm>
          </p:grpSpPr>
          <p:pic>
            <p:nvPicPr>
              <p:cNvPr id="5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68600" y="4191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92280" y="5943600"/>
                <a:ext cx="205740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4334040" y="4187880"/>
              <a:ext cx="1800000" cy="196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257800" cy="28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313080" cy="21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5880" y="2743200"/>
          <a:ext cx="2667240" cy="352260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elocidad de crecimiento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el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cc"/>
                          </a:solidFill>
                          <a:latin typeface="Tahoma"/>
                        </a:rPr>
                        <a:t>Expon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3366cc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400" spc="-1" strike="noStrike" baseline="-25000">
                          <a:solidFill>
                            <a:srgbClr val="3366cc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clin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stacio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ue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1828800" cy="120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0"/>
            <a:ext cx="86868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566100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14560" y="206064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32000" y="4707000"/>
            <a:ext cx="7812000" cy="2151000"/>
            <a:chOff x="1332000" y="470700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1332000" y="515772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329520" y="470700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284720" y="566100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63388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Experimen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Cultivo Continu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isten diferentes modos de operar fermentadores continu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aracterísticas del Quimost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e llamó Quimostato dado que la composición química y biológica del medio se mantiene constante, para ello se debe controlar: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volumen del líquido en el reactor se mantiene constante, ajustando los flujos de entrada y salida al mismo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H del medio mediante la adición de ácido o base. Generalmente se adiciona á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suministro continuo de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 o aire), en el caso de sistemas aerób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nivel de agitación adecuado que garantice la homogeneidad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os principales componentes de un cultivo continuo s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ctor de volumen cons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limentación de medio y salida de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nque estéril de medio (entrada y sali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pH, T, OD (Oxígeno disuel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ireación y ag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71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0"/>
            <a:ext cx="86868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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292720" y="2924280"/>
                <a:ext cx="81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omic Sans MS"/>
              </a:rPr>
              <a:t>Presentación 1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24 de Abril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Otros modos de operar una fer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6360" y="838080"/>
            <a:ext cx="8683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560" y="19368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MEDIO AMBIENTE Y DESARROLLO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120" y="1074600"/>
            <a:ext cx="38962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BIOCOMBUST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d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97360" y="977760"/>
            <a:ext cx="1830240" cy="144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30760" y="2771640"/>
            <a:ext cx="1935000" cy="147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61080" y="10890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b198"/>
                </a:solidFill>
                <a:latin typeface="Antique Olive"/>
              </a:rPr>
              <a:t>Producción de alcohol por microorganism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4240" y="2798640"/>
            <a:ext cx="271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Mejora genética de granos (maíz, rap,etc) para que se utilicen en producción de Biodi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35840" y="4829040"/>
            <a:ext cx="271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Uso de microorganismos para descomposición de desechos y producción de Me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409840" y="4527720"/>
            <a:ext cx="3503520" cy="207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9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13T17:15:17Z</dcterms:modified>
  <cp:revision>139</cp:revision>
  <dc:subject/>
  <dc:title>Sin título de diapositiva</dc:title>
</cp:coreProperties>
</file>