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19.wmf" ContentType="image/x-wmf"/>
  <Override PartName="/ppt/media/image18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17.wmf" ContentType="image/x-wmf"/>
  <Override PartName="/ppt/media/image22.jpeg" ContentType="image/jpeg"/>
  <Override PartName="/ppt/media/image9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37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6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53E-C6EA-4394-820E-BBDDAB8C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082A-6D51-4FCE-83D0-45E6EB42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DD1-8B6A-4FA7-95E8-B9C0C0F7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C1E-29D0-49E4-A0EA-903AE92A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DF3-1FD8-4512-979D-6E24CC69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499-0143-4CCD-A46A-001B63EC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16A-F01A-4245-84B9-5A399554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B75-EA55-41F6-B64B-294E8393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3D72-E47F-489A-A5E2-AFA35616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A8C-6126-436C-B78D-CAD5AFC4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82B-89EF-4D08-A09A-BCB536D8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181-6410-406C-8E3D-FB0926AB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5054-5CC8-45BE-B66B-B665C5E29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12</a:t>
            </a: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Primavera 2007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Prof. Auxiliar Verónica Martín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-4 Clases Expos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6-7 Sesiones de laborat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 Presentaciones de los alum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Trabajo en Equipo de 3 perso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ntregas de Informes escr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In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sentaciones Orales por cada Info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Present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arrollo del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= 20%*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+2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3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0%*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i : Nota Infor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: Nota Presentaciones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219640" y="836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189000"/>
            <a:ext cx="6480360" cy="13816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eta del proye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ultivo de S. cerevisiae Biomasa X &gt; 25 g/L a las 40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859280" y="3213000"/>
            <a:ext cx="1720800" cy="223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Prototipos diseñados en semestres anteri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573408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Células inmovi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566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FERMENTAC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ción de Biomasa a escala Industri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¿Qué es la fermentació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Del lat.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fermentatĭo, -ōni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f. Acción y efecto de ferment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r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Del lat.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fermentār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intr. Dicho de los hidratos de carbono: Degradarse por acción enzimática, dando lugar a productos sencillos, como el alcohol etíl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¿Cómo debemos entender la fermentació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 Anaeróbic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ausencia de oxígeno): produce compuestos menos oxi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 Aeróbic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presencia de oxígeno): produce compuestos algo más oxi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¿Por qué en un microorganismo se produce la fermentació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Respuest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ara producir ener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Ejempl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vadura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Saccharomyces cerevisia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n ausencia de oxíge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Glucosa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tanol + C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+ Ener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Tipos de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1628640"/>
          <a:ext cx="8229600" cy="4545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Tipo de fer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Organism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cohó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Etanol +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Levadura (Saccharomyc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del ácido láctico (Streptococcus, lactobacillus, et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mix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, ácido acético, etanol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entéricas (Escherichia, Salmonell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utanedi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utanediol, ácido láctico, ácido acético, etanol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entéricas (Aerobacter, Serrat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buri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burítico, ácido acético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gunos clostridios (Clostridium butyric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etona – but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etona, butanol, et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gunos clostridios (Clostridium acetobutylic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propió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propió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Propionibacte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tos de la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Ácidos Orgán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minoác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itami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Hormonas (estero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tibió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ick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hucr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8120" y="277164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b198"/>
                </a:solidFill>
                <a:latin typeface="Comic Sans MS"/>
              </a:rPr>
              <a:t>Productos</a:t>
            </a:r>
            <a:br>
              <a:rPr sz="2000"/>
            </a:br>
            <a:r>
              <a:rPr b="0" lang="en-US" sz="2000" spc="-1" strike="noStrike">
                <a:solidFill>
                  <a:srgbClr val="e4b198"/>
                </a:solidFill>
                <a:latin typeface="Comic Sans MS"/>
              </a:rPr>
              <a:t> Biotecnológ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306520" cy="1276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762120"/>
            <a:ext cx="2152440" cy="133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781680" y="533520"/>
            <a:ext cx="1390680" cy="21351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04920" y="3851280"/>
            <a:ext cx="1817280" cy="2701800"/>
            <a:chOff x="304920" y="3851280"/>
            <a:chExt cx="1817280" cy="2701800"/>
          </a:xfrm>
        </p:grpSpPr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304920" y="3851280"/>
              <a:ext cx="1279440" cy="27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1189080" y="5168880"/>
              <a:ext cx="933120" cy="116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6415200" y="1204920"/>
            <a:ext cx="2178000" cy="8254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ente Biodegrad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978440"/>
            <a:ext cx="209088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019320" y="457200"/>
            <a:ext cx="2772000" cy="1875600"/>
            <a:chOff x="3019320" y="457200"/>
            <a:chExt cx="2772000" cy="1875600"/>
          </a:xfrm>
        </p:grpSpPr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3352680" y="457200"/>
              <a:ext cx="2133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019320" y="1873080"/>
              <a:ext cx="27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Quimos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6491160" y="3505320"/>
            <a:ext cx="2216160" cy="240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68960" y="5850000"/>
            <a:ext cx="29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xiviación Bacter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492280" y="4187880"/>
            <a:ext cx="3641760" cy="2327400"/>
            <a:chOff x="2492280" y="4187880"/>
            <a:chExt cx="3641760" cy="2327400"/>
          </a:xfrm>
        </p:grpSpPr>
        <p:grpSp>
          <p:nvGrpSpPr>
            <p:cNvPr id="58" name=""/>
            <p:cNvGrpSpPr/>
            <p:nvPr/>
          </p:nvGrpSpPr>
          <p:grpSpPr>
            <a:xfrm>
              <a:off x="2492280" y="4191120"/>
              <a:ext cx="2057400" cy="2324160"/>
              <a:chOff x="2492280" y="4191120"/>
              <a:chExt cx="2057400" cy="2324160"/>
            </a:xfrm>
          </p:grpSpPr>
          <p:pic>
            <p:nvPicPr>
              <p:cNvPr id="5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68600" y="4191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92280" y="5943600"/>
                <a:ext cx="2057400" cy="571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" name="" descr=""/>
            <p:cNvPicPr/>
            <p:nvPr/>
          </p:nvPicPr>
          <p:blipFill>
            <a:blip r:embed="rId11"/>
            <a:stretch/>
          </p:blipFill>
          <p:spPr>
            <a:xfrm>
              <a:off x="4334040" y="4187880"/>
              <a:ext cx="1800000" cy="196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tos de la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eite de ol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eto balsá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alsa de soy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ino y vinag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ioetan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iog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348000" y="2637000"/>
            <a:ext cx="5257800" cy="28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411200"/>
            <a:ext cx="828036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el crecimiento en suspensión, los organismos están sumergidos y dispersados en el medio nutritivo y su movimiento sigue al del medio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los sistemas con soporte, los organismos crecen como una monocapa o película sobre una superficie en contacto con un medio nutritivo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06600" y="411120"/>
            <a:ext cx="419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Tipos de fermentador</a:t>
            </a:r>
            <a:r>
              <a:rPr b="0" lang="es-ES_tradnl" sz="2800" spc="-1" strike="noStrike">
                <a:solidFill>
                  <a:srgbClr val="3366cc"/>
                </a:solidFill>
                <a:latin typeface="Times New Roman"/>
              </a:rPr>
              <a:t>: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219640" y="3933720"/>
            <a:ext cx="3313080" cy="2185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5280" y="304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mas de llevar a cabo un cultivo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769080" cy="3319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08000" y="4508640"/>
            <a:ext cx="136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5280" y="-4680"/>
            <a:ext cx="84963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Cultivo Batch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(Por Lotes o Tan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Estos bio-reactores operan en forma</a:t>
            </a: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continua (carga, fermentación, descarg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6721560" cy="360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095880" y="2743200"/>
          <a:ext cx="2667240" cy="3522600"/>
        </p:xfrm>
        <a:graphic>
          <a:graphicData uri="http://schemas.openxmlformats.org/drawingml/2006/table">
            <a:tbl>
              <a:tblPr/>
              <a:tblGrid>
                <a:gridCol w="1333800"/>
                <a:gridCol w="13334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Velocidad de crecimiento espec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Lat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cel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4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cc"/>
                          </a:solidFill>
                          <a:latin typeface="Tahoma"/>
                        </a:rPr>
                        <a:t>Exponen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3366cc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400" spc="-1" strike="noStrike" baseline="-25000">
                          <a:solidFill>
                            <a:srgbClr val="3366cc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Declin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4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Estacion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ue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1828800" cy="1216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4932360" y="1197000"/>
            <a:ext cx="1828800" cy="120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0"/>
            <a:ext cx="868680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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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u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No hay entrada ni salida de células F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erte celular despreciable, 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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979560" y="2127240"/>
                <a:ext cx="4933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010280" y="1905120"/>
          <a:ext cx="181944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1905120"/>
                    <a:ext cx="18194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859280" y="5661000"/>
                <a:ext cx="36594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5508720" y="4221000"/>
            <a:ext cx="32162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inici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fin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28600"/>
            <a:ext cx="815328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 (cont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plicando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i </a:t>
            </a:r>
            <a:r>
              <a:rPr b="0" lang="es-E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ante, entonces la expresión anterior es integrable, considerando  que  la concentración inicial de biomasa en t=0 es x</a:t>
            </a:r>
            <a:r>
              <a:rPr b="0" lang="es-ES" sz="1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Esta situación ocurre principalmente en 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as fase de crecimiento exponenci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2880" y="4495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014560" y="2060640"/>
                <a:ext cx="42418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 flipV="1">
            <a:off x="4284720" y="5734080"/>
            <a:ext cx="316692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32000" y="4707000"/>
            <a:ext cx="7812000" cy="2151000"/>
            <a:chOff x="1332000" y="4707000"/>
            <a:chExt cx="7812000" cy="2151000"/>
          </a:xfrm>
        </p:grpSpPr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1332000" y="5157720"/>
                  <a:ext cx="287964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∗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μ</m:t>
                          </m:r>
                          <m:r>
                            <m:t xml:space="preserve">∗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6329520" y="4707000"/>
              <a:ext cx="281448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284720" y="5661000"/>
              <a:ext cx="3166920" cy="0"/>
            </a:xfrm>
            <a:prstGeom prst="line">
              <a:avLst/>
            </a:prstGeom>
            <a:ln w="57240">
              <a:solidFill>
                <a:srgbClr val="a3ffe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826920" y="633888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Experiment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508720" y="1125360"/>
            <a:ext cx="338436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05-Sep   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Cultivo Continu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isten diferentes modos de operar fermentadores continu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Quimostat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(Perfectamente agitado, CSTR, RP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i el biorreactor está bien mezclado, la corriente de producto que sale del bio-reactor posee la misma composición que el líquido presente en el interior del rea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0a236"/>
                </a:solidFill>
                <a:latin typeface="Arial Black"/>
              </a:rPr>
              <a:t>DIAR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744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ap se expande y asume rol clave en mercado energético”, Economía y negocios, Diario El Mercu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etrobras interesado en biocombustibles en Chile” 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inistro de Agricultura asegura que biocombustible podría ser un impulso para el sector”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 formó un comité público integrado por Ministerios de Agricultura y Transporte, CONAMA, SEC y CNE. Reunión IC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y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Volv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602136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Black"/>
                <a:hlinkClick r:id="rId3" action="ppaction://hlinksldjump"/>
              </a:rPr>
              <a:t>Volv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Características del Quimostat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42720" y="990360"/>
            <a:ext cx="8476920" cy="488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le llamó Quimostato dado que la composición química y biológica del medio se mantiene constante, para ello se debe controlar: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volumen del líquido en el reactor se mantiene constante, ajustando los flujos de entrada y salida al mismo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pH del medio mediante la adición de ácido o base. Generalmente se adiciona á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suministro continuo de 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( o aire), en el caso de sistemas aerób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 nivel de agitación adecuado que garantice la homogeneidad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Los principales componentes de un cultivo continuo son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8458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actor de volumen const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istema de alimentación de medio y salida de produ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anque estéril de medio (entrada y salid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ntrol de pH, T, OD (Oxígeno disuel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istema de aireación y agi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905120" y="380880"/>
            <a:ext cx="5409360" cy="5714640"/>
            <a:chOff x="1905120" y="380880"/>
            <a:chExt cx="5409360" cy="5714640"/>
          </a:xfrm>
        </p:grpSpPr>
        <p:sp>
          <p:nvSpPr>
            <p:cNvPr id="171" name=""/>
            <p:cNvSpPr/>
            <p:nvPr/>
          </p:nvSpPr>
          <p:spPr>
            <a:xfrm>
              <a:off x="2541240" y="5810040"/>
              <a:ext cx="47732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ig.  1 Típico Ferment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2" name=""/>
            <p:cNvGraphicFramePr/>
            <p:nvPr/>
          </p:nvGraphicFramePr>
          <p:xfrm>
            <a:off x="1905120" y="380880"/>
            <a:ext cx="5369760" cy="5333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380880"/>
                      <a:ext cx="5369760" cy="53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258920" y="10152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1268280"/>
            <a:ext cx="21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08720" y="61657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35280" y="980640"/>
            <a:ext cx="28872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716360" y="6308280"/>
            <a:ext cx="719280" cy="7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0"/>
            <a:ext cx="86868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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uest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Alimentación estéril,  x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Estado estacionario, no hay acumulación.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y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x/s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[gr célula/gr sustrato] : Conversión  (yield) de células referidas a nutriente consumido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90600" y="1341360"/>
                <a:ext cx="65786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148360" y="4005360"/>
                <a:ext cx="838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292720" y="2924280"/>
                <a:ext cx="816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590920" y="5638680"/>
                <a:ext cx="255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3902040" cy="479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Comic Sans MS"/>
              </a:rPr>
              <a:t>Presentación 1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24 de Abril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Otros modos de operar una fermen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3-Marzo    Int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0-Marzo    Cultivo Batch y Continu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7-Marzo    Laboratorio    Experiencia "Normas de Bioseguridad. Parte 1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3-Abril    Laboratorio    Experiencia "Normas de Bioseguridad, Parte 2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0-Abril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7-Abril Taller de como hacer una presentación y redacción de Infor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4-Abril Presentación y Entrega Informe I    Investigación de tipos de  ferment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508720" y="1125360"/>
            <a:ext cx="338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o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1819440" cy="2381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8-Mayo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5-Mayo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29-Mayo   Presentación Informal y Entrega Informe II   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5-Junio   Prueba Prototipo    Se presenta la idea del prototipo. Debe ser aprobada la idea para prosegu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2-Junio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9-Junio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xamen    Presentación y Entrega Informe III    Informe Final de teoría y resultados del prototi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6360" y="838080"/>
            <a:ext cx="86835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1560" y="19368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4b198"/>
                </a:solidFill>
                <a:latin typeface="Antique Olive"/>
              </a:rPr>
              <a:t>MEDIO AMBIENTE Y DESARROLLO SOSTE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2120" y="1074600"/>
            <a:ext cx="389628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4b198"/>
                </a:solidFill>
                <a:latin typeface="Antique Olive"/>
              </a:rPr>
              <a:t>BIOCOMBUST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b198"/>
                </a:solidFill>
                <a:latin typeface="Antique Olive"/>
              </a:rPr>
              <a:t>Bioet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b198"/>
                </a:solidFill>
                <a:latin typeface="Antique Olive"/>
              </a:rPr>
              <a:t>Biod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b198"/>
                </a:solidFill>
                <a:latin typeface="Antique Olive"/>
              </a:rPr>
              <a:t>Biog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97360" y="977760"/>
            <a:ext cx="1830240" cy="1449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30760" y="2771640"/>
            <a:ext cx="1935000" cy="1479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761080" y="108900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4b198"/>
                </a:solidFill>
                <a:latin typeface="Antique Olive"/>
              </a:rPr>
              <a:t>Producción de alcohol por microorganism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34240" y="2798640"/>
            <a:ext cx="2714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4b198"/>
                </a:solidFill>
                <a:latin typeface="Antique Olive"/>
              </a:rPr>
              <a:t>Mejora genética de granos (maíz, rap,etc) para que se utilicen en producción de Biodi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35840" y="4829040"/>
            <a:ext cx="2714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4b198"/>
                </a:solidFill>
                <a:latin typeface="Antique Olive"/>
              </a:rPr>
              <a:t>Uso de microorganismos para descomposición de desechos y producción de Met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409840" y="4527720"/>
            <a:ext cx="3503520" cy="207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Etapas basicas del proceso de producción de Bioetano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71640" y="2060640"/>
          <a:ext cx="7311960" cy="33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060640"/>
                    <a:ext cx="731196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508720" y="1844640"/>
            <a:ext cx="1512720" cy="3672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129520" cy="6032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68360" y="2421000"/>
            <a:ext cx="936720" cy="7207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28600" y="2133720"/>
          <a:ext cx="8915400" cy="34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89154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25360"/>
            <a:ext cx="87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seño e implementación un proceso de producción de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21000"/>
            <a:ext cx="1440000" cy="2592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 del diseñ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Que formas hay de operar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2557800" y="3106080"/>
            <a:ext cx="2621520" cy="2941200"/>
            <a:chOff x="2557800" y="3106080"/>
            <a:chExt cx="2621520" cy="2941200"/>
          </a:xfrm>
        </p:grpSpPr>
        <p:sp>
          <p:nvSpPr>
            <p:cNvPr id="89" name=""/>
            <p:cNvSpPr/>
            <p:nvPr/>
          </p:nvSpPr>
          <p:spPr>
            <a:xfrm rot="20403600">
              <a:off x="2916360" y="3357360"/>
              <a:ext cx="1904400" cy="24379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3002760" y="3357720"/>
              <a:ext cx="1818000" cy="243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1: Modos de operar una fer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ar una forma de optimizarl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7-03-13T17:15:17Z</dcterms:modified>
  <cp:revision>139</cp:revision>
  <dc:subject/>
  <dc:title>Sin título de diapositiva</dc:title>
</cp:coreProperties>
</file>