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825-CEFC-460C-884F-4A73B301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31E-2DE5-47C5-B79A-797B7FC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486-C15E-49EB-8D42-D9FDE792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8F5-D8C4-4C80-9235-3E16832E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D3B-5971-41CD-84D7-F2968F1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D68-5979-4CA8-ACC6-635DDD0E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330-9A4A-4AB9-8608-1E953BC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396-C1D3-4DE9-A29B-BD1A0774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6D4-53B7-4FAD-8335-C85BC46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E04-A61C-4D08-B4E3-4B15E75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C99-94C7-4B76-B727-4B5744A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047-1F66-4F47-B2FF-FCA8D1D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635-E227-4174-ADAC-9DE0DE0C0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 Verónica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277164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 Biotecnológ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04920" y="3851280"/>
            <a:ext cx="1817280" cy="2701800"/>
            <a:chOff x="304920" y="3851280"/>
            <a:chExt cx="1817280" cy="270180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04920" y="3851280"/>
              <a:ext cx="127944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1189080" y="5168880"/>
              <a:ext cx="933120" cy="11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415200" y="1204920"/>
            <a:ext cx="2178000" cy="8254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ente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78440"/>
            <a:ext cx="209088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19320" y="457200"/>
            <a:ext cx="2772000" cy="1875600"/>
            <a:chOff x="3019320" y="457200"/>
            <a:chExt cx="2772000" cy="18756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352680" y="457200"/>
              <a:ext cx="2133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19320" y="1873080"/>
              <a:ext cx="27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uimos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491160" y="3505320"/>
            <a:ext cx="2216160" cy="240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8960" y="585000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xiviación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92280" y="4187880"/>
            <a:ext cx="3641760" cy="2327400"/>
            <a:chOff x="2492280" y="4187880"/>
            <a:chExt cx="3641760" cy="2327400"/>
          </a:xfrm>
        </p:grpSpPr>
        <p:grpSp>
          <p:nvGrpSpPr>
            <p:cNvPr id="58" name=""/>
            <p:cNvGrpSpPr/>
            <p:nvPr/>
          </p:nvGrpSpPr>
          <p:grpSpPr>
            <a:xfrm>
              <a:off x="2492280" y="4191120"/>
              <a:ext cx="2057400" cy="2324160"/>
              <a:chOff x="2492280" y="4191120"/>
              <a:chExt cx="2057400" cy="2324160"/>
            </a:xfrm>
          </p:grpSpPr>
          <p:pic>
            <p:nvPicPr>
              <p:cNvPr id="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68600" y="4191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92280" y="5943600"/>
                <a:ext cx="205740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4334040" y="4187880"/>
              <a:ext cx="180000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7800" cy="28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7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4 de Abril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360" y="838080"/>
            <a:ext cx="8683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560" y="19368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MEDIO AMBIENTE Y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20" y="1074600"/>
            <a:ext cx="38962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BIOCOMBUS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d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97360" y="977760"/>
            <a:ext cx="1830240" cy="14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30760" y="2771640"/>
            <a:ext cx="19350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61080" y="10890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b198"/>
                </a:solidFill>
                <a:latin typeface="Antique Olive"/>
              </a:rPr>
              <a:t>Producción de alcohol por microorganism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4240" y="2798640"/>
            <a:ext cx="271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Mejora genética de granos (maíz, rap,etc) para que se utilicen en producción de Biod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48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Uso de microorganismos para descomposición de desechos y producción de Me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409840" y="4527720"/>
            <a:ext cx="3503520" cy="20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9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13T17:15:17Z</dcterms:modified>
  <cp:revision>139</cp:revision>
  <dc:subject/>
  <dc:title>Sin título de diapositiva</dc:title>
</cp:coreProperties>
</file>