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23.wmf" ContentType="image/x-wmf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3.png" ContentType="image/png"/>
  <Override PartName="/ppt/media/image17.jpeg" ContentType="image/jpeg"/>
  <Override PartName="/ppt/media/image27.png" ContentType="image/png"/>
  <Override PartName="/ppt/media/image25.jpeg" ContentType="image/jpeg"/>
  <Override PartName="/ppt/media/image2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26.jpeg" ContentType="image/jpeg"/>
  <Override PartName="/ppt/media/image20.wmf" ContentType="image/x-wmf"/>
  <Override PartName="/ppt/media/image18.jpeg" ContentType="image/jpeg"/>
  <Override PartName="/ppt/media/image15.png" ContentType="image/png"/>
  <Override PartName="/ppt/media/image24.jpeg" ContentType="image/jpe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D0D7-AD61-4C0C-AD36-0FE60FC2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DD5-06C1-4E86-A8A2-45A35B21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9637-98ED-40CF-83C6-6A578EAF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402A-02E8-4FC8-AE79-76E34381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40D-FD5E-46B4-8B97-7747C2EC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BDA-C259-4F30-B6DD-300FAF20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A0B5-66DD-4E81-AA95-2B299E55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BC0-721E-44D0-9C2B-B0AD5F5D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5733-786E-4FBA-BBAC-2925BD77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6C9E-53AF-4444-84BB-449FA636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5AD-7E1C-47EE-B876-2D598AF8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FFA-0311-4E95-8971-E767C8A8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CEFB-585D-42FD-BCB5-AC1E7BA0C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 optimizad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SD20A- Otoño 2007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Prof. Auxiliar: Marcelo Cortes, Verónica Martíne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mlienque@ing.uchile.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46200" y="27468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40464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squema de un fermen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572000" cy="2973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28600" y="3429000"/>
            <a:ext cx="4038480" cy="3390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58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173640" y="3141720"/>
            <a:ext cx="2605320" cy="3475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04000" y="602136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il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80000" y="692280"/>
            <a:ext cx="244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jemplo de fermentadores a diferentes esca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 del diseñ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Que formas hay de operar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2557800" y="3106080"/>
            <a:ext cx="2621520" cy="2941200"/>
            <a:chOff x="2557800" y="3106080"/>
            <a:chExt cx="2621520" cy="2941200"/>
          </a:xfrm>
        </p:grpSpPr>
        <p:sp>
          <p:nvSpPr>
            <p:cNvPr id="88" name=""/>
            <p:cNvSpPr/>
            <p:nvPr/>
          </p:nvSpPr>
          <p:spPr>
            <a:xfrm rot="20403600">
              <a:off x="2916360" y="3357360"/>
              <a:ext cx="1904400" cy="24379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3002760" y="3357720"/>
              <a:ext cx="1818000" cy="2437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1: Modos de operar una ferm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ar una forma de optimizarl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-4 Clases Expos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6-7 Sesiones de laborato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 Presentaciones de los alum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Trabajo en Equipo de 3 perso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ntregas de Informes escr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Infor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sentaciones Orales por cada Infor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Present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arrollo del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= 20%*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+2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3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20%*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i : Nota Infor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: Nota Presentaciones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219640" y="8366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: x&gt;25 g/L a las 40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68360" y="0"/>
          <a:ext cx="8064360" cy="652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0"/>
                    <a:ext cx="8064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 flipV="1">
            <a:off x="716436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184464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189000"/>
            <a:ext cx="6480360" cy="13816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eta del proyec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ultivo de S. cerevisiae Biomasa X &gt; 25 g/L a las 40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859280" y="3213000"/>
            <a:ext cx="1720800" cy="223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Prototipos diseñados en semestres anteri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573408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Células inmovi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8360" y="5661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3-Marzo    Int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0-Marzo    Cultivo Batch y Continu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7-Marzo    Laboratorio    Experiencia "Normas de Bioseguridad. Parte 1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3-Abril    Laboratorio    Experiencia "Normas de Bioseguridad, Parte 2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0-Abril Laboratorio    Experiencia "Cultivos Batch en Matraz de 500 m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7-Abril Taller de como hacer una presentación y redacción de Infor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4-Abril Presentación y Entrega Informe I    Investigación de tipos de  ferment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508720" y="1125360"/>
            <a:ext cx="338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oducirse inhibición por sustrato que extiende la etapa de la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227640" y="3573360"/>
            <a:ext cx="1819440" cy="2381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8-Mayo   Trabajo Grupal desarrollo de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5-Mayo   Trabajo Grupal desarrollo de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29-Mayo   Presentación Informal y Entrega Informe II   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5-Junio   Prueba Prototipo    Se presenta la idea del prototipo. Debe ser aprobada la idea para prosegu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2-Junio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9-Junio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xamen    Presentación y Entrega Informe III    Informe Final de teoría y resultados del prototi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Productos Biotecnológic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os productos biotecnológicos pueden ser utilizados en diversas área: alimentos, farmacéutica, biocombustibles, compuestos para uso industrial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Tienen como característica en común su proceso de producción, en los cuales una de las principales etapas en la ferment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n este curso nos centraremos en diseñar un prototipo de fermentador que produzca una gran cantidad de bioma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1484280"/>
            <a:ext cx="80773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quipos de Trabaj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1828800"/>
            <a:ext cx="8382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s tareas y roles no son distribuidas entre los miemb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ara vez se designa al líder del equipo de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os grupos no son capaces de organizar los tiempos de trabajo y las prioridades. Los plazos fijados para las entregas de Informes rara vez se cump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522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Dificultades en el Desarrollo del Proyecto en Estudi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620640"/>
            <a:ext cx="8381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 falta de planificación y la motivación tardía de los estudiantes conduce inevitablemente a que el trabajo de haga las últimas dos se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s dudas y consultas para el desarrollo del proyecto son resultas por el profesor, en vez de ser primero discutidas y resueltas por el Grupo, lo que es más efi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aja asistencia a las reuniones del Grupo y falta de puntu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0948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l trabajo casi siempre se duplica por los miembros del Grupo, y rara vez se revisan y discuten los resultados obte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 observan fricciones en las relaciones personales entre los miembros del Grupo, sin que hayan caminos de mediación definidos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s dudas y consultas para el desarrollo del proyecto son resultas por el profesor, en vez de ser primero discutidas y resueltas por el Grupo, lo que es más efi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0948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aja asistencia a las reuniones del Grupo y falta de puntu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l trabajo casi siempre se duplica por los miembros del Grupo, y rara vez se revisan y discuten los resultados obte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 observan fricciones en las relaciones personales entre los miembros del Grupo, sin que hayan caminos de mediación defi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128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 participación de cada miembro del Grupo en el trabajo total es dispareja, la comunicación es poco efectiva y efi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 información recolectada por miembros del Grupo normalmente no está disponible a la hora de necesit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 división del trabajo no es equitativa y normalmente los mejores alumnos se frustran durante el desarrollo del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o hay un criterio para la evaluación del trabajo por parte de los pares del Gru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¿¿Qué hacer??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Designar un jefe de gru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Uno para cada informe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Fijar horarios de reuniones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Repartirse equitativamente las tareas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Autoevaluarse continuamente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finir las normas de evaluación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8120" y="304812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roducto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Biotecnológico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2133720" cy="1595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65760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flipH="1" rot="10800000">
            <a:off x="3124080" y="2361960"/>
            <a:ext cx="2895840" cy="787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248520" y="3505320"/>
            <a:ext cx="2563560" cy="2522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28600" y="1371600"/>
            <a:ext cx="2306520" cy="1276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04920" y="762120"/>
            <a:ext cx="2152440" cy="133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781680" y="533520"/>
            <a:ext cx="1390680" cy="2135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304920" y="3429000"/>
            <a:ext cx="1984320" cy="3124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1676520" y="4952880"/>
            <a:ext cx="1447560" cy="13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35280" y="6021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0a236"/>
                </a:solidFill>
                <a:latin typeface="Arial Black"/>
              </a:rPr>
              <a:t>DIAR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744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ap se expande y asume rol clave en mercado energético”, Economía y negocios, Diario El Mercu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etrobras interesado en biocombustibles en Chile” 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inistro de Agricultura asegura que biocombustible podría ser un impulso para el sector”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e formó un comité público integrado por Ministerios de Agricultura y Transporte, CONAMA, SEC y CNE. Reunión IC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y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Volv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7164360" y="6021360"/>
            <a:ext cx="11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Black"/>
                <a:hlinkClick r:id="rId3" action="ppaction://hlinksldjump"/>
              </a:rPr>
              <a:t>Volv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Qué solución podemos dar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35080" y="1413000"/>
            <a:ext cx="3822480" cy="6057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427640" y="1773360"/>
            <a:ext cx="4038480" cy="4392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Etapas basicas del proceso de producción de Bioetano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71640" y="2060640"/>
          <a:ext cx="7311960" cy="33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060640"/>
                    <a:ext cx="731196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508720" y="1844640"/>
            <a:ext cx="1512720" cy="3672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129520" cy="6032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68360" y="2421000"/>
            <a:ext cx="936720" cy="7207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28600" y="2133720"/>
          <a:ext cx="8915400" cy="34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133720"/>
                    <a:ext cx="89154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25360"/>
            <a:ext cx="87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iseño e implementación un proceso de producción de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421000"/>
            <a:ext cx="1440000" cy="2592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 Qué es un FERMENTADOR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s aquel lugar donde ocurre la fermentación bajo condiciones controladas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a fermentación es un proceso mediante el cual ocurren reacciones químicas debido a la presencia de microorganismos o enzimas de éstos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Contenedor en el que se mantiene un medio ambiente favorable para la operación de un proceso biológico deseado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7-03-05T21:36:54Z</dcterms:modified>
  <cp:revision>140</cp:revision>
  <dc:subject/>
  <dc:title>Sin título de diapositiva</dc:title>
</cp:coreProperties>
</file>