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5.jpeg" ContentType="image/jpeg"/>
  <Override PartName="/ppt/media/image2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26.jpeg" ContentType="image/jpeg"/>
  <Override PartName="/ppt/media/image20.wmf" ContentType="image/x-wmf"/>
  <Override PartName="/ppt/media/image18.jpeg" ContentType="image/jpeg"/>
  <Override PartName="/ppt/media/image15.png" ContentType="image/png"/>
  <Override PartName="/ppt/media/image24.jpeg" ContentType="image/jpe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FE5-276F-4829-BDF1-E49EB4A0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DA7-60DF-4A9F-9A35-D98775E7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96E-992A-4784-82DB-1B25B6C3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FE4-235E-4B88-BAF8-6967BE32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D47-E1A7-4929-99FD-FB392946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75F-CA91-49F6-9FB0-1E179C19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70C-5970-45A9-BC91-2F91744E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587-E3D3-4F0E-8DB7-63713B1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229-487B-452F-BA6B-AA476E21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473-A87F-4947-BBB6-A7B3A8C7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94F-A9F4-4282-9609-BF1E07F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6A5-56D8-450B-8192-6DD0A1E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A671-CF80-4F9E-B4FE-1EEAD0ED9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Otoño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Prof. Auxiliar: Marcelo Cortes, Verónica Martín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0773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quipos de Trabaj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82880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tareas y roles no son distribuidas entre los miemb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ara vez se designa al líder del equip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os grupos no son capaces de organizar los tiempos de trabajo y las prioridades. Los plazos fijados para las entregas de Informes rara vez se cump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522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Dificultades en el Desarrollo del Proyecto en Estudi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620640"/>
            <a:ext cx="838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falta de planificación y la motivación tardía de los estudiantes conduce inevitablemente a que el trabajo de haga las últimas dos se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s dudas y consultas para el desarrollo del proyecto son resultas por el profesor, en vez de ser primero discutidas y resueltas por el Grupo, lo que es más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Baja asistencia a las reuniones del Grupo y falta de puntu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l trabajo casi siempre se duplica por los miembros del Grupo, y rara vez se revisan y discuten los resultados obte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 observan fricciones en las relaciones personales entre los miembros del Grupo, sin que hayan caminos de mediación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participación de cada miembro del Grupo en el trabajo total es dispareja, la comunicación es poco efectiva y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información recolectada por miembros del Grupo normalmente no está disponible a la hora de necesit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a división del trabajo no es equitativa y normalmente los mejores alumnos se frustran durante el desarrollo del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No hay un criterio para la evaluación del trabajo por parte de los pares del Gru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¿¿Qué hacer??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Designar un jefe de gru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Uno para cada informe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Fijar horarios de reunione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Repartirse equitativamente las tareas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Autoevaluarse continuamente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finir las normas de evaluación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248520" y="3505320"/>
            <a:ext cx="2563560" cy="252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Qué solución podemos da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5080" y="1413000"/>
            <a:ext cx="3822480" cy="605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4038480" cy="439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05T21:36:54Z</dcterms:modified>
  <cp:revision>140</cp:revision>
  <dc:subject/>
  <dc:title>Sin título de diapositiva</dc:title>
</cp:coreProperties>
</file>