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3D4-FF00-459A-8BDF-FF1BA661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63F-6E92-4C52-ABAC-880CD2B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8AD-2C39-4EE4-9909-D0FFC309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75B-C307-4A40-8FD5-F989F34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742-34B3-461F-9824-EBF6CBE0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1DE-3A8F-4A6E-AA46-606EE79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008-9F5F-4874-B6EA-8087AA2C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74F-677D-4F0D-8B6B-3BCEAA1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39C-1E74-4FF2-AE4F-DF855AC3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43F-43DF-46CB-8D29-71A94D1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EDA-973B-46A9-AA4B-E11137A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C35-13CF-4804-B9A6-F3F96DF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BBA-C864-4259-844B-D892116A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Otoño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rof. Auxiliar: Marcelo Cortes, Verónica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0773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quipos de Trabaj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tareas y roles no son distribuidas entre los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ra vez se designa al líder del equip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 grupos no son capaces de organizar los tiempos de trabajo y las prioridades. Los plazos fijados para las entregas de Informes rara vez se cump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52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ificultades en el Desarrollo del Proyecto en Estud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2064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falta de planificación y la motivación tardía de los estudiantes conduce inevitablemente a que el trabajo de haga las últimas dos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participación de cada miembro del Grupo en el trabajo total es dispareja, la comunicación es poco efectiva y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información recolectada por miembros del Grupo normalmente no está disponible a la hora de necesit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división del trabajo no es equitativa y normalmente los mejores alumnos se frustran durante el desarroll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hay un criterio para la evaluación del trabajo por parte de los pares del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¿¿Qué hacer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signar un jefe de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Uno para cada informe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Fijar horarios de reunione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Repartirse equitativamente las tarea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utoevaluarse continuamente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finir las normas de evaluación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605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05T21:36:54Z</dcterms:modified>
  <cp:revision>140</cp:revision>
  <dc:subject/>
  <dc:title>Sin título de diapositiva</dc:title>
</cp:coreProperties>
</file>