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57F-7485-4F86-A70B-51AEE0E1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202-9A70-4154-80C3-0F5F6FE1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A30-97AA-4BDF-84BF-8B1B57E4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C0F-5E2F-4CCB-B5C3-B6B63D36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D64-5578-4092-9C70-CD1D31F5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D1C-AF91-4E32-BC3C-F8CE563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866-1729-46EA-873C-1B935A1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7EC-41A6-4B62-A117-FD9BC7B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4A7-9BBB-4868-9B1E-89C35D73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CD3-CBFB-44E3-8FE0-6D1A4DA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DC4-F939-4C2E-8049-836C543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893-4B78-4483-BCED-3F6AEBE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5CEB-7F02-4D47-8766-2B0A6354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Otoño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rof. Auxiliar: Marcelo Cortes, Verónica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0773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quipos de Trabaj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tareas y roles no son distribuidas entre los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ra vez se designa al líder del equip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 grupos no son capaces de organizar los tiempos de trabajo y las prioridades. Los plazos fijados para las entregas de Informes rara vez se cump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52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ificultades en el Desarrollo del Proyecto en Estud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2064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falta de planificación y la motivación tardía de los estudiantes conduce inevitablemente a que el trabajo de haga las últimas dos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participación de cada miembro del Grupo en el trabajo total es dispareja, la comunicación es poco efectiva y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información recolectada por miembros del Grupo normalmente no está disponible a la hora de necesit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división del trabajo no es equitativa y normalmente los mejores alumnos se frustran durante el desarroll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hay un criterio para la evaluación del trabajo por parte de los pares del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¿¿Qué hacer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signar un jefe de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Uno para cada informe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Fijar horarios de reunione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Repartirse equitativamente las tarea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utoevaluarse continuamente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finir las normas de evaluación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605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05T21:36:54Z</dcterms:modified>
  <cp:revision>140</cp:revision>
  <dc:subject/>
  <dc:title>Sin título de diapositiva</dc:title>
</cp:coreProperties>
</file>