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23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5.jpeg" ContentType="image/jpeg"/>
  <Override PartName="/ppt/media/image2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26.jpeg" ContentType="image/jpeg"/>
  <Override PartName="/ppt/media/image20.wmf" ContentType="image/x-wmf"/>
  <Override PartName="/ppt/media/image18.jpeg" ContentType="image/jpeg"/>
  <Override PartName="/ppt/media/image15.png" ContentType="image/png"/>
  <Override PartName="/ppt/media/image24.jpeg" ContentType="image/jpe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1D8-A13A-48BD-8565-487C857B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6B6-954C-49F3-B052-52154CFC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9EC-E670-4F1A-8836-DF9C5276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064-A718-4D30-86F0-B167C1F9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10A-803B-4A73-8D2A-27FE0B65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33D-2F68-41CE-8E4C-0B2CC45F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368-D3D7-4F1F-B41E-30C416F0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045-C0A6-49E0-AD1A-E824EDED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75E-256B-4F61-B8F2-1DE43D2B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217-4D1E-4AA1-9A49-CC73DD62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694-D8E6-4C6E-AED0-B2D7DA6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F27-7533-4D59-B566-DFBFFB7F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04C1-44B6-4C67-8861-467D30341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Otoño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rof. Auxiliar: Marcelo Cortes, Verónica Martíne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46200" y="27468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40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squema de un 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692280"/>
            <a:ext cx="24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jemplo de fermentadores a diferentes esca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8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3-Marzo    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0-Marz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7-Marz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3-Abril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0-Abril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7-Abril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4-Abril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8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5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9-Mayo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5-Junio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2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9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xamen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Productos Biotecnológic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productos biotecnológicos pueden ser utilizados en diversas área: alimentos, farmacéutica, biocombustibles, compuestos para uso industrial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ienen como característica en común su proceso de producción, en los cuales una de las principales etapas en la fermen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este curso nos centraremos en diseñar un prototipo de fermentador que produzca una gran cantidad de bioma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80773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quipos de Trabaj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82880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tareas y roles no son distribuidas entre los miemb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ara vez se designa al líder del equipo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os grupos no son capaces de organizar los tiempos de trabajo y las prioridades. Los plazos fijados para las entregas de Informes rara vez se cump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52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ificultades en el Desarrollo del Proyecto en Estudi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620640"/>
            <a:ext cx="838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falta de planificación y la motivación tardía de los estudiantes conduce inevitablemente a que el trabajo de haga las últimas dos se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dudas y consultas para el desarrollo del proyecto son resultas por el profesor, en vez de ser primero discutidas y resueltas por el Grupo, lo que es más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ja asistencia a las reuniones del Grupo y falta de puntu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l trabajo casi siempre se duplica por los miembros del Grupo, y rara vez se revisan y discuten los resultados obte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 observan fricciones en las relaciones personales entre los miembros del Grupo, sin que hayan caminos de mediación definido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dudas y consultas para el desarrollo del proyecto son resultas por el profesor, en vez de ser primero discutidas y resueltas por el Grupo, lo que es más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ja asistencia a las reuniones del Grupo y falta de puntu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l trabajo casi siempre se duplica por los miembros del Grupo, y rara vez se revisan y discuten los resultados obte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 observan fricciones en las relaciones personales entre los miembros del Grupo, sin que hayan caminos de mediación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participación de cada miembro del Grupo en el trabajo total es dispareja, la comunicación es poco efectiva y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información recolectada por miembros del Grupo normalmente no está disponible a la hora de necesit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división del trabajo no es equitativa y normalmente los mejores alumnos se frustran durante el desarrollo del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 hay un criterio para la evaluación del trabajo por parte de los pares del Gru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¿¿Qué hacer??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Designar un jefe de gru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Uno para cada informe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Fijar horarios de reuniones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Repartirse equitativamente las tareas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Autoevaluarse continuamente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finir las normas de evaluación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248520" y="3505320"/>
            <a:ext cx="2563560" cy="252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Qué solución podemos da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5080" y="1413000"/>
            <a:ext cx="3822480" cy="605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4038480" cy="439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Qué es un FERMENTADO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05T21:36:54Z</dcterms:modified>
  <cp:revision>140</cp:revision>
  <dc:subject/>
  <dc:title>Sin título de diapositiva</dc:title>
</cp:coreProperties>
</file>