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5B6DE4-88FE-4B7B-9881-28E0B565A0C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8FB5F9-AADD-4A40-9A81-0D9BBC92D46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5680" y="2513160"/>
            <a:ext cx="3214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2.1. Defin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ódigo de Etica 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udio de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9960" y="1289880"/>
            <a:ext cx="391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 CAPITU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Etica e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0199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Ref: IEEE, White-Doering,Mitcham-García de la Huer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644720"/>
            <a:ext cx="79250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Intelectual Orgánico, Universal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Intelectual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Ingeniería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práctica transformadora del mundo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11444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eoría moral aplicada al ejercicio profesional de las ingeni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240" y="97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la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95288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3619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arte de la filosofía que trata de la moral y de las obligaciones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01000" y="1143000"/>
            <a:ext cx="533520" cy="4724280"/>
          </a:xfrm>
          <a:prstGeom prst="downArrow">
            <a:avLst>
              <a:gd name="adj1" fmla="val 39880"/>
              <a:gd name="adj2" fmla="val 57721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65760" y="914040"/>
            <a:ext cx="132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99320" y="5820120"/>
            <a:ext cx="96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4475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omic Sans MS"/>
              </a:rPr>
              <a:t>Estudio de la naturaleza y significado de la activid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20004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studio de la naturaleza general de la moral y de las decisiones morales específicas de los individuos en su relación con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7040" y="9766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Necesidad de la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659240"/>
            <a:ext cx="7543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or qué son necesarios ante todo los códigos mor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función cump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Comic Sans MS"/>
              </a:rPr>
              <a:t>Seres humanos se enfrentan a cursos de acción altern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speto debido a una orden al interior de un grupo jerárquico (lealtad corporativa, secreto, obedie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s.</a:t>
            </a: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Comic Sans MS"/>
              </a:rPr>
              <a:t>La ética surge de la libert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70200"/>
            <a:ext cx="84582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osotros, los miembros del IEEE, habiendo tomado conciencia del importante efecto que nuestra tecnología tiene sobre la calidad de vida en el mundo entero, y en aceptación de una obligación personal para con nuestra profesión, con los miembros de nuestra institución y con la comunidad a la cual servimos, por medio de este documento nos comprometemos a observar la conducta ética y profesional más elevada, y acorda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ceptar la responsabilidad de tomar decisiones de ingeniería que guarden coherencia con la seguridad, la salud y el bienestar del público, así como a revelar los factores que puedan poner en peligro al público o al medio amb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vitar conflictos de intereses reales o percibidos, cuando sea posible, y a ponerlos en conocimiento de las partes afectadas cuando estos exis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ser honestos y realistas al presentar reclamos o estimados basados en la información disponi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Rechazar los sobornos en todas sus form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Mejorar la comprensión de la tecnología, su aplicación adecuada y sus probables consecuenci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99760"/>
            <a:ext cx="83822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Mantener y mejorar nuestra competencia técnica y desempeñar tareas tecnológicas para otros solamente si estamos adecuadamente calificados por una capacitación o por la experiencia, o luego de haber hecho conocer plenamente nuestras limitaciones al respect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Buscar, aceptar y ofrecer una crítica honesta del trabajo técnico; aceptar y corregir los errores; y a dar a otros los créditos correspondientes por sus contribuc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Tratar con imparcialidad a todas las personas sin importar su raza, religión, género, discapacidad, edad o nacionalidad de orig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Evitar hacer daño a otros, a su propiedad, su reputación o empleo por acciones falsas o malici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yudar a los colegas y compañeros de trabajo en su desarrollo profesional y a apoyarlos en el cumplimiento de este código de ét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7-04-03T21:47:09Z</dcterms:modified>
  <cp:revision>28</cp:revision>
  <dc:subject/>
  <dc:title>PowerPoint Presentation</dc:title>
</cp:coreProperties>
</file>