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9B7602-6469-46C1-A06D-ACF787BDCFE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1D6373-AFBE-479D-979C-9E0F7D0A4AA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ADDED1-172B-4DAB-A20B-43F49010162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B90296-E0FC-44E8-8E2D-EF4DE7DED91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C0AE6A-3B87-4D0D-B485-EAFA8FA5AEC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22AA58-9C9D-4B35-B040-C4AEF363E8B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78BAB7-0C2D-43FC-90D3-07CDE5C89CA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00E771-618F-496F-97EB-D219832F6C2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FF2578-245A-47D7-95AA-02ED2F22B98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C2E9D8-5A15-4472-90F4-3EC0B5B0AD5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FDED9F-816A-40E6-8EDB-B206D9295FC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b9c7e2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b7b7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771600" y="6408720"/>
            <a:ext cx="21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SD20A Seminario de Diseño, Sec.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Otoño. 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00200" y="556236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Profesor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Rodrigo Palma Behn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Sección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1454040"/>
            <a:ext cx="2286000" cy="174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7600" y="1447920"/>
            <a:ext cx="2349720" cy="178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40640" y="9968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920880"/>
            <a:ext cx="1600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Crecimiento dem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5040" y="9968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Medi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38080" y="1447920"/>
            <a:ext cx="228600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l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627840"/>
            <a:ext cx="4684680" cy="3642120"/>
          </a:xfrm>
          <a:prstGeom prst="wedgeRectCallout">
            <a:avLst>
              <a:gd name="adj1" fmla="val 56527"/>
              <a:gd name="adj2" fmla="val -317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anking de Diseños / 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Ranking en función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erimientos de clien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erc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éritos técnic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abilidad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stos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ponibilidad, mano de o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da út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aboración de una matriz multiobjetiv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signación de pesos y criterios de deci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2440" y="771480"/>
            <a:ext cx="4218120" cy="1300320"/>
          </a:xfrm>
          <a:prstGeom prst="wedgeRectCallout">
            <a:avLst>
              <a:gd name="adj1" fmla="val 92888"/>
              <a:gd name="adj2" fmla="val 1371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Activos Diseños Re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eliminar diseños no seleccionados --&gt; solamente eliminar con razones fu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eños en reserva pueden cobrar protagnismo en cualquier mo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9560" y="1591920"/>
            <a:ext cx="4218120" cy="1491840"/>
          </a:xfrm>
          <a:prstGeom prst="wedgeRectCallout">
            <a:avLst>
              <a:gd name="adj1" fmla="val 113726"/>
              <a:gd name="adj2" fmla="val -1618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Inicial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hecho para aquellos que no están libres de cometer error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apa que tiene la finalidad de encontrar campo minado antes de estar parado en él. c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81040" y="1967040"/>
            <a:ext cx="4218120" cy="2208600"/>
          </a:xfrm>
          <a:prstGeom prst="wedgeRectCallout">
            <a:avLst>
              <a:gd name="adj1" fmla="val 72884"/>
              <a:gd name="adj2" fmla="val -1211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KISS ó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 que se ve fácil, tiene que ser fácil o n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mulador de Vuelo --&gt; Cray vs Cámaras a control rem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qué reinventar la rueda? --&gt; si necesitas una rueda, anda y compra una rueda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venta sólo lo que no ha sido inventado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4200" y="2547360"/>
            <a:ext cx="4218120" cy="2177640"/>
          </a:xfrm>
          <a:prstGeom prst="wedgeRectCallout">
            <a:avLst>
              <a:gd name="adj1" fmla="val 69967"/>
              <a:gd name="adj2" fmla="val -22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imulació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stituye una de las herramientas más poderosas para el diseñador (diseño de circuitos integrados -&gt; gran disminución en tiempos de diseñ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! Simulación corresponde a un modelo simplificado de la rea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primero en la cabeza ... Dónde debería ir el punto decima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46240" y="2626920"/>
            <a:ext cx="4016160" cy="1603080"/>
          </a:xfrm>
          <a:prstGeom prst="wedgeRectCallout">
            <a:avLst>
              <a:gd name="adj1" fmla="val 116717"/>
              <a:gd name="adj2" fmla="val -4391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Libro de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scribir todo!! --&gt; carácter confid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érdida de tiempo por repetición, búsqueda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te en proceso de patente de productos --&gt; documento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3840" y="3864960"/>
            <a:ext cx="4016520" cy="1300320"/>
          </a:xfrm>
          <a:prstGeom prst="wedgeRectCallout">
            <a:avLst>
              <a:gd name="adj1" fmla="val 85199"/>
              <a:gd name="adj2" fmla="val -3851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Armar Prot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iere de: programar, soldar, cablear, ais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ferencia entre fuente de voltaje y fuente de corrien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8760" y="4408200"/>
            <a:ext cx="4016520" cy="1108800"/>
          </a:xfrm>
          <a:prstGeom prst="wedgeRectCallout">
            <a:avLst>
              <a:gd name="adj1" fmla="val 105555"/>
              <a:gd name="adj2" fmla="val -837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mpra de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prender a obtener las componentes correctas en el lugar y momento corr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fianza en proveed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4760" y="4568760"/>
            <a:ext cx="4017960" cy="1190520"/>
          </a:xfrm>
          <a:prstGeom prst="wedgeRectCallout">
            <a:avLst>
              <a:gd name="adj1" fmla="val 84328"/>
              <a:gd name="adj2" fmla="val -4893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Test y Dep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e aprende a ser humilde --&gt; buenos diseños -sin fallas- provienen del 4% de los diseñadores. Sin embargo, 90% de los diseñadores se consideran en este 4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6240" y="5008680"/>
            <a:ext cx="4016160" cy="614520"/>
          </a:xfrm>
          <a:prstGeom prst="wedgeRectCallout">
            <a:avLst>
              <a:gd name="adj1" fmla="val 114754"/>
              <a:gd name="adj2" fmla="val -14882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ueba en Terr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uebas de laboratorio vs mundo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58760" y="4932000"/>
            <a:ext cx="4016520" cy="806040"/>
          </a:xfrm>
          <a:prstGeom prst="wedgeRectCallout">
            <a:avLst>
              <a:gd name="adj1" fmla="val 84976"/>
              <a:gd name="adj2" fmla="val -4612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sumidor/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olvidar relación con cliente, saber su opin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160" y="5265720"/>
            <a:ext cx="4016160" cy="614520"/>
          </a:xfrm>
          <a:prstGeom prst="wedgeRectCallout">
            <a:avLst>
              <a:gd name="adj1" fmla="val 83453"/>
              <a:gd name="adj2" fmla="val 142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por si alguién pensaba olvida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2280" y="5266800"/>
            <a:ext cx="4016520" cy="917280"/>
          </a:xfrm>
          <a:prstGeom prst="wedgeRectCallout">
            <a:avLst>
              <a:gd name="adj1" fmla="val 115402"/>
              <a:gd name="adj2" fmla="val -1563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ltima revisión de diseñ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uáles eran esas reglas y criteri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760" y="857880"/>
            <a:ext cx="44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200" y="857880"/>
            <a:ext cx="45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28560" y="207000"/>
            <a:ext cx="773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Aspect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520" y="642600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3320" y="4474440"/>
            <a:ext cx="7737120" cy="1995840"/>
            <a:chOff x="193320" y="4474440"/>
            <a:chExt cx="7737120" cy="1995840"/>
          </a:xfrm>
        </p:grpSpPr>
        <p:sp>
          <p:nvSpPr>
            <p:cNvPr id="61" name=""/>
            <p:cNvSpPr/>
            <p:nvPr/>
          </p:nvSpPr>
          <p:spPr>
            <a:xfrm>
              <a:off x="193320" y="4474440"/>
              <a:ext cx="3943080" cy="17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1" lang="de-DE" sz="2000" spc="-1" strike="noStrike">
                  <a:solidFill>
                    <a:srgbClr val="000090"/>
                  </a:solidFill>
                  <a:latin typeface="Comic Sans MS"/>
                </a:rPr>
                <a:t>Administración y Material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Fechas Evalu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Profesor Auxiliar y Ayud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Email: rodpalma@cec.uchile.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84360" y="4565880"/>
              <a:ext cx="3646080" cy="19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Página 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Videos y Simul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Horario de atención Of. 4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Fono: 97842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04920" y="838080"/>
            <a:ext cx="7772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El curso consta de las siguientes activi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2 Sesiones Obligatorias de Laborato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our de sesiones demostrativas (2 sema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 Cátedra sema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sarrollo de Proyecto de Dise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Tanto las sesiones de laboratorio como el Proyecto deben realizarse en grupos de 3 personas (máxim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álculo de Nota Fin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NF=0,2*Nlab+0,5*Proyecto+0,3*Inf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4320" y="1704600"/>
            <a:ext cx="880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Seminario de Diseño tiene como objetivo general constituir una primera experiencia práctica de diseño en alguno de los diversos ámbitos de la ingeniería, contribuyendo con ello tanto a la selección del área de especialización como a la motivación de los alumnos hacia el diseño ingenieril en gener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curso busca también iniciar el desarrollo de habilidades de trabajo en equipo, innovación, emprendimientos y comunicación – escrita y oral - entre otras. Estas destrezas o habilidades se están constituyendo crecientemente en capacidades necesariamente complementarias a los conocimientos teóricos  y prácticos propios de la ingeniería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Generar y fomentar una actitud positiva de los estudiantes de ingeniería de plan común, hacia actividades de diseño tecnológico en torno al uso de energías renovables y su uso efic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89040" y="896400"/>
            <a:ext cx="23356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0"/>
                </a:solidFill>
                <a:latin typeface="Comic Sans MS"/>
              </a:rPr>
              <a:t>Semestre de Otoño 200</a:t>
            </a:r>
            <a:r>
              <a:rPr b="1" lang="es-ES_tradnl" sz="1400" spc="-1" strike="noStrike">
                <a:solidFill>
                  <a:srgbClr val="000090"/>
                </a:solidFill>
                <a:latin typeface="Comic Sans MS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0920" y="2192040"/>
            <a:ext cx="849780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2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Etica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3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Herramientas de búsqueda y procesamiento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4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ndamentos de Electricidad y 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5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s Energías Renovables y el Uso Efic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6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omunicación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1640" y="14929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11760" y="1735560"/>
            <a:ext cx="362484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1 Defin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2 Modelac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3 Proceso de Diseño (Et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480" y="1145160"/>
            <a:ext cx="31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1- 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9240" y="145584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Planificar y delinear con un objetivo final en mente y sujeto a un conjunto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960" y="976680"/>
            <a:ext cx="393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diseñar en ingenie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1 Definición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3880" y="247176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Proceso de crear un producto hecho para un propósito práctico y en la presencia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9120" y="3402720"/>
            <a:ext cx="52945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Comic Sans MS"/>
              </a:rPr>
              <a:t>Proceso de desarrollar planos y especificaciones para la manufactura de dispositivos, equipos, maquinarias o estructuras, para satisfacer alguna necesidad observ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2800" y="5203440"/>
            <a:ext cx="46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Comic Sans MS"/>
              </a:rPr>
              <a:t>Aplicación creativa de conocimiento tecnológico para  un objetivo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9920" y="166356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141120" y="964440"/>
            <a:ext cx="8026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Necesidad del concepto de proceso, cajas negras inherent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la actividad del ingen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040" y="3567240"/>
            <a:ext cx="3983040" cy="227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33680" y="41464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84400" y="42037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93840" y="5273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76520" y="42033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760" y="4471920"/>
            <a:ext cx="0" cy="469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41280" y="3933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08280" y="4034520"/>
            <a:ext cx="1765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Nuev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ervicio públ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4800" y="42037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3962160"/>
            <a:ext cx="10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9400" y="49546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6920" y="4965120"/>
            <a:ext cx="11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 pública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73080" y="4553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90132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87480" y="206064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51000" y="233028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98640" y="23144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240" y="218376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09800" y="1988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86040" y="201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52360" y="2826360"/>
            <a:ext cx="26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21440" y="164448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39000" y="2052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02160" y="232236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50160" y="23065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81760" y="2175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03880" y="2832840"/>
            <a:ext cx="268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52920" y="2003400"/>
            <a:ext cx="208080" cy="24624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70720" y="1924200"/>
            <a:ext cx="166680" cy="20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59320" y="1857240"/>
            <a:ext cx="185760" cy="190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18280" y="1846440"/>
            <a:ext cx="217440" cy="258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7640" y="1879560"/>
            <a:ext cx="185760" cy="3031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83480" y="1774800"/>
            <a:ext cx="195120" cy="22392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77000" y="1873080"/>
            <a:ext cx="200160" cy="38160"/>
          </a:xfrm>
          <a:custGeom>
            <a:avLst/>
            <a:gdLst/>
            <a:ahLst/>
            <a:rect l="l" t="t" r="r" b="b"/>
            <a:pathLst>
              <a:path w="136" h="24">
                <a:moveTo>
                  <a:pt x="0" y="4"/>
                </a:moveTo>
                <a:cubicBezTo>
                  <a:pt x="5" y="7"/>
                  <a:pt x="21" y="17"/>
                  <a:pt x="32" y="20"/>
                </a:cubicBezTo>
                <a:cubicBezTo>
                  <a:pt x="43" y="23"/>
                  <a:pt x="53" y="24"/>
                  <a:pt x="64" y="24"/>
                </a:cubicBezTo>
                <a:cubicBezTo>
                  <a:pt x="75" y="24"/>
                  <a:pt x="87" y="23"/>
                  <a:pt x="96" y="20"/>
                </a:cubicBezTo>
                <a:cubicBezTo>
                  <a:pt x="105" y="17"/>
                  <a:pt x="113" y="11"/>
                  <a:pt x="120" y="8"/>
                </a:cubicBezTo>
                <a:cubicBezTo>
                  <a:pt x="127" y="5"/>
                  <a:pt x="133" y="2"/>
                  <a:pt x="136" y="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42840" y="578628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27440" y="3579840"/>
            <a:ext cx="3983040" cy="227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96080" y="41590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46800" y="42163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56240" y="52862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38920" y="42159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5160" y="4484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92880" y="3870360"/>
            <a:ext cx="949320" cy="60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04240" y="3984840"/>
            <a:ext cx="14619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ducto o  Servicio para la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67200" y="40892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29160" y="3885480"/>
            <a:ext cx="10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Creación de Producto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11800" y="49672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89480" y="4979160"/>
            <a:ext cx="121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: Consumidores, Accion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35480" y="4566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19520" y="3744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07040" y="5799240"/>
            <a:ext cx="268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53160" y="440676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62560" y="412848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4240" y="1141560"/>
            <a:ext cx="364464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920" y="4892760"/>
            <a:ext cx="2131920" cy="1339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7584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92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68552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6436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304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10400" y="619848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6872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9228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64040" y="137304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801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836640" y="248292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96400" y="247500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9020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41120" y="1201680"/>
            <a:ext cx="1763640" cy="917640"/>
            <a:chOff x="141120" y="1201680"/>
            <a:chExt cx="1763640" cy="91764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141120" y="1214640"/>
              <a:ext cx="79128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51092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8868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400000">
              <a:off x="882000" y="1807920"/>
              <a:ext cx="455400" cy="167040"/>
            </a:xfrm>
            <a:custGeom>
              <a:avLst/>
              <a:gdLst>
                <a:gd name="textAreaLeft" fmla="*/ 103680 w 455400"/>
                <a:gd name="textAreaRight" fmla="*/ 351720 w 455400"/>
                <a:gd name="textAreaTop" fmla="*/ 38160 h 167040"/>
                <a:gd name="textAreaBottom" fmla="*/ 1288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881" y="21600"/>
                  </a:lnTo>
                  <a:lnTo>
                    <a:pt x="5719" y="2160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19772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474560" y="1228320"/>
              <a:ext cx="430200" cy="448560"/>
              <a:chOff x="1474560" y="1228320"/>
              <a:chExt cx="430200" cy="448560"/>
            </a:xfrm>
          </p:grpSpPr>
          <p:sp>
            <p:nvSpPr>
              <p:cNvPr id="161" name=""/>
              <p:cNvSpPr/>
              <p:nvPr/>
            </p:nvSpPr>
            <p:spPr>
              <a:xfrm>
                <a:off x="152316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152316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7456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0812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6124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397000">
              <a:off x="1121040" y="1782720"/>
              <a:ext cx="341280" cy="23292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417" y="16433"/>
                  </a:moveTo>
                  <a:arcTo wR="-8513" hR="-8513" stAng="8314295" swAng="-7513262"/>
                  <a:lnTo>
                    <a:pt x="292" y="8306"/>
                  </a:lnTo>
                  <a:arcTo wR="10800" hR="10800" stAng="-9998968" swAng="7513262"/>
                  <a:lnTo>
                    <a:pt x="20922" y="1867"/>
                  </a:lnTo>
                  <a:lnTo>
                    <a:pt x="20583" y="7292"/>
                  </a:lnTo>
                  <a:lnTo>
                    <a:pt x="15158" y="695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6840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8260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636560" y="1510200"/>
            <a:ext cx="1730160" cy="757800"/>
            <a:chOff x="1636560" y="1510200"/>
            <a:chExt cx="1730160" cy="757800"/>
          </a:xfrm>
        </p:grpSpPr>
        <p:grpSp>
          <p:nvGrpSpPr>
            <p:cNvPr id="170" name=""/>
            <p:cNvGrpSpPr/>
            <p:nvPr/>
          </p:nvGrpSpPr>
          <p:grpSpPr>
            <a:xfrm>
              <a:off x="2770920" y="1666080"/>
              <a:ext cx="430200" cy="448560"/>
              <a:chOff x="2770920" y="1666080"/>
              <a:chExt cx="430200" cy="448560"/>
            </a:xfrm>
          </p:grpSpPr>
          <p:sp>
            <p:nvSpPr>
              <p:cNvPr id="171" name=""/>
              <p:cNvSpPr/>
              <p:nvPr/>
            </p:nvSpPr>
            <p:spPr>
              <a:xfrm>
                <a:off x="282492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282492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7092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1528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243160" y="1669320"/>
              <a:ext cx="430200" cy="448560"/>
              <a:chOff x="2243160" y="1669320"/>
              <a:chExt cx="430200" cy="448560"/>
            </a:xfrm>
          </p:grpSpPr>
          <p:sp>
            <p:nvSpPr>
              <p:cNvPr id="176" name=""/>
              <p:cNvSpPr/>
              <p:nvPr/>
            </p:nvSpPr>
            <p:spPr>
              <a:xfrm>
                <a:off x="229176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229176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4316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3767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62836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2836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6440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6192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3656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5176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88760" y="1896840"/>
              <a:ext cx="1661760" cy="317160"/>
            </a:xfrm>
            <a:custGeom>
              <a:avLst/>
              <a:gdLst/>
              <a:ahLst/>
              <a:rect l="l" t="t" r="r" b="b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0460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90880" y="2693880"/>
            <a:ext cx="322416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60360" y="4679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de-DE" sz="10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89560" y="487044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574240" y="2500200"/>
            <a:ext cx="768960" cy="2506680"/>
            <a:chOff x="5574240" y="2500200"/>
            <a:chExt cx="768960" cy="2506680"/>
          </a:xfrm>
        </p:grpSpPr>
        <p:sp>
          <p:nvSpPr>
            <p:cNvPr id="192" name=""/>
            <p:cNvSpPr/>
            <p:nvPr/>
          </p:nvSpPr>
          <p:spPr>
            <a:xfrm flipH="1">
              <a:off x="6255360" y="486900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574240" y="3471480"/>
              <a:ext cx="424800" cy="448560"/>
              <a:chOff x="5574240" y="3471480"/>
              <a:chExt cx="424800" cy="448560"/>
            </a:xfrm>
          </p:grpSpPr>
          <p:sp>
            <p:nvSpPr>
              <p:cNvPr id="194" name=""/>
              <p:cNvSpPr/>
              <p:nvPr/>
            </p:nvSpPr>
            <p:spPr>
              <a:xfrm>
                <a:off x="5622840" y="353196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622840" y="353160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57424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1320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H="1" flipV="1">
              <a:off x="579816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78772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4072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4812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39480" y="25002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170760" y="2494080"/>
            <a:ext cx="861480" cy="2721960"/>
            <a:chOff x="6170760" y="2494080"/>
            <a:chExt cx="861480" cy="2721960"/>
          </a:xfrm>
        </p:grpSpPr>
        <p:sp>
          <p:nvSpPr>
            <p:cNvPr id="204" name=""/>
            <p:cNvSpPr/>
            <p:nvPr/>
          </p:nvSpPr>
          <p:spPr>
            <a:xfrm flipV="1">
              <a:off x="641232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248520" y="3744720"/>
              <a:ext cx="429840" cy="448560"/>
              <a:chOff x="6248520" y="3744720"/>
              <a:chExt cx="429840" cy="448560"/>
            </a:xfrm>
          </p:grpSpPr>
          <p:sp>
            <p:nvSpPr>
              <p:cNvPr id="206" name=""/>
              <p:cNvSpPr/>
              <p:nvPr/>
            </p:nvSpPr>
            <p:spPr>
              <a:xfrm>
                <a:off x="6302880" y="38052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6302880" y="38052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48520" y="3744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92520" y="3855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251040" y="3176280"/>
              <a:ext cx="429840" cy="448560"/>
              <a:chOff x="6251040" y="3176280"/>
              <a:chExt cx="429840" cy="448560"/>
            </a:xfrm>
          </p:grpSpPr>
          <p:sp>
            <p:nvSpPr>
              <p:cNvPr id="211" name=""/>
              <p:cNvSpPr/>
              <p:nvPr/>
            </p:nvSpPr>
            <p:spPr>
              <a:xfrm>
                <a:off x="6300000" y="323676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6300000" y="323640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251040" y="31762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384240" y="3287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flipV="1">
              <a:off x="6457320" y="41418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70760" y="494208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231960" y="48704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292080" y="48625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28160" y="46983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83520" y="49395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447240" y="25462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53508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6496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16640" y="4881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99000" y="2494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009320" y="2500200"/>
            <a:ext cx="1980000" cy="2497320"/>
            <a:chOff x="4009320" y="2500200"/>
            <a:chExt cx="1980000" cy="2497320"/>
          </a:xfrm>
        </p:grpSpPr>
        <p:sp>
          <p:nvSpPr>
            <p:cNvPr id="227" name=""/>
            <p:cNvSpPr/>
            <p:nvPr/>
          </p:nvSpPr>
          <p:spPr>
            <a:xfrm flipV="1">
              <a:off x="4334040" y="4932000"/>
              <a:ext cx="165528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4009320" y="2500200"/>
              <a:ext cx="1370520" cy="2497320"/>
              <a:chOff x="4009320" y="2500200"/>
              <a:chExt cx="1370520" cy="2497320"/>
            </a:xfrm>
          </p:grpSpPr>
          <p:sp>
            <p:nvSpPr>
              <p:cNvPr id="229" name=""/>
              <p:cNvSpPr/>
              <p:nvPr/>
            </p:nvSpPr>
            <p:spPr>
              <a:xfrm>
                <a:off x="4502160" y="250020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4009320" y="2554200"/>
                <a:ext cx="1370520" cy="2443320"/>
                <a:chOff x="4009320" y="2554200"/>
                <a:chExt cx="1370520" cy="2443320"/>
              </a:xfrm>
            </p:grpSpPr>
            <p:sp>
              <p:nvSpPr>
                <p:cNvPr id="231" name=""/>
                <p:cNvSpPr/>
                <p:nvPr/>
              </p:nvSpPr>
              <p:spPr>
                <a:xfrm flipH="1">
                  <a:off x="4365720" y="4859280"/>
                  <a:ext cx="87480" cy="1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" name=""/>
                <p:cNvGrpSpPr/>
                <p:nvPr/>
              </p:nvGrpSpPr>
              <p:grpSpPr>
                <a:xfrm>
                  <a:off x="4009320" y="2554200"/>
                  <a:ext cx="1370520" cy="2378160"/>
                  <a:chOff x="4009320" y="2554200"/>
                  <a:chExt cx="1370520" cy="23781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V="1">
                    <a:off x="4546080" y="2554200"/>
                    <a:ext cx="0" cy="99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V="1">
                    <a:off x="4537440" y="4335480"/>
                    <a:ext cx="5400" cy="596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4009320" y="2964600"/>
                    <a:ext cx="1370520" cy="1583640"/>
                    <a:chOff x="4009320" y="2964600"/>
                    <a:chExt cx="1370520" cy="158364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4373280" y="340848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4442040" y="349272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4009320" y="3196440"/>
                      <a:ext cx="5115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373280" y="395136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4442040" y="403560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flipH="1">
                      <a:off x="4543200" y="3627360"/>
                      <a:ext cx="2880" cy="480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rot="30000">
                      <a:off x="4403520" y="3839760"/>
                      <a:ext cx="314640" cy="252360"/>
                    </a:xfrm>
                    <a:custGeom>
                      <a:avLst/>
                      <a:gdLst>
                        <a:gd name="textAreaLeft" fmla="*/ 0 w 314640"/>
                        <a:gd name="textAreaRight" fmla="*/ 315000 w 314640"/>
                        <a:gd name="textAreaTop" fmla="*/ 0 h 252360"/>
                        <a:gd name="textAreaBottom" fmla="*/ 252720 h 252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4417" y="16433"/>
                          </a:moveTo>
                          <a:arcTo wR="-8513" hR="-8513" stAng="8314295" swAng="-7513262"/>
                          <a:lnTo>
                            <a:pt x="292" y="8306"/>
                          </a:lnTo>
                          <a:arcTo wR="10800" hR="10800" stAng="-9998968" swAng="7513262"/>
                          <a:lnTo>
                            <a:pt x="20922" y="1867"/>
                          </a:lnTo>
                          <a:lnTo>
                            <a:pt x="20583" y="7292"/>
                          </a:lnTo>
                          <a:lnTo>
                            <a:pt x="15158" y="695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3" name=""/>
                    <p:cNvGrpSpPr/>
                    <p:nvPr/>
                  </p:nvGrpSpPr>
                  <p:grpSpPr>
                    <a:xfrm>
                      <a:off x="4955040" y="3373200"/>
                      <a:ext cx="424800" cy="448560"/>
                      <a:chOff x="4955040" y="3373200"/>
                      <a:chExt cx="424800" cy="448560"/>
                    </a:xfrm>
                  </p:grpSpPr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5003640" y="3433680"/>
                        <a:ext cx="336960" cy="33768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 flipV="1">
                        <a:off x="5003640" y="3433680"/>
                        <a:ext cx="336960" cy="337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4955040" y="337320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5094000" y="348444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4538880" y="3218040"/>
                      <a:ext cx="635760" cy="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174640" y="3218040"/>
                      <a:ext cx="0" cy="218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4490280" y="3165480"/>
                      <a:ext cx="9828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4634280" y="3603600"/>
                      <a:ext cx="369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636800" y="4152960"/>
                      <a:ext cx="369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3" name=""/>
                    <p:cNvGrpSpPr/>
                    <p:nvPr/>
                  </p:nvGrpSpPr>
                  <p:grpSpPr>
                    <a:xfrm>
                      <a:off x="4949640" y="3912840"/>
                      <a:ext cx="430200" cy="448560"/>
                      <a:chOff x="4949640" y="3912840"/>
                      <a:chExt cx="430200" cy="448560"/>
                    </a:xfrm>
                  </p:grpSpPr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5003640" y="3973320"/>
                        <a:ext cx="336960" cy="33804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 flipV="1">
                        <a:off x="5003640" y="3972960"/>
                        <a:ext cx="336960" cy="338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4949640" y="3912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=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094000" y="402408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4537440" y="4487760"/>
                      <a:ext cx="635400" cy="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>
                      <a:off x="5173200" y="4316400"/>
                      <a:ext cx="1440" cy="209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4489200" y="4432320"/>
                      <a:ext cx="9792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4724640" y="2964600"/>
                      <a:ext cx="25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020120" y="3836160"/>
                      <a:ext cx="4017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63" name=""/>
          <p:cNvSpPr/>
          <p:nvPr/>
        </p:nvSpPr>
        <p:spPr>
          <a:xfrm>
            <a:off x="472356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0469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3902040" y="5595840"/>
            <a:ext cx="1008000" cy="623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4765680" y="504180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14696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281720" y="2495520"/>
            <a:ext cx="1137600" cy="3130560"/>
            <a:chOff x="7281720" y="2495520"/>
            <a:chExt cx="1137600" cy="3130560"/>
          </a:xfrm>
        </p:grpSpPr>
        <p:sp>
          <p:nvSpPr>
            <p:cNvPr id="269" name=""/>
            <p:cNvSpPr/>
            <p:nvPr/>
          </p:nvSpPr>
          <p:spPr>
            <a:xfrm>
              <a:off x="7281720" y="2693880"/>
              <a:ext cx="1123920" cy="2932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6"/>
            <a:stretch/>
          </p:blipFill>
          <p:spPr>
            <a:xfrm>
              <a:off x="755136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 flipV="1">
              <a:off x="776556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606080" y="4303440"/>
              <a:ext cx="430200" cy="448560"/>
              <a:chOff x="7606080" y="4303440"/>
              <a:chExt cx="430200" cy="448560"/>
            </a:xfrm>
          </p:grpSpPr>
          <p:sp>
            <p:nvSpPr>
              <p:cNvPr id="273" name=""/>
              <p:cNvSpPr/>
              <p:nvPr/>
            </p:nvSpPr>
            <p:spPr>
              <a:xfrm>
                <a:off x="7660080" y="436392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660080" y="436392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060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5044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7599960" y="2769840"/>
              <a:ext cx="430200" cy="448560"/>
              <a:chOff x="7599960" y="2769840"/>
              <a:chExt cx="430200" cy="448560"/>
            </a:xfrm>
          </p:grpSpPr>
          <p:sp>
            <p:nvSpPr>
              <p:cNvPr id="278" name=""/>
              <p:cNvSpPr/>
              <p:nvPr/>
            </p:nvSpPr>
            <p:spPr>
              <a:xfrm>
                <a:off x="7648560" y="28303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7648560" y="28299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9996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3352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78267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39840" y="4954680"/>
              <a:ext cx="48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886880" y="3178080"/>
              <a:ext cx="108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601040" y="488304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661160" y="487512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5388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9760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706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781344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916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60880" y="249552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82840" y="490536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47680" y="2490840"/>
            <a:ext cx="1491840" cy="2009880"/>
            <a:chOff x="247680" y="2490840"/>
            <a:chExt cx="1491840" cy="2009880"/>
          </a:xfrm>
        </p:grpSpPr>
        <p:sp>
          <p:nvSpPr>
            <p:cNvPr id="295" name=""/>
            <p:cNvSpPr/>
            <p:nvPr/>
          </p:nvSpPr>
          <p:spPr>
            <a:xfrm>
              <a:off x="163728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160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47680" y="2904840"/>
              <a:ext cx="1441800" cy="1595880"/>
              <a:chOff x="247680" y="2904840"/>
              <a:chExt cx="1441800" cy="1595880"/>
            </a:xfrm>
          </p:grpSpPr>
          <p:sp>
            <p:nvSpPr>
              <p:cNvPr id="298" name=""/>
              <p:cNvSpPr/>
              <p:nvPr/>
            </p:nvSpPr>
            <p:spPr>
              <a:xfrm>
                <a:off x="126180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247680" y="2904840"/>
                <a:ext cx="1254240" cy="1595880"/>
                <a:chOff x="247680" y="2904840"/>
                <a:chExt cx="1254240" cy="15958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90972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" name=""/>
                <p:cNvGrpSpPr/>
                <p:nvPr/>
              </p:nvGrpSpPr>
              <p:grpSpPr>
                <a:xfrm>
                  <a:off x="857880" y="3917520"/>
                  <a:ext cx="430200" cy="448560"/>
                  <a:chOff x="857880" y="3917520"/>
                  <a:chExt cx="430200" cy="44856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911880" y="3978000"/>
                    <a:ext cx="33696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V="1">
                    <a:off x="911880" y="3977640"/>
                    <a:ext cx="33696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85788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0022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864720" y="3362040"/>
                  <a:ext cx="430200" cy="448560"/>
                  <a:chOff x="864720" y="3362040"/>
                  <a:chExt cx="430200" cy="4485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91332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V="1">
                    <a:off x="91332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86472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99828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1" name=""/>
                <p:cNvSpPr/>
                <p:nvPr/>
              </p:nvSpPr>
              <p:spPr>
                <a:xfrm>
                  <a:off x="98748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24768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4768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40400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5400000">
                  <a:off x="1194840" y="4212360"/>
                  <a:ext cx="155520" cy="363240"/>
                </a:xfrm>
                <a:custGeom>
                  <a:avLst/>
                  <a:gdLst/>
                  <a:ahLst/>
                  <a:rect l="l" t="t" r="r" b="b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401400" y="2904840"/>
                  <a:ext cx="430200" cy="448560"/>
                  <a:chOff x="401400" y="2904840"/>
                  <a:chExt cx="430200" cy="4485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45000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V="1">
                    <a:off x="45000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0140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3496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" name=""/>
                <p:cNvSpPr/>
                <p:nvPr/>
              </p:nvSpPr>
              <p:spPr>
                <a:xfrm flipV="1">
                  <a:off x="145512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103140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115488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8984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107856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652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7" name=""/>
          <p:cNvGrpSpPr/>
          <p:nvPr/>
        </p:nvGrpSpPr>
        <p:grpSpPr>
          <a:xfrm>
            <a:off x="1689120" y="3290040"/>
            <a:ext cx="1428480" cy="1069920"/>
            <a:chOff x="1689120" y="3290040"/>
            <a:chExt cx="1428480" cy="1069920"/>
          </a:xfrm>
        </p:grpSpPr>
        <p:sp>
          <p:nvSpPr>
            <p:cNvPr id="328" name=""/>
            <p:cNvSpPr/>
            <p:nvPr/>
          </p:nvSpPr>
          <p:spPr>
            <a:xfrm flipV="1">
              <a:off x="168912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1796040" y="3290040"/>
              <a:ext cx="1321560" cy="1069920"/>
              <a:chOff x="1796040" y="3290040"/>
              <a:chExt cx="1321560" cy="1069920"/>
            </a:xfrm>
          </p:grpSpPr>
          <p:sp>
            <p:nvSpPr>
              <p:cNvPr id="330" name=""/>
              <p:cNvSpPr/>
              <p:nvPr/>
            </p:nvSpPr>
            <p:spPr>
              <a:xfrm flipV="1">
                <a:off x="183852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1937880" y="3381120"/>
                <a:ext cx="424800" cy="448560"/>
                <a:chOff x="1937880" y="3381120"/>
                <a:chExt cx="424800" cy="4485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98648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198648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93788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0768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1946880" y="3911400"/>
                <a:ext cx="424800" cy="448560"/>
                <a:chOff x="1946880" y="3911400"/>
                <a:chExt cx="424800" cy="4485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199548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199548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94688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08584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 flipV="1">
                <a:off x="183852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52396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60604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62800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41848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74248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309132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1528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291960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3024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9604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2" name=""/>
          <p:cNvGrpSpPr/>
          <p:nvPr/>
        </p:nvGrpSpPr>
        <p:grpSpPr>
          <a:xfrm>
            <a:off x="6251040" y="1085760"/>
            <a:ext cx="2737080" cy="1468440"/>
            <a:chOff x="6251040" y="1085760"/>
            <a:chExt cx="2737080" cy="1468440"/>
          </a:xfrm>
        </p:grpSpPr>
        <p:sp>
          <p:nvSpPr>
            <p:cNvPr id="353" name=""/>
            <p:cNvSpPr/>
            <p:nvPr/>
          </p:nvSpPr>
          <p:spPr>
            <a:xfrm flipV="1">
              <a:off x="64465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6251040" y="1085760"/>
              <a:ext cx="2737080" cy="1158480"/>
              <a:chOff x="6251040" y="1085760"/>
              <a:chExt cx="2737080" cy="1158480"/>
            </a:xfrm>
          </p:grpSpPr>
          <p:sp>
            <p:nvSpPr>
              <p:cNvPr id="355" name=""/>
              <p:cNvSpPr/>
              <p:nvPr/>
            </p:nvSpPr>
            <p:spPr>
              <a:xfrm>
                <a:off x="77227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218080" y="1550880"/>
                <a:ext cx="77004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7" name=""/>
              <p:cNvGrpSpPr/>
              <p:nvPr/>
            </p:nvGrpSpPr>
            <p:grpSpPr>
              <a:xfrm>
                <a:off x="7119720" y="1598400"/>
                <a:ext cx="430200" cy="448560"/>
                <a:chOff x="7119720" y="1598400"/>
                <a:chExt cx="430200" cy="4485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71737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71737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1972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26408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6591960" y="1601640"/>
                <a:ext cx="430200" cy="448560"/>
                <a:chOff x="6591960" y="1601640"/>
                <a:chExt cx="430200" cy="4485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6640560" y="166212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6640560" y="166212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59196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72552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7119360" y="1169640"/>
                <a:ext cx="430200" cy="448560"/>
                <a:chOff x="7119360" y="1169640"/>
                <a:chExt cx="430200" cy="4485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1679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71679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11936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25292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77914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9771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771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51320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958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499880" y="1397160"/>
                <a:ext cx="399960" cy="328320"/>
              </a:xfrm>
              <a:custGeom>
                <a:avLst/>
                <a:gdLst/>
                <a:ahLst/>
                <a:rect l="l" t="t" r="r" b="b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32120" y="183528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368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39396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71660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5104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5397000">
                <a:off x="7885080" y="1707120"/>
                <a:ext cx="341280" cy="23256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417" y="16433"/>
                    </a:moveTo>
                    <a:arcTo wR="-8513" hR="-8513" stAng="8314295" swAng="-7513262"/>
                    <a:lnTo>
                      <a:pt x="292" y="8306"/>
                    </a:lnTo>
                    <a:arcTo wR="10800" hR="10800" stAng="-9998968" swAng="7513262"/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36568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8892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52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01880" y="4700520"/>
            <a:ext cx="521640" cy="1457280"/>
            <a:chOff x="101880" y="4700520"/>
            <a:chExt cx="521640" cy="1457280"/>
          </a:xfrm>
        </p:grpSpPr>
        <p:sp>
          <p:nvSpPr>
            <p:cNvPr id="388" name=""/>
            <p:cNvSpPr/>
            <p:nvPr/>
          </p:nvSpPr>
          <p:spPr>
            <a:xfrm flipV="1">
              <a:off x="37584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56240" y="5038560"/>
              <a:ext cx="430200" cy="448560"/>
              <a:chOff x="156240" y="5038560"/>
              <a:chExt cx="430200" cy="448560"/>
            </a:xfrm>
          </p:grpSpPr>
          <p:sp>
            <p:nvSpPr>
              <p:cNvPr id="391" name=""/>
              <p:cNvSpPr/>
              <p:nvPr/>
            </p:nvSpPr>
            <p:spPr>
              <a:xfrm>
                <a:off x="20484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0484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624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8980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13752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18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18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41240" y="4700520"/>
            <a:ext cx="699840" cy="1457280"/>
            <a:chOff x="741240" y="4700520"/>
            <a:chExt cx="699840" cy="1457280"/>
          </a:xfrm>
        </p:grpSpPr>
        <p:sp>
          <p:nvSpPr>
            <p:cNvPr id="399" name=""/>
            <p:cNvSpPr/>
            <p:nvPr/>
          </p:nvSpPr>
          <p:spPr>
            <a:xfrm flipV="1">
              <a:off x="98028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3204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0320" y="5038560"/>
              <a:ext cx="430200" cy="448560"/>
              <a:chOff x="760320" y="5038560"/>
              <a:chExt cx="430200" cy="448560"/>
            </a:xfrm>
          </p:grpSpPr>
          <p:sp>
            <p:nvSpPr>
              <p:cNvPr id="402" name=""/>
              <p:cNvSpPr/>
              <p:nvPr/>
            </p:nvSpPr>
            <p:spPr>
              <a:xfrm>
                <a:off x="80892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80892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032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938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74124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374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219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564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344600" y="4699080"/>
            <a:ext cx="980280" cy="1457280"/>
            <a:chOff x="1344600" y="4699080"/>
            <a:chExt cx="980280" cy="1457280"/>
          </a:xfrm>
        </p:grpSpPr>
        <p:sp>
          <p:nvSpPr>
            <p:cNvPr id="411" name=""/>
            <p:cNvSpPr/>
            <p:nvPr/>
          </p:nvSpPr>
          <p:spPr>
            <a:xfrm>
              <a:off x="182700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87416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2592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654200" y="5036760"/>
              <a:ext cx="430200" cy="448560"/>
              <a:chOff x="1654200" y="5036760"/>
              <a:chExt cx="430200" cy="448560"/>
            </a:xfrm>
          </p:grpSpPr>
          <p:sp>
            <p:nvSpPr>
              <p:cNvPr id="415" name=""/>
              <p:cNvSpPr/>
              <p:nvPr/>
            </p:nvSpPr>
            <p:spPr>
              <a:xfrm>
                <a:off x="170280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70280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6542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8776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163476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1980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4460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0444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5880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8508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4748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057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5240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290680" y="4699080"/>
            <a:ext cx="1444680" cy="1533600"/>
            <a:chOff x="2290680" y="4699080"/>
            <a:chExt cx="1444680" cy="1533600"/>
          </a:xfrm>
        </p:grpSpPr>
        <p:sp>
          <p:nvSpPr>
            <p:cNvPr id="429" name=""/>
            <p:cNvSpPr/>
            <p:nvPr/>
          </p:nvSpPr>
          <p:spPr>
            <a:xfrm>
              <a:off x="313596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2290680" y="4750920"/>
              <a:ext cx="1444680" cy="1481760"/>
              <a:chOff x="2290680" y="4750920"/>
              <a:chExt cx="1444680" cy="1481760"/>
            </a:xfrm>
          </p:grpSpPr>
          <p:sp>
            <p:nvSpPr>
              <p:cNvPr id="431" name=""/>
              <p:cNvSpPr/>
              <p:nvPr/>
            </p:nvSpPr>
            <p:spPr>
              <a:xfrm>
                <a:off x="2290680" y="4892760"/>
                <a:ext cx="1444680" cy="1339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2972520" y="5479560"/>
                <a:ext cx="430200" cy="448560"/>
                <a:chOff x="2972520" y="5479560"/>
                <a:chExt cx="430200" cy="44856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026520" y="5540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V="1">
                  <a:off x="3026520" y="5539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97252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1168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2979360" y="4924080"/>
                <a:ext cx="430200" cy="448560"/>
                <a:chOff x="2979360" y="4924080"/>
                <a:chExt cx="430200" cy="44856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302796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V="1">
                  <a:off x="302796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97936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11292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" name=""/>
              <p:cNvSpPr/>
              <p:nvPr/>
            </p:nvSpPr>
            <p:spPr>
              <a:xfrm flipV="1">
                <a:off x="313452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3257640" y="5322600"/>
                <a:ext cx="108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319320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856240" y="6089760"/>
                <a:ext cx="59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53600" y="604044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31975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898720" y="603720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958840" y="601668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2851560" y="60357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412000" y="5673600"/>
                <a:ext cx="15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7184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626200" y="5595840"/>
                <a:ext cx="396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652840" y="5668920"/>
                <a:ext cx="2034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403360" y="5608800"/>
                <a:ext cx="396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851560" y="5432400"/>
                <a:ext cx="408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28562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216600" y="53704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8600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7668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61" name="" descr=""/>
          <p:cNvPicPr/>
          <p:nvPr/>
        </p:nvPicPr>
        <p:blipFill>
          <a:blip r:embed="rId8"/>
          <a:stretch/>
        </p:blipFill>
        <p:spPr>
          <a:xfrm>
            <a:off x="8223120" y="2330280"/>
            <a:ext cx="792360" cy="4478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8280" y="832320"/>
            <a:ext cx="53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Proceso Observado en el Sector Eléc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27560" y="-256320"/>
            <a:ext cx="4684680" cy="3771720"/>
          </a:xfrm>
          <a:prstGeom prst="wedgeRectCallout">
            <a:avLst>
              <a:gd name="adj1" fmla="val -91152"/>
              <a:gd name="adj2" fmla="val -3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ducar a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ar a conocer al consumidor, qué se puede hacer por é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ducación del estado del arte --&gt; gran oportunidad para el ingeniero (ejemplo calefa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ceso de relación con el consumidor debe llevarse a cabo con cuidado --&gt; saber posicionarse como ingeniero y consumi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grar una buena relación interpersonal es difícil. A esto se suma: diseño exitoso en plazos y recursos fin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n definitiva --&gt; desafío = satisfacer al consumidor (cliente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35480" y="-52560"/>
            <a:ext cx="4684680" cy="4266000"/>
          </a:xfrm>
          <a:prstGeom prst="wedgeRectCallout">
            <a:avLst>
              <a:gd name="adj1" fmla="val -71074"/>
              <a:gd name="adj2" fmla="val -1245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diseño requiere del reconocimiento de alguna necesidad que satisfac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obvias: proveer de agua potable a una ca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complejas: calentamiento global del planeta, disminución de capa de ozo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as necesidades pueden expresarse en forma muy vaga: “Haga algo en relación a la contaminación del aire”. Respuesta?: Creación de fuentes energéticas alterna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ligro de subestimar y dar por obvia un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ebido a retoalimentación en el proceso --&gt; posibilidad de corregir errores durante el proce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59320" y="691560"/>
            <a:ext cx="4579920" cy="3087000"/>
          </a:xfrm>
          <a:prstGeom prst="wedgeRectCallout">
            <a:avLst>
              <a:gd name="adj1" fmla="val -70796"/>
              <a:gd name="adj2" fmla="val -85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vertidor Necesidad --&gt;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emplo abastecimiento de agua potable: cisterna para aguas lluvia, planta purificadora (río), planta desalinizadora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especificaciones a la necesidad: números, colores, criterios, descripciones, etc. --&gt; trabajo conjunto consumidor-ingen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ingeniero propone soluciones y formas de abordar el probl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--&gt; Dar cuerpo y vida a l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00560" y="919440"/>
            <a:ext cx="4684680" cy="1412640"/>
          </a:xfrm>
          <a:prstGeom prst="wedgeRectCallout">
            <a:avLst>
              <a:gd name="adj1" fmla="val -83277"/>
              <a:gd name="adj2" fmla="val 7468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ntender el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de verificación  --&gt; se ha entendido realmente el problem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nto de partida para iniciar el trabajo de diseñ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60880" y="1309320"/>
            <a:ext cx="4684680" cy="1108800"/>
          </a:xfrm>
          <a:prstGeom prst="wedgeRectCallout">
            <a:avLst>
              <a:gd name="adj1" fmla="val -64689"/>
              <a:gd name="adj2" fmla="val 99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 Consumi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teractuar con consumidor --&gt; entregarle lo que realmente desea/necesi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33880" y="1149840"/>
            <a:ext cx="4684680" cy="1905840"/>
          </a:xfrm>
          <a:prstGeom prst="wedgeRectCallout">
            <a:avLst>
              <a:gd name="adj1" fmla="val -81393"/>
              <a:gd name="adj2" fmla="val 6442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entarse a la sombra de un árb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esencial en lo original de un diseñ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ómo puedo hacer esto? --&gt; Sentarse a pensar con el conocimiento propio (evitar libros de recetas, imaginar estar en isla desiert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búsqueda excesiva de compromi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5000" y="1208160"/>
            <a:ext cx="4684680" cy="2097360"/>
          </a:xfrm>
          <a:prstGeom prst="wedgeRectCallout">
            <a:avLst>
              <a:gd name="adj1" fmla="val -97916"/>
              <a:gd name="adj2" fmla="val 7735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ente Abierta/Evitar Libros de Rec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 no piensas muy bien, probablemente no estás pensando much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preguntar a otros, cómo lo hac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na vez elegida una idea como favorita, es muy difícil pensar en otra solu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temer al ridículo (secreto de grandes diseñador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414680" y="1758960"/>
            <a:ext cx="4500720" cy="1300320"/>
          </a:xfrm>
          <a:prstGeom prst="wedgeRectCallout">
            <a:avLst>
              <a:gd name="adj1" fmla="val -101055"/>
              <a:gd name="adj2" fmla="val 13662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Hacer uso de Conocimiento Ac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pensamiento original está fuera de la ventana o en tu cabez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en ideas alternativas para evitar soluciones prema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56160" y="2063880"/>
            <a:ext cx="4500360" cy="998280"/>
          </a:xfrm>
          <a:prstGeom prst="wedgeRectCallout">
            <a:avLst>
              <a:gd name="adj1" fmla="val -79370"/>
              <a:gd name="adj2" fmla="val 18084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uales 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uso de manuales es necesario para conocer las limitantes de las soluciones --&gt; evitar mirar las aplicaciones recome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3280" y="2172600"/>
            <a:ext cx="4341960" cy="1411560"/>
          </a:xfrm>
          <a:prstGeom prst="wedgeRectCallout">
            <a:avLst>
              <a:gd name="adj1" fmla="val -108990"/>
              <a:gd name="adj2" fmla="val 12156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obar Distintas Solu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ensar y probar maneras alternativas para hacer lo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“amor a primera vista” == “beso mortal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sar o no un microproces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84760" y="2229840"/>
            <a:ext cx="4200480" cy="1603080"/>
          </a:xfrm>
          <a:prstGeom prst="wedgeRectCallout">
            <a:avLst>
              <a:gd name="adj1" fmla="val -116611"/>
              <a:gd name="adj2" fmla="val 123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en Pap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importa la forma en que se haga este diseño en papel, lo importante es hace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oder tener distintas visiones frente a los oj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: “Forma no es sustituto de Función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97400" y="2877840"/>
            <a:ext cx="4201920" cy="1108800"/>
          </a:xfrm>
          <a:prstGeom prst="wedgeRectCallout">
            <a:avLst>
              <a:gd name="adj1" fmla="val -105106"/>
              <a:gd name="adj2" fmla="val 20666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Investigar Otros Diseñ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de hacer uso de libros de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ocer la forma en que otros abordan el problema --&gt; autoevaluación crí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38520" y="2402640"/>
            <a:ext cx="4200840" cy="2370240"/>
          </a:xfrm>
          <a:prstGeom prst="wedgeRectCallout">
            <a:avLst>
              <a:gd name="adj1" fmla="val -73083"/>
              <a:gd name="adj2" fmla="val 9099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aluación de soluciones propias en relación a otras, constituye un chequeo de la capacidad propia de: observación, análisis y sí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crucial: reconfortante o para darse cuenta de cosas obvias no consider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dices o criterios de evaluación: vida útil, costos fijos, costos variables, mantención, flexibilidad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678200" y="3090960"/>
            <a:ext cx="4202280" cy="1300320"/>
          </a:xfrm>
          <a:prstGeom prst="wedgeRectCallout">
            <a:avLst>
              <a:gd name="adj1" fmla="val -77273"/>
              <a:gd name="adj2" fmla="val 1242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od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Fomentar, en caso necesario, flexibilidad para realizar cambios --&gt; no encuentran componente, mucho tr´mite buracrático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adie es perfect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" dur="1" fill="hold"/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odrigo Palma</cp:lastModifiedBy>
  <cp:lastPrinted>2001-08-14T20:08:28Z</cp:lastPrinted>
  <dcterms:modified xsi:type="dcterms:W3CDTF">2007-03-14T12:47:23Z</dcterms:modified>
  <cp:revision>29</cp:revision>
  <dc:subject/>
  <dc:title>PowerPoint Presentation</dc:title>
</cp:coreProperties>
</file>