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BECD95-23C3-45AE-B7E3-B3C70912628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A9CF32-0E71-492D-9169-E3BA702B328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A9FDB5-777B-4EDE-94BE-962AD87C800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FBAF1F-7DDB-44D1-8F64-1E96A5B7645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F24502-1135-48FE-9246-5CF76DF33B6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036591-1B8A-4667-A081-48A38A32296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E13384-F991-4D6D-B6F3-87E53B5F133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E3D6E9-558F-4C95-A5B9-1DBDC319301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084471-A992-4ED8-87B9-F09D20B64FD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CD88B5-3654-482D-A215-428A9F72376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3B3794-87B2-4C7C-8BB9-AE9190CE42D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b9c7e2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b7b7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771600" y="6408720"/>
            <a:ext cx="21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SD20A Seminario de Diseño, Sec.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Otoño. 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Sección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1454040"/>
            <a:ext cx="2286000" cy="174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7600" y="1447920"/>
            <a:ext cx="2349720" cy="178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406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50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22860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28560" y="207000"/>
            <a:ext cx="773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Aspect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520" y="642600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3320" y="4474440"/>
            <a:ext cx="7737120" cy="1995840"/>
            <a:chOff x="193320" y="4474440"/>
            <a:chExt cx="7737120" cy="1995840"/>
          </a:xfrm>
        </p:grpSpPr>
        <p:sp>
          <p:nvSpPr>
            <p:cNvPr id="61" name=""/>
            <p:cNvSpPr/>
            <p:nvPr/>
          </p:nvSpPr>
          <p:spPr>
            <a:xfrm>
              <a:off x="193320" y="4474440"/>
              <a:ext cx="3943080" cy="17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1" lang="de-DE" sz="2000" spc="-1" strike="noStrike">
                  <a:solidFill>
                    <a:srgbClr val="000090"/>
                  </a:solidFill>
                  <a:latin typeface="Comic Sans MS"/>
                </a:rPr>
                <a:t>Administración y Material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echas Evalu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rofesor Auxiliar y Ayud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Email: rodpalma@cec.uchile.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84360" y="4565880"/>
              <a:ext cx="3646080" cy="19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ágina 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Videos y Simul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Horario de atención Of. 4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ono: 97842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04920" y="838080"/>
            <a:ext cx="7772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l curso consta de las siguientes activi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2 Sesiones Obligatorias de Laborato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our de sesiones demostrativas (2 sema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 Cátedra sema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sarrollo de Proyecto de Dis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Tanto las sesiones de laboratorio como el Proyecto deben realizarse en grupos de 3 personas (máxim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álculo de Nota Fi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NF=0,2*Nlab+0,5*Proyecto+0,3*Inf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4320" y="1704600"/>
            <a:ext cx="880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Seminario de Diseño tiene como objetivo general constituir una primera experiencia práctica de diseño en alguno de los diversos ámbitos de la ingeniería, contribuyendo con ello tanto a la selección del área de especialización como a la motivación de los alumnos hacia el diseño ingenieril en gener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curso busca también iniciar el desarrollo de habilidades de trabajo en equipo, innovación, emprendimientos y comunicación – escrita y oral - entre otras. Estas destrezas o habilidades se están constituyendo crecientemente en capacidades necesariamente complementarias a los conocimientos teóricos  y prácticos propios de la ingeniería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Generar y fomentar una actitud positiva de los estudiantes de ingeniería de plan común, hacia actividades de diseño tecnológico en torno al uso de energías renovables y su uso e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89040" y="896400"/>
            <a:ext cx="23356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0"/>
                </a:solidFill>
                <a:latin typeface="Comic Sans MS"/>
              </a:rPr>
              <a:t>Semestre de Otoño 200</a:t>
            </a:r>
            <a:r>
              <a:rPr b="1" lang="es-ES_tradnl" sz="1400" spc="-1" strike="noStrike">
                <a:solidFill>
                  <a:srgbClr val="000090"/>
                </a:solidFill>
                <a:latin typeface="Comic Sans MS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0920" y="2192040"/>
            <a:ext cx="849780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Herramientas de búsqueda y procesamiento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6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11760" y="17355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480" y="11451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77000" y="1873080"/>
            <a:ext cx="200160" cy="38160"/>
          </a:xfrm>
          <a:custGeom>
            <a:avLst/>
            <a:gdLst/>
            <a:ahLst/>
            <a:rect l="l" t="t" r="r" b="b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103680 w 455400"/>
                <a:gd name="textAreaRight" fmla="*/ 351720 w 455400"/>
                <a:gd name="textAreaTop" fmla="*/ 38160 h 167040"/>
                <a:gd name="textAreaBottom" fmla="*/ 1288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881" y="21600"/>
                  </a:lnTo>
                  <a:lnTo>
                    <a:pt x="5719" y="2160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161" name="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417" y="16433"/>
                  </a:moveTo>
                  <a:arcTo wR="-8513" hR="-8513" stAng="8314295" swAng="-7513262"/>
                  <a:lnTo>
                    <a:pt x="292" y="8306"/>
                  </a:lnTo>
                  <a:arcTo wR="10800" hR="10800" stAng="-9998968" swAng="7513262"/>
                  <a:lnTo>
                    <a:pt x="20922" y="1867"/>
                  </a:lnTo>
                  <a:lnTo>
                    <a:pt x="20583" y="7292"/>
                  </a:lnTo>
                  <a:lnTo>
                    <a:pt x="15158" y="69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170" name="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171" name="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176" name="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/>
              <a:ahLst/>
              <a:rect l="l" t="t" r="r" b="b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192" name="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194" name="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204" name="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206" name="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211" name="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227" name="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229" name="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0 w 314640"/>
                        <a:gd name="textAreaRight" fmla="*/ 315000 w 314640"/>
                        <a:gd name="textAreaTop" fmla="*/ 0 h 252360"/>
                        <a:gd name="textAreaBottom" fmla="*/ 25272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4417" y="16433"/>
                          </a:moveTo>
                          <a:arcTo wR="-8513" hR="-8513" stAng="8314295" swAng="-7513262"/>
                          <a:lnTo>
                            <a:pt x="292" y="8306"/>
                          </a:lnTo>
                          <a:arcTo wR="10800" hR="10800" stAng="-9998968" swAng="7513262"/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3" name="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63" name="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269" name="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6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273" name="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278" name="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295" name="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298" name="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" name="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/>
                  <a:ahLst/>
                  <a:rect l="l" t="t" r="r" b="b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7" name="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328" name="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353" name="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355" name="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7" name="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/>
                <a:ahLst/>
                <a:rect l="l" t="t" r="r" b="b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417" y="16433"/>
                    </a:moveTo>
                    <a:arcTo wR="-8513" hR="-8513" stAng="8314295" swAng="-7513262"/>
                    <a:lnTo>
                      <a:pt x="292" y="8306"/>
                    </a:lnTo>
                    <a:arcTo wR="10800" hR="10800" stAng="-9998968" swAng="7513262"/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388" name="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391" name="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399" name="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402" name="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411" name="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415" name="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429" name="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431" name="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27560" y="-256320"/>
            <a:ext cx="4684680" cy="3771720"/>
          </a:xfrm>
          <a:prstGeom prst="wedgeRectCallout">
            <a:avLst>
              <a:gd name="adj1" fmla="val -91152"/>
              <a:gd name="adj2" fmla="val -3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35480" y="-52560"/>
            <a:ext cx="4684680" cy="4266000"/>
          </a:xfrm>
          <a:prstGeom prst="wedgeRectCallout">
            <a:avLst>
              <a:gd name="adj1" fmla="val -71074"/>
              <a:gd name="adj2" fmla="val -1245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5000" y="1208160"/>
            <a:ext cx="4684680" cy="2097360"/>
          </a:xfrm>
          <a:prstGeom prst="wedgeRectCallout">
            <a:avLst>
              <a:gd name="adj1" fmla="val -97916"/>
              <a:gd name="adj2" fmla="val 7735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rigo Palma</cp:lastModifiedBy>
  <cp:lastPrinted>2001-08-14T20:08:28Z</cp:lastPrinted>
  <dcterms:modified xsi:type="dcterms:W3CDTF">2007-03-14T12:47:23Z</dcterms:modified>
  <cp:revision>29</cp:revision>
  <dc:subject/>
  <dc:title>PowerPoint Presentation</dc:title>
</cp:coreProperties>
</file>