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650-4420-4423-9CD9-34B84BB0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BB6-295D-4544-BC03-046B4BD3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DA6-696B-40C7-8EE0-757A3763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36E-6FC5-41BC-862C-3EEDB2E6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32B-DFDB-4987-9857-530C321D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820-99CB-48C6-BEF5-8C98336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3B1-5C58-40A0-8703-C73E2712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6CB-6627-4D76-B5D5-E895D87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7C1-FA06-40F1-AD93-9638879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742-35FB-4610-82BC-A2749AD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03F-BD78-4BF8-B697-74542BBB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C04-CF79-4CDE-86AE-7F486530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196-9D44-4987-A9D2-318FF4BDF6F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pítulos 3 y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Teoría del Orbital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as de los orbitales moleculares a partir de los orbitales atómicos s 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23960" y="2349360"/>
            <a:ext cx="40960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Modelo de Repulsión de Pares de Electrones de la Capa de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geometría de una molécu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ares de electrones (compartidos y no compartidos) tienden a situarse en aquellas posiciones que minimicen las repulsiones entre e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pulsiones decrecen en importancia en el or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NC-PNC &gt; PNC-PE &gt; PE-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NC = Par no compart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 = par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que determinar el número de electrones de la capa de valencia del átomo central. Para el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r el número de pares de electrones. Para ello se contabilizan los electrones de las capas de valencia de los átomos de la moléc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buja las posibles estructuras moleculares atendiendo al cumplimiento de la regla del octeto ya a la repulsión mínima entre los pares electrónicos, según el orden comentado anterior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Modelo de Repulsión de Pares de Electrones de la Capa de Val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metrías 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A: átomo 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: átomos enlazados a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: pares de electr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11640" y="1557360"/>
          <a:ext cx="3522600" cy="15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557360"/>
                    <a:ext cx="35226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rcRect l="1944" t="0" r="1944" b="0"/>
          <a:stretch/>
        </p:blipFill>
        <p:spPr>
          <a:xfrm>
            <a:off x="122400" y="3284640"/>
            <a:ext cx="88992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º electrones = 6 e (O) + 2 x 1 e (2 H) = 8 e = 4 pares d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e Lew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átomo central presenta dos pares de enlace y dos no compartidos. Para cuatro pares, la estructura molecular debe ser tetraédrica, y la geometría de la molécula (es decir, la geometría de los átomos y enlaces) es ang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structura de Lewis Agua"/>
          <p:cNvPicPr/>
          <p:nvPr/>
        </p:nvPicPr>
        <p:blipFill>
          <a:blip r:embed="rId1"/>
          <a:stretch/>
        </p:blipFill>
        <p:spPr>
          <a:xfrm>
            <a:off x="4140360" y="2319480"/>
            <a:ext cx="787320" cy="38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Geometria angular del agua"/>
          <p:cNvPicPr/>
          <p:nvPr/>
        </p:nvPicPr>
        <p:blipFill>
          <a:blip r:embed="rId2"/>
          <a:stretch/>
        </p:blipFill>
        <p:spPr>
          <a:xfrm>
            <a:off x="3376440" y="4365720"/>
            <a:ext cx="2391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º electrones = 6 e (S) + 7 x 4 e (4 F) = 34 e = 17 pares d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ructura de Lew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rededor del átomo central hay 5 pares de e (cuatro de enlace y uno de no enlace o no compartido). Para cinco pares la geometría debe ser derivada de bipirámide trigonal. En este caso existen dos posibles ubicaciones de los pares de electr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uar las interacciones entre los pares de enlace. La geometría I presenta 2 interacciones PNC-PE a 90º y otras dos a 120º. La geometría II presenta tres interacciones PNC-PE a 90º y 1 PNC-PE a 180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más importantes son las que involucran PNC, y ya que la segunda presenta 3 al menor ángulo, esta estructura es la más ine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geometría de S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la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Lewis SF4"/>
          <p:cNvPicPr/>
          <p:nvPr/>
        </p:nvPicPr>
        <p:blipFill>
          <a:blip r:embed="rId1"/>
          <a:stretch/>
        </p:blipFill>
        <p:spPr>
          <a:xfrm>
            <a:off x="4191120" y="1341360"/>
            <a:ext cx="917280" cy="68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Geometria SF4"/>
          <p:cNvPicPr/>
          <p:nvPr/>
        </p:nvPicPr>
        <p:blipFill>
          <a:blip r:embed="rId2"/>
          <a:stretch/>
        </p:blipFill>
        <p:spPr>
          <a:xfrm>
            <a:off x="3371760" y="3124080"/>
            <a:ext cx="2400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Hibridación de orb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919920" cy="195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81400" y="3789360"/>
            <a:ext cx="2190600" cy="2495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92720" y="51577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bitales híbridos sp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9:22:13Z</dcterms:created>
  <dc:creator>Notestore</dc:creator>
  <dc:description/>
  <dc:language>en-US</dc:language>
  <cp:lastModifiedBy>Ivan Garcia</cp:lastModifiedBy>
  <dcterms:modified xsi:type="dcterms:W3CDTF">2007-04-12T21:56:26Z</dcterms:modified>
  <cp:revision>13</cp:revision>
  <dc:subject/>
  <dc:title>Diapositiva 1</dc:title>
</cp:coreProperties>
</file>