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0508-45BA-4D6F-84BF-532175CF8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A111-20FA-4CF9-ABC6-985664CFF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B9B9-457F-4CFC-B6C9-B3F0B16FE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7B3B-7E59-45FD-9D08-7597C89C9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521D-F4FD-4209-92CE-7844103C0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DFDF-8B1D-4818-A8C7-1369EBA1E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9D1C-E6D0-4894-B662-EFB21EE03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4254-FE19-4A6E-8AB8-48FCEBBDE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EA21-4B43-4575-B10B-2CB3FE361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F661-AF07-49EC-98F1-EF2162DD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0CBD-B313-451B-8986-A46419AFE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9D31-0AB1-4717-9771-5A8A81BED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28A78-D030-4B3C-8D7C-23C264F1A91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99"/>
                </a:solidFill>
                <a:latin typeface="Arial"/>
              </a:rPr>
              <a:t>Difracción de Rayos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12000" y="3355560"/>
            <a:ext cx="3132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: distancia entre las capas atómicas en un cris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longitud de onda de los rayos X incid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: un número enter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4360" y="1508040"/>
            <a:ext cx="4657680" cy="4657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443640" y="1773360"/>
            <a:ext cx="237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ey de Brag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= 2d sen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efectos puntu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81040" y="1484280"/>
            <a:ext cx="798048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efectos de superfic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de de gr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690640" y="2884320"/>
            <a:ext cx="37627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la dislocación en A se mueve a la izquierda, es obstruida por el defecto puntu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la dislocación se mueve a la derecha, interactúa con el desorden de red cerca de la segunda dislocación en el punto 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043000" y="3284640"/>
            <a:ext cx="5058000" cy="30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99"/>
                </a:solidFill>
                <a:latin typeface="Arial"/>
              </a:rPr>
              <a:t>Irregularidades en el arreglo atómico cristali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58560" y="2060280"/>
            <a:ext cx="742788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fec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untu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 línea (dislocacion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islocación de alabeo o de torni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islocación de borde o de ar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 superfic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islocación de alabeo o de tornil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te parcial a través de un cristal perfecto, volviendo a unir el cristal, desviándolo un espaciamiento atómi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73000" y="2846520"/>
            <a:ext cx="7399440" cy="22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99"/>
                </a:solidFill>
                <a:latin typeface="Arial"/>
              </a:rPr>
              <a:t>Dislocación de borde o de ari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ividir parcialmente un cristal perfecto, separando el cristal y llenando el corte con un plano adicional de áto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57080" y="3098880"/>
            <a:ext cx="762804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4653000"/>
            <a:ext cx="82296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uando se aplica una fuerza cortante a la dislocación en (a), los átomos se desplazan (b), hasta que la dislocación se mueve un vector de Burgers en la dirección de desliz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39880" y="1844640"/>
            <a:ext cx="746604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99"/>
                </a:solidFill>
                <a:latin typeface="Arial"/>
              </a:rPr>
              <a:t>Deformación de crist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000160" y="1136520"/>
            <a:ext cx="4116600" cy="53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99"/>
                </a:solidFill>
                <a:latin typeface="Arial"/>
              </a:rPr>
              <a:t>Significado de las disloc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292720" y="1600200"/>
            <a:ext cx="339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in dislocaciones, el material fallará al romperse todas las uniones a través de la superficie A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uando se desliza una dislocación, las uniones se rompen sólo a lo largo de la línea de disloc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375300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99"/>
                </a:solidFill>
                <a:latin typeface="Arial"/>
              </a:rPr>
              <a:t>Ley de Schm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4848480" cy="49244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867280" y="1413000"/>
            <a:ext cx="3025800" cy="41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uerza aplicada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ángulo ente la dirección de deslizamiento y la fuerza aplic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ángulo entre la normal al plano de deslizamiento y la fuerza aplic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uerza cortante: F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= Fcos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fuerzo cortante: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= F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= F/A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26920" y="6381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onocris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75280" y="5661000"/>
            <a:ext cx="39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 que la dislocación se mueva, la fuerza aplicada debe producir un esfuerzo cortante en la dirección de desliz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99"/>
                </a:solidFill>
                <a:latin typeface="Arial"/>
              </a:rPr>
              <a:t>Esfuerzo cortante crí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rc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: esfuerzo cortante mínimo requerido para romper suficientes enlaces a fin de que ocurra el desliz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ructuras cristalinas compactas (CCC y HC) tienen planos compact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rc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bajo (50-100 ps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baja resistencia mecá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ructuras sin planos compactos (CC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s dislocaciones deben moverse en planos no compactos {110}, {112}, {123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rc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alto (10.000 ps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30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lta resistencia mecá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4T20:58:55Z</dcterms:created>
  <dc:creator>Ivan Garcia</dc:creator>
  <dc:description/>
  <dc:language>en-US</dc:language>
  <cp:lastModifiedBy>Ivan Garcia</cp:lastModifiedBy>
  <dcterms:modified xsi:type="dcterms:W3CDTF">2007-05-14T21:04:25Z</dcterms:modified>
  <cp:revision>2</cp:revision>
  <dc:subject/>
  <dc:title>Difracción de Rayos X</dc:title>
</cp:coreProperties>
</file>