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ACF17-5DFE-4E0C-90D0-E35F649D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35F1-3DF1-4F0B-900B-EEB6C08B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F09E3-BBE7-4969-B2A9-E01502BF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FB532-A509-46C1-8FD3-963FFF44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3BBF-24A4-4CE0-8929-9008A446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781B-CBA6-4364-9EED-F92DFD16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A3FD-E9BD-41BE-B13F-447A13AD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F9C3-6619-4B63-BF66-521801DD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0645-8603-4447-A14C-BC3F3FC3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554A-7ED9-43BA-8E9D-7B5C3106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8D0C-EBB9-4DC9-95F8-9B366B07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F37E5-FE0A-4E61-8322-C9CA424B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8819-A11D-47C2-9487-6D3DD6F8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6427-6268-4974-A211-97D7B246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8FA1-E224-468C-8232-84B6A00E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3E18-07BB-42ED-A454-7D6C6065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0B75-B0BC-454D-A30A-117F84EC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1D8A-6183-46EB-81C7-D225335A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F7B34-DEA5-472F-800C-7BA1D18D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68968-6928-4041-B100-60C15353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2352-CA96-474D-8C90-4B4AFF98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C7F5-0A13-46ED-8D97-6291F3A7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2E7DF-4531-4DF0-8428-DEC851BD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2D341-C2F6-498D-9147-552532F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F391-8824-4941-B6FA-BDDF42529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0A03-D5AB-430F-BE3C-20325CB40C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Ferrocarri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47280" y="5229000"/>
            <a:ext cx="70167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MI57G- Manejo de materiales y ventilación de min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rofesor: Raúl Cas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Sistema de descarga de 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177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 vaciado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908000" y="3213000"/>
            <a:ext cx="4982040" cy="1531800"/>
            <a:chOff x="1908000" y="3213000"/>
            <a:chExt cx="4982040" cy="1531800"/>
          </a:xfrm>
        </p:grpSpPr>
        <p:grpSp>
          <p:nvGrpSpPr>
            <p:cNvPr id="155" name=""/>
            <p:cNvGrpSpPr/>
            <p:nvPr/>
          </p:nvGrpSpPr>
          <p:grpSpPr>
            <a:xfrm>
              <a:off x="3519000" y="3239640"/>
              <a:ext cx="3371040" cy="1505160"/>
              <a:chOff x="3519000" y="3239640"/>
              <a:chExt cx="3371040" cy="150516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5695200" y="3324600"/>
                <a:ext cx="1194840" cy="1149840"/>
                <a:chOff x="5695200" y="3324600"/>
                <a:chExt cx="1194840" cy="114984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5695200" y="3324600"/>
                  <a:ext cx="1044720" cy="1149840"/>
                  <a:chOff x="5695200" y="3324600"/>
                  <a:chExt cx="1044720" cy="1149840"/>
                </a:xfrm>
              </p:grpSpPr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5821560" y="4046040"/>
                    <a:ext cx="729000" cy="240120"/>
                    <a:chOff x="5821560" y="4046040"/>
                    <a:chExt cx="729000" cy="24012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 rot="10800000">
                      <a:off x="6522480" y="4126680"/>
                      <a:ext cx="2808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60" name=""/>
                    <p:cNvGrpSpPr/>
                    <p:nvPr/>
                  </p:nvGrpSpPr>
                  <p:grpSpPr>
                    <a:xfrm>
                      <a:off x="6444360" y="4049640"/>
                      <a:ext cx="78120" cy="236520"/>
                      <a:chOff x="6444360" y="4049640"/>
                      <a:chExt cx="78120" cy="236520"/>
                    </a:xfrm>
                  </p:grpSpPr>
                  <p:grpSp>
                    <p:nvGrpSpPr>
                      <p:cNvPr id="161" name=""/>
                      <p:cNvGrpSpPr/>
                      <p:nvPr/>
                    </p:nvGrpSpPr>
                    <p:grpSpPr>
                      <a:xfrm>
                        <a:off x="6444720" y="4049640"/>
                        <a:ext cx="77760" cy="235440"/>
                        <a:chOff x="6444720" y="4049640"/>
                        <a:chExt cx="77760" cy="235440"/>
                      </a:xfrm>
                    </p:grpSpPr>
                    <p:sp>
                      <p:nvSpPr>
                        <p:cNvPr id="162" name=""/>
                        <p:cNvSpPr/>
                        <p:nvPr/>
                      </p:nvSpPr>
                      <p:spPr>
                        <a:xfrm rot="10800000">
                          <a:off x="6470640" y="4078440"/>
                          <a:ext cx="51840" cy="172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852">
                              <a:moveTo>
                                <a:pt x="0" y="0"/>
                              </a:moveTo>
                              <a:lnTo>
                                <a:pt x="0" y="852"/>
                              </a:lnTo>
                              <a:lnTo>
                                <a:pt x="142" y="852"/>
                              </a:lnTo>
                              <a:lnTo>
                                <a:pt x="14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 rot="10800000">
                          <a:off x="6444720" y="4251240"/>
                          <a:ext cx="2592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168">
                              <a:moveTo>
                                <a:pt x="0" y="168"/>
                              </a:moveTo>
                              <a:lnTo>
                                <a:pt x="58" y="0"/>
                              </a:lnTo>
                              <a:lnTo>
                                <a:pt x="142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flipV="1" rot="10800000">
                          <a:off x="6444720" y="4049640"/>
                          <a:ext cx="2592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168">
                              <a:moveTo>
                                <a:pt x="0" y="168"/>
                              </a:moveTo>
                              <a:lnTo>
                                <a:pt x="58" y="0"/>
                              </a:lnTo>
                              <a:lnTo>
                                <a:pt x="142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65" name=""/>
                      <p:cNvSpPr/>
                      <p:nvPr/>
                    </p:nvSpPr>
                    <p:spPr>
                      <a:xfrm rot="10800000">
                        <a:off x="6444360" y="4049640"/>
                        <a:ext cx="36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2310">
                            <a:moveTo>
                              <a:pt x="0" y="2310"/>
                            </a:move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5847840" y="4046040"/>
                      <a:ext cx="78120" cy="236520"/>
                      <a:chOff x="5847840" y="4046040"/>
                      <a:chExt cx="78120" cy="236520"/>
                    </a:xfrm>
                  </p:grpSpPr>
                  <p:grpSp>
                    <p:nvGrpSpPr>
                      <p:cNvPr id="167" name=""/>
                      <p:cNvGrpSpPr/>
                      <p:nvPr/>
                    </p:nvGrpSpPr>
                    <p:grpSpPr>
                      <a:xfrm>
                        <a:off x="5847840" y="4046040"/>
                        <a:ext cx="77760" cy="235440"/>
                        <a:chOff x="5847840" y="4046040"/>
                        <a:chExt cx="77760" cy="235440"/>
                      </a:xfrm>
                    </p:grpSpPr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 flipH="1" rot="10800000">
                          <a:off x="5847840" y="4074840"/>
                          <a:ext cx="51840" cy="172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852">
                              <a:moveTo>
                                <a:pt x="0" y="0"/>
                              </a:moveTo>
                              <a:lnTo>
                                <a:pt x="0" y="852"/>
                              </a:lnTo>
                              <a:lnTo>
                                <a:pt x="142" y="852"/>
                              </a:lnTo>
                              <a:lnTo>
                                <a:pt x="14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 flipH="1" rot="10800000">
                          <a:off x="5899680" y="4247640"/>
                          <a:ext cx="2592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168">
                              <a:moveTo>
                                <a:pt x="0" y="168"/>
                              </a:moveTo>
                              <a:lnTo>
                                <a:pt x="58" y="0"/>
                              </a:lnTo>
                              <a:lnTo>
                                <a:pt x="142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 flipH="1" flipV="1" rot="10800000">
                          <a:off x="5899680" y="4046040"/>
                          <a:ext cx="2592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168">
                              <a:moveTo>
                                <a:pt x="0" y="168"/>
                              </a:moveTo>
                              <a:lnTo>
                                <a:pt x="58" y="0"/>
                              </a:lnTo>
                              <a:lnTo>
                                <a:pt x="142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71" name=""/>
                      <p:cNvSpPr/>
                      <p:nvPr/>
                    </p:nvSpPr>
                    <p:spPr>
                      <a:xfrm flipH="1" rot="10800000">
                        <a:off x="5925240" y="4046040"/>
                        <a:ext cx="36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2310">
                            <a:moveTo>
                              <a:pt x="0" y="2310"/>
                            </a:move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72" name=""/>
                    <p:cNvSpPr/>
                    <p:nvPr/>
                  </p:nvSpPr>
                  <p:spPr>
                    <a:xfrm rot="10800000">
                      <a:off x="5925600" y="4126680"/>
                      <a:ext cx="51912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rot="10800000">
                      <a:off x="5821560" y="4126680"/>
                      <a:ext cx="2592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717880" y="3324600"/>
                    <a:ext cx="1022040" cy="630360"/>
                    <a:chOff x="5717880" y="3324600"/>
                    <a:chExt cx="1022040" cy="630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 flipH="1">
                      <a:off x="6589080" y="3768120"/>
                      <a:ext cx="90000" cy="72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6" name=""/>
                    <p:cNvGrpSpPr/>
                    <p:nvPr/>
                  </p:nvGrpSpPr>
                  <p:grpSpPr>
                    <a:xfrm>
                      <a:off x="5717880" y="3324600"/>
                      <a:ext cx="901440" cy="630360"/>
                      <a:chOff x="5717880" y="3324600"/>
                      <a:chExt cx="901440" cy="630360"/>
                    </a:xfrm>
                  </p:grpSpPr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5783400" y="3324600"/>
                        <a:ext cx="835920" cy="630360"/>
                        <a:chOff x="5783400" y="3324600"/>
                        <a:chExt cx="835920" cy="63036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V="1">
                          <a:off x="5783400" y="3414240"/>
                          <a:ext cx="835560" cy="540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917" y="6445"/>
                              </a:moveTo>
                              <a:arcTo wR="10800" hR="10800" stAng="-9373015" swAng="9373015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917" y="6445"/>
                              </a:moveTo>
                              <a:arcTo wR="10800" hR="10800" stAng="-9373015" swAng="9373015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5807880" y="3324600"/>
                          <a:ext cx="811440" cy="36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8" h="568">
                              <a:moveTo>
                                <a:pt x="1278" y="568"/>
                              </a:moveTo>
                              <a:lnTo>
                                <a:pt x="1278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0" name=""/>
                      <p:cNvSpPr/>
                      <p:nvPr/>
                    </p:nvSpPr>
                    <p:spPr>
                      <a:xfrm>
                        <a:off x="5717880" y="3324600"/>
                        <a:ext cx="540720" cy="54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2" h="852">
                            <a:moveTo>
                              <a:pt x="0" y="0"/>
                            </a:moveTo>
                            <a:lnTo>
                              <a:pt x="0" y="852"/>
                            </a:lnTo>
                            <a:lnTo>
                              <a:pt x="142" y="852"/>
                            </a:lnTo>
                            <a:lnTo>
                              <a:pt x="568" y="284"/>
                            </a:lnTo>
                            <a:lnTo>
                              <a:pt x="852" y="284"/>
                            </a:lnTo>
                            <a:lnTo>
                              <a:pt x="852" y="0"/>
                            </a:lnTo>
                            <a:lnTo>
                              <a:pt x="14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1" name=""/>
                    <p:cNvGrpSpPr/>
                    <p:nvPr/>
                  </p:nvGrpSpPr>
                  <p:grpSpPr>
                    <a:xfrm>
                      <a:off x="6649920" y="3667680"/>
                      <a:ext cx="90000" cy="198000"/>
                      <a:chOff x="6649920" y="3667680"/>
                      <a:chExt cx="90000" cy="198000"/>
                    </a:xfrm>
                  </p:grpSpPr>
                  <p:grpSp>
                    <p:nvGrpSpPr>
                      <p:cNvPr id="182" name=""/>
                      <p:cNvGrpSpPr/>
                      <p:nvPr/>
                    </p:nvGrpSpPr>
                    <p:grpSpPr>
                      <a:xfrm>
                        <a:off x="6649920" y="3667680"/>
                        <a:ext cx="67680" cy="198000"/>
                        <a:chOff x="6649920" y="3667680"/>
                        <a:chExt cx="67680" cy="198000"/>
                      </a:xfrm>
                    </p:grpSpPr>
                    <p:grpSp>
                      <p:nvGrpSpPr>
                        <p:cNvPr id="183" name=""/>
                        <p:cNvGrpSpPr/>
                        <p:nvPr/>
                      </p:nvGrpSpPr>
                      <p:grpSpPr>
                        <a:xfrm>
                          <a:off x="6650280" y="3668400"/>
                          <a:ext cx="67320" cy="196920"/>
                          <a:chOff x="6650280" y="3668400"/>
                          <a:chExt cx="67320" cy="196920"/>
                        </a:xfrm>
                      </p:grpSpPr>
                      <p:sp>
                        <p:nvSpPr>
                          <p:cNvPr id="184" name=""/>
                          <p:cNvSpPr/>
                          <p:nvPr/>
                        </p:nvSpPr>
                        <p:spPr>
                          <a:xfrm flipH="1">
                            <a:off x="6672240" y="3696840"/>
                            <a:ext cx="45000" cy="144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2" h="852">
                                <a:moveTo>
                                  <a:pt x="0" y="0"/>
                                </a:moveTo>
                                <a:lnTo>
                                  <a:pt x="0" y="852"/>
                                </a:lnTo>
                                <a:lnTo>
                                  <a:pt x="142" y="852"/>
                                </a:lnTo>
                                <a:lnTo>
                                  <a:pt x="142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 flipH="1">
                            <a:off x="6650280" y="3668400"/>
                            <a:ext cx="22320" cy="28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2" h="168">
                                <a:moveTo>
                                  <a:pt x="0" y="168"/>
                                </a:moveTo>
                                <a:lnTo>
                                  <a:pt x="58" y="0"/>
                                </a:lnTo>
                                <a:lnTo>
                                  <a:pt x="142" y="0"/>
                                </a:ln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360" bIns="-18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 flipH="1" flipV="1">
                            <a:off x="6650280" y="3836520"/>
                            <a:ext cx="22320" cy="28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2" h="168">
                                <a:moveTo>
                                  <a:pt x="0" y="168"/>
                                </a:moveTo>
                                <a:lnTo>
                                  <a:pt x="58" y="0"/>
                                </a:lnTo>
                                <a:lnTo>
                                  <a:pt x="142" y="0"/>
                                </a:ln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360" bIns="-18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>
                          <a:off x="6649560" y="3667680"/>
                          <a:ext cx="360" cy="19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2310">
                              <a:moveTo>
                                <a:pt x="0" y="231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6717600" y="3738240"/>
                        <a:ext cx="22320" cy="608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695200" y="4226760"/>
                    <a:ext cx="991800" cy="247680"/>
                    <a:chOff x="5695200" y="4226760"/>
                    <a:chExt cx="991800" cy="247680"/>
                  </a:xfrm>
                </p:grpSpPr>
                <p:grpSp>
                  <p:nvGrpSpPr>
                    <p:cNvPr id="190" name=""/>
                    <p:cNvGrpSpPr/>
                    <p:nvPr/>
                  </p:nvGrpSpPr>
                  <p:grpSpPr>
                    <a:xfrm>
                      <a:off x="5785200" y="4226760"/>
                      <a:ext cx="123120" cy="180360"/>
                      <a:chOff x="5785200" y="4226760"/>
                      <a:chExt cx="123120" cy="180360"/>
                    </a:xfrm>
                  </p:grpSpPr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5800680" y="4226760"/>
                        <a:ext cx="97200" cy="84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5825880" y="4300920"/>
                        <a:ext cx="43920" cy="95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5785200" y="4378680"/>
                        <a:ext cx="123120" cy="284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" name=""/>
                    <p:cNvGrpSpPr/>
                    <p:nvPr/>
                  </p:nvGrpSpPr>
                  <p:grpSpPr>
                    <a:xfrm>
                      <a:off x="6464880" y="4226760"/>
                      <a:ext cx="123120" cy="180360"/>
                      <a:chOff x="6464880" y="4226760"/>
                      <a:chExt cx="123120" cy="180360"/>
                    </a:xfrm>
                  </p:grpSpPr>
                  <p:sp>
                    <p:nvSpPr>
                      <p:cNvPr id="195" name=""/>
                      <p:cNvSpPr/>
                      <p:nvPr/>
                    </p:nvSpPr>
                    <p:spPr>
                      <a:xfrm>
                        <a:off x="6480360" y="4226760"/>
                        <a:ext cx="97200" cy="84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6505560" y="4300920"/>
                        <a:ext cx="43920" cy="95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6464880" y="4378680"/>
                        <a:ext cx="123120" cy="284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695200" y="4413600"/>
                      <a:ext cx="99180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4" h="96">
                          <a:moveTo>
                            <a:pt x="4" y="0"/>
                          </a:moveTo>
                          <a:lnTo>
                            <a:pt x="1564" y="0"/>
                          </a:lnTo>
                          <a:lnTo>
                            <a:pt x="1562" y="96"/>
                          </a:lnTo>
                          <a:lnTo>
                            <a:pt x="0" y="96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9" name=""/>
                  <p:cNvSpPr/>
                  <p:nvPr/>
                </p:nvSpPr>
                <p:spPr>
                  <a:xfrm>
                    <a:off x="6138360" y="3368880"/>
                    <a:ext cx="90000" cy="90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6656400" y="3850560"/>
                    <a:ext cx="78480" cy="65160"/>
                    <a:chOff x="6656400" y="3850560"/>
                    <a:chExt cx="78480" cy="65160"/>
                  </a:xfrm>
                </p:grpSpPr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6666480" y="3850560"/>
                      <a:ext cx="61920" cy="30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6682320" y="3877200"/>
                      <a:ext cx="28080" cy="34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6656400" y="3905640"/>
                      <a:ext cx="78480" cy="1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6656760" y="3678840"/>
                  <a:ext cx="233280" cy="383400"/>
                  <a:chOff x="6656760" y="3678840"/>
                  <a:chExt cx="233280" cy="38340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6702480" y="3678840"/>
                    <a:ext cx="78480" cy="65160"/>
                    <a:chOff x="6702480" y="3678840"/>
                    <a:chExt cx="78480" cy="6516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6712560" y="3678840"/>
                      <a:ext cx="61920" cy="30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6728400" y="3705480"/>
                      <a:ext cx="28080" cy="34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6702480" y="3733920"/>
                      <a:ext cx="78480" cy="1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6656760" y="3851640"/>
                    <a:ext cx="78480" cy="65160"/>
                    <a:chOff x="6656760" y="3851640"/>
                    <a:chExt cx="78480" cy="6516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6666840" y="3851640"/>
                      <a:ext cx="61920" cy="30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6682680" y="3878280"/>
                      <a:ext cx="28080" cy="34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6656760" y="3906720"/>
                      <a:ext cx="78480" cy="1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3" name=""/>
                  <p:cNvSpPr/>
                  <p:nvPr/>
                </p:nvSpPr>
                <p:spPr>
                  <a:xfrm flipV="1" rot="10800000">
                    <a:off x="6687360" y="3693600"/>
                    <a:ext cx="1796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59" y="919"/>
                        </a:moveTo>
                        <a:arcTo wR="10800" hR="10800" stAng="-3971791" swAng="397179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59" y="919"/>
                        </a:moveTo>
                        <a:arcTo wR="10800" hR="10800" stAng="-3971791" swAng="3971791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flipV="1" rot="10800000">
                    <a:off x="6710400" y="3701520"/>
                    <a:ext cx="179640" cy="360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59" y="919"/>
                        </a:moveTo>
                        <a:arcTo wR="10800" hR="10800" stAng="-3971791" swAng="397179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59" y="919"/>
                        </a:moveTo>
                        <a:arcTo wR="10800" hR="10800" stAng="-3971791" swAng="3971791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3519000" y="3239640"/>
                <a:ext cx="1607040" cy="1505160"/>
                <a:chOff x="3519000" y="3239640"/>
                <a:chExt cx="1607040" cy="150516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3788640" y="3239640"/>
                  <a:ext cx="1194480" cy="1257480"/>
                  <a:chOff x="3788640" y="3239640"/>
                  <a:chExt cx="1194480" cy="1257480"/>
                </a:xfrm>
              </p:grpSpPr>
              <p:grpSp>
                <p:nvGrpSpPr>
                  <p:cNvPr id="217" name=""/>
                  <p:cNvGrpSpPr/>
                  <p:nvPr/>
                </p:nvGrpSpPr>
                <p:grpSpPr>
                  <a:xfrm>
                    <a:off x="3915000" y="4068720"/>
                    <a:ext cx="729000" cy="240120"/>
                    <a:chOff x="3915000" y="4068720"/>
                    <a:chExt cx="729000" cy="240120"/>
                  </a:xfrm>
                </p:grpSpPr>
                <p:sp>
                  <p:nvSpPr>
                    <p:cNvPr id="218" name=""/>
                    <p:cNvSpPr/>
                    <p:nvPr/>
                  </p:nvSpPr>
                  <p:spPr>
                    <a:xfrm rot="10800000">
                      <a:off x="4615920" y="4149360"/>
                      <a:ext cx="2808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4537800" y="4072320"/>
                      <a:ext cx="78120" cy="236520"/>
                      <a:chOff x="4537800" y="4072320"/>
                      <a:chExt cx="78120" cy="236520"/>
                    </a:xfrm>
                  </p:grpSpPr>
                  <p:grpSp>
                    <p:nvGrpSpPr>
                      <p:cNvPr id="220" name=""/>
                      <p:cNvGrpSpPr/>
                      <p:nvPr/>
                    </p:nvGrpSpPr>
                    <p:grpSpPr>
                      <a:xfrm>
                        <a:off x="4538160" y="4072320"/>
                        <a:ext cx="77760" cy="235440"/>
                        <a:chOff x="4538160" y="4072320"/>
                        <a:chExt cx="77760" cy="235440"/>
                      </a:xfrm>
                    </p:grpSpPr>
                    <p:sp>
                      <p:nvSpPr>
                        <p:cNvPr id="221" name=""/>
                        <p:cNvSpPr/>
                        <p:nvPr/>
                      </p:nvSpPr>
                      <p:spPr>
                        <a:xfrm rot="10800000">
                          <a:off x="4564080" y="4101120"/>
                          <a:ext cx="51840" cy="172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852">
                              <a:moveTo>
                                <a:pt x="0" y="0"/>
                              </a:moveTo>
                              <a:lnTo>
                                <a:pt x="0" y="852"/>
                              </a:lnTo>
                              <a:lnTo>
                                <a:pt x="142" y="852"/>
                              </a:lnTo>
                              <a:lnTo>
                                <a:pt x="14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 rot="10800000">
                          <a:off x="4538160" y="4273920"/>
                          <a:ext cx="2592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168">
                              <a:moveTo>
                                <a:pt x="0" y="168"/>
                              </a:moveTo>
                              <a:lnTo>
                                <a:pt x="58" y="0"/>
                              </a:lnTo>
                              <a:lnTo>
                                <a:pt x="142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 flipV="1" rot="10800000">
                          <a:off x="4538160" y="4072320"/>
                          <a:ext cx="2592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168">
                              <a:moveTo>
                                <a:pt x="0" y="168"/>
                              </a:moveTo>
                              <a:lnTo>
                                <a:pt x="58" y="0"/>
                              </a:lnTo>
                              <a:lnTo>
                                <a:pt x="142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24" name=""/>
                      <p:cNvSpPr/>
                      <p:nvPr/>
                    </p:nvSpPr>
                    <p:spPr>
                      <a:xfrm rot="10800000">
                        <a:off x="4537800" y="4072320"/>
                        <a:ext cx="36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2310">
                            <a:moveTo>
                              <a:pt x="0" y="2310"/>
                            </a:move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5" name=""/>
                    <p:cNvGrpSpPr/>
                    <p:nvPr/>
                  </p:nvGrpSpPr>
                  <p:grpSpPr>
                    <a:xfrm>
                      <a:off x="3941280" y="4068720"/>
                      <a:ext cx="78120" cy="236520"/>
                      <a:chOff x="3941280" y="4068720"/>
                      <a:chExt cx="78120" cy="236520"/>
                    </a:xfrm>
                  </p:grpSpPr>
                  <p:grpSp>
                    <p:nvGrpSpPr>
                      <p:cNvPr id="226" name=""/>
                      <p:cNvGrpSpPr/>
                      <p:nvPr/>
                    </p:nvGrpSpPr>
                    <p:grpSpPr>
                      <a:xfrm>
                        <a:off x="3941280" y="4068720"/>
                        <a:ext cx="77760" cy="235440"/>
                        <a:chOff x="3941280" y="4068720"/>
                        <a:chExt cx="77760" cy="235440"/>
                      </a:xfrm>
                    </p:grpSpPr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H="1" rot="10800000">
                          <a:off x="3941280" y="4097520"/>
                          <a:ext cx="51840" cy="172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852">
                              <a:moveTo>
                                <a:pt x="0" y="0"/>
                              </a:moveTo>
                              <a:lnTo>
                                <a:pt x="0" y="852"/>
                              </a:lnTo>
                              <a:lnTo>
                                <a:pt x="142" y="852"/>
                              </a:lnTo>
                              <a:lnTo>
                                <a:pt x="14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H="1" rot="10800000">
                          <a:off x="3993120" y="4270320"/>
                          <a:ext cx="2592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168">
                              <a:moveTo>
                                <a:pt x="0" y="168"/>
                              </a:moveTo>
                              <a:lnTo>
                                <a:pt x="58" y="0"/>
                              </a:lnTo>
                              <a:lnTo>
                                <a:pt x="142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H="1" flipV="1" rot="10800000">
                          <a:off x="3993120" y="4068720"/>
                          <a:ext cx="2592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168">
                              <a:moveTo>
                                <a:pt x="0" y="168"/>
                              </a:moveTo>
                              <a:lnTo>
                                <a:pt x="58" y="0"/>
                              </a:lnTo>
                              <a:lnTo>
                                <a:pt x="142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30" name=""/>
                      <p:cNvSpPr/>
                      <p:nvPr/>
                    </p:nvSpPr>
                    <p:spPr>
                      <a:xfrm flipH="1" rot="10800000">
                        <a:off x="4018680" y="4068720"/>
                        <a:ext cx="36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2310">
                            <a:moveTo>
                              <a:pt x="0" y="2310"/>
                            </a:move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31" name=""/>
                    <p:cNvSpPr/>
                    <p:nvPr/>
                  </p:nvSpPr>
                  <p:spPr>
                    <a:xfrm rot="10800000">
                      <a:off x="4019040" y="4149360"/>
                      <a:ext cx="51912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10800000">
                      <a:off x="3915000" y="4149360"/>
                      <a:ext cx="2592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3816720" y="3239640"/>
                    <a:ext cx="1042560" cy="901080"/>
                    <a:chOff x="3816720" y="3239640"/>
                    <a:chExt cx="1042560" cy="90108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flipH="1">
                      <a:off x="4707720" y="3627360"/>
                      <a:ext cx="82800" cy="3456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5" name=""/>
                    <p:cNvGrpSpPr/>
                    <p:nvPr/>
                  </p:nvGrpSpPr>
                  <p:grpSpPr>
                    <a:xfrm>
                      <a:off x="3816720" y="3239640"/>
                      <a:ext cx="989640" cy="901080"/>
                      <a:chOff x="3816720" y="3239640"/>
                      <a:chExt cx="989640" cy="901080"/>
                    </a:xfrm>
                  </p:grpSpPr>
                  <p:sp>
                    <p:nvSpPr>
                      <p:cNvPr id="236" name=""/>
                      <p:cNvSpPr/>
                      <p:nvPr/>
                    </p:nvSpPr>
                    <p:spPr>
                      <a:xfrm flipV="1" rot="20259000">
                        <a:off x="3899160" y="3461040"/>
                        <a:ext cx="835560" cy="54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917" y="6445"/>
                            </a:moveTo>
                            <a:arcTo wR="10800" hR="10800" stAng="-9373015" swAng="9373015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917" y="6445"/>
                            </a:moveTo>
                            <a:arcTo wR="10800" hR="10800" stAng="-9373015" swAng="9373015"/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 rot="20259000">
                        <a:off x="3854520" y="3380040"/>
                        <a:ext cx="811440" cy="360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8" h="568">
                            <a:moveTo>
                              <a:pt x="1278" y="568"/>
                            </a:moveTo>
                            <a:lnTo>
                              <a:pt x="127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8" name=""/>
                    <p:cNvGrpSpPr/>
                    <p:nvPr/>
                  </p:nvGrpSpPr>
                  <p:grpSpPr>
                    <a:xfrm>
                      <a:off x="4725720" y="3537000"/>
                      <a:ext cx="133560" cy="191520"/>
                      <a:chOff x="4725720" y="3537000"/>
                      <a:chExt cx="133560" cy="191520"/>
                    </a:xfrm>
                  </p:grpSpPr>
                  <p:grpSp>
                    <p:nvGrpSpPr>
                      <p:cNvPr id="239" name=""/>
                      <p:cNvGrpSpPr/>
                      <p:nvPr/>
                    </p:nvGrpSpPr>
                    <p:grpSpPr>
                      <a:xfrm>
                        <a:off x="4725720" y="3537000"/>
                        <a:ext cx="128520" cy="191520"/>
                        <a:chOff x="4725720" y="3537000"/>
                        <a:chExt cx="128520" cy="191520"/>
                      </a:xfrm>
                    </p:grpSpPr>
                    <p:grpSp>
                      <p:nvGrpSpPr>
                        <p:cNvPr id="240" name=""/>
                        <p:cNvGrpSpPr/>
                        <p:nvPr/>
                      </p:nvGrpSpPr>
                      <p:grpSpPr>
                        <a:xfrm>
                          <a:off x="4726440" y="3537000"/>
                          <a:ext cx="127800" cy="191160"/>
                          <a:chOff x="4726440" y="3537000"/>
                          <a:chExt cx="127800" cy="191160"/>
                        </a:xfrm>
                      </p:grpSpPr>
                      <p:sp>
                        <p:nvSpPr>
                          <p:cNvPr id="241" name=""/>
                          <p:cNvSpPr/>
                          <p:nvPr/>
                        </p:nvSpPr>
                        <p:spPr>
                          <a:xfrm flipH="1" rot="20259000">
                            <a:off x="4782960" y="3549240"/>
                            <a:ext cx="45000" cy="144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2" h="852">
                                <a:moveTo>
                                  <a:pt x="0" y="0"/>
                                </a:moveTo>
                                <a:lnTo>
                                  <a:pt x="0" y="852"/>
                                </a:lnTo>
                                <a:lnTo>
                                  <a:pt x="142" y="852"/>
                                </a:lnTo>
                                <a:lnTo>
                                  <a:pt x="142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2" name=""/>
                          <p:cNvSpPr/>
                          <p:nvPr/>
                        </p:nvSpPr>
                        <p:spPr>
                          <a:xfrm flipH="1" rot="20259000">
                            <a:off x="4730400" y="3539880"/>
                            <a:ext cx="22320" cy="28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2" h="168">
                                <a:moveTo>
                                  <a:pt x="0" y="168"/>
                                </a:moveTo>
                                <a:lnTo>
                                  <a:pt x="58" y="0"/>
                                </a:lnTo>
                                <a:lnTo>
                                  <a:pt x="142" y="0"/>
                                </a:ln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360" bIns="-18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43" name=""/>
                          <p:cNvSpPr/>
                          <p:nvPr/>
                        </p:nvSpPr>
                        <p:spPr>
                          <a:xfrm flipH="1" flipV="1" rot="20259000">
                            <a:off x="4794480" y="3696120"/>
                            <a:ext cx="22320" cy="28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2" h="168">
                                <a:moveTo>
                                  <a:pt x="0" y="168"/>
                                </a:moveTo>
                                <a:lnTo>
                                  <a:pt x="58" y="0"/>
                                </a:lnTo>
                                <a:lnTo>
                                  <a:pt x="142" y="0"/>
                                </a:ln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360" bIns="-18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 rot="20259000">
                          <a:off x="4763160" y="3537720"/>
                          <a:ext cx="360" cy="19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2310">
                              <a:moveTo>
                                <a:pt x="0" y="231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5" name=""/>
                      <p:cNvSpPr/>
                      <p:nvPr/>
                    </p:nvSpPr>
                    <p:spPr>
                      <a:xfrm rot="20259000">
                        <a:off x="4825800" y="3578040"/>
                        <a:ext cx="22320" cy="608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3788640" y="4249440"/>
                    <a:ext cx="991800" cy="247680"/>
                    <a:chOff x="3788640" y="4249440"/>
                    <a:chExt cx="991800" cy="247680"/>
                  </a:xfrm>
                </p:grpSpPr>
                <p:grpSp>
                  <p:nvGrpSpPr>
                    <p:cNvPr id="247" name=""/>
                    <p:cNvGrpSpPr/>
                    <p:nvPr/>
                  </p:nvGrpSpPr>
                  <p:grpSpPr>
                    <a:xfrm>
                      <a:off x="3878640" y="4249440"/>
                      <a:ext cx="123120" cy="180360"/>
                      <a:chOff x="3878640" y="4249440"/>
                      <a:chExt cx="123120" cy="180360"/>
                    </a:xfrm>
                  </p:grpSpPr>
                  <p:sp>
                    <p:nvSpPr>
                      <p:cNvPr id="248" name=""/>
                      <p:cNvSpPr/>
                      <p:nvPr/>
                    </p:nvSpPr>
                    <p:spPr>
                      <a:xfrm>
                        <a:off x="3894120" y="4249440"/>
                        <a:ext cx="97200" cy="84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9" name=""/>
                      <p:cNvSpPr/>
                      <p:nvPr/>
                    </p:nvSpPr>
                    <p:spPr>
                      <a:xfrm>
                        <a:off x="3919320" y="4323600"/>
                        <a:ext cx="43920" cy="95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"/>
                      <p:cNvSpPr/>
                      <p:nvPr/>
                    </p:nvSpPr>
                    <p:spPr>
                      <a:xfrm>
                        <a:off x="3878640" y="4401360"/>
                        <a:ext cx="123120" cy="284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1" name=""/>
                    <p:cNvGrpSpPr/>
                    <p:nvPr/>
                  </p:nvGrpSpPr>
                  <p:grpSpPr>
                    <a:xfrm>
                      <a:off x="4558320" y="4249440"/>
                      <a:ext cx="123120" cy="180360"/>
                      <a:chOff x="4558320" y="4249440"/>
                      <a:chExt cx="123120" cy="180360"/>
                    </a:xfrm>
                  </p:grpSpPr>
                  <p:sp>
                    <p:nvSpPr>
                      <p:cNvPr id="252" name=""/>
                      <p:cNvSpPr/>
                      <p:nvPr/>
                    </p:nvSpPr>
                    <p:spPr>
                      <a:xfrm>
                        <a:off x="4573800" y="4249440"/>
                        <a:ext cx="97200" cy="84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>
                        <a:off x="4599000" y="4323600"/>
                        <a:ext cx="43920" cy="95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>
                        <a:off x="4558320" y="4401360"/>
                        <a:ext cx="123120" cy="284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3788640" y="4436280"/>
                      <a:ext cx="99180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4" h="96">
                          <a:moveTo>
                            <a:pt x="4" y="0"/>
                          </a:moveTo>
                          <a:lnTo>
                            <a:pt x="1564" y="0"/>
                          </a:lnTo>
                          <a:lnTo>
                            <a:pt x="1562" y="96"/>
                          </a:lnTo>
                          <a:lnTo>
                            <a:pt x="0" y="96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6" name=""/>
                  <p:cNvSpPr/>
                  <p:nvPr/>
                </p:nvSpPr>
                <p:spPr>
                  <a:xfrm>
                    <a:off x="3811320" y="3347280"/>
                    <a:ext cx="540720" cy="541080"/>
                  </a:xfrm>
                  <a:custGeom>
                    <a:avLst/>
                    <a:gdLst/>
                    <a:ahLst/>
                    <a:rect l="l" t="t" r="r" b="b"/>
                    <a:pathLst>
                      <a:path w="852" h="852">
                        <a:moveTo>
                          <a:pt x="0" y="0"/>
                        </a:moveTo>
                        <a:lnTo>
                          <a:pt x="0" y="852"/>
                        </a:lnTo>
                        <a:lnTo>
                          <a:pt x="142" y="852"/>
                        </a:lnTo>
                        <a:lnTo>
                          <a:pt x="568" y="284"/>
                        </a:lnTo>
                        <a:lnTo>
                          <a:pt x="852" y="284"/>
                        </a:lnTo>
                        <a:lnTo>
                          <a:pt x="852" y="0"/>
                        </a:lnTo>
                        <a:lnTo>
                          <a:pt x="14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231800" y="3393000"/>
                    <a:ext cx="90000" cy="90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4749840" y="3692880"/>
                    <a:ext cx="233280" cy="383040"/>
                    <a:chOff x="4749840" y="3692880"/>
                    <a:chExt cx="233280" cy="383040"/>
                  </a:xfrm>
                </p:grpSpPr>
                <p:grpSp>
                  <p:nvGrpSpPr>
                    <p:cNvPr id="259" name=""/>
                    <p:cNvGrpSpPr/>
                    <p:nvPr/>
                  </p:nvGrpSpPr>
                  <p:grpSpPr>
                    <a:xfrm>
                      <a:off x="4795560" y="3692880"/>
                      <a:ext cx="78480" cy="65160"/>
                      <a:chOff x="4795560" y="3692880"/>
                      <a:chExt cx="78480" cy="65160"/>
                    </a:xfrm>
                  </p:grpSpPr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4805640" y="3692880"/>
                        <a:ext cx="61920" cy="306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4821480" y="3719520"/>
                        <a:ext cx="28080" cy="345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4795560" y="3747960"/>
                        <a:ext cx="78480" cy="100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3" name=""/>
                    <p:cNvGrpSpPr/>
                    <p:nvPr/>
                  </p:nvGrpSpPr>
                  <p:grpSpPr>
                    <a:xfrm>
                      <a:off x="4749840" y="3865680"/>
                      <a:ext cx="78480" cy="65160"/>
                      <a:chOff x="4749840" y="3865680"/>
                      <a:chExt cx="78480" cy="65160"/>
                    </a:xfrm>
                  </p:grpSpPr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4759920" y="3865680"/>
                        <a:ext cx="61920" cy="306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>
                        <a:off x="4775760" y="3892320"/>
                        <a:ext cx="28080" cy="345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4749840" y="3920760"/>
                        <a:ext cx="78480" cy="1008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7" name=""/>
                    <p:cNvSpPr/>
                    <p:nvPr/>
                  </p:nvSpPr>
                  <p:spPr>
                    <a:xfrm flipV="1" rot="10800000">
                      <a:off x="4780440" y="3708000"/>
                      <a:ext cx="179640" cy="36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5159" y="919"/>
                          </a:moveTo>
                          <a:arcTo wR="10800" hR="10800" stAng="-3971791" swAng="397179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5159" y="919"/>
                          </a:moveTo>
                          <a:arcTo wR="10800" hR="10800" stAng="-3971791" swAng="3971791"/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V="1" rot="10800000">
                      <a:off x="4803480" y="3715920"/>
                      <a:ext cx="179640" cy="36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5159" y="919"/>
                          </a:moveTo>
                          <a:arcTo wR="10800" hR="10800" stAng="-3971791" swAng="397179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5159" y="919"/>
                          </a:moveTo>
                          <a:arcTo wR="10800" hR="10800" stAng="-3971791" swAng="3971791"/>
                        </a:path>
                      </a:pathLst>
                    </a:cu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"/>
                <p:cNvSpPr/>
                <p:nvPr/>
              </p:nvSpPr>
              <p:spPr>
                <a:xfrm flipH="1" rot="20305200">
                  <a:off x="3601080" y="3783240"/>
                  <a:ext cx="1442880" cy="721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353877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3538776"/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1908000" y="3213000"/>
              <a:ext cx="1194480" cy="1261440"/>
              <a:chOff x="1908000" y="3213000"/>
              <a:chExt cx="1194480" cy="1261440"/>
            </a:xfrm>
          </p:grpSpPr>
          <p:sp>
            <p:nvSpPr>
              <p:cNvPr id="271" name=""/>
              <p:cNvSpPr/>
              <p:nvPr/>
            </p:nvSpPr>
            <p:spPr>
              <a:xfrm>
                <a:off x="2036160" y="3213000"/>
                <a:ext cx="754200" cy="109080"/>
              </a:xfrm>
              <a:custGeom>
                <a:avLst/>
                <a:gdLst/>
                <a:ahLst/>
                <a:rect l="l" t="t" r="r" b="b"/>
                <a:pathLst>
                  <a:path w="1188" h="172">
                    <a:moveTo>
                      <a:pt x="0" y="160"/>
                    </a:moveTo>
                    <a:cubicBezTo>
                      <a:pt x="38" y="147"/>
                      <a:pt x="44" y="107"/>
                      <a:pt x="84" y="100"/>
                    </a:cubicBezTo>
                    <a:cubicBezTo>
                      <a:pt x="120" y="94"/>
                      <a:pt x="156" y="92"/>
                      <a:pt x="192" y="88"/>
                    </a:cubicBezTo>
                    <a:cubicBezTo>
                      <a:pt x="302" y="60"/>
                      <a:pt x="416" y="71"/>
                      <a:pt x="528" y="52"/>
                    </a:cubicBezTo>
                    <a:cubicBezTo>
                      <a:pt x="606" y="0"/>
                      <a:pt x="567" y="15"/>
                      <a:pt x="732" y="40"/>
                    </a:cubicBezTo>
                    <a:cubicBezTo>
                      <a:pt x="794" y="49"/>
                      <a:pt x="825" y="78"/>
                      <a:pt x="876" y="100"/>
                    </a:cubicBezTo>
                    <a:cubicBezTo>
                      <a:pt x="961" y="136"/>
                      <a:pt x="1062" y="135"/>
                      <a:pt x="1152" y="148"/>
                    </a:cubicBezTo>
                    <a:cubicBezTo>
                      <a:pt x="1164" y="156"/>
                      <a:pt x="1188" y="172"/>
                      <a:pt x="1188" y="172"/>
                    </a:cubicBez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1908000" y="3324600"/>
                <a:ext cx="1194480" cy="1149840"/>
                <a:chOff x="1908000" y="3324600"/>
                <a:chExt cx="1194480" cy="11498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2869200" y="3677760"/>
                  <a:ext cx="233280" cy="383040"/>
                  <a:chOff x="2869200" y="3677760"/>
                  <a:chExt cx="233280" cy="383040"/>
                </a:xfrm>
              </p:grpSpPr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2914920" y="3677760"/>
                    <a:ext cx="78480" cy="65160"/>
                    <a:chOff x="2914920" y="3677760"/>
                    <a:chExt cx="78480" cy="6516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2925000" y="3677760"/>
                      <a:ext cx="61920" cy="30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2940840" y="3704400"/>
                      <a:ext cx="28080" cy="34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2914920" y="3732840"/>
                      <a:ext cx="78480" cy="1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2869200" y="3850560"/>
                    <a:ext cx="78480" cy="65160"/>
                    <a:chOff x="2869200" y="3850560"/>
                    <a:chExt cx="78480" cy="6516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2879280" y="3850560"/>
                      <a:ext cx="61920" cy="30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2895120" y="3877200"/>
                      <a:ext cx="28080" cy="34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2869200" y="3905640"/>
                      <a:ext cx="78480" cy="1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2" name=""/>
                  <p:cNvSpPr/>
                  <p:nvPr/>
                </p:nvSpPr>
                <p:spPr>
                  <a:xfrm flipV="1" rot="10800000">
                    <a:off x="2899800" y="3692880"/>
                    <a:ext cx="179640" cy="360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59" y="919"/>
                        </a:moveTo>
                        <a:arcTo wR="10800" hR="10800" stAng="-3971791" swAng="397179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59" y="919"/>
                        </a:moveTo>
                        <a:arcTo wR="10800" hR="10800" stAng="-3971791" swAng="3971791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V="1" rot="10800000">
                    <a:off x="2922840" y="3700800"/>
                    <a:ext cx="179640" cy="360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59" y="919"/>
                        </a:moveTo>
                        <a:arcTo wR="10800" hR="10800" stAng="-3971791" swAng="397179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59" y="919"/>
                        </a:moveTo>
                        <a:arcTo wR="10800" hR="10800" stAng="-3971791" swAng="3971791"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1908000" y="3324600"/>
                  <a:ext cx="1044720" cy="1149840"/>
                  <a:chOff x="1908000" y="3324600"/>
                  <a:chExt cx="1044720" cy="1149840"/>
                </a:xfrm>
              </p:grpSpPr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2034360" y="4046040"/>
                    <a:ext cx="729000" cy="240120"/>
                    <a:chOff x="2034360" y="4046040"/>
                    <a:chExt cx="729000" cy="24012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 rot="10800000">
                      <a:off x="2735280" y="4126680"/>
                      <a:ext cx="2808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87" name=""/>
                    <p:cNvGrpSpPr/>
                    <p:nvPr/>
                  </p:nvGrpSpPr>
                  <p:grpSpPr>
                    <a:xfrm>
                      <a:off x="2657160" y="4049640"/>
                      <a:ext cx="78120" cy="236520"/>
                      <a:chOff x="2657160" y="4049640"/>
                      <a:chExt cx="78120" cy="236520"/>
                    </a:xfrm>
                  </p:grpSpPr>
                  <p:grpSp>
                    <p:nvGrpSpPr>
                      <p:cNvPr id="288" name=""/>
                      <p:cNvGrpSpPr/>
                      <p:nvPr/>
                    </p:nvGrpSpPr>
                    <p:grpSpPr>
                      <a:xfrm>
                        <a:off x="2657520" y="4049640"/>
                        <a:ext cx="77760" cy="235440"/>
                        <a:chOff x="2657520" y="4049640"/>
                        <a:chExt cx="77760" cy="235440"/>
                      </a:xfrm>
                    </p:grpSpPr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 rot="10800000">
                          <a:off x="2683440" y="4078440"/>
                          <a:ext cx="51840" cy="172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852">
                              <a:moveTo>
                                <a:pt x="0" y="0"/>
                              </a:moveTo>
                              <a:lnTo>
                                <a:pt x="0" y="852"/>
                              </a:lnTo>
                              <a:lnTo>
                                <a:pt x="142" y="852"/>
                              </a:lnTo>
                              <a:lnTo>
                                <a:pt x="14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 rot="10800000">
                          <a:off x="2657520" y="4251240"/>
                          <a:ext cx="2592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168">
                              <a:moveTo>
                                <a:pt x="0" y="168"/>
                              </a:moveTo>
                              <a:lnTo>
                                <a:pt x="58" y="0"/>
                              </a:lnTo>
                              <a:lnTo>
                                <a:pt x="142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 flipV="1" rot="10800000">
                          <a:off x="2657520" y="4049640"/>
                          <a:ext cx="2592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168">
                              <a:moveTo>
                                <a:pt x="0" y="168"/>
                              </a:moveTo>
                              <a:lnTo>
                                <a:pt x="58" y="0"/>
                              </a:lnTo>
                              <a:lnTo>
                                <a:pt x="142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2" name=""/>
                      <p:cNvSpPr/>
                      <p:nvPr/>
                    </p:nvSpPr>
                    <p:spPr>
                      <a:xfrm rot="10800000">
                        <a:off x="2657160" y="4049640"/>
                        <a:ext cx="36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2310">
                            <a:moveTo>
                              <a:pt x="0" y="2310"/>
                            </a:move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2060640" y="4046040"/>
                      <a:ext cx="78120" cy="236520"/>
                      <a:chOff x="2060640" y="4046040"/>
                      <a:chExt cx="78120" cy="236520"/>
                    </a:xfrm>
                  </p:grpSpPr>
                  <p:grpSp>
                    <p:nvGrpSpPr>
                      <p:cNvPr id="294" name=""/>
                      <p:cNvGrpSpPr/>
                      <p:nvPr/>
                    </p:nvGrpSpPr>
                    <p:grpSpPr>
                      <a:xfrm>
                        <a:off x="2060640" y="4046040"/>
                        <a:ext cx="77760" cy="235440"/>
                        <a:chOff x="2060640" y="4046040"/>
                        <a:chExt cx="77760" cy="235440"/>
                      </a:xfrm>
                    </p:grpSpPr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 flipH="1" rot="10800000">
                          <a:off x="2060640" y="4074840"/>
                          <a:ext cx="51840" cy="172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852">
                              <a:moveTo>
                                <a:pt x="0" y="0"/>
                              </a:moveTo>
                              <a:lnTo>
                                <a:pt x="0" y="852"/>
                              </a:lnTo>
                              <a:lnTo>
                                <a:pt x="142" y="852"/>
                              </a:lnTo>
                              <a:lnTo>
                                <a:pt x="14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 flipH="1" rot="10800000">
                          <a:off x="2112480" y="4247640"/>
                          <a:ext cx="2592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168">
                              <a:moveTo>
                                <a:pt x="0" y="168"/>
                              </a:moveTo>
                              <a:lnTo>
                                <a:pt x="58" y="0"/>
                              </a:lnTo>
                              <a:lnTo>
                                <a:pt x="142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 flipH="1" flipV="1" rot="10800000">
                          <a:off x="2112480" y="4046040"/>
                          <a:ext cx="25920" cy="33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" h="168">
                              <a:moveTo>
                                <a:pt x="0" y="168"/>
                              </a:moveTo>
                              <a:lnTo>
                                <a:pt x="58" y="0"/>
                              </a:lnTo>
                              <a:lnTo>
                                <a:pt x="142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960" bIns="-12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8" name=""/>
                      <p:cNvSpPr/>
                      <p:nvPr/>
                    </p:nvSpPr>
                    <p:spPr>
                      <a:xfrm flipH="1" rot="10800000">
                        <a:off x="2138040" y="4046040"/>
                        <a:ext cx="360" cy="23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2310">
                            <a:moveTo>
                              <a:pt x="0" y="2310"/>
                            </a:move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9" name=""/>
                    <p:cNvSpPr/>
                    <p:nvPr/>
                  </p:nvSpPr>
                  <p:spPr>
                    <a:xfrm rot="10800000">
                      <a:off x="2138400" y="4126680"/>
                      <a:ext cx="51912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0800000">
                      <a:off x="2034360" y="4126680"/>
                      <a:ext cx="25920" cy="723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1930680" y="3324600"/>
                    <a:ext cx="1022040" cy="630360"/>
                    <a:chOff x="1930680" y="3324600"/>
                    <a:chExt cx="1022040" cy="63036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>
                      <a:off x="2801880" y="3768120"/>
                      <a:ext cx="90000" cy="72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"/>
                    <p:cNvGrpSpPr/>
                    <p:nvPr/>
                  </p:nvGrpSpPr>
                  <p:grpSpPr>
                    <a:xfrm>
                      <a:off x="1930680" y="3324600"/>
                      <a:ext cx="901440" cy="630360"/>
                      <a:chOff x="1930680" y="3324600"/>
                      <a:chExt cx="901440" cy="630360"/>
                    </a:xfrm>
                  </p:grpSpPr>
                  <p:grpSp>
                    <p:nvGrpSpPr>
                      <p:cNvPr id="304" name=""/>
                      <p:cNvGrpSpPr/>
                      <p:nvPr/>
                    </p:nvGrpSpPr>
                    <p:grpSpPr>
                      <a:xfrm>
                        <a:off x="1996200" y="3324600"/>
                        <a:ext cx="835920" cy="630360"/>
                        <a:chOff x="1996200" y="3324600"/>
                        <a:chExt cx="835920" cy="630360"/>
                      </a:xfrm>
                    </p:grpSpPr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 flipV="1">
                          <a:off x="1996200" y="3414240"/>
                          <a:ext cx="835560" cy="540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917" y="6445"/>
                              </a:moveTo>
                              <a:arcTo wR="10800" hR="10800" stAng="-9373015" swAng="9373015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917" y="6445"/>
                              </a:moveTo>
                              <a:arcTo wR="10800" hR="10800" stAng="-9373015" swAng="9373015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2020680" y="3324600"/>
                          <a:ext cx="811440" cy="36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78" h="568">
                              <a:moveTo>
                                <a:pt x="1278" y="568"/>
                              </a:moveTo>
                              <a:lnTo>
                                <a:pt x="1278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1930680" y="3324600"/>
                        <a:ext cx="540720" cy="54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2" h="852">
                            <a:moveTo>
                              <a:pt x="0" y="0"/>
                            </a:moveTo>
                            <a:lnTo>
                              <a:pt x="0" y="852"/>
                            </a:lnTo>
                            <a:lnTo>
                              <a:pt x="142" y="852"/>
                            </a:lnTo>
                            <a:lnTo>
                              <a:pt x="568" y="284"/>
                            </a:lnTo>
                            <a:lnTo>
                              <a:pt x="852" y="284"/>
                            </a:lnTo>
                            <a:lnTo>
                              <a:pt x="852" y="0"/>
                            </a:lnTo>
                            <a:lnTo>
                              <a:pt x="14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2862720" y="3667680"/>
                      <a:ext cx="90000" cy="198000"/>
                      <a:chOff x="2862720" y="3667680"/>
                      <a:chExt cx="90000" cy="198000"/>
                    </a:xfrm>
                  </p:grpSpPr>
                  <p:grpSp>
                    <p:nvGrpSpPr>
                      <p:cNvPr id="309" name=""/>
                      <p:cNvGrpSpPr/>
                      <p:nvPr/>
                    </p:nvGrpSpPr>
                    <p:grpSpPr>
                      <a:xfrm>
                        <a:off x="2862720" y="3667680"/>
                        <a:ext cx="67680" cy="198000"/>
                        <a:chOff x="2862720" y="3667680"/>
                        <a:chExt cx="67680" cy="198000"/>
                      </a:xfrm>
                    </p:grpSpPr>
                    <p:grpSp>
                      <p:nvGrpSpPr>
                        <p:cNvPr id="310" name=""/>
                        <p:cNvGrpSpPr/>
                        <p:nvPr/>
                      </p:nvGrpSpPr>
                      <p:grpSpPr>
                        <a:xfrm>
                          <a:off x="2863080" y="3668400"/>
                          <a:ext cx="67320" cy="196920"/>
                          <a:chOff x="2863080" y="3668400"/>
                          <a:chExt cx="67320" cy="196920"/>
                        </a:xfrm>
                      </p:grpSpPr>
                      <p:sp>
                        <p:nvSpPr>
                          <p:cNvPr id="311" name=""/>
                          <p:cNvSpPr/>
                          <p:nvPr/>
                        </p:nvSpPr>
                        <p:spPr>
                          <a:xfrm flipH="1">
                            <a:off x="2885040" y="3696840"/>
                            <a:ext cx="45000" cy="144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2" h="852">
                                <a:moveTo>
                                  <a:pt x="0" y="0"/>
                                </a:moveTo>
                                <a:lnTo>
                                  <a:pt x="0" y="852"/>
                                </a:lnTo>
                                <a:lnTo>
                                  <a:pt x="142" y="852"/>
                                </a:lnTo>
                                <a:lnTo>
                                  <a:pt x="142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2" name=""/>
                          <p:cNvSpPr/>
                          <p:nvPr/>
                        </p:nvSpPr>
                        <p:spPr>
                          <a:xfrm flipH="1">
                            <a:off x="2863080" y="3668400"/>
                            <a:ext cx="22320" cy="28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2" h="168">
                                <a:moveTo>
                                  <a:pt x="0" y="168"/>
                                </a:moveTo>
                                <a:lnTo>
                                  <a:pt x="58" y="0"/>
                                </a:lnTo>
                                <a:lnTo>
                                  <a:pt x="142" y="0"/>
                                </a:ln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360" bIns="-18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3" name=""/>
                          <p:cNvSpPr/>
                          <p:nvPr/>
                        </p:nvSpPr>
                        <p:spPr>
                          <a:xfrm flipH="1" flipV="1">
                            <a:off x="2863080" y="3836520"/>
                            <a:ext cx="22320" cy="28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2" h="168">
                                <a:moveTo>
                                  <a:pt x="0" y="168"/>
                                </a:moveTo>
                                <a:lnTo>
                                  <a:pt x="58" y="0"/>
                                </a:lnTo>
                                <a:lnTo>
                                  <a:pt x="142" y="0"/>
                                </a:lnTo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8360" bIns="-18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14" name=""/>
                        <p:cNvSpPr/>
                        <p:nvPr/>
                      </p:nvSpPr>
                      <p:spPr>
                        <a:xfrm flipH="1">
                          <a:off x="2862360" y="3667680"/>
                          <a:ext cx="360" cy="19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2310">
                              <a:moveTo>
                                <a:pt x="0" y="2310"/>
                              </a:move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2930400" y="3738240"/>
                        <a:ext cx="22320" cy="608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1908000" y="4226760"/>
                    <a:ext cx="991800" cy="247680"/>
                    <a:chOff x="1908000" y="4226760"/>
                    <a:chExt cx="991800" cy="247680"/>
                  </a:xfrm>
                </p:grpSpPr>
                <p:grpSp>
                  <p:nvGrpSpPr>
                    <p:cNvPr id="317" name=""/>
                    <p:cNvGrpSpPr/>
                    <p:nvPr/>
                  </p:nvGrpSpPr>
                  <p:grpSpPr>
                    <a:xfrm>
                      <a:off x="1998000" y="4226760"/>
                      <a:ext cx="123120" cy="180360"/>
                      <a:chOff x="1998000" y="4226760"/>
                      <a:chExt cx="123120" cy="180360"/>
                    </a:xfrm>
                  </p:grpSpPr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2013480" y="4226760"/>
                        <a:ext cx="97200" cy="84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2038680" y="4300920"/>
                        <a:ext cx="43920" cy="95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1998000" y="4378680"/>
                        <a:ext cx="123120" cy="284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1" name=""/>
                    <p:cNvGrpSpPr/>
                    <p:nvPr/>
                  </p:nvGrpSpPr>
                  <p:grpSpPr>
                    <a:xfrm>
                      <a:off x="2677680" y="4226760"/>
                      <a:ext cx="123120" cy="180360"/>
                      <a:chOff x="2677680" y="4226760"/>
                      <a:chExt cx="123120" cy="180360"/>
                    </a:xfrm>
                  </p:grpSpPr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2693160" y="4226760"/>
                        <a:ext cx="97200" cy="84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2718360" y="4300920"/>
                        <a:ext cx="43920" cy="95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2677680" y="4378680"/>
                        <a:ext cx="123120" cy="284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1908000" y="4413600"/>
                      <a:ext cx="99180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4" h="96">
                          <a:moveTo>
                            <a:pt x="4" y="0"/>
                          </a:moveTo>
                          <a:lnTo>
                            <a:pt x="1564" y="0"/>
                          </a:lnTo>
                          <a:lnTo>
                            <a:pt x="1562" y="96"/>
                          </a:lnTo>
                          <a:lnTo>
                            <a:pt x="0" y="96"/>
                          </a:lnTo>
                          <a:lnTo>
                            <a:pt x="4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6" name=""/>
                  <p:cNvSpPr/>
                  <p:nvPr/>
                </p:nvSpPr>
                <p:spPr>
                  <a:xfrm>
                    <a:off x="2351160" y="3368880"/>
                    <a:ext cx="90000" cy="90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2869200" y="3850560"/>
                    <a:ext cx="78480" cy="65160"/>
                    <a:chOff x="2869200" y="3850560"/>
                    <a:chExt cx="78480" cy="6516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2879280" y="3850560"/>
                      <a:ext cx="61920" cy="306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2895120" y="3877200"/>
                      <a:ext cx="28080" cy="345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2869200" y="3905640"/>
                      <a:ext cx="78480" cy="10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31" name=""/>
          <p:cNvSpPr/>
          <p:nvPr/>
        </p:nvSpPr>
        <p:spPr>
          <a:xfrm>
            <a:off x="684360" y="5445000"/>
            <a:ext cx="66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carro pivotea mediante una rueda o bien accionado por medio de cilindros hidrau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ha ocupado en niveles intermedios de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19640" y="4653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 Gran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Sistema de descarga de 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4360" y="1773360"/>
            <a:ext cx="39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 vaciado en el 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619280" y="2924280"/>
            <a:ext cx="5473440" cy="1248840"/>
            <a:chOff x="1619280" y="2924280"/>
            <a:chExt cx="5473440" cy="1248840"/>
          </a:xfrm>
        </p:grpSpPr>
        <p:grpSp>
          <p:nvGrpSpPr>
            <p:cNvPr id="336" name=""/>
            <p:cNvGrpSpPr/>
            <p:nvPr/>
          </p:nvGrpSpPr>
          <p:grpSpPr>
            <a:xfrm>
              <a:off x="1619280" y="2924280"/>
              <a:ext cx="1036440" cy="1248840"/>
              <a:chOff x="1619280" y="2924280"/>
              <a:chExt cx="1036440" cy="124884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1619280" y="3851640"/>
                <a:ext cx="1036440" cy="321480"/>
                <a:chOff x="1619280" y="3851640"/>
                <a:chExt cx="1036440" cy="32148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1713240" y="3851640"/>
                  <a:ext cx="128520" cy="234360"/>
                  <a:chOff x="1713240" y="3851640"/>
                  <a:chExt cx="128520" cy="23436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1729440" y="3851640"/>
                    <a:ext cx="101520" cy="110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755720" y="3948120"/>
                    <a:ext cx="46080" cy="124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713240" y="4048920"/>
                    <a:ext cx="128520" cy="37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2423520" y="3851640"/>
                  <a:ext cx="128520" cy="234360"/>
                  <a:chOff x="2423520" y="3851640"/>
                  <a:chExt cx="128520" cy="23436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2439720" y="3851640"/>
                    <a:ext cx="101520" cy="110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466000" y="3948120"/>
                    <a:ext cx="46080" cy="124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423520" y="4048920"/>
                    <a:ext cx="128520" cy="370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1619280" y="4094280"/>
                  <a:ext cx="1036440" cy="78840"/>
                </a:xfrm>
                <a:custGeom>
                  <a:avLst/>
                  <a:gdLst/>
                  <a:ahLst/>
                  <a:rect l="l" t="t" r="r" b="b"/>
                  <a:pathLst>
                    <a:path w="1564" h="96">
                      <a:moveTo>
                        <a:pt x="4" y="0"/>
                      </a:moveTo>
                      <a:lnTo>
                        <a:pt x="1564" y="0"/>
                      </a:lnTo>
                      <a:lnTo>
                        <a:pt x="1562" y="96"/>
                      </a:lnTo>
                      <a:lnTo>
                        <a:pt x="0" y="9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1681560" y="2924280"/>
                <a:ext cx="933480" cy="585720"/>
                <a:chOff x="1681560" y="2924280"/>
                <a:chExt cx="933480" cy="5857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681560" y="2924280"/>
                  <a:ext cx="472680" cy="585720"/>
                </a:xfrm>
                <a:custGeom>
                  <a:avLst/>
                  <a:gdLst/>
                  <a:ahLst/>
                  <a:rect l="l" t="t" r="r" b="b"/>
                  <a:pathLst>
                    <a:path w="568" h="852">
                      <a:moveTo>
                        <a:pt x="568" y="0"/>
                      </a:moveTo>
                      <a:lnTo>
                        <a:pt x="0" y="0"/>
                      </a:lnTo>
                      <a:lnTo>
                        <a:pt x="0" y="710"/>
                      </a:lnTo>
                      <a:lnTo>
                        <a:pt x="142" y="852"/>
                      </a:lnTo>
                      <a:lnTo>
                        <a:pt x="568" y="85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2142000" y="2924280"/>
                  <a:ext cx="472680" cy="585720"/>
                </a:xfrm>
                <a:custGeom>
                  <a:avLst/>
                  <a:gdLst/>
                  <a:ahLst/>
                  <a:rect l="l" t="t" r="r" b="b"/>
                  <a:pathLst>
                    <a:path w="568" h="852">
                      <a:moveTo>
                        <a:pt x="568" y="0"/>
                      </a:moveTo>
                      <a:lnTo>
                        <a:pt x="0" y="0"/>
                      </a:lnTo>
                      <a:lnTo>
                        <a:pt x="0" y="710"/>
                      </a:lnTo>
                      <a:lnTo>
                        <a:pt x="142" y="852"/>
                      </a:lnTo>
                      <a:lnTo>
                        <a:pt x="568" y="85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1759680" y="3587400"/>
                <a:ext cx="761760" cy="311760"/>
                <a:chOff x="1759680" y="3587400"/>
                <a:chExt cx="761760" cy="311760"/>
              </a:xfrm>
            </p:grpSpPr>
            <p:sp>
              <p:nvSpPr>
                <p:cNvPr id="351" name=""/>
                <p:cNvSpPr/>
                <p:nvPr/>
              </p:nvSpPr>
              <p:spPr>
                <a:xfrm rot="10800000">
                  <a:off x="2492280" y="3691440"/>
                  <a:ext cx="29160" cy="9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" name=""/>
                <p:cNvGrpSpPr/>
                <p:nvPr/>
              </p:nvGrpSpPr>
              <p:grpSpPr>
                <a:xfrm>
                  <a:off x="2410560" y="3592440"/>
                  <a:ext cx="81720" cy="306720"/>
                  <a:chOff x="2410560" y="3592440"/>
                  <a:chExt cx="81720" cy="306720"/>
                </a:xfrm>
              </p:grpSpPr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2410920" y="3592440"/>
                    <a:ext cx="81360" cy="305280"/>
                    <a:chOff x="2410920" y="3592440"/>
                    <a:chExt cx="81360" cy="30528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rot="10800000">
                      <a:off x="2437920" y="3629880"/>
                      <a:ext cx="543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852">
                          <a:moveTo>
                            <a:pt x="0" y="0"/>
                          </a:moveTo>
                          <a:lnTo>
                            <a:pt x="0" y="852"/>
                          </a:lnTo>
                          <a:lnTo>
                            <a:pt x="142" y="852"/>
                          </a:lnTo>
                          <a:lnTo>
                            <a:pt x="14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rot="10800000">
                      <a:off x="2410920" y="3853800"/>
                      <a:ext cx="270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168">
                          <a:moveTo>
                            <a:pt x="0" y="168"/>
                          </a:moveTo>
                          <a:lnTo>
                            <a:pt x="58" y="0"/>
                          </a:lnTo>
                          <a:lnTo>
                            <a:pt x="142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V="1" rot="10800000">
                      <a:off x="2410920" y="3592440"/>
                      <a:ext cx="270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168">
                          <a:moveTo>
                            <a:pt x="0" y="168"/>
                          </a:moveTo>
                          <a:lnTo>
                            <a:pt x="58" y="0"/>
                          </a:lnTo>
                          <a:lnTo>
                            <a:pt x="142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7" name=""/>
                  <p:cNvSpPr/>
                  <p:nvPr/>
                </p:nvSpPr>
                <p:spPr>
                  <a:xfrm rot="10800000">
                    <a:off x="2410560" y="3592440"/>
                    <a:ext cx="36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310">
                        <a:moveTo>
                          <a:pt x="0" y="2310"/>
                        </a:move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1787040" y="3587400"/>
                  <a:ext cx="81720" cy="306720"/>
                  <a:chOff x="1787040" y="3587400"/>
                  <a:chExt cx="81720" cy="306720"/>
                </a:xfrm>
              </p:grpSpPr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1787040" y="3587400"/>
                    <a:ext cx="81360" cy="305280"/>
                    <a:chOff x="1787040" y="3587400"/>
                    <a:chExt cx="81360" cy="3052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flipH="1" rot="10800000">
                      <a:off x="1786680" y="3624840"/>
                      <a:ext cx="5436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852">
                          <a:moveTo>
                            <a:pt x="0" y="0"/>
                          </a:moveTo>
                          <a:lnTo>
                            <a:pt x="0" y="852"/>
                          </a:lnTo>
                          <a:lnTo>
                            <a:pt x="142" y="852"/>
                          </a:lnTo>
                          <a:lnTo>
                            <a:pt x="14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H="1" rot="10800000">
                      <a:off x="1841040" y="3848760"/>
                      <a:ext cx="270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168">
                          <a:moveTo>
                            <a:pt x="0" y="168"/>
                          </a:moveTo>
                          <a:lnTo>
                            <a:pt x="58" y="0"/>
                          </a:lnTo>
                          <a:lnTo>
                            <a:pt x="142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flipV="1" rot="10800000">
                      <a:off x="1841040" y="3587400"/>
                      <a:ext cx="270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168">
                          <a:moveTo>
                            <a:pt x="0" y="168"/>
                          </a:moveTo>
                          <a:lnTo>
                            <a:pt x="58" y="0"/>
                          </a:lnTo>
                          <a:lnTo>
                            <a:pt x="142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3" name=""/>
                  <p:cNvSpPr/>
                  <p:nvPr/>
                </p:nvSpPr>
                <p:spPr>
                  <a:xfrm flipH="1" rot="10800000">
                    <a:off x="1868040" y="3587400"/>
                    <a:ext cx="36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310">
                        <a:moveTo>
                          <a:pt x="0" y="2310"/>
                        </a:move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" name=""/>
                <p:cNvSpPr/>
                <p:nvPr/>
              </p:nvSpPr>
              <p:spPr>
                <a:xfrm rot="10800000">
                  <a:off x="1868400" y="3691440"/>
                  <a:ext cx="542520" cy="9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rot="10800000">
                  <a:off x="1759680" y="3691440"/>
                  <a:ext cx="27000" cy="9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2143440" y="3587400"/>
                <a:ext cx="0" cy="468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15200" y="3001680"/>
                <a:ext cx="470880" cy="46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745640" y="3227400"/>
                <a:ext cx="376200" cy="46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892520" y="3500280"/>
                <a:ext cx="83520" cy="240840"/>
              </a:xfrm>
              <a:custGeom>
                <a:avLst/>
                <a:gdLst/>
                <a:ahLst/>
                <a:rect l="l" t="t" r="r" b="b"/>
                <a:pathLst>
                  <a:path w="126" h="292">
                    <a:moveTo>
                      <a:pt x="0" y="0"/>
                    </a:moveTo>
                    <a:lnTo>
                      <a:pt x="126" y="29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2167920" y="3235680"/>
                <a:ext cx="376200" cy="46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333399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2315880" y="3511800"/>
                <a:ext cx="83520" cy="240840"/>
              </a:xfrm>
              <a:custGeom>
                <a:avLst/>
                <a:gdLst/>
                <a:ahLst/>
                <a:rect l="l" t="t" r="r" b="b"/>
                <a:pathLst>
                  <a:path w="126" h="292">
                    <a:moveTo>
                      <a:pt x="0" y="0"/>
                    </a:moveTo>
                    <a:lnTo>
                      <a:pt x="126" y="292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3417840" y="2924280"/>
              <a:ext cx="3674880" cy="1238760"/>
              <a:chOff x="3417840" y="2924280"/>
              <a:chExt cx="3674880" cy="123876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3417840" y="2924280"/>
                <a:ext cx="1036440" cy="1238760"/>
                <a:chOff x="3417840" y="2924280"/>
                <a:chExt cx="1036440" cy="12387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131720" y="3499920"/>
                  <a:ext cx="7920" cy="415440"/>
                </a:xfrm>
                <a:custGeom>
                  <a:avLst/>
                  <a:gdLst/>
                  <a:ahLst/>
                  <a:rect l="l" t="t" r="r" b="b"/>
                  <a:pathLst>
                    <a:path w="12" h="504">
                      <a:moveTo>
                        <a:pt x="12" y="0"/>
                      </a:moveTo>
                      <a:lnTo>
                        <a:pt x="0" y="50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5" name=""/>
                <p:cNvGrpSpPr/>
                <p:nvPr/>
              </p:nvGrpSpPr>
              <p:grpSpPr>
                <a:xfrm>
                  <a:off x="3417840" y="3841560"/>
                  <a:ext cx="1036440" cy="321480"/>
                  <a:chOff x="3417840" y="3841560"/>
                  <a:chExt cx="1036440" cy="321480"/>
                </a:xfrm>
              </p:grpSpPr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3511800" y="3841560"/>
                    <a:ext cx="128520" cy="234360"/>
                    <a:chOff x="3511800" y="3841560"/>
                    <a:chExt cx="128520" cy="23436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3528000" y="3841560"/>
                      <a:ext cx="101520" cy="110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3554280" y="3938040"/>
                      <a:ext cx="46080" cy="124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3511800" y="4038840"/>
                      <a:ext cx="128520" cy="37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4222080" y="3841560"/>
                    <a:ext cx="128520" cy="234360"/>
                    <a:chOff x="4222080" y="3841560"/>
                    <a:chExt cx="128520" cy="23436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238280" y="3841560"/>
                      <a:ext cx="101520" cy="1101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264560" y="3938040"/>
                      <a:ext cx="46080" cy="124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4222080" y="4038840"/>
                      <a:ext cx="128520" cy="37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4" name=""/>
                  <p:cNvSpPr/>
                  <p:nvPr/>
                </p:nvSpPr>
                <p:spPr>
                  <a:xfrm>
                    <a:off x="3417840" y="4084200"/>
                    <a:ext cx="103644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4" h="96">
                        <a:moveTo>
                          <a:pt x="4" y="0"/>
                        </a:moveTo>
                        <a:lnTo>
                          <a:pt x="1564" y="0"/>
                        </a:lnTo>
                        <a:lnTo>
                          <a:pt x="1562" y="96"/>
                        </a:lnTo>
                        <a:lnTo>
                          <a:pt x="0" y="9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574440" y="2924280"/>
                  <a:ext cx="721440" cy="585720"/>
                  <a:chOff x="3574440" y="2924280"/>
                  <a:chExt cx="721440" cy="5857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3574440" y="2924280"/>
                    <a:ext cx="365400" cy="585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852">
                        <a:moveTo>
                          <a:pt x="568" y="0"/>
                        </a:moveTo>
                        <a:lnTo>
                          <a:pt x="0" y="0"/>
                        </a:lnTo>
                        <a:lnTo>
                          <a:pt x="0" y="710"/>
                        </a:lnTo>
                        <a:lnTo>
                          <a:pt x="142" y="852"/>
                        </a:lnTo>
                        <a:lnTo>
                          <a:pt x="568" y="85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>
                    <a:off x="3930120" y="2924280"/>
                    <a:ext cx="365400" cy="585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852">
                        <a:moveTo>
                          <a:pt x="568" y="0"/>
                        </a:moveTo>
                        <a:lnTo>
                          <a:pt x="0" y="0"/>
                        </a:lnTo>
                        <a:lnTo>
                          <a:pt x="0" y="710"/>
                        </a:lnTo>
                        <a:lnTo>
                          <a:pt x="142" y="852"/>
                        </a:lnTo>
                        <a:lnTo>
                          <a:pt x="568" y="85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8" name=""/>
                <p:cNvSpPr/>
                <p:nvPr/>
              </p:nvSpPr>
              <p:spPr>
                <a:xfrm>
                  <a:off x="3716280" y="3501720"/>
                  <a:ext cx="7560" cy="415800"/>
                </a:xfrm>
                <a:custGeom>
                  <a:avLst/>
                  <a:gdLst/>
                  <a:ahLst/>
                  <a:rect l="l" t="t" r="r" b="b"/>
                  <a:pathLst>
                    <a:path w="12" h="504">
                      <a:moveTo>
                        <a:pt x="12" y="0"/>
                      </a:moveTo>
                      <a:lnTo>
                        <a:pt x="0" y="50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728160" y="3897720"/>
                  <a:ext cx="398160" cy="720"/>
                </a:xfrm>
                <a:custGeom>
                  <a:avLst/>
                  <a:gdLst/>
                  <a:ahLst/>
                  <a:rect l="l" t="t" r="r" b="b"/>
                  <a:pathLst>
                    <a:path w="600" h="1">
                      <a:moveTo>
                        <a:pt x="600" y="0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3550320" y="3587400"/>
                  <a:ext cx="761760" cy="311760"/>
                  <a:chOff x="3550320" y="3587400"/>
                  <a:chExt cx="761760" cy="3117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rot="10800000">
                    <a:off x="4282920" y="3691440"/>
                    <a:ext cx="29160" cy="9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201200" y="3592440"/>
                    <a:ext cx="81720" cy="306720"/>
                    <a:chOff x="4201200" y="3592440"/>
                    <a:chExt cx="81720" cy="306720"/>
                  </a:xfrm>
                </p:grpSpPr>
                <p:grpSp>
                  <p:nvGrpSpPr>
                    <p:cNvPr id="393" name=""/>
                    <p:cNvGrpSpPr/>
                    <p:nvPr/>
                  </p:nvGrpSpPr>
                  <p:grpSpPr>
                    <a:xfrm>
                      <a:off x="4201560" y="3592440"/>
                      <a:ext cx="81360" cy="305280"/>
                      <a:chOff x="4201560" y="3592440"/>
                      <a:chExt cx="81360" cy="305280"/>
                    </a:xfrm>
                  </p:grpSpPr>
                  <p:sp>
                    <p:nvSpPr>
                      <p:cNvPr id="394" name=""/>
                      <p:cNvSpPr/>
                      <p:nvPr/>
                    </p:nvSpPr>
                    <p:spPr>
                      <a:xfrm rot="10800000">
                        <a:off x="4228560" y="3629880"/>
                        <a:ext cx="54360" cy="22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2" h="852">
                            <a:moveTo>
                              <a:pt x="0" y="0"/>
                            </a:moveTo>
                            <a:lnTo>
                              <a:pt x="0" y="852"/>
                            </a:lnTo>
                            <a:lnTo>
                              <a:pt x="142" y="852"/>
                            </a:lnTo>
                            <a:lnTo>
                              <a:pt x="14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 rot="10800000">
                        <a:off x="4201560" y="3853800"/>
                        <a:ext cx="2700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2" h="168">
                            <a:moveTo>
                              <a:pt x="0" y="168"/>
                            </a:moveTo>
                            <a:lnTo>
                              <a:pt x="58" y="0"/>
                            </a:lnTo>
                            <a:lnTo>
                              <a:pt x="142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6" name=""/>
                      <p:cNvSpPr/>
                      <p:nvPr/>
                    </p:nvSpPr>
                    <p:spPr>
                      <a:xfrm flipV="1" rot="10800000">
                        <a:off x="4201560" y="3592440"/>
                        <a:ext cx="2700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2" h="168">
                            <a:moveTo>
                              <a:pt x="0" y="168"/>
                            </a:moveTo>
                            <a:lnTo>
                              <a:pt x="58" y="0"/>
                            </a:lnTo>
                            <a:lnTo>
                              <a:pt x="142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97" name=""/>
                    <p:cNvSpPr/>
                    <p:nvPr/>
                  </p:nvSpPr>
                  <p:spPr>
                    <a:xfrm rot="10800000">
                      <a:off x="4201200" y="3592440"/>
                      <a:ext cx="36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310">
                          <a:moveTo>
                            <a:pt x="0" y="23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3577680" y="3587400"/>
                    <a:ext cx="81720" cy="306720"/>
                    <a:chOff x="3577680" y="3587400"/>
                    <a:chExt cx="81720" cy="306720"/>
                  </a:xfrm>
                </p:grpSpPr>
                <p:grpSp>
                  <p:nvGrpSpPr>
                    <p:cNvPr id="399" name=""/>
                    <p:cNvGrpSpPr/>
                    <p:nvPr/>
                  </p:nvGrpSpPr>
                  <p:grpSpPr>
                    <a:xfrm>
                      <a:off x="3577680" y="3587400"/>
                      <a:ext cx="81360" cy="305280"/>
                      <a:chOff x="3577680" y="3587400"/>
                      <a:chExt cx="81360" cy="305280"/>
                    </a:xfrm>
                  </p:grpSpPr>
                  <p:sp>
                    <p:nvSpPr>
                      <p:cNvPr id="400" name=""/>
                      <p:cNvSpPr/>
                      <p:nvPr/>
                    </p:nvSpPr>
                    <p:spPr>
                      <a:xfrm flipH="1" rot="10800000">
                        <a:off x="3577320" y="3624840"/>
                        <a:ext cx="54360" cy="22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2" h="852">
                            <a:moveTo>
                              <a:pt x="0" y="0"/>
                            </a:moveTo>
                            <a:lnTo>
                              <a:pt x="0" y="852"/>
                            </a:lnTo>
                            <a:lnTo>
                              <a:pt x="142" y="852"/>
                            </a:lnTo>
                            <a:lnTo>
                              <a:pt x="14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 flipH="1" rot="10800000">
                        <a:off x="3631680" y="3848760"/>
                        <a:ext cx="2700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2" h="168">
                            <a:moveTo>
                              <a:pt x="0" y="168"/>
                            </a:moveTo>
                            <a:lnTo>
                              <a:pt x="58" y="0"/>
                            </a:lnTo>
                            <a:lnTo>
                              <a:pt x="142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 flipH="1" flipV="1" rot="10800000">
                        <a:off x="3631680" y="3587400"/>
                        <a:ext cx="2700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2" h="168">
                            <a:moveTo>
                              <a:pt x="0" y="168"/>
                            </a:moveTo>
                            <a:lnTo>
                              <a:pt x="58" y="0"/>
                            </a:lnTo>
                            <a:lnTo>
                              <a:pt x="142" y="0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03" name=""/>
                    <p:cNvSpPr/>
                    <p:nvPr/>
                  </p:nvSpPr>
                  <p:spPr>
                    <a:xfrm flipH="1" rot="10800000">
                      <a:off x="3658680" y="3587400"/>
                      <a:ext cx="36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310">
                          <a:moveTo>
                            <a:pt x="0" y="23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4" name=""/>
                  <p:cNvSpPr/>
                  <p:nvPr/>
                </p:nvSpPr>
                <p:spPr>
                  <a:xfrm rot="10800000">
                    <a:off x="3659040" y="3691440"/>
                    <a:ext cx="542520" cy="9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10800000">
                    <a:off x="3550320" y="3691440"/>
                    <a:ext cx="27000" cy="9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6" name=""/>
                <p:cNvSpPr/>
                <p:nvPr/>
              </p:nvSpPr>
              <p:spPr>
                <a:xfrm>
                  <a:off x="3705840" y="3001680"/>
                  <a:ext cx="470880" cy="46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927240" y="3841560"/>
                  <a:ext cx="0" cy="2343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4736880" y="2924280"/>
                <a:ext cx="2355840" cy="1113840"/>
                <a:chOff x="4736880" y="2924280"/>
                <a:chExt cx="2355840" cy="1113840"/>
              </a:xfrm>
            </p:grpSpPr>
            <p:sp>
              <p:nvSpPr>
                <p:cNvPr id="409" name=""/>
                <p:cNvSpPr/>
                <p:nvPr/>
              </p:nvSpPr>
              <p:spPr>
                <a:xfrm flipH="1">
                  <a:off x="5163840" y="3661560"/>
                  <a:ext cx="1565280" cy="34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6621480" y="3764160"/>
                  <a:ext cx="398880" cy="234000"/>
                  <a:chOff x="6621480" y="3764160"/>
                  <a:chExt cx="398880" cy="234000"/>
                </a:xfrm>
              </p:grpSpPr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6621480" y="3764160"/>
                    <a:ext cx="188280" cy="234000"/>
                    <a:chOff x="6621480" y="3764160"/>
                    <a:chExt cx="188280" cy="23400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6621480" y="3764160"/>
                      <a:ext cx="188280" cy="2340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6667920" y="3813480"/>
                      <a:ext cx="939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6832080" y="3764160"/>
                    <a:ext cx="188280" cy="234000"/>
                    <a:chOff x="6832080" y="3764160"/>
                    <a:chExt cx="188280" cy="23400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6832080" y="3764160"/>
                      <a:ext cx="188280" cy="2340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6878520" y="3813480"/>
                      <a:ext cx="939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4830840" y="3764160"/>
                  <a:ext cx="398880" cy="234000"/>
                  <a:chOff x="4830840" y="3764160"/>
                  <a:chExt cx="398880" cy="234000"/>
                </a:xfrm>
              </p:grpSpPr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4830840" y="3764160"/>
                    <a:ext cx="188280" cy="234000"/>
                    <a:chOff x="4830840" y="3764160"/>
                    <a:chExt cx="188280" cy="23400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4830840" y="3764160"/>
                      <a:ext cx="188280" cy="2340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4877280" y="3813480"/>
                      <a:ext cx="939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041440" y="3764160"/>
                    <a:ext cx="188280" cy="234000"/>
                    <a:chOff x="5041440" y="3764160"/>
                    <a:chExt cx="188280" cy="23400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5041440" y="3764160"/>
                      <a:ext cx="188280" cy="2340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5087880" y="3813480"/>
                      <a:ext cx="9396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4807080" y="2924280"/>
                  <a:ext cx="2198880" cy="703080"/>
                  <a:chOff x="4807080" y="2924280"/>
                  <a:chExt cx="2198880" cy="70308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4807080" y="2924280"/>
                    <a:ext cx="1113120" cy="7030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852">
                        <a:moveTo>
                          <a:pt x="568" y="0"/>
                        </a:moveTo>
                        <a:lnTo>
                          <a:pt x="0" y="0"/>
                        </a:lnTo>
                        <a:lnTo>
                          <a:pt x="0" y="710"/>
                        </a:lnTo>
                        <a:lnTo>
                          <a:pt x="142" y="852"/>
                        </a:lnTo>
                        <a:lnTo>
                          <a:pt x="568" y="85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>
                    <a:off x="5892840" y="2924280"/>
                    <a:ext cx="1113120" cy="7030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852">
                        <a:moveTo>
                          <a:pt x="568" y="0"/>
                        </a:moveTo>
                        <a:lnTo>
                          <a:pt x="0" y="0"/>
                        </a:lnTo>
                        <a:lnTo>
                          <a:pt x="0" y="710"/>
                        </a:lnTo>
                        <a:lnTo>
                          <a:pt x="142" y="852"/>
                        </a:lnTo>
                        <a:lnTo>
                          <a:pt x="568" y="85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7" name=""/>
                <p:cNvSpPr/>
                <p:nvPr/>
              </p:nvSpPr>
              <p:spPr>
                <a:xfrm>
                  <a:off x="5679000" y="3041280"/>
                  <a:ext cx="471240" cy="46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4736880" y="3978720"/>
                  <a:ext cx="2355840" cy="59400"/>
                  <a:chOff x="4736880" y="3978720"/>
                  <a:chExt cx="2355840" cy="59400"/>
                </a:xfrm>
              </p:grpSpPr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4830840" y="3978720"/>
                    <a:ext cx="2065320" cy="59400"/>
                    <a:chOff x="4830840" y="3978720"/>
                    <a:chExt cx="2065320" cy="59400"/>
                  </a:xfrm>
                </p:grpSpPr>
                <p:grpSp>
                  <p:nvGrpSpPr>
                    <p:cNvPr id="430" name=""/>
                    <p:cNvGrpSpPr/>
                    <p:nvPr/>
                  </p:nvGrpSpPr>
                  <p:grpSpPr>
                    <a:xfrm>
                      <a:off x="4830840" y="3978720"/>
                      <a:ext cx="566640" cy="59400"/>
                      <a:chOff x="4830840" y="3978720"/>
                      <a:chExt cx="566640" cy="59400"/>
                    </a:xfrm>
                  </p:grpSpPr>
                  <p:sp>
                    <p:nvSpPr>
                      <p:cNvPr id="431" name=""/>
                      <p:cNvSpPr/>
                      <p:nvPr/>
                    </p:nvSpPr>
                    <p:spPr>
                      <a:xfrm>
                        <a:off x="4830840" y="3978720"/>
                        <a:ext cx="19116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8" h="72">
                            <a:moveTo>
                              <a:pt x="2" y="0"/>
                            </a:moveTo>
                            <a:lnTo>
                              <a:pt x="286" y="0"/>
                            </a:lnTo>
                            <a:lnTo>
                              <a:pt x="288" y="72"/>
                            </a:lnTo>
                            <a:lnTo>
                              <a:pt x="0" y="72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"/>
                      <p:cNvSpPr/>
                      <p:nvPr/>
                    </p:nvSpPr>
                    <p:spPr>
                      <a:xfrm>
                        <a:off x="5206320" y="3978720"/>
                        <a:ext cx="19116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8" h="72">
                            <a:moveTo>
                              <a:pt x="2" y="0"/>
                            </a:moveTo>
                            <a:lnTo>
                              <a:pt x="286" y="0"/>
                            </a:lnTo>
                            <a:lnTo>
                              <a:pt x="288" y="72"/>
                            </a:lnTo>
                            <a:lnTo>
                              <a:pt x="0" y="72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3" name=""/>
                    <p:cNvGrpSpPr/>
                    <p:nvPr/>
                  </p:nvGrpSpPr>
                  <p:grpSpPr>
                    <a:xfrm>
                      <a:off x="5563440" y="3978720"/>
                      <a:ext cx="566640" cy="59400"/>
                      <a:chOff x="5563440" y="3978720"/>
                      <a:chExt cx="566640" cy="59400"/>
                    </a:xfrm>
                  </p:grpSpPr>
                  <p:sp>
                    <p:nvSpPr>
                      <p:cNvPr id="434" name=""/>
                      <p:cNvSpPr/>
                      <p:nvPr/>
                    </p:nvSpPr>
                    <p:spPr>
                      <a:xfrm>
                        <a:off x="5563440" y="3978720"/>
                        <a:ext cx="19116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8" h="72">
                            <a:moveTo>
                              <a:pt x="2" y="0"/>
                            </a:moveTo>
                            <a:lnTo>
                              <a:pt x="286" y="0"/>
                            </a:lnTo>
                            <a:lnTo>
                              <a:pt x="288" y="72"/>
                            </a:lnTo>
                            <a:lnTo>
                              <a:pt x="0" y="72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5" name=""/>
                      <p:cNvSpPr/>
                      <p:nvPr/>
                    </p:nvSpPr>
                    <p:spPr>
                      <a:xfrm>
                        <a:off x="5938920" y="3978720"/>
                        <a:ext cx="19116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8" h="72">
                            <a:moveTo>
                              <a:pt x="2" y="0"/>
                            </a:moveTo>
                            <a:lnTo>
                              <a:pt x="286" y="0"/>
                            </a:lnTo>
                            <a:lnTo>
                              <a:pt x="288" y="72"/>
                            </a:lnTo>
                            <a:lnTo>
                              <a:pt x="0" y="72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6" name=""/>
                    <p:cNvGrpSpPr/>
                    <p:nvPr/>
                  </p:nvGrpSpPr>
                  <p:grpSpPr>
                    <a:xfrm>
                      <a:off x="6329520" y="3978720"/>
                      <a:ext cx="566640" cy="59400"/>
                      <a:chOff x="6329520" y="3978720"/>
                      <a:chExt cx="566640" cy="59400"/>
                    </a:xfrm>
                  </p:grpSpPr>
                  <p:sp>
                    <p:nvSpPr>
                      <p:cNvPr id="437" name=""/>
                      <p:cNvSpPr/>
                      <p:nvPr/>
                    </p:nvSpPr>
                    <p:spPr>
                      <a:xfrm>
                        <a:off x="6329520" y="3978720"/>
                        <a:ext cx="19116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8" h="72">
                            <a:moveTo>
                              <a:pt x="2" y="0"/>
                            </a:moveTo>
                            <a:lnTo>
                              <a:pt x="286" y="0"/>
                            </a:lnTo>
                            <a:lnTo>
                              <a:pt x="288" y="72"/>
                            </a:lnTo>
                            <a:lnTo>
                              <a:pt x="0" y="72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6705000" y="3978720"/>
                        <a:ext cx="191160" cy="59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8" h="72">
                            <a:moveTo>
                              <a:pt x="2" y="0"/>
                            </a:moveTo>
                            <a:lnTo>
                              <a:pt x="286" y="0"/>
                            </a:lnTo>
                            <a:lnTo>
                              <a:pt x="288" y="72"/>
                            </a:lnTo>
                            <a:lnTo>
                              <a:pt x="0" y="72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39" name=""/>
                  <p:cNvSpPr/>
                  <p:nvPr/>
                </p:nvSpPr>
                <p:spPr>
                  <a:xfrm>
                    <a:off x="4736880" y="3978720"/>
                    <a:ext cx="23558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0" name=""/>
                <p:cNvSpPr/>
                <p:nvPr/>
              </p:nvSpPr>
              <p:spPr>
                <a:xfrm flipH="1" flipV="1">
                  <a:off x="5678280" y="3509280"/>
                  <a:ext cx="376200" cy="468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221" y="4038"/>
                      </a:moveTo>
                      <a:arcTo wR="10800" hR="10800" stAng="-2326011" swAng="45459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221" y="4038"/>
                      </a:moveTo>
                      <a:arcTo wR="10800" hR="10800" stAng="-2326011" swAng="4545944"/>
                    </a:path>
                  </a:pathLst>
                </a:custGeom>
                <a:noFill/>
                <a:ln w="9360">
                  <a:solidFill>
                    <a:srgbClr val="3333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>
                  <a:off x="4748040" y="3793680"/>
                  <a:ext cx="1002960" cy="233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2" name=""/>
          <p:cNvSpPr/>
          <p:nvPr/>
        </p:nvSpPr>
        <p:spPr>
          <a:xfrm>
            <a:off x="826920" y="458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carga central (2 puer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458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carga una pu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57340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apropiado cuando existen restricciones de espa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V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1187280" y="2133720"/>
            <a:ext cx="2736720" cy="2106000"/>
            <a:chOff x="1187280" y="2133720"/>
            <a:chExt cx="2736720" cy="2106000"/>
          </a:xfrm>
        </p:grpSpPr>
        <p:grpSp>
          <p:nvGrpSpPr>
            <p:cNvPr id="447" name=""/>
            <p:cNvGrpSpPr/>
            <p:nvPr/>
          </p:nvGrpSpPr>
          <p:grpSpPr>
            <a:xfrm>
              <a:off x="1877760" y="2293200"/>
              <a:ext cx="2046240" cy="1272600"/>
              <a:chOff x="1877760" y="2293200"/>
              <a:chExt cx="2046240" cy="1272600"/>
            </a:xfrm>
          </p:grpSpPr>
          <p:sp>
            <p:nvSpPr>
              <p:cNvPr id="448" name=""/>
              <p:cNvSpPr/>
              <p:nvPr/>
            </p:nvSpPr>
            <p:spPr>
              <a:xfrm>
                <a:off x="2068920" y="3008880"/>
                <a:ext cx="1357200" cy="131760"/>
              </a:xfrm>
              <a:custGeom>
                <a:avLst/>
                <a:gdLst/>
                <a:ahLst/>
                <a:rect l="l" t="t" r="r" b="b"/>
                <a:pathLst>
                  <a:path w="1620" h="144">
                    <a:moveTo>
                      <a:pt x="0" y="0"/>
                    </a:moveTo>
                    <a:lnTo>
                      <a:pt x="36" y="84"/>
                    </a:lnTo>
                    <a:lnTo>
                      <a:pt x="1548" y="144"/>
                    </a:lnTo>
                    <a:lnTo>
                      <a:pt x="16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77760" y="2293200"/>
                <a:ext cx="2046240" cy="968760"/>
              </a:xfrm>
              <a:custGeom>
                <a:avLst/>
                <a:gdLst/>
                <a:ahLst/>
                <a:rect l="l" t="t" r="r" b="b"/>
                <a:pathLst>
                  <a:path w="2442" h="1056">
                    <a:moveTo>
                      <a:pt x="0" y="0"/>
                    </a:moveTo>
                    <a:lnTo>
                      <a:pt x="0" y="660"/>
                    </a:lnTo>
                    <a:lnTo>
                      <a:pt x="192" y="660"/>
                    </a:lnTo>
                    <a:lnTo>
                      <a:pt x="252" y="864"/>
                    </a:lnTo>
                    <a:lnTo>
                      <a:pt x="1776" y="948"/>
                    </a:lnTo>
                    <a:lnTo>
                      <a:pt x="1872" y="744"/>
                    </a:lnTo>
                    <a:lnTo>
                      <a:pt x="2100" y="756"/>
                    </a:lnTo>
                    <a:lnTo>
                      <a:pt x="2160" y="936"/>
                    </a:lnTo>
                    <a:lnTo>
                      <a:pt x="2220" y="1056"/>
                    </a:lnTo>
                    <a:lnTo>
                      <a:pt x="2364" y="1056"/>
                    </a:lnTo>
                    <a:lnTo>
                      <a:pt x="2436" y="984"/>
                    </a:lnTo>
                    <a:lnTo>
                      <a:pt x="2442" y="820"/>
                    </a:lnTo>
                    <a:lnTo>
                      <a:pt x="2436" y="2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336760" y="2872800"/>
                <a:ext cx="832680" cy="133560"/>
                <a:chOff x="2336760" y="2872800"/>
                <a:chExt cx="832680" cy="13356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2412000" y="2872800"/>
                  <a:ext cx="103680" cy="97200"/>
                  <a:chOff x="2412000" y="2872800"/>
                  <a:chExt cx="103680" cy="9720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2425320" y="2872800"/>
                    <a:ext cx="81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446200" y="2912760"/>
                    <a:ext cx="37080" cy="51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412000" y="2954880"/>
                    <a:ext cx="103680" cy="15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2982600" y="2872800"/>
                  <a:ext cx="103680" cy="97200"/>
                  <a:chOff x="2982600" y="2872800"/>
                  <a:chExt cx="103680" cy="9720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2995920" y="2872800"/>
                    <a:ext cx="8172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3016800" y="2912760"/>
                    <a:ext cx="37080" cy="5148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982600" y="2954880"/>
                    <a:ext cx="103680" cy="15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"/>
                <p:cNvSpPr/>
                <p:nvPr/>
              </p:nvSpPr>
              <p:spPr>
                <a:xfrm>
                  <a:off x="2336760" y="2973600"/>
                  <a:ext cx="832680" cy="32760"/>
                </a:xfrm>
                <a:custGeom>
                  <a:avLst/>
                  <a:gdLst/>
                  <a:ahLst/>
                  <a:rect l="l" t="t" r="r" b="b"/>
                  <a:pathLst>
                    <a:path w="1564" h="96">
                      <a:moveTo>
                        <a:pt x="4" y="0"/>
                      </a:moveTo>
                      <a:lnTo>
                        <a:pt x="1564" y="0"/>
                      </a:lnTo>
                      <a:lnTo>
                        <a:pt x="1562" y="96"/>
                      </a:lnTo>
                      <a:lnTo>
                        <a:pt x="0" y="9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 flipV="1">
                <a:off x="2496240" y="3175560"/>
                <a:ext cx="594720" cy="260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376360" y="2437200"/>
                <a:ext cx="475560" cy="520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328920" y="2523600"/>
                <a:ext cx="0" cy="520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3566160" y="3175200"/>
                <a:ext cx="23796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1187280" y="3142800"/>
              <a:ext cx="142776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iso con 1% de pendiente para drenaj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53360" y="3458160"/>
              <a:ext cx="107064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renaj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82000" y="2133720"/>
              <a:ext cx="107100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33200" y="2155680"/>
              <a:ext cx="1070640" cy="7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firm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4572000" y="1628640"/>
            <a:ext cx="3745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onentes de las ví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se: excavación en el piso en la que se asentara el afirmado y vias. Se conecta con el dren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firmado: capa de grava ang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as: incluye rieles y durm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Afir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042920" y="2133720"/>
            <a:ext cx="5616720" cy="1439280"/>
            <a:chOff x="1042920" y="2133720"/>
            <a:chExt cx="5616720" cy="1439280"/>
          </a:xfrm>
        </p:grpSpPr>
        <p:grpSp>
          <p:nvGrpSpPr>
            <p:cNvPr id="471" name=""/>
            <p:cNvGrpSpPr/>
            <p:nvPr/>
          </p:nvGrpSpPr>
          <p:grpSpPr>
            <a:xfrm>
              <a:off x="4811400" y="2647800"/>
              <a:ext cx="1848240" cy="849600"/>
              <a:chOff x="4811400" y="2647800"/>
              <a:chExt cx="1848240" cy="84960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811400" y="2673720"/>
                <a:ext cx="1848240" cy="823680"/>
                <a:chOff x="4811400" y="2673720"/>
                <a:chExt cx="1848240" cy="82368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4811400" y="2874240"/>
                  <a:ext cx="466560" cy="361800"/>
                  <a:chOff x="4811400" y="2874240"/>
                  <a:chExt cx="466560" cy="36180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 rot="202200">
                    <a:off x="4844880" y="3050280"/>
                    <a:ext cx="177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 rot="13147800">
                    <a:off x="5001480" y="2993040"/>
                    <a:ext cx="177840" cy="1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flipH="1" rot="7091400">
                    <a:off x="5029920" y="2958120"/>
                    <a:ext cx="2635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 rot="11002200">
                    <a:off x="4926600" y="3038760"/>
                    <a:ext cx="177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flipH="1" rot="20315400">
                    <a:off x="4907160" y="2943720"/>
                    <a:ext cx="177840" cy="1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flipH="1" rot="11002200">
                    <a:off x="4977000" y="2902320"/>
                    <a:ext cx="177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rot="202200">
                    <a:off x="4816080" y="2921040"/>
                    <a:ext cx="177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4819320" y="3121920"/>
                  <a:ext cx="466560" cy="361800"/>
                  <a:chOff x="4819320" y="3121920"/>
                  <a:chExt cx="466560" cy="36180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202200">
                    <a:off x="4852800" y="3297960"/>
                    <a:ext cx="177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3147800">
                    <a:off x="5009400" y="3240720"/>
                    <a:ext cx="177840" cy="1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7091400">
                    <a:off x="5037840" y="3205800"/>
                    <a:ext cx="2635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flipH="1" rot="11002200">
                    <a:off x="4934520" y="3286440"/>
                    <a:ext cx="177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20315400">
                    <a:off x="4915080" y="3191400"/>
                    <a:ext cx="177840" cy="1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11002200">
                    <a:off x="4984920" y="3150000"/>
                    <a:ext cx="177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rot="202200">
                    <a:off x="4824000" y="3168720"/>
                    <a:ext cx="177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5109480" y="3114720"/>
                  <a:ext cx="466560" cy="361800"/>
                  <a:chOff x="5109480" y="3114720"/>
                  <a:chExt cx="466560" cy="3618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 flipH="1" rot="202200">
                    <a:off x="5142960" y="3290760"/>
                    <a:ext cx="177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 rot="13147800">
                    <a:off x="5299560" y="3233520"/>
                    <a:ext cx="177840" cy="1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7091400">
                    <a:off x="5328000" y="3198600"/>
                    <a:ext cx="2635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flipH="1" rot="11002200">
                    <a:off x="5224680" y="3279240"/>
                    <a:ext cx="177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 flipH="1" rot="20315400">
                    <a:off x="5205240" y="3184200"/>
                    <a:ext cx="177840" cy="18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11002200">
                    <a:off x="5275080" y="3142800"/>
                    <a:ext cx="177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H="1" rot="202200">
                    <a:off x="5114160" y="3161520"/>
                    <a:ext cx="17784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312">
                        <a:moveTo>
                          <a:pt x="22" y="60"/>
                        </a:moveTo>
                        <a:cubicBezTo>
                          <a:pt x="62" y="92"/>
                          <a:pt x="101" y="126"/>
                          <a:pt x="142" y="156"/>
                        </a:cubicBezTo>
                        <a:cubicBezTo>
                          <a:pt x="215" y="209"/>
                          <a:pt x="306" y="248"/>
                          <a:pt x="370" y="312"/>
                        </a:cubicBezTo>
                        <a:cubicBezTo>
                          <a:pt x="386" y="300"/>
                          <a:pt x="405" y="291"/>
                          <a:pt x="418" y="276"/>
                        </a:cubicBezTo>
                        <a:cubicBezTo>
                          <a:pt x="455" y="232"/>
                          <a:pt x="436" y="151"/>
                          <a:pt x="454" y="96"/>
                        </a:cubicBezTo>
                        <a:cubicBezTo>
                          <a:pt x="430" y="88"/>
                          <a:pt x="403" y="86"/>
                          <a:pt x="382" y="72"/>
                        </a:cubicBezTo>
                        <a:cubicBezTo>
                          <a:pt x="370" y="64"/>
                          <a:pt x="360" y="52"/>
                          <a:pt x="346" y="48"/>
                        </a:cubicBezTo>
                        <a:cubicBezTo>
                          <a:pt x="319" y="40"/>
                          <a:pt x="290" y="40"/>
                          <a:pt x="262" y="36"/>
                        </a:cubicBezTo>
                        <a:cubicBezTo>
                          <a:pt x="222" y="23"/>
                          <a:pt x="182" y="13"/>
                          <a:pt x="142" y="0"/>
                        </a:cubicBezTo>
                        <a:cubicBezTo>
                          <a:pt x="122" y="4"/>
                          <a:pt x="102" y="8"/>
                          <a:pt x="82" y="12"/>
                        </a:cubicBezTo>
                        <a:cubicBezTo>
                          <a:pt x="58" y="16"/>
                          <a:pt x="29" y="9"/>
                          <a:pt x="10" y="24"/>
                        </a:cubicBezTo>
                        <a:cubicBezTo>
                          <a:pt x="0" y="32"/>
                          <a:pt x="18" y="48"/>
                          <a:pt x="22" y="60"/>
                        </a:cubicBezTo>
                        <a:close/>
                      </a:path>
                    </a:pathLst>
                  </a:cu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5343840" y="3115440"/>
                  <a:ext cx="1184760" cy="381960"/>
                  <a:chOff x="5343840" y="3115440"/>
                  <a:chExt cx="1184760" cy="381960"/>
                </a:xfrm>
              </p:grpSpPr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746680" y="3124440"/>
                    <a:ext cx="466560" cy="361800"/>
                    <a:chOff x="5746680" y="3124440"/>
                    <a:chExt cx="466560" cy="36180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flipH="1" rot="202200">
                      <a:off x="5780160" y="3300480"/>
                      <a:ext cx="17784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H="1" rot="13147800">
                      <a:off x="5936760" y="3243240"/>
                      <a:ext cx="17784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H="1" rot="7091400">
                      <a:off x="5965200" y="3208320"/>
                      <a:ext cx="26352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flipH="1" rot="11002200">
                      <a:off x="5861880" y="3289320"/>
                      <a:ext cx="17784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flipH="1" rot="20315400">
                      <a:off x="5842440" y="3194280"/>
                      <a:ext cx="17784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H="1" rot="11002200">
                      <a:off x="5912280" y="3152520"/>
                      <a:ext cx="17784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H="1" rot="202200">
                      <a:off x="5751360" y="3171240"/>
                      <a:ext cx="17784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6062040" y="3115440"/>
                    <a:ext cx="466560" cy="361800"/>
                    <a:chOff x="6062040" y="3115440"/>
                    <a:chExt cx="466560" cy="361800"/>
                  </a:xfrm>
                </p:grpSpPr>
                <p:sp>
                  <p:nvSpPr>
                    <p:cNvPr id="507" name=""/>
                    <p:cNvSpPr/>
                    <p:nvPr/>
                  </p:nvSpPr>
                  <p:spPr>
                    <a:xfrm flipH="1" rot="202200">
                      <a:off x="6095520" y="3291480"/>
                      <a:ext cx="17784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H="1" rot="13147800">
                      <a:off x="6252120" y="3234240"/>
                      <a:ext cx="17784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rot="7091400">
                      <a:off x="6280560" y="3199320"/>
                      <a:ext cx="26352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H="1" rot="11002200">
                      <a:off x="6177240" y="3279960"/>
                      <a:ext cx="17784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H="1" rot="20315400">
                      <a:off x="6157800" y="3184920"/>
                      <a:ext cx="17784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H="1" rot="11002200">
                      <a:off x="6227640" y="3143520"/>
                      <a:ext cx="17784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H="1" rot="202200">
                      <a:off x="6066720" y="3162240"/>
                      <a:ext cx="17784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343840" y="3135600"/>
                    <a:ext cx="466560" cy="361800"/>
                    <a:chOff x="5343840" y="3135600"/>
                    <a:chExt cx="466560" cy="36180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flipH="1" rot="11002200">
                      <a:off x="5598000" y="3140280"/>
                      <a:ext cx="17784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H="1" rot="2347200">
                      <a:off x="5441400" y="3197160"/>
                      <a:ext cx="17784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H="1" rot="17892000">
                      <a:off x="5328000" y="3291480"/>
                      <a:ext cx="26352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202200">
                      <a:off x="5516280" y="3151800"/>
                      <a:ext cx="17784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 rot="9515400">
                      <a:off x="5535720" y="3246480"/>
                      <a:ext cx="177840" cy="18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H="1" rot="202200">
                      <a:off x="5465880" y="3288240"/>
                      <a:ext cx="17784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11002200">
                      <a:off x="5626800" y="3269520"/>
                      <a:ext cx="177840" cy="18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5" h="312">
                          <a:moveTo>
                            <a:pt x="22" y="60"/>
                          </a:moveTo>
                          <a:cubicBezTo>
                            <a:pt x="62" y="92"/>
                            <a:pt x="101" y="126"/>
                            <a:pt x="142" y="156"/>
                          </a:cubicBezTo>
                          <a:cubicBezTo>
                            <a:pt x="215" y="209"/>
                            <a:pt x="306" y="248"/>
                            <a:pt x="370" y="312"/>
                          </a:cubicBezTo>
                          <a:cubicBezTo>
                            <a:pt x="386" y="300"/>
                            <a:pt x="405" y="291"/>
                            <a:pt x="418" y="276"/>
                          </a:cubicBezTo>
                          <a:cubicBezTo>
                            <a:pt x="455" y="232"/>
                            <a:pt x="436" y="151"/>
                            <a:pt x="454" y="96"/>
                          </a:cubicBezTo>
                          <a:cubicBezTo>
                            <a:pt x="430" y="88"/>
                            <a:pt x="403" y="86"/>
                            <a:pt x="382" y="72"/>
                          </a:cubicBezTo>
                          <a:cubicBezTo>
                            <a:pt x="370" y="64"/>
                            <a:pt x="360" y="52"/>
                            <a:pt x="346" y="48"/>
                          </a:cubicBezTo>
                          <a:cubicBezTo>
                            <a:pt x="319" y="40"/>
                            <a:pt x="290" y="40"/>
                            <a:pt x="262" y="36"/>
                          </a:cubicBezTo>
                          <a:cubicBezTo>
                            <a:pt x="222" y="23"/>
                            <a:pt x="182" y="13"/>
                            <a:pt x="142" y="0"/>
                          </a:cubicBezTo>
                          <a:cubicBezTo>
                            <a:pt x="122" y="4"/>
                            <a:pt x="102" y="8"/>
                            <a:pt x="82" y="12"/>
                          </a:cubicBezTo>
                          <a:cubicBezTo>
                            <a:pt x="58" y="16"/>
                            <a:pt x="29" y="9"/>
                            <a:pt x="10" y="24"/>
                          </a:cubicBezTo>
                          <a:cubicBezTo>
                            <a:pt x="0" y="32"/>
                            <a:pt x="18" y="48"/>
                            <a:pt x="22" y="60"/>
                          </a:cubicBez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22" name=""/>
                <p:cNvSpPr/>
                <p:nvPr/>
              </p:nvSpPr>
              <p:spPr>
                <a:xfrm>
                  <a:off x="5209200" y="2673720"/>
                  <a:ext cx="1450440" cy="514080"/>
                </a:xfrm>
                <a:custGeom>
                  <a:avLst/>
                  <a:gdLst/>
                  <a:ahLst/>
                  <a:rect l="l" t="t" r="r" b="b"/>
                  <a:pathLst>
                    <a:path w="2130" h="710">
                      <a:moveTo>
                        <a:pt x="1704" y="0"/>
                      </a:moveTo>
                      <a:lnTo>
                        <a:pt x="0" y="0"/>
                      </a:lnTo>
                      <a:lnTo>
                        <a:pt x="0" y="710"/>
                      </a:lnTo>
                      <a:lnTo>
                        <a:pt x="1846" y="710"/>
                      </a:lnTo>
                      <a:lnTo>
                        <a:pt x="1562" y="568"/>
                      </a:lnTo>
                      <a:lnTo>
                        <a:pt x="1846" y="426"/>
                      </a:lnTo>
                      <a:lnTo>
                        <a:pt x="1420" y="284"/>
                      </a:lnTo>
                      <a:lnTo>
                        <a:pt x="2130" y="142"/>
                      </a:lnTo>
                      <a:lnTo>
                        <a:pt x="1562" y="142"/>
                      </a:lnTo>
                      <a:lnTo>
                        <a:pt x="170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"/>
              <p:cNvSpPr/>
              <p:nvPr/>
            </p:nvSpPr>
            <p:spPr>
              <a:xfrm>
                <a:off x="5200920" y="2879280"/>
                <a:ext cx="2898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5394240" y="2882160"/>
                <a:ext cx="720" cy="30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97760" y="2879280"/>
                <a:ext cx="579960" cy="51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/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394240" y="2647800"/>
                <a:ext cx="1063440" cy="51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urmi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1042920" y="2133720"/>
              <a:ext cx="3319200" cy="1439280"/>
              <a:chOff x="1042920" y="2133720"/>
              <a:chExt cx="3319200" cy="143928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1042920" y="2133720"/>
                <a:ext cx="3094200" cy="1428120"/>
                <a:chOff x="1042920" y="2133720"/>
                <a:chExt cx="3094200" cy="1428120"/>
              </a:xfrm>
            </p:grpSpPr>
            <p:grpSp>
              <p:nvGrpSpPr>
                <p:cNvPr id="529" name=""/>
                <p:cNvGrpSpPr/>
                <p:nvPr/>
              </p:nvGrpSpPr>
              <p:grpSpPr>
                <a:xfrm>
                  <a:off x="1042920" y="2544840"/>
                  <a:ext cx="3094200" cy="1017000"/>
                  <a:chOff x="1042920" y="2544840"/>
                  <a:chExt cx="3094200" cy="1017000"/>
                </a:xfrm>
              </p:grpSpPr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1042920" y="2895480"/>
                    <a:ext cx="3094200" cy="666360"/>
                    <a:chOff x="1042920" y="2895480"/>
                    <a:chExt cx="3094200" cy="666360"/>
                  </a:xfrm>
                </p:grpSpPr>
                <p:grpSp>
                  <p:nvGrpSpPr>
                    <p:cNvPr id="531" name=""/>
                    <p:cNvGrpSpPr/>
                    <p:nvPr/>
                  </p:nvGrpSpPr>
                  <p:grpSpPr>
                    <a:xfrm>
                      <a:off x="1385640" y="2895480"/>
                      <a:ext cx="2346480" cy="666360"/>
                      <a:chOff x="1385640" y="2895480"/>
                      <a:chExt cx="2346480" cy="666360"/>
                    </a:xfrm>
                  </p:grpSpPr>
                  <p:grpSp>
                    <p:nvGrpSpPr>
                      <p:cNvPr id="532" name=""/>
                      <p:cNvGrpSpPr/>
                      <p:nvPr/>
                    </p:nvGrpSpPr>
                    <p:grpSpPr>
                      <a:xfrm>
                        <a:off x="1385640" y="2897640"/>
                        <a:ext cx="1285200" cy="397080"/>
                        <a:chOff x="1385640" y="2897640"/>
                        <a:chExt cx="1285200" cy="397080"/>
                      </a:xfrm>
                    </p:grpSpPr>
                    <p:grpSp>
                      <p:nvGrpSpPr>
                        <p:cNvPr id="533" name=""/>
                        <p:cNvGrpSpPr/>
                        <p:nvPr/>
                      </p:nvGrpSpPr>
                      <p:grpSpPr>
                        <a:xfrm>
                          <a:off x="1819800" y="2920680"/>
                          <a:ext cx="503280" cy="359280"/>
                          <a:chOff x="1819800" y="2920680"/>
                          <a:chExt cx="503280" cy="359280"/>
                        </a:xfrm>
                      </p:grpSpPr>
                      <p:sp>
                        <p:nvSpPr>
                          <p:cNvPr id="534" name=""/>
                          <p:cNvSpPr/>
                          <p:nvPr/>
                        </p:nvSpPr>
                        <p:spPr>
                          <a:xfrm rot="10681200">
                            <a:off x="1859040" y="2923920"/>
                            <a:ext cx="19656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5" name=""/>
                          <p:cNvSpPr/>
                          <p:nvPr/>
                        </p:nvSpPr>
                        <p:spPr>
                          <a:xfrm rot="19336200">
                            <a:off x="2030040" y="2982600"/>
                            <a:ext cx="196560" cy="175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6" name=""/>
                          <p:cNvSpPr/>
                          <p:nvPr/>
                        </p:nvSpPr>
                        <p:spPr>
                          <a:xfrm rot="3791400">
                            <a:off x="2076480" y="3067560"/>
                            <a:ext cx="256680" cy="13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7" name=""/>
                          <p:cNvSpPr/>
                          <p:nvPr/>
                        </p:nvSpPr>
                        <p:spPr>
                          <a:xfrm rot="21481200">
                            <a:off x="1948680" y="293688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8" name=""/>
                          <p:cNvSpPr/>
                          <p:nvPr/>
                        </p:nvSpPr>
                        <p:spPr>
                          <a:xfrm rot="12168600">
                            <a:off x="1924560" y="302868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9" name=""/>
                          <p:cNvSpPr/>
                          <p:nvPr/>
                        </p:nvSpPr>
                        <p:spPr>
                          <a:xfrm rot="21481200">
                            <a:off x="2000160" y="307080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0" name=""/>
                          <p:cNvSpPr/>
                          <p:nvPr/>
                        </p:nvSpPr>
                        <p:spPr>
                          <a:xfrm rot="10681200">
                            <a:off x="1822680" y="304920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41" name=""/>
                        <p:cNvGrpSpPr/>
                        <p:nvPr/>
                      </p:nvGrpSpPr>
                      <p:grpSpPr>
                        <a:xfrm>
                          <a:off x="2167560" y="2935800"/>
                          <a:ext cx="503280" cy="358920"/>
                          <a:chOff x="2167560" y="2935800"/>
                          <a:chExt cx="503280" cy="358920"/>
                        </a:xfrm>
                      </p:grpSpPr>
                      <p:sp>
                        <p:nvSpPr>
                          <p:cNvPr id="542" name=""/>
                          <p:cNvSpPr/>
                          <p:nvPr/>
                        </p:nvSpPr>
                        <p:spPr>
                          <a:xfrm rot="10681200">
                            <a:off x="2206800" y="2939040"/>
                            <a:ext cx="19656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3" name=""/>
                          <p:cNvSpPr/>
                          <p:nvPr/>
                        </p:nvSpPr>
                        <p:spPr>
                          <a:xfrm rot="19336200">
                            <a:off x="2377800" y="2997720"/>
                            <a:ext cx="196560" cy="175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4" name=""/>
                          <p:cNvSpPr/>
                          <p:nvPr/>
                        </p:nvSpPr>
                        <p:spPr>
                          <a:xfrm rot="3791400">
                            <a:off x="2424240" y="3082320"/>
                            <a:ext cx="256680" cy="13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5" name=""/>
                          <p:cNvSpPr/>
                          <p:nvPr/>
                        </p:nvSpPr>
                        <p:spPr>
                          <a:xfrm rot="21481200">
                            <a:off x="2296440" y="295164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6" name=""/>
                          <p:cNvSpPr/>
                          <p:nvPr/>
                        </p:nvSpPr>
                        <p:spPr>
                          <a:xfrm rot="12168600">
                            <a:off x="2272320" y="304380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7" name=""/>
                          <p:cNvSpPr/>
                          <p:nvPr/>
                        </p:nvSpPr>
                        <p:spPr>
                          <a:xfrm rot="21481200">
                            <a:off x="2347920" y="308592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8" name=""/>
                          <p:cNvSpPr/>
                          <p:nvPr/>
                        </p:nvSpPr>
                        <p:spPr>
                          <a:xfrm rot="10681200">
                            <a:off x="2170440" y="306396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49" name=""/>
                        <p:cNvGrpSpPr/>
                        <p:nvPr/>
                      </p:nvGrpSpPr>
                      <p:grpSpPr>
                        <a:xfrm>
                          <a:off x="1385640" y="2897640"/>
                          <a:ext cx="502920" cy="358920"/>
                          <a:chOff x="1385640" y="2897640"/>
                          <a:chExt cx="502920" cy="358920"/>
                        </a:xfrm>
                      </p:grpSpPr>
                      <p:sp>
                        <p:nvSpPr>
                          <p:cNvPr id="550" name=""/>
                          <p:cNvSpPr/>
                          <p:nvPr/>
                        </p:nvSpPr>
                        <p:spPr>
                          <a:xfrm rot="21481200">
                            <a:off x="1652400" y="3076920"/>
                            <a:ext cx="19656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1" name=""/>
                          <p:cNvSpPr/>
                          <p:nvPr/>
                        </p:nvSpPr>
                        <p:spPr>
                          <a:xfrm rot="8536200">
                            <a:off x="1481400" y="3018600"/>
                            <a:ext cx="196560" cy="175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2" name=""/>
                          <p:cNvSpPr/>
                          <p:nvPr/>
                        </p:nvSpPr>
                        <p:spPr>
                          <a:xfrm rot="14592000">
                            <a:off x="1374840" y="2975040"/>
                            <a:ext cx="256680" cy="13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3" name=""/>
                          <p:cNvSpPr/>
                          <p:nvPr/>
                        </p:nvSpPr>
                        <p:spPr>
                          <a:xfrm rot="10681200">
                            <a:off x="1563120" y="306432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4" name=""/>
                          <p:cNvSpPr/>
                          <p:nvPr/>
                        </p:nvSpPr>
                        <p:spPr>
                          <a:xfrm rot="1368000">
                            <a:off x="1587240" y="297216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5" name=""/>
                          <p:cNvSpPr/>
                          <p:nvPr/>
                        </p:nvSpPr>
                        <p:spPr>
                          <a:xfrm rot="10681200">
                            <a:off x="1511640" y="293004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6" name=""/>
                          <p:cNvSpPr/>
                          <p:nvPr/>
                        </p:nvSpPr>
                        <p:spPr>
                          <a:xfrm rot="21481200">
                            <a:off x="1689120" y="295200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57" name=""/>
                      <p:cNvGrpSpPr/>
                      <p:nvPr/>
                    </p:nvGrpSpPr>
                    <p:grpSpPr>
                      <a:xfrm>
                        <a:off x="2446920" y="2895480"/>
                        <a:ext cx="1285200" cy="396720"/>
                        <a:chOff x="2446920" y="2895480"/>
                        <a:chExt cx="1285200" cy="396720"/>
                      </a:xfrm>
                    </p:grpSpPr>
                    <p:grpSp>
                      <p:nvGrpSpPr>
                        <p:cNvPr id="558" name=""/>
                        <p:cNvGrpSpPr/>
                        <p:nvPr/>
                      </p:nvGrpSpPr>
                      <p:grpSpPr>
                        <a:xfrm>
                          <a:off x="2881080" y="2910240"/>
                          <a:ext cx="503280" cy="359280"/>
                          <a:chOff x="2881080" y="2910240"/>
                          <a:chExt cx="503280" cy="359280"/>
                        </a:xfrm>
                      </p:grpSpPr>
                      <p:sp>
                        <p:nvSpPr>
                          <p:cNvPr id="559" name=""/>
                          <p:cNvSpPr/>
                          <p:nvPr/>
                        </p:nvSpPr>
                        <p:spPr>
                          <a:xfrm flipH="1" rot="118800">
                            <a:off x="2919960" y="3089880"/>
                            <a:ext cx="19656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0" name=""/>
                          <p:cNvSpPr/>
                          <p:nvPr/>
                        </p:nvSpPr>
                        <p:spPr>
                          <a:xfrm flipH="1" rot="13063800">
                            <a:off x="3090960" y="3031200"/>
                            <a:ext cx="196560" cy="175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1" name=""/>
                          <p:cNvSpPr/>
                          <p:nvPr/>
                        </p:nvSpPr>
                        <p:spPr>
                          <a:xfrm flipH="1" rot="7008000">
                            <a:off x="3137760" y="2987640"/>
                            <a:ext cx="256680" cy="13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2" name=""/>
                          <p:cNvSpPr/>
                          <p:nvPr/>
                        </p:nvSpPr>
                        <p:spPr>
                          <a:xfrm flipH="1" rot="10918800">
                            <a:off x="3009960" y="307692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3" name=""/>
                          <p:cNvSpPr/>
                          <p:nvPr/>
                        </p:nvSpPr>
                        <p:spPr>
                          <a:xfrm flipH="1" rot="20232000">
                            <a:off x="2985840" y="298512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4" name=""/>
                          <p:cNvSpPr/>
                          <p:nvPr/>
                        </p:nvSpPr>
                        <p:spPr>
                          <a:xfrm flipH="1" rot="10918800">
                            <a:off x="3061440" y="294300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5" name=""/>
                          <p:cNvSpPr/>
                          <p:nvPr/>
                        </p:nvSpPr>
                        <p:spPr>
                          <a:xfrm flipH="1" rot="118800">
                            <a:off x="2883960" y="296460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6" name=""/>
                        <p:cNvGrpSpPr/>
                        <p:nvPr/>
                      </p:nvGrpSpPr>
                      <p:grpSpPr>
                        <a:xfrm>
                          <a:off x="3228840" y="2895480"/>
                          <a:ext cx="503280" cy="358920"/>
                          <a:chOff x="3228840" y="2895480"/>
                          <a:chExt cx="503280" cy="358920"/>
                        </a:xfrm>
                      </p:grpSpPr>
                      <p:sp>
                        <p:nvSpPr>
                          <p:cNvPr id="567" name=""/>
                          <p:cNvSpPr/>
                          <p:nvPr/>
                        </p:nvSpPr>
                        <p:spPr>
                          <a:xfrm flipH="1" rot="118800">
                            <a:off x="3267720" y="3074760"/>
                            <a:ext cx="19656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8" name=""/>
                          <p:cNvSpPr/>
                          <p:nvPr/>
                        </p:nvSpPr>
                        <p:spPr>
                          <a:xfrm flipH="1" rot="13063800">
                            <a:off x="3438720" y="3016080"/>
                            <a:ext cx="196560" cy="175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9" name=""/>
                          <p:cNvSpPr/>
                          <p:nvPr/>
                        </p:nvSpPr>
                        <p:spPr>
                          <a:xfrm flipH="1" rot="7008000">
                            <a:off x="3485520" y="2972880"/>
                            <a:ext cx="256680" cy="13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0" name=""/>
                          <p:cNvSpPr/>
                          <p:nvPr/>
                        </p:nvSpPr>
                        <p:spPr>
                          <a:xfrm flipH="1" rot="10918800">
                            <a:off x="3357720" y="306216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1" name=""/>
                          <p:cNvSpPr/>
                          <p:nvPr/>
                        </p:nvSpPr>
                        <p:spPr>
                          <a:xfrm flipH="1" rot="20232000">
                            <a:off x="3333600" y="297000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2" name=""/>
                          <p:cNvSpPr/>
                          <p:nvPr/>
                        </p:nvSpPr>
                        <p:spPr>
                          <a:xfrm flipH="1" rot="10918800">
                            <a:off x="3409200" y="292788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3" name=""/>
                          <p:cNvSpPr/>
                          <p:nvPr/>
                        </p:nvSpPr>
                        <p:spPr>
                          <a:xfrm flipH="1" rot="118800">
                            <a:off x="3231720" y="294984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4" name=""/>
                        <p:cNvGrpSpPr/>
                        <p:nvPr/>
                      </p:nvGrpSpPr>
                      <p:grpSpPr>
                        <a:xfrm>
                          <a:off x="2446920" y="2933640"/>
                          <a:ext cx="502920" cy="358560"/>
                          <a:chOff x="2446920" y="2933640"/>
                          <a:chExt cx="502920" cy="358560"/>
                        </a:xfrm>
                      </p:grpSpPr>
                      <p:sp>
                        <p:nvSpPr>
                          <p:cNvPr id="575" name=""/>
                          <p:cNvSpPr/>
                          <p:nvPr/>
                        </p:nvSpPr>
                        <p:spPr>
                          <a:xfrm flipH="1" rot="10918800">
                            <a:off x="2713320" y="2936880"/>
                            <a:ext cx="19656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6" name=""/>
                          <p:cNvSpPr/>
                          <p:nvPr/>
                        </p:nvSpPr>
                        <p:spPr>
                          <a:xfrm flipH="1" rot="2264400">
                            <a:off x="2543040" y="2995920"/>
                            <a:ext cx="196560" cy="175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7" name=""/>
                          <p:cNvSpPr/>
                          <p:nvPr/>
                        </p:nvSpPr>
                        <p:spPr>
                          <a:xfrm flipH="1" rot="17808000">
                            <a:off x="2436120" y="3080160"/>
                            <a:ext cx="256320" cy="13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8" name=""/>
                          <p:cNvSpPr/>
                          <p:nvPr/>
                        </p:nvSpPr>
                        <p:spPr>
                          <a:xfrm flipH="1" rot="118800">
                            <a:off x="2624400" y="294948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9" name=""/>
                          <p:cNvSpPr/>
                          <p:nvPr/>
                        </p:nvSpPr>
                        <p:spPr>
                          <a:xfrm flipH="1" rot="9432000">
                            <a:off x="2648520" y="304164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0" name=""/>
                          <p:cNvSpPr/>
                          <p:nvPr/>
                        </p:nvSpPr>
                        <p:spPr>
                          <a:xfrm flipH="1" rot="118800">
                            <a:off x="2572920" y="308376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1" name=""/>
                          <p:cNvSpPr/>
                          <p:nvPr/>
                        </p:nvSpPr>
                        <p:spPr>
                          <a:xfrm flipH="1" rot="10918800">
                            <a:off x="2750400" y="306180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82" name=""/>
                      <p:cNvGrpSpPr/>
                      <p:nvPr/>
                    </p:nvGrpSpPr>
                    <p:grpSpPr>
                      <a:xfrm>
                        <a:off x="1505160" y="3161160"/>
                        <a:ext cx="1284120" cy="395280"/>
                        <a:chOff x="1505160" y="3161160"/>
                        <a:chExt cx="1284120" cy="395280"/>
                      </a:xfrm>
                    </p:grpSpPr>
                    <p:grpSp>
                      <p:nvGrpSpPr>
                        <p:cNvPr id="583" name=""/>
                        <p:cNvGrpSpPr/>
                        <p:nvPr/>
                      </p:nvGrpSpPr>
                      <p:grpSpPr>
                        <a:xfrm>
                          <a:off x="1938600" y="3183840"/>
                          <a:ext cx="502920" cy="358920"/>
                          <a:chOff x="1938600" y="3183840"/>
                          <a:chExt cx="502920" cy="358920"/>
                        </a:xfrm>
                      </p:grpSpPr>
                      <p:sp>
                        <p:nvSpPr>
                          <p:cNvPr id="584" name=""/>
                          <p:cNvSpPr/>
                          <p:nvPr/>
                        </p:nvSpPr>
                        <p:spPr>
                          <a:xfrm rot="10681200">
                            <a:off x="1977480" y="318708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5" name=""/>
                          <p:cNvSpPr/>
                          <p:nvPr/>
                        </p:nvSpPr>
                        <p:spPr>
                          <a:xfrm rot="19336200">
                            <a:off x="2148840" y="3245760"/>
                            <a:ext cx="196200" cy="175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6" name=""/>
                          <p:cNvSpPr/>
                          <p:nvPr/>
                        </p:nvSpPr>
                        <p:spPr>
                          <a:xfrm rot="3791400">
                            <a:off x="2194920" y="3330360"/>
                            <a:ext cx="256680" cy="13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7" name=""/>
                          <p:cNvSpPr/>
                          <p:nvPr/>
                        </p:nvSpPr>
                        <p:spPr>
                          <a:xfrm rot="21481200">
                            <a:off x="2067480" y="319968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8" name=""/>
                          <p:cNvSpPr/>
                          <p:nvPr/>
                        </p:nvSpPr>
                        <p:spPr>
                          <a:xfrm rot="12168600">
                            <a:off x="2043360" y="329184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9" name=""/>
                          <p:cNvSpPr/>
                          <p:nvPr/>
                        </p:nvSpPr>
                        <p:spPr>
                          <a:xfrm rot="21481200">
                            <a:off x="2118960" y="333396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0" name=""/>
                          <p:cNvSpPr/>
                          <p:nvPr/>
                        </p:nvSpPr>
                        <p:spPr>
                          <a:xfrm rot="10681200">
                            <a:off x="1941480" y="331236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91" name=""/>
                        <p:cNvGrpSpPr/>
                        <p:nvPr/>
                      </p:nvGrpSpPr>
                      <p:grpSpPr>
                        <a:xfrm>
                          <a:off x="2286360" y="3197520"/>
                          <a:ext cx="502920" cy="358920"/>
                          <a:chOff x="2286360" y="3197520"/>
                          <a:chExt cx="502920" cy="358920"/>
                        </a:xfrm>
                      </p:grpSpPr>
                      <p:sp>
                        <p:nvSpPr>
                          <p:cNvPr id="592" name=""/>
                          <p:cNvSpPr/>
                          <p:nvPr/>
                        </p:nvSpPr>
                        <p:spPr>
                          <a:xfrm rot="10681200">
                            <a:off x="2325240" y="320076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3" name=""/>
                          <p:cNvSpPr/>
                          <p:nvPr/>
                        </p:nvSpPr>
                        <p:spPr>
                          <a:xfrm rot="19336200">
                            <a:off x="2496600" y="3259440"/>
                            <a:ext cx="196200" cy="175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4" name=""/>
                          <p:cNvSpPr/>
                          <p:nvPr/>
                        </p:nvSpPr>
                        <p:spPr>
                          <a:xfrm rot="3791400">
                            <a:off x="2542680" y="3344040"/>
                            <a:ext cx="256680" cy="13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5" name=""/>
                          <p:cNvSpPr/>
                          <p:nvPr/>
                        </p:nvSpPr>
                        <p:spPr>
                          <a:xfrm rot="21481200">
                            <a:off x="2415240" y="321336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6" name=""/>
                          <p:cNvSpPr/>
                          <p:nvPr/>
                        </p:nvSpPr>
                        <p:spPr>
                          <a:xfrm rot="12168600">
                            <a:off x="2391120" y="330552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7" name=""/>
                          <p:cNvSpPr/>
                          <p:nvPr/>
                        </p:nvSpPr>
                        <p:spPr>
                          <a:xfrm rot="21481200">
                            <a:off x="2466720" y="334764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8" name=""/>
                          <p:cNvSpPr/>
                          <p:nvPr/>
                        </p:nvSpPr>
                        <p:spPr>
                          <a:xfrm rot="10681200">
                            <a:off x="2289240" y="332604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99" name=""/>
                        <p:cNvGrpSpPr/>
                        <p:nvPr/>
                      </p:nvGrpSpPr>
                      <p:grpSpPr>
                        <a:xfrm>
                          <a:off x="1505160" y="3161160"/>
                          <a:ext cx="502920" cy="358920"/>
                          <a:chOff x="1505160" y="3161160"/>
                          <a:chExt cx="502920" cy="358920"/>
                        </a:xfrm>
                      </p:grpSpPr>
                      <p:sp>
                        <p:nvSpPr>
                          <p:cNvPr id="600" name=""/>
                          <p:cNvSpPr/>
                          <p:nvPr/>
                        </p:nvSpPr>
                        <p:spPr>
                          <a:xfrm rot="21481200">
                            <a:off x="1772640" y="334044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1" name=""/>
                          <p:cNvSpPr/>
                          <p:nvPr/>
                        </p:nvSpPr>
                        <p:spPr>
                          <a:xfrm rot="8536200">
                            <a:off x="1601280" y="3282120"/>
                            <a:ext cx="196200" cy="175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2" name=""/>
                          <p:cNvSpPr/>
                          <p:nvPr/>
                        </p:nvSpPr>
                        <p:spPr>
                          <a:xfrm rot="14592000">
                            <a:off x="1494720" y="3238560"/>
                            <a:ext cx="256680" cy="13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3" name=""/>
                          <p:cNvSpPr/>
                          <p:nvPr/>
                        </p:nvSpPr>
                        <p:spPr>
                          <a:xfrm rot="10681200">
                            <a:off x="1682640" y="332784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4" name=""/>
                          <p:cNvSpPr/>
                          <p:nvPr/>
                        </p:nvSpPr>
                        <p:spPr>
                          <a:xfrm rot="1368000">
                            <a:off x="1706760" y="323568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5" name=""/>
                          <p:cNvSpPr/>
                          <p:nvPr/>
                        </p:nvSpPr>
                        <p:spPr>
                          <a:xfrm rot="10681200">
                            <a:off x="1631160" y="319356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6" name=""/>
                          <p:cNvSpPr/>
                          <p:nvPr/>
                        </p:nvSpPr>
                        <p:spPr>
                          <a:xfrm rot="21481200">
                            <a:off x="1808640" y="321516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07" name=""/>
                      <p:cNvGrpSpPr/>
                      <p:nvPr/>
                    </p:nvGrpSpPr>
                    <p:grpSpPr>
                      <a:xfrm>
                        <a:off x="2389320" y="3165120"/>
                        <a:ext cx="1285200" cy="396720"/>
                        <a:chOff x="2389320" y="3165120"/>
                        <a:chExt cx="1285200" cy="396720"/>
                      </a:xfrm>
                    </p:grpSpPr>
                    <p:grpSp>
                      <p:nvGrpSpPr>
                        <p:cNvPr id="608" name=""/>
                        <p:cNvGrpSpPr/>
                        <p:nvPr/>
                      </p:nvGrpSpPr>
                      <p:grpSpPr>
                        <a:xfrm>
                          <a:off x="2737080" y="3187800"/>
                          <a:ext cx="503280" cy="359280"/>
                          <a:chOff x="2737080" y="3187800"/>
                          <a:chExt cx="503280" cy="359280"/>
                        </a:xfrm>
                      </p:grpSpPr>
                      <p:sp>
                        <p:nvSpPr>
                          <p:cNvPr id="609" name=""/>
                          <p:cNvSpPr/>
                          <p:nvPr/>
                        </p:nvSpPr>
                        <p:spPr>
                          <a:xfrm flipH="1" rot="10918800">
                            <a:off x="3003840" y="3191040"/>
                            <a:ext cx="19656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0" name=""/>
                          <p:cNvSpPr/>
                          <p:nvPr/>
                        </p:nvSpPr>
                        <p:spPr>
                          <a:xfrm flipH="1" rot="2263800">
                            <a:off x="2833560" y="3250080"/>
                            <a:ext cx="196560" cy="175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1" name=""/>
                          <p:cNvSpPr/>
                          <p:nvPr/>
                        </p:nvSpPr>
                        <p:spPr>
                          <a:xfrm flipH="1" rot="17808600">
                            <a:off x="2726640" y="3334680"/>
                            <a:ext cx="256680" cy="13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2" name=""/>
                          <p:cNvSpPr/>
                          <p:nvPr/>
                        </p:nvSpPr>
                        <p:spPr>
                          <a:xfrm flipH="1" rot="118800">
                            <a:off x="2914920" y="320400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3" name=""/>
                          <p:cNvSpPr/>
                          <p:nvPr/>
                        </p:nvSpPr>
                        <p:spPr>
                          <a:xfrm flipH="1" rot="9431400">
                            <a:off x="2939040" y="329580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4" name=""/>
                          <p:cNvSpPr/>
                          <p:nvPr/>
                        </p:nvSpPr>
                        <p:spPr>
                          <a:xfrm flipH="1" rot="118800">
                            <a:off x="2863440" y="333792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5" name=""/>
                          <p:cNvSpPr/>
                          <p:nvPr/>
                        </p:nvSpPr>
                        <p:spPr>
                          <a:xfrm flipH="1" rot="10918800">
                            <a:off x="3040920" y="331632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16" name=""/>
                        <p:cNvGrpSpPr/>
                        <p:nvPr/>
                      </p:nvGrpSpPr>
                      <p:grpSpPr>
                        <a:xfrm>
                          <a:off x="2389320" y="3202920"/>
                          <a:ext cx="503280" cy="358920"/>
                          <a:chOff x="2389320" y="3202920"/>
                          <a:chExt cx="503280" cy="358920"/>
                        </a:xfrm>
                      </p:grpSpPr>
                      <p:sp>
                        <p:nvSpPr>
                          <p:cNvPr id="617" name=""/>
                          <p:cNvSpPr/>
                          <p:nvPr/>
                        </p:nvSpPr>
                        <p:spPr>
                          <a:xfrm flipH="1" rot="10918800">
                            <a:off x="2656080" y="3206160"/>
                            <a:ext cx="19656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8" name=""/>
                          <p:cNvSpPr/>
                          <p:nvPr/>
                        </p:nvSpPr>
                        <p:spPr>
                          <a:xfrm flipH="1" rot="2263800">
                            <a:off x="2485800" y="3265200"/>
                            <a:ext cx="196560" cy="175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9" name=""/>
                          <p:cNvSpPr/>
                          <p:nvPr/>
                        </p:nvSpPr>
                        <p:spPr>
                          <a:xfrm flipH="1" rot="17808600">
                            <a:off x="2378880" y="3349440"/>
                            <a:ext cx="256680" cy="134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0" name=""/>
                          <p:cNvSpPr/>
                          <p:nvPr/>
                        </p:nvSpPr>
                        <p:spPr>
                          <a:xfrm flipH="1" rot="118800">
                            <a:off x="2567160" y="321876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1" name=""/>
                          <p:cNvSpPr/>
                          <p:nvPr/>
                        </p:nvSpPr>
                        <p:spPr>
                          <a:xfrm flipH="1" rot="9431400">
                            <a:off x="2591280" y="331092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2" name=""/>
                          <p:cNvSpPr/>
                          <p:nvPr/>
                        </p:nvSpPr>
                        <p:spPr>
                          <a:xfrm flipH="1" rot="118800">
                            <a:off x="2515680" y="335304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3" name=""/>
                          <p:cNvSpPr/>
                          <p:nvPr/>
                        </p:nvSpPr>
                        <p:spPr>
                          <a:xfrm flipH="1" rot="10918800">
                            <a:off x="2693160" y="333108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4" name=""/>
                        <p:cNvGrpSpPr/>
                        <p:nvPr/>
                      </p:nvGrpSpPr>
                      <p:grpSpPr>
                        <a:xfrm>
                          <a:off x="3171600" y="3165120"/>
                          <a:ext cx="502920" cy="358560"/>
                          <a:chOff x="3171600" y="3165120"/>
                          <a:chExt cx="502920" cy="358560"/>
                        </a:xfrm>
                      </p:grpSpPr>
                      <p:sp>
                        <p:nvSpPr>
                          <p:cNvPr id="625" name=""/>
                          <p:cNvSpPr/>
                          <p:nvPr/>
                        </p:nvSpPr>
                        <p:spPr>
                          <a:xfrm flipH="1" rot="118800">
                            <a:off x="3210480" y="3344040"/>
                            <a:ext cx="19656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6" name=""/>
                          <p:cNvSpPr/>
                          <p:nvPr/>
                        </p:nvSpPr>
                        <p:spPr>
                          <a:xfrm flipH="1" rot="13063800">
                            <a:off x="3381480" y="3285360"/>
                            <a:ext cx="196560" cy="175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7" name=""/>
                          <p:cNvSpPr/>
                          <p:nvPr/>
                        </p:nvSpPr>
                        <p:spPr>
                          <a:xfrm flipH="1" rot="7008000">
                            <a:off x="3428640" y="3242520"/>
                            <a:ext cx="256320" cy="13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8" name=""/>
                          <p:cNvSpPr/>
                          <p:nvPr/>
                        </p:nvSpPr>
                        <p:spPr>
                          <a:xfrm flipH="1" rot="10918800">
                            <a:off x="3300480" y="333144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9" name=""/>
                          <p:cNvSpPr/>
                          <p:nvPr/>
                        </p:nvSpPr>
                        <p:spPr>
                          <a:xfrm flipH="1" rot="20232000">
                            <a:off x="3276360" y="323928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0" name=""/>
                          <p:cNvSpPr/>
                          <p:nvPr/>
                        </p:nvSpPr>
                        <p:spPr>
                          <a:xfrm flipH="1" rot="10918800">
                            <a:off x="3351960" y="319716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1" name=""/>
                          <p:cNvSpPr/>
                          <p:nvPr/>
                        </p:nvSpPr>
                        <p:spPr>
                          <a:xfrm flipH="1" rot="118800">
                            <a:off x="3174480" y="3219120"/>
                            <a:ext cx="196200" cy="17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5" h="312">
                                <a:moveTo>
                                  <a:pt x="22" y="60"/>
                                </a:moveTo>
                                <a:cubicBezTo>
                                  <a:pt x="62" y="92"/>
                                  <a:pt x="101" y="126"/>
                                  <a:pt x="142" y="156"/>
                                </a:cubicBezTo>
                                <a:cubicBezTo>
                                  <a:pt x="215" y="209"/>
                                  <a:pt x="306" y="248"/>
                                  <a:pt x="370" y="312"/>
                                </a:cubicBezTo>
                                <a:cubicBezTo>
                                  <a:pt x="386" y="300"/>
                                  <a:pt x="405" y="291"/>
                                  <a:pt x="418" y="276"/>
                                </a:cubicBezTo>
                                <a:cubicBezTo>
                                  <a:pt x="455" y="232"/>
                                  <a:pt x="436" y="151"/>
                                  <a:pt x="454" y="96"/>
                                </a:cubicBezTo>
                                <a:cubicBezTo>
                                  <a:pt x="430" y="88"/>
                                  <a:pt x="403" y="86"/>
                                  <a:pt x="382" y="72"/>
                                </a:cubicBezTo>
                                <a:cubicBezTo>
                                  <a:pt x="370" y="64"/>
                                  <a:pt x="360" y="52"/>
                                  <a:pt x="346" y="48"/>
                                </a:cubicBezTo>
                                <a:cubicBezTo>
                                  <a:pt x="319" y="40"/>
                                  <a:pt x="290" y="40"/>
                                  <a:pt x="262" y="36"/>
                                </a:cubicBezTo>
                                <a:cubicBezTo>
                                  <a:pt x="222" y="23"/>
                                  <a:pt x="182" y="13"/>
                                  <a:pt x="142" y="0"/>
                                </a:cubicBezTo>
                                <a:cubicBezTo>
                                  <a:pt x="122" y="4"/>
                                  <a:pt x="102" y="8"/>
                                  <a:pt x="82" y="12"/>
                                </a:cubicBezTo>
                                <a:cubicBezTo>
                                  <a:pt x="58" y="16"/>
                                  <a:pt x="29" y="9"/>
                                  <a:pt x="10" y="24"/>
                                </a:cubicBezTo>
                                <a:cubicBezTo>
                                  <a:pt x="0" y="32"/>
                                  <a:pt x="18" y="48"/>
                                  <a:pt x="22" y="6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969696"/>
                          </a:solidFill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1042920" y="3007080"/>
                      <a:ext cx="309420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44" h="715">
                          <a:moveTo>
                            <a:pt x="0" y="5"/>
                          </a:moveTo>
                          <a:lnTo>
                            <a:pt x="587" y="0"/>
                          </a:lnTo>
                          <a:lnTo>
                            <a:pt x="868" y="715"/>
                          </a:lnTo>
                          <a:lnTo>
                            <a:pt x="3688" y="703"/>
                          </a:lnTo>
                          <a:lnTo>
                            <a:pt x="3916" y="7"/>
                          </a:lnTo>
                          <a:lnTo>
                            <a:pt x="4544" y="5"/>
                          </a:lnTo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3" name=""/>
                  <p:cNvSpPr/>
                  <p:nvPr/>
                </p:nvSpPr>
                <p:spPr>
                  <a:xfrm>
                    <a:off x="1789920" y="2832120"/>
                    <a:ext cx="1600200" cy="363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1941480" y="2546640"/>
                    <a:ext cx="145440" cy="273600"/>
                    <a:chOff x="1941480" y="2546640"/>
                    <a:chExt cx="145440" cy="27360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1959840" y="2546640"/>
                      <a:ext cx="114840" cy="128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>
                      <a:off x="1989720" y="2659320"/>
                      <a:ext cx="52200" cy="144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>
                      <a:off x="1941480" y="2777040"/>
                      <a:ext cx="145440" cy="43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3097440" y="2544840"/>
                    <a:ext cx="145440" cy="273600"/>
                    <a:chOff x="3097440" y="2544840"/>
                    <a:chExt cx="145440" cy="27360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>
                      <a:off x="3115800" y="2544840"/>
                      <a:ext cx="114840" cy="128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3145680" y="2657520"/>
                      <a:ext cx="52200" cy="1447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3097440" y="2775240"/>
                      <a:ext cx="145440" cy="432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2" name=""/>
                <p:cNvSpPr/>
                <p:nvPr/>
              </p:nvSpPr>
              <p:spPr>
                <a:xfrm>
                  <a:off x="2021400" y="2145240"/>
                  <a:ext cx="0" cy="411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177000" y="2133720"/>
                  <a:ext cx="0" cy="411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1958040" y="2921040"/>
                  <a:ext cx="1262520" cy="285480"/>
                  <a:chOff x="1958040" y="2921040"/>
                  <a:chExt cx="1262520" cy="2854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1958040" y="292104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213840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231876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249912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267948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285984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04020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220560" y="2932200"/>
                    <a:ext cx="0" cy="27432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" name=""/>
                <p:cNvSpPr/>
                <p:nvPr/>
              </p:nvSpPr>
              <p:spPr>
                <a:xfrm flipH="1" rot="10800000">
                  <a:off x="1255320" y="3093840"/>
                  <a:ext cx="640800" cy="27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rot="10800000">
                  <a:off x="3283560" y="3093840"/>
                  <a:ext cx="640080" cy="273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H="1" rot="10800000">
                  <a:off x="2748960" y="2933640"/>
                  <a:ext cx="427320" cy="546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452" y="1053"/>
                      </a:moveTo>
                      <a:arcTo wR="10800" hR="10800" stAng="-3869222" swAng="386922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452" y="1053"/>
                      </a:moveTo>
                      <a:arcTo wR="10800" hR="10800" stAng="-3869222" swAng="3869222"/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rot="10800000">
                  <a:off x="2003040" y="2957400"/>
                  <a:ext cx="427320" cy="54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650" y="1722"/>
                      </a:moveTo>
                      <a:arcTo wR="10800" hR="10800" stAng="-3432089" swAng="34320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650" y="1722"/>
                      </a:moveTo>
                      <a:arcTo wR="10800" hR="10800" stAng="-3432089" swAng="3432089"/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581920" y="3230280"/>
                  <a:ext cx="0" cy="27360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2203200" y="2236680"/>
                <a:ext cx="773280" cy="4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s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57160" y="3161880"/>
                <a:ext cx="773640" cy="41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gu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654200" y="3488040"/>
                <a:ext cx="27079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1187280" y="4076640"/>
            <a:ext cx="648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firmado se fabrica de grava uniforme para permitir el escurrimiento de a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continuo viaje de trenes produce quiebre de la grava con el tiempo (mas fi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o disminuye la resistencia del material al disminuir el tamaño y la degradación por menor permeabilidad de ag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Ri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735600" y="1484280"/>
            <a:ext cx="1442880" cy="1336320"/>
            <a:chOff x="6735600" y="1484280"/>
            <a:chExt cx="1442880" cy="1336320"/>
          </a:xfrm>
        </p:grpSpPr>
        <p:sp>
          <p:nvSpPr>
            <p:cNvPr id="664" name=""/>
            <p:cNvSpPr/>
            <p:nvPr/>
          </p:nvSpPr>
          <p:spPr>
            <a:xfrm>
              <a:off x="6915960" y="1484280"/>
              <a:ext cx="1082520" cy="540720"/>
            </a:xfrm>
            <a:prstGeom prst="roundRect">
              <a:avLst>
                <a:gd name="adj" fmla="val 363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6735600" y="2460240"/>
              <a:ext cx="1442880" cy="360360"/>
              <a:chOff x="6735600" y="2460240"/>
              <a:chExt cx="1442880" cy="360360"/>
            </a:xfrm>
          </p:grpSpPr>
          <p:sp>
            <p:nvSpPr>
              <p:cNvPr id="666" name=""/>
              <p:cNvSpPr/>
              <p:nvPr/>
            </p:nvSpPr>
            <p:spPr>
              <a:xfrm>
                <a:off x="6735600" y="2460240"/>
                <a:ext cx="721440" cy="360360"/>
              </a:xfrm>
              <a:custGeom>
                <a:avLst/>
                <a:gdLst/>
                <a:ahLst/>
                <a:rect l="l" t="t" r="r" b="b"/>
                <a:pathLst>
                  <a:path w="1136" h="568">
                    <a:moveTo>
                      <a:pt x="1136" y="568"/>
                    </a:moveTo>
                    <a:lnTo>
                      <a:pt x="0" y="568"/>
                    </a:lnTo>
                    <a:lnTo>
                      <a:pt x="0" y="426"/>
                    </a:lnTo>
                    <a:lnTo>
                      <a:pt x="11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7457040" y="2460240"/>
                <a:ext cx="721440" cy="360360"/>
              </a:xfrm>
              <a:custGeom>
                <a:avLst/>
                <a:gdLst/>
                <a:ahLst/>
                <a:rect l="l" t="t" r="r" b="b"/>
                <a:pathLst>
                  <a:path w="1136" h="568">
                    <a:moveTo>
                      <a:pt x="1136" y="568"/>
                    </a:moveTo>
                    <a:lnTo>
                      <a:pt x="0" y="568"/>
                    </a:lnTo>
                    <a:lnTo>
                      <a:pt x="0" y="426"/>
                    </a:lnTo>
                    <a:lnTo>
                      <a:pt x="113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7186320" y="1934640"/>
              <a:ext cx="54108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186320" y="2025000"/>
              <a:ext cx="72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27040" y="2025000"/>
              <a:ext cx="36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6194520" y="1754280"/>
            <a:ext cx="1263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194520" y="2295360"/>
            <a:ext cx="1263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8900000">
            <a:off x="6545160" y="2725560"/>
            <a:ext cx="827280" cy="374760"/>
          </a:xfrm>
          <a:custGeom>
            <a:avLst/>
            <a:gdLst/>
            <a:ahLst/>
            <a:rect l="l" t="t" r="r" b="b"/>
            <a:pathLst>
              <a:path w="1698" h="1">
                <a:moveTo>
                  <a:pt x="0" y="0"/>
                </a:moveTo>
                <a:lnTo>
                  <a:pt x="1698" y="1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292720" y="1612800"/>
            <a:ext cx="1082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b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100-130 kg/m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292720" y="2160720"/>
            <a:ext cx="1082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Al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100-130 kg/m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3068640"/>
            <a:ext cx="10828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atín o Zap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50-60 kg/m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11280" y="1916280"/>
            <a:ext cx="3673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Durmi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tiene como objetivo trasmitir el peso del ferrocarril a la infraestruc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riel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tienen como objetivo mantener la dirección de movimiento del ferrocarr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ienen radios de curvatura mínimos de 25-30 me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so lineal 14/24 kg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rgo: 10-1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435640" y="4076640"/>
            <a:ext cx="3247920" cy="1052280"/>
            <a:chOff x="5435640" y="4076640"/>
            <a:chExt cx="3247920" cy="1052280"/>
          </a:xfrm>
        </p:grpSpPr>
        <p:grpSp>
          <p:nvGrpSpPr>
            <p:cNvPr id="679" name=""/>
            <p:cNvGrpSpPr/>
            <p:nvPr/>
          </p:nvGrpSpPr>
          <p:grpSpPr>
            <a:xfrm>
              <a:off x="5435640" y="4437360"/>
              <a:ext cx="3247920" cy="691560"/>
              <a:chOff x="5435640" y="4437360"/>
              <a:chExt cx="3247920" cy="69156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7983720" y="4437360"/>
                <a:ext cx="403200" cy="508680"/>
                <a:chOff x="7983720" y="4437360"/>
                <a:chExt cx="403200" cy="508680"/>
              </a:xfrm>
            </p:grpSpPr>
            <p:sp>
              <p:nvSpPr>
                <p:cNvPr id="681" name=""/>
                <p:cNvSpPr/>
                <p:nvPr/>
              </p:nvSpPr>
              <p:spPr>
                <a:xfrm flipH="1">
                  <a:off x="8017200" y="4437360"/>
                  <a:ext cx="318240" cy="239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H="1">
                  <a:off x="8108640" y="4646880"/>
                  <a:ext cx="144360" cy="26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>
                  <a:off x="7983720" y="4865760"/>
                  <a:ext cx="403200" cy="80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5760000" y="4437360"/>
                <a:ext cx="402480" cy="508680"/>
                <a:chOff x="5760000" y="4437360"/>
                <a:chExt cx="402480" cy="508680"/>
              </a:xfrm>
            </p:grpSpPr>
            <p:sp>
              <p:nvSpPr>
                <p:cNvPr id="685" name=""/>
                <p:cNvSpPr/>
                <p:nvPr/>
              </p:nvSpPr>
              <p:spPr>
                <a:xfrm flipH="1">
                  <a:off x="5793480" y="4437360"/>
                  <a:ext cx="317520" cy="2394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H="1">
                  <a:off x="5884560" y="4646880"/>
                  <a:ext cx="144360" cy="269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H="1">
                  <a:off x="5760000" y="4865760"/>
                  <a:ext cx="402480" cy="802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5435640" y="4953600"/>
                <a:ext cx="3247920" cy="175320"/>
              </a:xfrm>
              <a:custGeom>
                <a:avLst/>
                <a:gdLst/>
                <a:ahLst/>
                <a:rect l="l" t="t" r="r" b="b"/>
                <a:pathLst>
                  <a:path w="5114" h="276">
                    <a:moveTo>
                      <a:pt x="5114" y="0"/>
                    </a:moveTo>
                    <a:lnTo>
                      <a:pt x="0" y="5"/>
                    </a:lnTo>
                    <a:lnTo>
                      <a:pt x="7" y="276"/>
                    </a:lnTo>
                    <a:lnTo>
                      <a:pt x="5112" y="276"/>
                    </a:lnTo>
                    <a:lnTo>
                      <a:pt x="5114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120000" y="4196160"/>
              <a:ext cx="2880" cy="400320"/>
            </a:xfrm>
            <a:custGeom>
              <a:avLst/>
              <a:gdLst/>
              <a:ahLst/>
              <a:rect l="l" t="t" r="r" b="b"/>
              <a:pathLst>
                <a:path w="5" h="630">
                  <a:moveTo>
                    <a:pt x="0" y="0"/>
                  </a:moveTo>
                  <a:lnTo>
                    <a:pt x="5" y="6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17480" y="4257000"/>
              <a:ext cx="1909080" cy="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698160" y="4076640"/>
              <a:ext cx="81144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och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Capacidad del ri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5580000" y="1700280"/>
                <a:ext cx="244800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q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PK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q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4" name=""/>
          <p:cNvSpPr/>
          <p:nvPr/>
        </p:nvSpPr>
        <p:spPr>
          <a:xfrm>
            <a:off x="826920" y="1844640"/>
            <a:ext cx="4104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capacidad del riel depende de la velocidad del ferrocarril, la distancia entre durmientes (d) y el peso por eje 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agrega esfuerzo dinámico por la  velocidad del t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compara p</a:t>
            </a: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q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con p de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26920" y="4653000"/>
            <a:ext cx="756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 el ferrocarril se tiene se adopta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ros menores a 5 Ton, T= 0,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ros mayores a 5 Ton,  T= 1,0 – 1,2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Ri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332000" y="1916280"/>
            <a:ext cx="4417920" cy="1622160"/>
            <a:chOff x="1332000" y="1916280"/>
            <a:chExt cx="4417920" cy="1622160"/>
          </a:xfrm>
        </p:grpSpPr>
        <p:grpSp>
          <p:nvGrpSpPr>
            <p:cNvPr id="698" name=""/>
            <p:cNvGrpSpPr/>
            <p:nvPr/>
          </p:nvGrpSpPr>
          <p:grpSpPr>
            <a:xfrm>
              <a:off x="1332000" y="1916280"/>
              <a:ext cx="2073240" cy="1622160"/>
              <a:chOff x="1332000" y="1916280"/>
              <a:chExt cx="2073240" cy="1622160"/>
            </a:xfrm>
          </p:grpSpPr>
          <p:grpSp>
            <p:nvGrpSpPr>
              <p:cNvPr id="699" name=""/>
              <p:cNvGrpSpPr/>
              <p:nvPr/>
            </p:nvGrpSpPr>
            <p:grpSpPr>
              <a:xfrm>
                <a:off x="1782720" y="2186280"/>
                <a:ext cx="720360" cy="721080"/>
                <a:chOff x="1782720" y="2186280"/>
                <a:chExt cx="720360" cy="72108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1872720" y="2186280"/>
                  <a:ext cx="540720" cy="291600"/>
                </a:xfrm>
                <a:prstGeom prst="roundRect">
                  <a:avLst>
                    <a:gd name="adj" fmla="val 3638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" name=""/>
                <p:cNvGrpSpPr/>
                <p:nvPr/>
              </p:nvGrpSpPr>
              <p:grpSpPr>
                <a:xfrm>
                  <a:off x="1782720" y="2712960"/>
                  <a:ext cx="720360" cy="194400"/>
                  <a:chOff x="1782720" y="2712960"/>
                  <a:chExt cx="720360" cy="19440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>
                    <a:off x="1782720" y="2712960"/>
                    <a:ext cx="36036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6" h="568">
                        <a:moveTo>
                          <a:pt x="1136" y="568"/>
                        </a:moveTo>
                        <a:lnTo>
                          <a:pt x="0" y="568"/>
                        </a:lnTo>
                        <a:lnTo>
                          <a:pt x="0" y="426"/>
                        </a:lnTo>
                        <a:lnTo>
                          <a:pt x="113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flipH="1">
                    <a:off x="2142360" y="2712960"/>
                    <a:ext cx="36036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6" h="568">
                        <a:moveTo>
                          <a:pt x="1136" y="568"/>
                        </a:moveTo>
                        <a:lnTo>
                          <a:pt x="0" y="568"/>
                        </a:lnTo>
                        <a:lnTo>
                          <a:pt x="0" y="426"/>
                        </a:lnTo>
                        <a:lnTo>
                          <a:pt x="113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" name=""/>
                <p:cNvSpPr/>
                <p:nvPr/>
              </p:nvSpPr>
              <p:spPr>
                <a:xfrm>
                  <a:off x="2008080" y="2429280"/>
                  <a:ext cx="270360" cy="388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008080" y="2477880"/>
                  <a:ext cx="360" cy="29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278080" y="2477880"/>
                  <a:ext cx="0" cy="29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"/>
              <p:cNvSpPr/>
              <p:nvPr/>
            </p:nvSpPr>
            <p:spPr>
              <a:xfrm>
                <a:off x="2143440" y="2148480"/>
                <a:ext cx="3603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32000" y="1916280"/>
                <a:ext cx="162288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</a:rPr>
                  <a:t>Clavos rieler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422000" y="2907720"/>
                <a:ext cx="1983240" cy="630720"/>
              </a:xfrm>
              <a:custGeom>
                <a:avLst/>
                <a:gdLst/>
                <a:ahLst/>
                <a:rect l="l" t="t" r="r" b="b"/>
                <a:pathLst>
                  <a:path w="2840" h="994">
                    <a:moveTo>
                      <a:pt x="2556" y="0"/>
                    </a:moveTo>
                    <a:lnTo>
                      <a:pt x="0" y="0"/>
                    </a:lnTo>
                    <a:lnTo>
                      <a:pt x="0" y="994"/>
                    </a:lnTo>
                    <a:lnTo>
                      <a:pt x="2698" y="994"/>
                    </a:lnTo>
                    <a:lnTo>
                      <a:pt x="1988" y="852"/>
                    </a:lnTo>
                    <a:lnTo>
                      <a:pt x="2698" y="710"/>
                    </a:lnTo>
                    <a:lnTo>
                      <a:pt x="2272" y="426"/>
                    </a:lnTo>
                    <a:lnTo>
                      <a:pt x="2840" y="284"/>
                    </a:lnTo>
                    <a:lnTo>
                      <a:pt x="2272" y="142"/>
                    </a:lnTo>
                    <a:lnTo>
                      <a:pt x="255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0" name=""/>
              <p:cNvGrpSpPr/>
              <p:nvPr/>
            </p:nvGrpSpPr>
            <p:grpSpPr>
              <a:xfrm>
                <a:off x="2348640" y="2711520"/>
                <a:ext cx="313920" cy="580320"/>
                <a:chOff x="2348640" y="2711520"/>
                <a:chExt cx="313920" cy="580320"/>
              </a:xfrm>
            </p:grpSpPr>
            <p:sp>
              <p:nvSpPr>
                <p:cNvPr id="711" name=""/>
                <p:cNvSpPr/>
                <p:nvPr/>
              </p:nvSpPr>
              <p:spPr>
                <a:xfrm rot="1320000">
                  <a:off x="2383200" y="2758320"/>
                  <a:ext cx="270360" cy="10116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142" y="426"/>
                      </a:moveTo>
                      <a:lnTo>
                        <a:pt x="1278" y="426"/>
                      </a:lnTo>
                      <a:lnTo>
                        <a:pt x="1278" y="142"/>
                      </a:lnTo>
                      <a:lnTo>
                        <a:pt x="994" y="0"/>
                      </a:lnTo>
                      <a:lnTo>
                        <a:pt x="710" y="0"/>
                      </a:lnTo>
                      <a:lnTo>
                        <a:pt x="0" y="284"/>
                      </a:lnTo>
                      <a:lnTo>
                        <a:pt x="0" y="426"/>
                      </a:lnTo>
                      <a:lnTo>
                        <a:pt x="142" y="4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rot="1320000">
                  <a:off x="2428560" y="2856600"/>
                  <a:ext cx="60120" cy="439560"/>
                </a:xfrm>
                <a:custGeom>
                  <a:avLst/>
                  <a:gdLst/>
                  <a:ahLst/>
                  <a:rect l="l" t="t" r="r" b="b"/>
                  <a:pathLst>
                    <a:path w="284" h="1846">
                      <a:moveTo>
                        <a:pt x="284" y="0"/>
                      </a:moveTo>
                      <a:lnTo>
                        <a:pt x="0" y="0"/>
                      </a:lnTo>
                      <a:lnTo>
                        <a:pt x="0" y="1846"/>
                      </a:lnTo>
                      <a:lnTo>
                        <a:pt x="284" y="1136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623600" y="2711520"/>
                <a:ext cx="314640" cy="579960"/>
                <a:chOff x="1623600" y="2711520"/>
                <a:chExt cx="314640" cy="579960"/>
              </a:xfrm>
            </p:grpSpPr>
            <p:sp>
              <p:nvSpPr>
                <p:cNvPr id="714" name=""/>
                <p:cNvSpPr/>
                <p:nvPr/>
              </p:nvSpPr>
              <p:spPr>
                <a:xfrm flipH="1" rot="20280000">
                  <a:off x="1632960" y="2758320"/>
                  <a:ext cx="270360" cy="101160"/>
                </a:xfrm>
                <a:custGeom>
                  <a:avLst/>
                  <a:gdLst/>
                  <a:ahLst/>
                  <a:rect l="l" t="t" r="r" b="b"/>
                  <a:pathLst>
                    <a:path w="1278" h="426">
                      <a:moveTo>
                        <a:pt x="142" y="426"/>
                      </a:moveTo>
                      <a:lnTo>
                        <a:pt x="1278" y="426"/>
                      </a:lnTo>
                      <a:lnTo>
                        <a:pt x="1278" y="142"/>
                      </a:lnTo>
                      <a:lnTo>
                        <a:pt x="994" y="0"/>
                      </a:lnTo>
                      <a:lnTo>
                        <a:pt x="710" y="0"/>
                      </a:lnTo>
                      <a:lnTo>
                        <a:pt x="0" y="284"/>
                      </a:lnTo>
                      <a:lnTo>
                        <a:pt x="0" y="426"/>
                      </a:lnTo>
                      <a:lnTo>
                        <a:pt x="142" y="4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 rot="20280000">
                  <a:off x="1797120" y="2856600"/>
                  <a:ext cx="60120" cy="439560"/>
                </a:xfrm>
                <a:custGeom>
                  <a:avLst/>
                  <a:gdLst/>
                  <a:ahLst/>
                  <a:rect l="l" t="t" r="r" b="b"/>
                  <a:pathLst>
                    <a:path w="284" h="1846">
                      <a:moveTo>
                        <a:pt x="284" y="0"/>
                      </a:moveTo>
                      <a:lnTo>
                        <a:pt x="0" y="0"/>
                      </a:lnTo>
                      <a:lnTo>
                        <a:pt x="0" y="1846"/>
                      </a:lnTo>
                      <a:lnTo>
                        <a:pt x="284" y="1136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 flipH="1">
                <a:off x="1782360" y="2156040"/>
                <a:ext cx="3603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3676320" y="1916280"/>
              <a:ext cx="2073600" cy="1622160"/>
              <a:chOff x="3676320" y="1916280"/>
              <a:chExt cx="2073600" cy="1622160"/>
            </a:xfrm>
          </p:grpSpPr>
          <p:grpSp>
            <p:nvGrpSpPr>
              <p:cNvPr id="718" name=""/>
              <p:cNvGrpSpPr/>
              <p:nvPr/>
            </p:nvGrpSpPr>
            <p:grpSpPr>
              <a:xfrm>
                <a:off x="4127040" y="2186280"/>
                <a:ext cx="720360" cy="721080"/>
                <a:chOff x="4127040" y="2186280"/>
                <a:chExt cx="720360" cy="72108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4217040" y="2186280"/>
                  <a:ext cx="540720" cy="291600"/>
                </a:xfrm>
                <a:prstGeom prst="roundRect">
                  <a:avLst>
                    <a:gd name="adj" fmla="val 3638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0" name=""/>
                <p:cNvGrpSpPr/>
                <p:nvPr/>
              </p:nvGrpSpPr>
              <p:grpSpPr>
                <a:xfrm>
                  <a:off x="4127040" y="2712960"/>
                  <a:ext cx="720360" cy="194400"/>
                  <a:chOff x="4127040" y="2712960"/>
                  <a:chExt cx="720360" cy="19440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>
                    <a:off x="4127040" y="2712960"/>
                    <a:ext cx="36036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6" h="568">
                        <a:moveTo>
                          <a:pt x="1136" y="568"/>
                        </a:moveTo>
                        <a:lnTo>
                          <a:pt x="0" y="568"/>
                        </a:lnTo>
                        <a:lnTo>
                          <a:pt x="0" y="426"/>
                        </a:lnTo>
                        <a:lnTo>
                          <a:pt x="113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H="1">
                    <a:off x="4486680" y="2712960"/>
                    <a:ext cx="36036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6" h="568">
                        <a:moveTo>
                          <a:pt x="1136" y="568"/>
                        </a:moveTo>
                        <a:lnTo>
                          <a:pt x="0" y="568"/>
                        </a:lnTo>
                        <a:lnTo>
                          <a:pt x="0" y="426"/>
                        </a:lnTo>
                        <a:lnTo>
                          <a:pt x="113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3" name=""/>
                <p:cNvSpPr/>
                <p:nvPr/>
              </p:nvSpPr>
              <p:spPr>
                <a:xfrm>
                  <a:off x="4352400" y="2429280"/>
                  <a:ext cx="270360" cy="3888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352400" y="2477880"/>
                  <a:ext cx="360" cy="29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622400" y="2477880"/>
                  <a:ext cx="0" cy="291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"/>
              <p:cNvSpPr/>
              <p:nvPr/>
            </p:nvSpPr>
            <p:spPr>
              <a:xfrm>
                <a:off x="4487760" y="2148480"/>
                <a:ext cx="3603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676320" y="1916280"/>
                <a:ext cx="162288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200" spc="-1" strike="noStrike">
                    <a:solidFill>
                      <a:srgbClr val="000000"/>
                    </a:solidFill>
                    <a:latin typeface="Arial"/>
                  </a:rPr>
                  <a:t>Pernos rieler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766320" y="2907720"/>
                <a:ext cx="1983600" cy="630720"/>
              </a:xfrm>
              <a:custGeom>
                <a:avLst/>
                <a:gdLst/>
                <a:ahLst/>
                <a:rect l="l" t="t" r="r" b="b"/>
                <a:pathLst>
                  <a:path w="2840" h="994">
                    <a:moveTo>
                      <a:pt x="2556" y="0"/>
                    </a:moveTo>
                    <a:lnTo>
                      <a:pt x="0" y="0"/>
                    </a:lnTo>
                    <a:lnTo>
                      <a:pt x="0" y="994"/>
                    </a:lnTo>
                    <a:lnTo>
                      <a:pt x="2698" y="994"/>
                    </a:lnTo>
                    <a:lnTo>
                      <a:pt x="1988" y="852"/>
                    </a:lnTo>
                    <a:lnTo>
                      <a:pt x="2698" y="710"/>
                    </a:lnTo>
                    <a:lnTo>
                      <a:pt x="2272" y="426"/>
                    </a:lnTo>
                    <a:lnTo>
                      <a:pt x="2840" y="284"/>
                    </a:lnTo>
                    <a:lnTo>
                      <a:pt x="2272" y="142"/>
                    </a:lnTo>
                    <a:lnTo>
                      <a:pt x="2556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4126680" y="2156040"/>
                <a:ext cx="3603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0" name=""/>
              <p:cNvGrpSpPr/>
              <p:nvPr/>
            </p:nvGrpSpPr>
            <p:grpSpPr>
              <a:xfrm>
                <a:off x="3961800" y="2727360"/>
                <a:ext cx="180360" cy="413640"/>
                <a:chOff x="3961800" y="2727360"/>
                <a:chExt cx="180360" cy="413640"/>
              </a:xfrm>
            </p:grpSpPr>
            <p:grpSp>
              <p:nvGrpSpPr>
                <p:cNvPr id="731" name=""/>
                <p:cNvGrpSpPr/>
                <p:nvPr/>
              </p:nvGrpSpPr>
              <p:grpSpPr>
                <a:xfrm>
                  <a:off x="4006080" y="2727360"/>
                  <a:ext cx="90000" cy="180000"/>
                  <a:chOff x="4006080" y="2727360"/>
                  <a:chExt cx="90000" cy="18000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4031640" y="2727360"/>
                    <a:ext cx="3852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2414">
                        <a:moveTo>
                          <a:pt x="0" y="0"/>
                        </a:moveTo>
                        <a:lnTo>
                          <a:pt x="0" y="2414"/>
                        </a:lnTo>
                        <a:lnTo>
                          <a:pt x="426" y="2414"/>
                        </a:lnTo>
                        <a:lnTo>
                          <a:pt x="42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006080" y="273780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006080" y="276948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4006080" y="280152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4006080" y="283320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4006080" y="286524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8" name=""/>
                <p:cNvSpPr/>
                <p:nvPr/>
              </p:nvSpPr>
              <p:spPr>
                <a:xfrm>
                  <a:off x="3961800" y="3051000"/>
                  <a:ext cx="180360" cy="90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9" name=""/>
                <p:cNvGrpSpPr/>
                <p:nvPr/>
              </p:nvGrpSpPr>
              <p:grpSpPr>
                <a:xfrm>
                  <a:off x="4006080" y="2887200"/>
                  <a:ext cx="90000" cy="180000"/>
                  <a:chOff x="4006080" y="2887200"/>
                  <a:chExt cx="90000" cy="18000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>
                    <a:off x="4031640" y="2887200"/>
                    <a:ext cx="3852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2414">
                        <a:moveTo>
                          <a:pt x="0" y="0"/>
                        </a:moveTo>
                        <a:lnTo>
                          <a:pt x="0" y="2414"/>
                        </a:lnTo>
                        <a:lnTo>
                          <a:pt x="426" y="2414"/>
                        </a:lnTo>
                        <a:lnTo>
                          <a:pt x="42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4006080" y="289764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4006080" y="292932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4006080" y="296136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4006080" y="299304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4006080" y="302508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" name=""/>
              <p:cNvGrpSpPr/>
              <p:nvPr/>
            </p:nvGrpSpPr>
            <p:grpSpPr>
              <a:xfrm>
                <a:off x="4833000" y="2727360"/>
                <a:ext cx="180000" cy="413640"/>
                <a:chOff x="4833000" y="2727360"/>
                <a:chExt cx="180000" cy="413640"/>
              </a:xfrm>
            </p:grpSpPr>
            <p:grpSp>
              <p:nvGrpSpPr>
                <p:cNvPr id="747" name=""/>
                <p:cNvGrpSpPr/>
                <p:nvPr/>
              </p:nvGrpSpPr>
              <p:grpSpPr>
                <a:xfrm>
                  <a:off x="4877280" y="2727360"/>
                  <a:ext cx="90000" cy="180000"/>
                  <a:chOff x="4877280" y="2727360"/>
                  <a:chExt cx="90000" cy="180000"/>
                </a:xfrm>
              </p:grpSpPr>
              <p:sp>
                <p:nvSpPr>
                  <p:cNvPr id="748" name=""/>
                  <p:cNvSpPr/>
                  <p:nvPr/>
                </p:nvSpPr>
                <p:spPr>
                  <a:xfrm>
                    <a:off x="4902840" y="2727360"/>
                    <a:ext cx="3852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2414">
                        <a:moveTo>
                          <a:pt x="0" y="0"/>
                        </a:moveTo>
                        <a:lnTo>
                          <a:pt x="0" y="2414"/>
                        </a:lnTo>
                        <a:lnTo>
                          <a:pt x="426" y="2414"/>
                        </a:lnTo>
                        <a:lnTo>
                          <a:pt x="42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877280" y="273780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4877280" y="276948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4877280" y="280152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4877280" y="283320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4877280" y="286524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4" name=""/>
                <p:cNvSpPr/>
                <p:nvPr/>
              </p:nvSpPr>
              <p:spPr>
                <a:xfrm>
                  <a:off x="4833000" y="3051000"/>
                  <a:ext cx="180000" cy="90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5" name=""/>
                <p:cNvGrpSpPr/>
                <p:nvPr/>
              </p:nvGrpSpPr>
              <p:grpSpPr>
                <a:xfrm>
                  <a:off x="4877280" y="2887200"/>
                  <a:ext cx="90000" cy="180000"/>
                  <a:chOff x="4877280" y="2887200"/>
                  <a:chExt cx="90000" cy="18000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>
                    <a:off x="4902840" y="2887200"/>
                    <a:ext cx="3852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2414">
                        <a:moveTo>
                          <a:pt x="0" y="0"/>
                        </a:moveTo>
                        <a:lnTo>
                          <a:pt x="0" y="2414"/>
                        </a:lnTo>
                        <a:lnTo>
                          <a:pt x="426" y="2414"/>
                        </a:lnTo>
                        <a:lnTo>
                          <a:pt x="42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4877280" y="289764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4877280" y="292932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4877280" y="296136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4877280" y="299304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877280" y="3025080"/>
                    <a:ext cx="900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4" h="426">
                        <a:moveTo>
                          <a:pt x="284" y="0"/>
                        </a:moveTo>
                        <a:lnTo>
                          <a:pt x="0" y="142"/>
                        </a:lnTo>
                        <a:lnTo>
                          <a:pt x="994" y="284"/>
                        </a:lnTo>
                        <a:lnTo>
                          <a:pt x="284" y="426"/>
                        </a:lnTo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2" name=""/>
              <p:cNvGrpSpPr/>
              <p:nvPr/>
            </p:nvGrpSpPr>
            <p:grpSpPr>
              <a:xfrm>
                <a:off x="3931560" y="2748960"/>
                <a:ext cx="380880" cy="153000"/>
                <a:chOff x="3931560" y="2748960"/>
                <a:chExt cx="380880" cy="15300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3931560" y="2757600"/>
                  <a:ext cx="380880" cy="144360"/>
                </a:xfrm>
                <a:custGeom>
                  <a:avLst/>
                  <a:gdLst/>
                  <a:ahLst/>
                  <a:rect l="l" t="t" r="r" b="b"/>
                  <a:pathLst>
                    <a:path w="600" h="228">
                      <a:moveTo>
                        <a:pt x="0" y="132"/>
                      </a:moveTo>
                      <a:lnTo>
                        <a:pt x="252" y="132"/>
                      </a:lnTo>
                      <a:lnTo>
                        <a:pt x="324" y="120"/>
                      </a:lnTo>
                      <a:lnTo>
                        <a:pt x="600" y="0"/>
                      </a:lnTo>
                      <a:lnTo>
                        <a:pt x="600" y="72"/>
                      </a:lnTo>
                      <a:lnTo>
                        <a:pt x="312" y="180"/>
                      </a:lnTo>
                      <a:lnTo>
                        <a:pt x="276" y="228"/>
                      </a:lnTo>
                      <a:lnTo>
                        <a:pt x="0" y="228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"/>
                <p:cNvGrpSpPr/>
                <p:nvPr/>
              </p:nvGrpSpPr>
              <p:grpSpPr>
                <a:xfrm>
                  <a:off x="3961800" y="2748960"/>
                  <a:ext cx="180360" cy="90000"/>
                  <a:chOff x="3961800" y="2748960"/>
                  <a:chExt cx="180360" cy="9000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3961800" y="2748960"/>
                    <a:ext cx="45000" cy="9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4097160" y="2748960"/>
                    <a:ext cx="45000" cy="9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4006800" y="2748960"/>
                    <a:ext cx="90000" cy="9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8" name=""/>
              <p:cNvGrpSpPr/>
              <p:nvPr/>
            </p:nvGrpSpPr>
            <p:grpSpPr>
              <a:xfrm>
                <a:off x="4660200" y="2754000"/>
                <a:ext cx="380880" cy="153000"/>
                <a:chOff x="4660200" y="2754000"/>
                <a:chExt cx="380880" cy="153000"/>
              </a:xfrm>
            </p:grpSpPr>
            <p:sp>
              <p:nvSpPr>
                <p:cNvPr id="769" name=""/>
                <p:cNvSpPr/>
                <p:nvPr/>
              </p:nvSpPr>
              <p:spPr>
                <a:xfrm flipH="1">
                  <a:off x="4660200" y="2762640"/>
                  <a:ext cx="380880" cy="144360"/>
                </a:xfrm>
                <a:custGeom>
                  <a:avLst/>
                  <a:gdLst/>
                  <a:ahLst/>
                  <a:rect l="l" t="t" r="r" b="b"/>
                  <a:pathLst>
                    <a:path w="600" h="228">
                      <a:moveTo>
                        <a:pt x="0" y="132"/>
                      </a:moveTo>
                      <a:lnTo>
                        <a:pt x="252" y="132"/>
                      </a:lnTo>
                      <a:lnTo>
                        <a:pt x="324" y="120"/>
                      </a:lnTo>
                      <a:lnTo>
                        <a:pt x="600" y="0"/>
                      </a:lnTo>
                      <a:lnTo>
                        <a:pt x="600" y="72"/>
                      </a:lnTo>
                      <a:lnTo>
                        <a:pt x="312" y="180"/>
                      </a:lnTo>
                      <a:lnTo>
                        <a:pt x="276" y="228"/>
                      </a:lnTo>
                      <a:lnTo>
                        <a:pt x="0" y="228"/>
                      </a:lnTo>
                      <a:lnTo>
                        <a:pt x="0" y="1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0" name=""/>
                <p:cNvGrpSpPr/>
                <p:nvPr/>
              </p:nvGrpSpPr>
              <p:grpSpPr>
                <a:xfrm>
                  <a:off x="4830480" y="2754000"/>
                  <a:ext cx="180360" cy="90000"/>
                  <a:chOff x="4830480" y="2754000"/>
                  <a:chExt cx="180360" cy="90000"/>
                </a:xfrm>
              </p:grpSpPr>
              <p:sp>
                <p:nvSpPr>
                  <p:cNvPr id="771" name=""/>
                  <p:cNvSpPr/>
                  <p:nvPr/>
                </p:nvSpPr>
                <p:spPr>
                  <a:xfrm flipH="1">
                    <a:off x="4965480" y="2754000"/>
                    <a:ext cx="45000" cy="9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>
                    <a:off x="4830120" y="2754000"/>
                    <a:ext cx="45000" cy="9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>
                    <a:off x="4875840" y="2754000"/>
                    <a:ext cx="90000" cy="90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74" name=""/>
          <p:cNvGrpSpPr/>
          <p:nvPr/>
        </p:nvGrpSpPr>
        <p:grpSpPr>
          <a:xfrm>
            <a:off x="1332000" y="4292640"/>
            <a:ext cx="5410080" cy="901800"/>
            <a:chOff x="1332000" y="4292640"/>
            <a:chExt cx="5410080" cy="901800"/>
          </a:xfrm>
        </p:grpSpPr>
        <p:grpSp>
          <p:nvGrpSpPr>
            <p:cNvPr id="775" name=""/>
            <p:cNvGrpSpPr/>
            <p:nvPr/>
          </p:nvGrpSpPr>
          <p:grpSpPr>
            <a:xfrm>
              <a:off x="1332000" y="4292640"/>
              <a:ext cx="5410080" cy="901800"/>
              <a:chOff x="1332000" y="4292640"/>
              <a:chExt cx="5410080" cy="901800"/>
            </a:xfrm>
          </p:grpSpPr>
          <p:grpSp>
            <p:nvGrpSpPr>
              <p:cNvPr id="776" name=""/>
              <p:cNvGrpSpPr/>
              <p:nvPr/>
            </p:nvGrpSpPr>
            <p:grpSpPr>
              <a:xfrm>
                <a:off x="1332000" y="4292640"/>
                <a:ext cx="2795040" cy="541080"/>
                <a:chOff x="1332000" y="4292640"/>
                <a:chExt cx="2795040" cy="54108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1332000" y="4292640"/>
                  <a:ext cx="2795040" cy="180360"/>
                </a:xfrm>
                <a:custGeom>
                  <a:avLst/>
                  <a:gdLst/>
                  <a:ahLst/>
                  <a:rect l="l" t="t" r="r" b="b"/>
                  <a:pathLst>
                    <a:path w="4544" h="426">
                      <a:moveTo>
                        <a:pt x="4" y="4"/>
                      </a:moveTo>
                      <a:lnTo>
                        <a:pt x="4544" y="0"/>
                      </a:lnTo>
                      <a:lnTo>
                        <a:pt x="4544" y="426"/>
                      </a:lnTo>
                      <a:lnTo>
                        <a:pt x="0" y="426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332000" y="4471560"/>
                  <a:ext cx="2795040" cy="270720"/>
                </a:xfrm>
                <a:custGeom>
                  <a:avLst/>
                  <a:gdLst/>
                  <a:ahLst/>
                  <a:rect l="l" t="t" r="r" b="b"/>
                  <a:pathLst>
                    <a:path w="4544" h="426">
                      <a:moveTo>
                        <a:pt x="4" y="4"/>
                      </a:moveTo>
                      <a:lnTo>
                        <a:pt x="4544" y="0"/>
                      </a:lnTo>
                      <a:lnTo>
                        <a:pt x="4544" y="426"/>
                      </a:lnTo>
                      <a:lnTo>
                        <a:pt x="0" y="426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32000" y="4743720"/>
                  <a:ext cx="2795040" cy="90000"/>
                </a:xfrm>
                <a:custGeom>
                  <a:avLst/>
                  <a:gdLst/>
                  <a:ahLst/>
                  <a:rect l="l" t="t" r="r" b="b"/>
                  <a:pathLst>
                    <a:path w="4544" h="426">
                      <a:moveTo>
                        <a:pt x="4" y="4"/>
                      </a:moveTo>
                      <a:lnTo>
                        <a:pt x="4544" y="0"/>
                      </a:lnTo>
                      <a:lnTo>
                        <a:pt x="4544" y="426"/>
                      </a:lnTo>
                      <a:lnTo>
                        <a:pt x="0" y="426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4148640" y="4292640"/>
                <a:ext cx="2593440" cy="541080"/>
                <a:chOff x="4148640" y="4292640"/>
                <a:chExt cx="2593440" cy="54108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4148640" y="4292640"/>
                  <a:ext cx="2593440" cy="180360"/>
                </a:xfrm>
                <a:custGeom>
                  <a:avLst/>
                  <a:gdLst/>
                  <a:ahLst/>
                  <a:rect l="l" t="t" r="r" b="b"/>
                  <a:pathLst>
                    <a:path w="4544" h="426">
                      <a:moveTo>
                        <a:pt x="4" y="4"/>
                      </a:moveTo>
                      <a:lnTo>
                        <a:pt x="4544" y="0"/>
                      </a:lnTo>
                      <a:lnTo>
                        <a:pt x="4544" y="426"/>
                      </a:lnTo>
                      <a:lnTo>
                        <a:pt x="0" y="426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148640" y="4471560"/>
                  <a:ext cx="2593440" cy="270720"/>
                </a:xfrm>
                <a:custGeom>
                  <a:avLst/>
                  <a:gdLst/>
                  <a:ahLst/>
                  <a:rect l="l" t="t" r="r" b="b"/>
                  <a:pathLst>
                    <a:path w="4544" h="426">
                      <a:moveTo>
                        <a:pt x="4" y="4"/>
                      </a:moveTo>
                      <a:lnTo>
                        <a:pt x="4544" y="0"/>
                      </a:lnTo>
                      <a:lnTo>
                        <a:pt x="4544" y="426"/>
                      </a:lnTo>
                      <a:lnTo>
                        <a:pt x="0" y="426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148640" y="4743720"/>
                  <a:ext cx="2593440" cy="90000"/>
                </a:xfrm>
                <a:custGeom>
                  <a:avLst/>
                  <a:gdLst/>
                  <a:ahLst/>
                  <a:rect l="l" t="t" r="r" b="b"/>
                  <a:pathLst>
                    <a:path w="4544" h="426">
                      <a:moveTo>
                        <a:pt x="4" y="4"/>
                      </a:moveTo>
                      <a:lnTo>
                        <a:pt x="4544" y="0"/>
                      </a:lnTo>
                      <a:lnTo>
                        <a:pt x="4544" y="426"/>
                      </a:lnTo>
                      <a:lnTo>
                        <a:pt x="0" y="426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>
                <a:off x="3375360" y="4518720"/>
                <a:ext cx="1532880" cy="180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405600" y="4563000"/>
                <a:ext cx="9000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558240" y="4563000"/>
                <a:ext cx="9000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10520" y="4563000"/>
                <a:ext cx="9000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88720" y="4563000"/>
                <a:ext cx="9000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487760" y="4563000"/>
                <a:ext cx="9000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640040" y="4563000"/>
                <a:ext cx="90000" cy="90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2684160" y="4660920"/>
                <a:ext cx="434160" cy="180000"/>
                <a:chOff x="2684160" y="4660920"/>
                <a:chExt cx="434160" cy="18000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2937960" y="4660920"/>
                  <a:ext cx="180360" cy="180000"/>
                  <a:chOff x="2937960" y="4660920"/>
                  <a:chExt cx="180360" cy="18000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2937960" y="4660920"/>
                    <a:ext cx="1803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284">
                        <a:moveTo>
                          <a:pt x="0" y="284"/>
                        </a:moveTo>
                        <a:lnTo>
                          <a:pt x="568" y="284"/>
                        </a:lnTo>
                        <a:lnTo>
                          <a:pt x="568" y="142"/>
                        </a:lnTo>
                        <a:lnTo>
                          <a:pt x="284" y="0"/>
                        </a:lnTo>
                        <a:lnTo>
                          <a:pt x="0" y="142"/>
                        </a:lnTo>
                        <a:lnTo>
                          <a:pt x="0" y="2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2986920" y="4750920"/>
                    <a:ext cx="78840" cy="90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5" name=""/>
                <p:cNvGrpSpPr/>
                <p:nvPr/>
              </p:nvGrpSpPr>
              <p:grpSpPr>
                <a:xfrm>
                  <a:off x="2684160" y="4660920"/>
                  <a:ext cx="180360" cy="180000"/>
                  <a:chOff x="2684160" y="4660920"/>
                  <a:chExt cx="180360" cy="180000"/>
                </a:xfrm>
              </p:grpSpPr>
              <p:sp>
                <p:nvSpPr>
                  <p:cNvPr id="796" name=""/>
                  <p:cNvSpPr/>
                  <p:nvPr/>
                </p:nvSpPr>
                <p:spPr>
                  <a:xfrm>
                    <a:off x="2684160" y="4660920"/>
                    <a:ext cx="18036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284">
                        <a:moveTo>
                          <a:pt x="0" y="284"/>
                        </a:moveTo>
                        <a:lnTo>
                          <a:pt x="568" y="284"/>
                        </a:lnTo>
                        <a:lnTo>
                          <a:pt x="568" y="142"/>
                        </a:lnTo>
                        <a:lnTo>
                          <a:pt x="284" y="0"/>
                        </a:lnTo>
                        <a:lnTo>
                          <a:pt x="0" y="142"/>
                        </a:lnTo>
                        <a:lnTo>
                          <a:pt x="0" y="284"/>
                        </a:lnTo>
                        <a:close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2733120" y="4750920"/>
                    <a:ext cx="78840" cy="9000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8" name=""/>
              <p:cNvGrpSpPr/>
              <p:nvPr/>
            </p:nvGrpSpPr>
            <p:grpSpPr>
              <a:xfrm>
                <a:off x="5135400" y="4653360"/>
                <a:ext cx="433800" cy="180000"/>
                <a:chOff x="5135400" y="4653360"/>
                <a:chExt cx="433800" cy="180000"/>
              </a:xfrm>
            </p:grpSpPr>
            <p:grpSp>
              <p:nvGrpSpPr>
                <p:cNvPr id="799" name=""/>
                <p:cNvGrpSpPr/>
                <p:nvPr/>
              </p:nvGrpSpPr>
              <p:grpSpPr>
                <a:xfrm>
                  <a:off x="5389200" y="4653360"/>
                  <a:ext cx="180000" cy="180000"/>
                  <a:chOff x="5389200" y="4653360"/>
                  <a:chExt cx="180000" cy="18000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5389200" y="4653360"/>
                    <a:ext cx="1800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284">
                        <a:moveTo>
                          <a:pt x="0" y="284"/>
                        </a:moveTo>
                        <a:lnTo>
                          <a:pt x="568" y="284"/>
                        </a:lnTo>
                        <a:lnTo>
                          <a:pt x="568" y="142"/>
                        </a:lnTo>
                        <a:lnTo>
                          <a:pt x="284" y="0"/>
                        </a:lnTo>
                        <a:lnTo>
                          <a:pt x="0" y="142"/>
                        </a:lnTo>
                        <a:lnTo>
                          <a:pt x="0" y="2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5437800" y="4743360"/>
                    <a:ext cx="78480" cy="90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2" name=""/>
                <p:cNvGrpSpPr/>
                <p:nvPr/>
              </p:nvGrpSpPr>
              <p:grpSpPr>
                <a:xfrm>
                  <a:off x="5135400" y="4653360"/>
                  <a:ext cx="180000" cy="180000"/>
                  <a:chOff x="5135400" y="4653360"/>
                  <a:chExt cx="180000" cy="180000"/>
                </a:xfrm>
              </p:grpSpPr>
              <p:sp>
                <p:nvSpPr>
                  <p:cNvPr id="803" name=""/>
                  <p:cNvSpPr/>
                  <p:nvPr/>
                </p:nvSpPr>
                <p:spPr>
                  <a:xfrm>
                    <a:off x="5135400" y="4653360"/>
                    <a:ext cx="1800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284">
                        <a:moveTo>
                          <a:pt x="0" y="284"/>
                        </a:moveTo>
                        <a:lnTo>
                          <a:pt x="568" y="284"/>
                        </a:lnTo>
                        <a:lnTo>
                          <a:pt x="568" y="142"/>
                        </a:lnTo>
                        <a:lnTo>
                          <a:pt x="284" y="0"/>
                        </a:lnTo>
                        <a:lnTo>
                          <a:pt x="0" y="142"/>
                        </a:lnTo>
                        <a:lnTo>
                          <a:pt x="0" y="284"/>
                        </a:lnTo>
                        <a:close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5184000" y="4743360"/>
                    <a:ext cx="78480" cy="9000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05" name=""/>
              <p:cNvSpPr/>
              <p:nvPr/>
            </p:nvSpPr>
            <p:spPr>
              <a:xfrm>
                <a:off x="2398680" y="4833720"/>
                <a:ext cx="991800" cy="360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848480" y="4833720"/>
                <a:ext cx="991800" cy="360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>
              <a:off x="3585960" y="4924080"/>
              <a:ext cx="108180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cli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926520" y="4615200"/>
              <a:ext cx="213120" cy="365760"/>
            </a:xfrm>
            <a:custGeom>
              <a:avLst/>
              <a:gdLst/>
              <a:ahLst/>
              <a:rect l="l" t="t" r="r" b="b"/>
              <a:pathLst>
                <a:path w="336" h="576">
                  <a:moveTo>
                    <a:pt x="336" y="576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6516720" y="1268280"/>
            <a:ext cx="24480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ieles se unen a durmientes por medi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lavos rieleros (durmientes de made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nos rieleros (durmientes de concret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403280" y="573408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ieles se unen por medio de eclisas, el orificio de este es ovalado para evitar corte de los pernos por cizall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Peral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onstruyen peraltes para contra-restar las fuerzas centrifugas en cur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042920" y="3261600"/>
            <a:ext cx="2141640" cy="2350080"/>
            <a:chOff x="1042920" y="3261600"/>
            <a:chExt cx="2141640" cy="2350080"/>
          </a:xfrm>
        </p:grpSpPr>
        <p:sp>
          <p:nvSpPr>
            <p:cNvPr id="814" name=""/>
            <p:cNvSpPr/>
            <p:nvPr/>
          </p:nvSpPr>
          <p:spPr>
            <a:xfrm>
              <a:off x="2643480" y="4199400"/>
              <a:ext cx="5410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h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42920" y="4033080"/>
              <a:ext cx="1893960" cy="722520"/>
            </a:xfrm>
            <a:custGeom>
              <a:avLst/>
              <a:gdLst/>
              <a:ahLst/>
              <a:rect l="l" t="t" r="r" b="b"/>
              <a:pathLst>
                <a:path w="2982" h="1138">
                  <a:moveTo>
                    <a:pt x="2880" y="0"/>
                  </a:moveTo>
                  <a:lnTo>
                    <a:pt x="0" y="1138"/>
                  </a:lnTo>
                  <a:lnTo>
                    <a:pt x="2982" y="1138"/>
                  </a:lnTo>
                </a:path>
              </a:pathLst>
            </a:custGeom>
            <a:noFill/>
            <a:ln w="1260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1218960" y="3261600"/>
              <a:ext cx="1195560" cy="1303560"/>
              <a:chOff x="1218960" y="3261600"/>
              <a:chExt cx="1195560" cy="1303560"/>
            </a:xfrm>
          </p:grpSpPr>
          <p:sp>
            <p:nvSpPr>
              <p:cNvPr id="817" name=""/>
              <p:cNvSpPr/>
              <p:nvPr/>
            </p:nvSpPr>
            <p:spPr>
              <a:xfrm rot="20202000">
                <a:off x="1251360" y="3389400"/>
                <a:ext cx="669960" cy="107280"/>
              </a:xfrm>
              <a:custGeom>
                <a:avLst/>
                <a:gdLst/>
                <a:ahLst/>
                <a:rect l="l" t="t" r="r" b="b"/>
                <a:pathLst>
                  <a:path w="1055" h="169">
                    <a:moveTo>
                      <a:pt x="85" y="148"/>
                    </a:moveTo>
                    <a:cubicBezTo>
                      <a:pt x="404" y="155"/>
                      <a:pt x="722" y="169"/>
                      <a:pt x="1041" y="168"/>
                    </a:cubicBezTo>
                    <a:cubicBezTo>
                      <a:pt x="1055" y="168"/>
                      <a:pt x="1019" y="148"/>
                      <a:pt x="1005" y="144"/>
                    </a:cubicBezTo>
                    <a:cubicBezTo>
                      <a:pt x="974" y="136"/>
                      <a:pt x="941" y="136"/>
                      <a:pt x="909" y="132"/>
                    </a:cubicBezTo>
                    <a:cubicBezTo>
                      <a:pt x="838" y="108"/>
                      <a:pt x="857" y="49"/>
                      <a:pt x="777" y="36"/>
                    </a:cubicBezTo>
                    <a:cubicBezTo>
                      <a:pt x="617" y="9"/>
                      <a:pt x="680" y="24"/>
                      <a:pt x="585" y="0"/>
                    </a:cubicBezTo>
                    <a:cubicBezTo>
                      <a:pt x="485" y="4"/>
                      <a:pt x="385" y="1"/>
                      <a:pt x="285" y="12"/>
                    </a:cubicBezTo>
                    <a:cubicBezTo>
                      <a:pt x="246" y="16"/>
                      <a:pt x="212" y="78"/>
                      <a:pt x="177" y="96"/>
                    </a:cubicBezTo>
                    <a:cubicBezTo>
                      <a:pt x="143" y="113"/>
                      <a:pt x="88" y="116"/>
                      <a:pt x="57" y="120"/>
                    </a:cubicBezTo>
                    <a:cubicBezTo>
                      <a:pt x="0" y="139"/>
                      <a:pt x="9" y="129"/>
                      <a:pt x="85" y="148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8" name=""/>
              <p:cNvGrpSpPr/>
              <p:nvPr/>
            </p:nvGrpSpPr>
            <p:grpSpPr>
              <a:xfrm>
                <a:off x="1469520" y="4011480"/>
                <a:ext cx="945000" cy="553680"/>
                <a:chOff x="1469520" y="4011480"/>
                <a:chExt cx="945000" cy="553680"/>
              </a:xfrm>
            </p:grpSpPr>
            <p:grpSp>
              <p:nvGrpSpPr>
                <p:cNvPr id="819" name=""/>
                <p:cNvGrpSpPr/>
                <p:nvPr/>
              </p:nvGrpSpPr>
              <p:grpSpPr>
                <a:xfrm>
                  <a:off x="1499400" y="4260600"/>
                  <a:ext cx="165960" cy="209160"/>
                  <a:chOff x="1499400" y="4260600"/>
                  <a:chExt cx="165960" cy="209160"/>
                </a:xfrm>
              </p:grpSpPr>
              <p:sp>
                <p:nvSpPr>
                  <p:cNvPr id="820" name=""/>
                  <p:cNvSpPr/>
                  <p:nvPr/>
                </p:nvSpPr>
                <p:spPr>
                  <a:xfrm rot="20310000">
                    <a:off x="1511280" y="4275360"/>
                    <a:ext cx="97200" cy="84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rot="20310000">
                    <a:off x="1565640" y="4344480"/>
                    <a:ext cx="43920" cy="95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rot="20310000">
                    <a:off x="1541160" y="4419360"/>
                    <a:ext cx="123120" cy="28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3" name=""/>
                <p:cNvGrpSpPr/>
                <p:nvPr/>
              </p:nvGrpSpPr>
              <p:grpSpPr>
                <a:xfrm>
                  <a:off x="2131560" y="4011480"/>
                  <a:ext cx="166320" cy="209160"/>
                  <a:chOff x="2131560" y="4011480"/>
                  <a:chExt cx="166320" cy="209160"/>
                </a:xfrm>
              </p:grpSpPr>
              <p:sp>
                <p:nvSpPr>
                  <p:cNvPr id="824" name=""/>
                  <p:cNvSpPr/>
                  <p:nvPr/>
                </p:nvSpPr>
                <p:spPr>
                  <a:xfrm rot="20310000">
                    <a:off x="2143440" y="4026240"/>
                    <a:ext cx="97200" cy="84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rot="20310000">
                    <a:off x="2198160" y="4095360"/>
                    <a:ext cx="43920" cy="954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rot="20310000">
                    <a:off x="2173680" y="4170240"/>
                    <a:ext cx="123120" cy="2844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7" name=""/>
                <p:cNvSpPr/>
                <p:nvPr/>
              </p:nvSpPr>
              <p:spPr>
                <a:xfrm rot="20310000">
                  <a:off x="1446120" y="4324680"/>
                  <a:ext cx="991800" cy="60840"/>
                </a:xfrm>
                <a:custGeom>
                  <a:avLst/>
                  <a:gdLst/>
                  <a:ahLst/>
                  <a:rect l="l" t="t" r="r" b="b"/>
                  <a:pathLst>
                    <a:path w="1564" h="96">
                      <a:moveTo>
                        <a:pt x="4" y="0"/>
                      </a:moveTo>
                      <a:lnTo>
                        <a:pt x="1564" y="0"/>
                      </a:lnTo>
                      <a:lnTo>
                        <a:pt x="1562" y="96"/>
                      </a:lnTo>
                      <a:lnTo>
                        <a:pt x="0" y="96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8" name=""/>
              <p:cNvGrpSpPr/>
              <p:nvPr/>
            </p:nvGrpSpPr>
            <p:grpSpPr>
              <a:xfrm>
                <a:off x="1480680" y="3862080"/>
                <a:ext cx="704880" cy="424440"/>
                <a:chOff x="1480680" y="3862080"/>
                <a:chExt cx="704880" cy="424440"/>
              </a:xfrm>
            </p:grpSpPr>
            <p:sp>
              <p:nvSpPr>
                <p:cNvPr id="829" name=""/>
                <p:cNvSpPr/>
                <p:nvPr/>
              </p:nvSpPr>
              <p:spPr>
                <a:xfrm rot="9510000">
                  <a:off x="2144880" y="3906720"/>
                  <a:ext cx="28080" cy="7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0" name=""/>
                <p:cNvGrpSpPr/>
                <p:nvPr/>
              </p:nvGrpSpPr>
              <p:grpSpPr>
                <a:xfrm>
                  <a:off x="2032560" y="3862080"/>
                  <a:ext cx="146160" cy="229320"/>
                  <a:chOff x="2032560" y="3862080"/>
                  <a:chExt cx="146160" cy="229320"/>
                </a:xfrm>
              </p:grpSpPr>
              <p:grpSp>
                <p:nvGrpSpPr>
                  <p:cNvPr id="831" name=""/>
                  <p:cNvGrpSpPr/>
                  <p:nvPr/>
                </p:nvGrpSpPr>
                <p:grpSpPr>
                  <a:xfrm>
                    <a:off x="2032560" y="3862080"/>
                    <a:ext cx="146160" cy="227880"/>
                    <a:chOff x="2032560" y="3862080"/>
                    <a:chExt cx="146160" cy="227880"/>
                  </a:xfrm>
                </p:grpSpPr>
                <p:sp>
                  <p:nvSpPr>
                    <p:cNvPr id="832" name=""/>
                    <p:cNvSpPr/>
                    <p:nvPr/>
                  </p:nvSpPr>
                  <p:spPr>
                    <a:xfrm rot="9510000">
                      <a:off x="2097000" y="3873240"/>
                      <a:ext cx="5184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852">
                          <a:moveTo>
                            <a:pt x="0" y="0"/>
                          </a:moveTo>
                          <a:lnTo>
                            <a:pt x="0" y="852"/>
                          </a:lnTo>
                          <a:lnTo>
                            <a:pt x="142" y="852"/>
                          </a:lnTo>
                          <a:lnTo>
                            <a:pt x="14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 rot="9510000">
                      <a:off x="2111400" y="4052520"/>
                      <a:ext cx="2592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168">
                          <a:moveTo>
                            <a:pt x="0" y="168"/>
                          </a:moveTo>
                          <a:lnTo>
                            <a:pt x="58" y="0"/>
                          </a:lnTo>
                          <a:lnTo>
                            <a:pt x="142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 flipV="1" rot="9510000">
                      <a:off x="2037600" y="3864960"/>
                      <a:ext cx="2592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168">
                          <a:moveTo>
                            <a:pt x="0" y="168"/>
                          </a:moveTo>
                          <a:lnTo>
                            <a:pt x="58" y="0"/>
                          </a:lnTo>
                          <a:lnTo>
                            <a:pt x="142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5" name=""/>
                  <p:cNvSpPr/>
                  <p:nvPr/>
                </p:nvSpPr>
                <p:spPr>
                  <a:xfrm rot="9510000">
                    <a:off x="2075400" y="3863520"/>
                    <a:ext cx="36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310">
                        <a:moveTo>
                          <a:pt x="0" y="2310"/>
                        </a:move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1486440" y="4058280"/>
                  <a:ext cx="148680" cy="228240"/>
                  <a:chOff x="1486440" y="4058280"/>
                  <a:chExt cx="148680" cy="228240"/>
                </a:xfrm>
              </p:grpSpPr>
              <p:grpSp>
                <p:nvGrpSpPr>
                  <p:cNvPr id="837" name=""/>
                  <p:cNvGrpSpPr/>
                  <p:nvPr/>
                </p:nvGrpSpPr>
                <p:grpSpPr>
                  <a:xfrm>
                    <a:off x="1486440" y="4058640"/>
                    <a:ext cx="147960" cy="227880"/>
                    <a:chOff x="1486440" y="4058640"/>
                    <a:chExt cx="147960" cy="227880"/>
                  </a:xfrm>
                </p:grpSpPr>
                <p:sp>
                  <p:nvSpPr>
                    <p:cNvPr id="838" name=""/>
                    <p:cNvSpPr/>
                    <p:nvPr/>
                  </p:nvSpPr>
                  <p:spPr>
                    <a:xfrm flipH="1" rot="9510000">
                      <a:off x="1515960" y="4098240"/>
                      <a:ext cx="5184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852">
                          <a:moveTo>
                            <a:pt x="0" y="0"/>
                          </a:moveTo>
                          <a:lnTo>
                            <a:pt x="0" y="852"/>
                          </a:lnTo>
                          <a:lnTo>
                            <a:pt x="142" y="852"/>
                          </a:lnTo>
                          <a:lnTo>
                            <a:pt x="14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 flipH="1" rot="9510000">
                      <a:off x="1602720" y="4249080"/>
                      <a:ext cx="2592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168">
                          <a:moveTo>
                            <a:pt x="0" y="168"/>
                          </a:moveTo>
                          <a:lnTo>
                            <a:pt x="58" y="0"/>
                          </a:lnTo>
                          <a:lnTo>
                            <a:pt x="142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flipH="1" flipV="1" rot="9510000">
                      <a:off x="1528920" y="4061520"/>
                      <a:ext cx="2592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168">
                          <a:moveTo>
                            <a:pt x="0" y="168"/>
                          </a:moveTo>
                          <a:lnTo>
                            <a:pt x="58" y="0"/>
                          </a:lnTo>
                          <a:lnTo>
                            <a:pt x="142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1" name=""/>
                  <p:cNvSpPr/>
                  <p:nvPr/>
                </p:nvSpPr>
                <p:spPr>
                  <a:xfrm flipH="1" rot="9510000">
                    <a:off x="1591200" y="4049640"/>
                    <a:ext cx="36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310">
                        <a:moveTo>
                          <a:pt x="0" y="2310"/>
                        </a:moveTo>
                        <a:lnTo>
                          <a:pt x="0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42" name=""/>
                <p:cNvSpPr/>
                <p:nvPr/>
              </p:nvSpPr>
              <p:spPr>
                <a:xfrm rot="9510000">
                  <a:off x="1572840" y="4035240"/>
                  <a:ext cx="519120" cy="7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rot="9510000">
                  <a:off x="1492920" y="4163760"/>
                  <a:ext cx="25920" cy="7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4" name=""/>
              <p:cNvSpPr/>
              <p:nvPr/>
            </p:nvSpPr>
            <p:spPr>
              <a:xfrm rot="20310000">
                <a:off x="1273320" y="3462480"/>
                <a:ext cx="811440" cy="45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1283760" y="4496040"/>
              <a:ext cx="358920" cy="72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987" y="1948"/>
                  </a:moveTo>
                  <a:arcTo wR="10800" hR="10800" stAng="-3302778" swAng="23150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987" y="1948"/>
                  </a:moveTo>
                  <a:arcTo wR="10800" hR="10800" stAng="-3302778" swAng="2315003"/>
                </a:path>
              </a:pathLst>
            </a:custGeom>
            <a:noFill/>
            <a:ln w="9360">
              <a:solidFill>
                <a:srgbClr val="33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69640" y="4545000"/>
              <a:ext cx="5410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674360" y="3658680"/>
              <a:ext cx="541080" cy="144252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1674360" y="3674880"/>
              <a:ext cx="541080" cy="1426320"/>
            </a:xfrm>
            <a:custGeom>
              <a:avLst/>
              <a:gdLst/>
              <a:ahLst/>
              <a:rect l="l" t="t" r="r" b="b"/>
              <a:pathLst>
                <a:path w="852" h="2246">
                  <a:moveTo>
                    <a:pt x="852" y="2246"/>
                  </a:moveTo>
                  <a:lnTo>
                    <a:pt x="0" y="2246"/>
                  </a:lnTo>
                  <a:lnTo>
                    <a:pt x="2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1673640" y="3658680"/>
              <a:ext cx="541080" cy="1425960"/>
            </a:xfrm>
            <a:custGeom>
              <a:avLst/>
              <a:gdLst/>
              <a:ahLst/>
              <a:rect l="l" t="t" r="r" b="b"/>
              <a:pathLst>
                <a:path w="852" h="2246">
                  <a:moveTo>
                    <a:pt x="852" y="2246"/>
                  </a:moveTo>
                  <a:lnTo>
                    <a:pt x="0" y="2246"/>
                  </a:lnTo>
                  <a:lnTo>
                    <a:pt x="2" y="0"/>
                  </a:lnTo>
                </a:path>
              </a:pathLst>
            </a:cu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39480" y="4920840"/>
              <a:ext cx="5410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034720" y="3508560"/>
              <a:ext cx="5410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576440" y="4440960"/>
              <a:ext cx="1172160" cy="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15440" y="4207320"/>
              <a:ext cx="541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731680" y="4214880"/>
              <a:ext cx="1800" cy="217080"/>
            </a:xfrm>
            <a:custGeom>
              <a:avLst/>
              <a:gdLst/>
              <a:ahLst/>
              <a:rect l="l" t="t" r="r" b="b"/>
              <a:pathLst>
                <a:path w="3" h="342">
                  <a:moveTo>
                    <a:pt x="0" y="0"/>
                  </a:moveTo>
                  <a:lnTo>
                    <a:pt x="3" y="34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14600" y="4446360"/>
              <a:ext cx="330120" cy="894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44600" y="4191840"/>
              <a:ext cx="330120" cy="894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933200" y="5030280"/>
              <a:ext cx="609480" cy="236160"/>
            </a:xfrm>
            <a:custGeom>
              <a:avLst/>
              <a:gdLst/>
              <a:ahLst/>
              <a:rect l="l" t="t" r="r" b="b"/>
              <a:pathLst>
                <a:path w="960" h="372">
                  <a:moveTo>
                    <a:pt x="960" y="0"/>
                  </a:moveTo>
                  <a:lnTo>
                    <a:pt x="0" y="37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34720" y="5160960"/>
              <a:ext cx="5410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5148360" y="1052640"/>
                <a:ext cx="1895400" cy="33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W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4211640" y="4724280"/>
            <a:ext cx="424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= radio de curv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 = velocidad del ferrocar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t= altura pera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c= fuerza centrifuga, W peso del conj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Empalmes y cr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419040" y="1159200"/>
            <a:ext cx="5574960" cy="3433320"/>
            <a:chOff x="419040" y="1159200"/>
            <a:chExt cx="5574960" cy="3433320"/>
          </a:xfrm>
        </p:grpSpPr>
        <p:grpSp>
          <p:nvGrpSpPr>
            <p:cNvPr id="863" name=""/>
            <p:cNvGrpSpPr/>
            <p:nvPr/>
          </p:nvGrpSpPr>
          <p:grpSpPr>
            <a:xfrm>
              <a:off x="419040" y="1159200"/>
              <a:ext cx="5574960" cy="3433320"/>
              <a:chOff x="419040" y="1159200"/>
              <a:chExt cx="5574960" cy="3433320"/>
            </a:xfrm>
          </p:grpSpPr>
          <p:grpSp>
            <p:nvGrpSpPr>
              <p:cNvPr id="864" name=""/>
              <p:cNvGrpSpPr/>
              <p:nvPr/>
            </p:nvGrpSpPr>
            <p:grpSpPr>
              <a:xfrm>
                <a:off x="419040" y="1159200"/>
                <a:ext cx="3617280" cy="3432960"/>
                <a:chOff x="419040" y="1159200"/>
                <a:chExt cx="3617280" cy="3432960"/>
              </a:xfrm>
            </p:grpSpPr>
            <p:grpSp>
              <p:nvGrpSpPr>
                <p:cNvPr id="865" name=""/>
                <p:cNvGrpSpPr/>
                <p:nvPr/>
              </p:nvGrpSpPr>
              <p:grpSpPr>
                <a:xfrm>
                  <a:off x="419040" y="1159200"/>
                  <a:ext cx="3617280" cy="3432960"/>
                  <a:chOff x="419040" y="1159200"/>
                  <a:chExt cx="3617280" cy="343296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 flipV="1" rot="5372400">
                    <a:off x="1396440" y="1952640"/>
                    <a:ext cx="2652480" cy="2605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429" y="3975"/>
                        </a:moveTo>
                        <a:arcTo wR="10800" hR="10800" stAng="-8448572" swAng="8816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429" y="3975"/>
                        </a:moveTo>
                        <a:arcTo wR="10800" hR="10800" stAng="-8448572" swAng="881671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7" name=""/>
                  <p:cNvGrpSpPr/>
                  <p:nvPr/>
                </p:nvGrpSpPr>
                <p:grpSpPr>
                  <a:xfrm>
                    <a:off x="419040" y="1159200"/>
                    <a:ext cx="2599560" cy="2658600"/>
                    <a:chOff x="419040" y="1159200"/>
                    <a:chExt cx="2599560" cy="2658600"/>
                  </a:xfrm>
                </p:grpSpPr>
                <p:sp>
                  <p:nvSpPr>
                    <p:cNvPr id="868" name=""/>
                    <p:cNvSpPr/>
                    <p:nvPr/>
                  </p:nvSpPr>
                  <p:spPr>
                    <a:xfrm flipH="1" rot="255000">
                      <a:off x="1972080" y="1854720"/>
                      <a:ext cx="430560" cy="78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 flipH="1">
                      <a:off x="1426680" y="2877840"/>
                      <a:ext cx="430560" cy="78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 flipH="1">
                      <a:off x="1378800" y="2720520"/>
                      <a:ext cx="5259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 flipH="1" rot="924600">
                      <a:off x="1953360" y="2011680"/>
                      <a:ext cx="430200" cy="78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 flipH="1" rot="20820000">
                      <a:off x="1186920" y="2282760"/>
                      <a:ext cx="43020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 flipH="1" rot="21402600">
                      <a:off x="1114920" y="1844640"/>
                      <a:ext cx="430560" cy="78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74" name=""/>
                    <p:cNvGrpSpPr/>
                    <p:nvPr/>
                  </p:nvGrpSpPr>
                  <p:grpSpPr>
                    <a:xfrm>
                      <a:off x="1425960" y="2995560"/>
                      <a:ext cx="430200" cy="433440"/>
                      <a:chOff x="1425960" y="2995560"/>
                      <a:chExt cx="430200" cy="433440"/>
                    </a:xfrm>
                  </p:grpSpPr>
                  <p:sp>
                    <p:nvSpPr>
                      <p:cNvPr id="875" name=""/>
                      <p:cNvSpPr/>
                      <p:nvPr/>
                    </p:nvSpPr>
                    <p:spPr>
                      <a:xfrm flipV="1">
                        <a:off x="1474560" y="2995560"/>
                        <a:ext cx="0" cy="4330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6" name=""/>
                      <p:cNvSpPr/>
                      <p:nvPr/>
                    </p:nvSpPr>
                    <p:spPr>
                      <a:xfrm flipH="1" rot="10800000">
                        <a:off x="1425600" y="3350520"/>
                        <a:ext cx="430200" cy="78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7" name=""/>
                      <p:cNvSpPr/>
                      <p:nvPr/>
                    </p:nvSpPr>
                    <p:spPr>
                      <a:xfrm flipH="1" rot="10800000">
                        <a:off x="1425600" y="3192840"/>
                        <a:ext cx="430200" cy="78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8" name=""/>
                      <p:cNvSpPr/>
                      <p:nvPr/>
                    </p:nvSpPr>
                    <p:spPr>
                      <a:xfrm flipH="1" rot="10800000">
                        <a:off x="1425600" y="3034800"/>
                        <a:ext cx="430200" cy="78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9" name=""/>
                      <p:cNvSpPr/>
                      <p:nvPr/>
                    </p:nvSpPr>
                    <p:spPr>
                      <a:xfrm flipV="1">
                        <a:off x="1805400" y="2995560"/>
                        <a:ext cx="0" cy="4330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80" name=""/>
                    <p:cNvGrpSpPr/>
                    <p:nvPr/>
                  </p:nvGrpSpPr>
                  <p:grpSpPr>
                    <a:xfrm>
                      <a:off x="804600" y="1186200"/>
                      <a:ext cx="1048680" cy="2536920"/>
                      <a:chOff x="804600" y="1186200"/>
                      <a:chExt cx="1048680" cy="2536920"/>
                    </a:xfrm>
                  </p:grpSpPr>
                  <p:sp>
                    <p:nvSpPr>
                      <p:cNvPr id="881" name=""/>
                      <p:cNvSpPr/>
                      <p:nvPr/>
                    </p:nvSpPr>
                    <p:spPr>
                      <a:xfrm flipH="1" flipV="1" rot="16227600">
                        <a:off x="458280" y="2698920"/>
                        <a:ext cx="1373040" cy="66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63" y="5041"/>
                            </a:moveTo>
                            <a:arcTo wR="10800" hR="10800" stAng="-8866635" swAng="3448141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63" y="5041"/>
                            </a:moveTo>
                            <a:arcTo wR="10800" hR="10800" stAng="-8866635" swAng="3448141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2" name=""/>
                      <p:cNvSpPr/>
                      <p:nvPr/>
                    </p:nvSpPr>
                    <p:spPr>
                      <a:xfrm rot="16227600">
                        <a:off x="826200" y="1540800"/>
                        <a:ext cx="1373040" cy="66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63" y="5041"/>
                            </a:moveTo>
                            <a:arcTo wR="10800" hR="10800" stAng="-8866635" swAng="3448141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63" y="5041"/>
                            </a:moveTo>
                            <a:arcTo wR="10800" hR="10800" stAng="-8866635" swAng="3448141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83" name=""/>
                    <p:cNvSpPr/>
                    <p:nvPr/>
                  </p:nvSpPr>
                  <p:spPr>
                    <a:xfrm flipV="1" rot="5372400">
                      <a:off x="1724040" y="2397240"/>
                      <a:ext cx="1372320" cy="120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63" y="5041"/>
                          </a:moveTo>
                          <a:arcTo wR="10800" hR="10800" stAng="-8866635" swAng="344814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63" y="5041"/>
                          </a:moveTo>
                          <a:arcTo wR="10800" hR="10800" stAng="-8866635" swAng="3448141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 flipH="1" rot="5372400">
                      <a:off x="1064520" y="1248120"/>
                      <a:ext cx="1373040" cy="120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63" y="5041"/>
                          </a:moveTo>
                          <a:arcTo wR="10800" hR="10800" stAng="-8866635" swAng="344814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63" y="5041"/>
                          </a:moveTo>
                          <a:arcTo wR="10800" hR="10800" stAng="-8866635" swAng="3448141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 flipH="1" rot="5372400">
                      <a:off x="536400" y="1059120"/>
                      <a:ext cx="1373400" cy="159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4778" y="1835"/>
                          </a:moveTo>
                          <a:arcTo wR="10800" hR="10800" stAng="-7433501" swAng="201500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4778" y="1835"/>
                          </a:moveTo>
                          <a:arcTo wR="10800" hR="10800" stAng="-7433501" swAng="2015007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 rot="16227600">
                      <a:off x="1119960" y="1531080"/>
                      <a:ext cx="1383120" cy="66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71" y="6324"/>
                          </a:moveTo>
                          <a:arcTo wR="10800" hR="10800" stAng="-9330929" swAng="381287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71" y="6324"/>
                          </a:moveTo>
                          <a:arcTo wR="10800" hR="10800" stAng="-9330929" swAng="3812877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 flipH="1" flipV="1" rot="16227600">
                      <a:off x="887760" y="2828880"/>
                      <a:ext cx="12859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46" y="4913"/>
                          </a:moveTo>
                          <a:arcTo wR="10800" hR="10800" stAng="-8818056" swAng="306505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46" y="4913"/>
                          </a:moveTo>
                          <a:arcTo wR="10800" hR="10800" stAng="-8818056" swAng="3065056"/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 flipV="1" rot="5372400">
                      <a:off x="1213200" y="2589840"/>
                      <a:ext cx="1492920" cy="9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959" y="3373"/>
                          </a:moveTo>
                          <a:arcTo wR="10800" hR="10800" stAng="-8193173" swAng="250006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959" y="3373"/>
                          </a:moveTo>
                          <a:arcTo wR="10800" hR="10800" stAng="-8193173" swAng="2500061"/>
                        </a:path>
                      </a:pathLst>
                    </a:custGeom>
                    <a:noFill/>
                    <a:ln w="2844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 flipH="1" rot="21285600">
                      <a:off x="1126440" y="1982520"/>
                      <a:ext cx="4305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 flipH="1" rot="21132000">
                      <a:off x="1146960" y="2129760"/>
                      <a:ext cx="4305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 flipH="1" rot="1372200">
                      <a:off x="1871640" y="2169000"/>
                      <a:ext cx="4305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 flipH="1" rot="2076600">
                      <a:off x="1775160" y="2304360"/>
                      <a:ext cx="4305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 flipH="1">
                      <a:off x="1187280" y="2326680"/>
                      <a:ext cx="909000" cy="31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8" h="1136">
                          <a:moveTo>
                            <a:pt x="0" y="710"/>
                          </a:moveTo>
                          <a:lnTo>
                            <a:pt x="1136" y="0"/>
                          </a:lnTo>
                          <a:lnTo>
                            <a:pt x="2698" y="568"/>
                          </a:lnTo>
                          <a:lnTo>
                            <a:pt x="2698" y="1136"/>
                          </a:lnTo>
                          <a:lnTo>
                            <a:pt x="0" y="1136"/>
                          </a:lnTo>
                          <a:lnTo>
                            <a:pt x="0" y="71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94" name=""/>
                <p:cNvSpPr/>
                <p:nvPr/>
              </p:nvSpPr>
              <p:spPr>
                <a:xfrm flipV="1">
                  <a:off x="1647000" y="2907360"/>
                  <a:ext cx="0" cy="39384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V="1">
                  <a:off x="1810080" y="2277360"/>
                  <a:ext cx="191160" cy="2754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6" name=""/>
              <p:cNvGrpSpPr/>
              <p:nvPr/>
            </p:nvGrpSpPr>
            <p:grpSpPr>
              <a:xfrm>
                <a:off x="2284200" y="1159560"/>
                <a:ext cx="3709800" cy="3432960"/>
                <a:chOff x="2284200" y="1159560"/>
                <a:chExt cx="3709800" cy="3432960"/>
              </a:xfrm>
            </p:grpSpPr>
            <p:grpSp>
              <p:nvGrpSpPr>
                <p:cNvPr id="897" name=""/>
                <p:cNvGrpSpPr/>
                <p:nvPr/>
              </p:nvGrpSpPr>
              <p:grpSpPr>
                <a:xfrm>
                  <a:off x="2284200" y="1159560"/>
                  <a:ext cx="3709800" cy="3432960"/>
                  <a:chOff x="2284200" y="1159560"/>
                  <a:chExt cx="3709800" cy="3432960"/>
                </a:xfrm>
              </p:grpSpPr>
              <p:sp>
                <p:nvSpPr>
                  <p:cNvPr id="898" name=""/>
                  <p:cNvSpPr/>
                  <p:nvPr/>
                </p:nvSpPr>
                <p:spPr>
                  <a:xfrm flipV="1" rot="5372400">
                    <a:off x="3321000" y="1919520"/>
                    <a:ext cx="2652480" cy="2671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429" y="3975"/>
                        </a:moveTo>
                        <a:arcTo wR="10800" hR="10800" stAng="-8448572" swAng="88167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429" y="3975"/>
                        </a:moveTo>
                        <a:arcTo wR="10800" hR="10800" stAng="-8448572" swAng="881671"/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9" name=""/>
                  <p:cNvGrpSpPr/>
                  <p:nvPr/>
                </p:nvGrpSpPr>
                <p:grpSpPr>
                  <a:xfrm>
                    <a:off x="2284200" y="1159560"/>
                    <a:ext cx="2665440" cy="2562480"/>
                    <a:chOff x="2284200" y="1159560"/>
                    <a:chExt cx="2665440" cy="2562480"/>
                  </a:xfrm>
                </p:grpSpPr>
                <p:sp>
                  <p:nvSpPr>
                    <p:cNvPr id="900" name=""/>
                    <p:cNvSpPr/>
                    <p:nvPr/>
                  </p:nvSpPr>
                  <p:spPr>
                    <a:xfrm flipH="1" rot="255000">
                      <a:off x="3877200" y="1854720"/>
                      <a:ext cx="441360" cy="78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 flipH="1">
                      <a:off x="3318120" y="2877840"/>
                      <a:ext cx="4413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 flipH="1">
                      <a:off x="3268800" y="2720160"/>
                      <a:ext cx="538920" cy="78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 flipH="1" rot="924600">
                      <a:off x="3857400" y="2011680"/>
                      <a:ext cx="4413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 flipH="1" rot="20820000">
                      <a:off x="3072240" y="2283120"/>
                      <a:ext cx="4413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 flipH="1" rot="21402600">
                      <a:off x="2998080" y="1844280"/>
                      <a:ext cx="4413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06" name=""/>
                    <p:cNvGrpSpPr/>
                    <p:nvPr/>
                  </p:nvGrpSpPr>
                  <p:grpSpPr>
                    <a:xfrm>
                      <a:off x="3318120" y="2995920"/>
                      <a:ext cx="441360" cy="432720"/>
                      <a:chOff x="3318120" y="2995920"/>
                      <a:chExt cx="441360" cy="432720"/>
                    </a:xfrm>
                  </p:grpSpPr>
                  <p:sp>
                    <p:nvSpPr>
                      <p:cNvPr id="907" name=""/>
                      <p:cNvSpPr/>
                      <p:nvPr/>
                    </p:nvSpPr>
                    <p:spPr>
                      <a:xfrm flipV="1">
                        <a:off x="3367080" y="2995920"/>
                        <a:ext cx="0" cy="432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8" name=""/>
                      <p:cNvSpPr/>
                      <p:nvPr/>
                    </p:nvSpPr>
                    <p:spPr>
                      <a:xfrm flipH="1" rot="10800000">
                        <a:off x="3318120" y="3350160"/>
                        <a:ext cx="441360" cy="78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9" name=""/>
                      <p:cNvSpPr/>
                      <p:nvPr/>
                    </p:nvSpPr>
                    <p:spPr>
                      <a:xfrm flipH="1" rot="10800000">
                        <a:off x="3318120" y="3192120"/>
                        <a:ext cx="441360" cy="788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0" name=""/>
                      <p:cNvSpPr/>
                      <p:nvPr/>
                    </p:nvSpPr>
                    <p:spPr>
                      <a:xfrm flipH="1" rot="10800000">
                        <a:off x="3318120" y="3035160"/>
                        <a:ext cx="441360" cy="78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1680" bIns="31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1" name=""/>
                      <p:cNvSpPr/>
                      <p:nvPr/>
                    </p:nvSpPr>
                    <p:spPr>
                      <a:xfrm flipV="1">
                        <a:off x="3706920" y="2995920"/>
                        <a:ext cx="0" cy="4327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12" name=""/>
                    <p:cNvGrpSpPr/>
                    <p:nvPr/>
                  </p:nvGrpSpPr>
                  <p:grpSpPr>
                    <a:xfrm>
                      <a:off x="2679840" y="1186200"/>
                      <a:ext cx="1074600" cy="2535840"/>
                      <a:chOff x="2679840" y="1186200"/>
                      <a:chExt cx="1074600" cy="2535840"/>
                    </a:xfrm>
                  </p:grpSpPr>
                  <p:sp>
                    <p:nvSpPr>
                      <p:cNvPr id="913" name=""/>
                      <p:cNvSpPr/>
                      <p:nvPr/>
                    </p:nvSpPr>
                    <p:spPr>
                      <a:xfrm flipH="1" flipV="1" rot="16227600">
                        <a:off x="2342160" y="2689920"/>
                        <a:ext cx="1372320" cy="68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63" y="5041"/>
                            </a:moveTo>
                            <a:arcTo wR="10800" hR="10800" stAng="-8866635" swAng="3448141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63" y="5041"/>
                            </a:moveTo>
                            <a:arcTo wR="10800" hR="10800" stAng="-8866635" swAng="3448141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4" name=""/>
                      <p:cNvSpPr/>
                      <p:nvPr/>
                    </p:nvSpPr>
                    <p:spPr>
                      <a:xfrm rot="16227600">
                        <a:off x="2719440" y="1532160"/>
                        <a:ext cx="1372320" cy="68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63" y="5041"/>
                            </a:moveTo>
                            <a:arcTo wR="10800" hR="10800" stAng="-8866635" swAng="3448141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63" y="5041"/>
                            </a:moveTo>
                            <a:arcTo wR="10800" hR="10800" stAng="-8866635" swAng="3448141"/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15" name=""/>
                    <p:cNvSpPr/>
                    <p:nvPr/>
                  </p:nvSpPr>
                  <p:spPr>
                    <a:xfrm flipV="1" rot="5372400">
                      <a:off x="3639600" y="2382840"/>
                      <a:ext cx="1373040" cy="123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63" y="5041"/>
                          </a:moveTo>
                          <a:arcTo wR="10800" hR="10800" stAng="-8866635" swAng="344814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63" y="5041"/>
                          </a:moveTo>
                          <a:arcTo wR="10800" hR="10800" stAng="-8866635" swAng="3448141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 flipH="1" rot="5372400">
                      <a:off x="2962800" y="1233000"/>
                      <a:ext cx="1372320" cy="123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63" y="5041"/>
                          </a:moveTo>
                          <a:arcTo wR="10800" hR="10800" stAng="-8866635" swAng="3448141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63" y="5041"/>
                          </a:moveTo>
                          <a:arcTo wR="10800" hR="10800" stAng="-8866635" swAng="3448141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 flipH="1" rot="5372400">
                      <a:off x="2422800" y="1038960"/>
                      <a:ext cx="1371960" cy="16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4778" y="1835"/>
                          </a:moveTo>
                          <a:arcTo wR="10800" hR="10800" stAng="-7433501" swAng="201500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4778" y="1835"/>
                          </a:moveTo>
                          <a:arcTo wR="10800" hR="10800" stAng="-7433501" swAng="2015007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 rot="16227600">
                      <a:off x="3020760" y="1522440"/>
                      <a:ext cx="1383120" cy="68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971" y="6324"/>
                          </a:moveTo>
                          <a:arcTo wR="10800" hR="10800" stAng="-9330929" swAng="381287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971" y="6324"/>
                          </a:moveTo>
                          <a:arcTo wR="10800" hR="10800" stAng="-9330929" swAng="3812877"/>
                        </a:path>
                      </a:pathLst>
                    </a:cu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 flipH="1" rot="21285600">
                      <a:off x="3010680" y="1982160"/>
                      <a:ext cx="4413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 flipH="1" rot="21132000">
                      <a:off x="3031200" y="2129400"/>
                      <a:ext cx="441360" cy="788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 flipH="1" rot="1372200">
                      <a:off x="3774600" y="2169360"/>
                      <a:ext cx="441360" cy="7812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 flipH="1" rot="2076600">
                      <a:off x="3674520" y="2303640"/>
                      <a:ext cx="441360" cy="78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 flipH="1">
                      <a:off x="3072240" y="2326680"/>
                      <a:ext cx="932040" cy="31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98" h="1136">
                          <a:moveTo>
                            <a:pt x="0" y="710"/>
                          </a:moveTo>
                          <a:lnTo>
                            <a:pt x="1136" y="0"/>
                          </a:lnTo>
                          <a:lnTo>
                            <a:pt x="2698" y="568"/>
                          </a:lnTo>
                          <a:lnTo>
                            <a:pt x="2698" y="1136"/>
                          </a:lnTo>
                          <a:lnTo>
                            <a:pt x="0" y="1136"/>
                          </a:lnTo>
                          <a:lnTo>
                            <a:pt x="0" y="710"/>
                          </a:lnTo>
                          <a:close/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4" name=""/>
                  <p:cNvSpPr/>
                  <p:nvPr/>
                </p:nvSpPr>
                <p:spPr>
                  <a:xfrm flipV="1" rot="5236200">
                    <a:off x="3115080" y="2624760"/>
                    <a:ext cx="1494000" cy="8830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819" y="3524"/>
                        </a:moveTo>
                        <a:arcTo wR="10800" hR="10800" stAng="-8258828" swAng="25799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819" y="3524"/>
                        </a:moveTo>
                        <a:arcTo wR="10800" hR="10800" stAng="-8258828" swAng="2579917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 flipH="1" flipV="1" rot="16092000">
                    <a:off x="2815200" y="2822040"/>
                    <a:ext cx="1285200" cy="487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746" y="4913"/>
                        </a:moveTo>
                        <a:arcTo wR="10800" hR="10800" stAng="-8818056" swAng="327622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746" y="4913"/>
                        </a:moveTo>
                        <a:arcTo wR="10800" hR="10800" stAng="-8818056" swAng="3276227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6" name=""/>
                <p:cNvSpPr/>
                <p:nvPr/>
              </p:nvSpPr>
              <p:spPr>
                <a:xfrm flipH="1" flipV="1">
                  <a:off x="3269160" y="2248200"/>
                  <a:ext cx="146520" cy="31464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V="1">
                  <a:off x="3535560" y="2907000"/>
                  <a:ext cx="0" cy="39384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8" name=""/>
            <p:cNvSpPr/>
            <p:nvPr/>
          </p:nvSpPr>
          <p:spPr>
            <a:xfrm>
              <a:off x="2158200" y="2533320"/>
              <a:ext cx="88164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palme de v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132000" y="4005360"/>
            <a:ext cx="4336920" cy="1832040"/>
            <a:chOff x="3132000" y="4005360"/>
            <a:chExt cx="4336920" cy="1832040"/>
          </a:xfrm>
        </p:grpSpPr>
        <p:grpSp>
          <p:nvGrpSpPr>
            <p:cNvPr id="930" name=""/>
            <p:cNvGrpSpPr/>
            <p:nvPr/>
          </p:nvGrpSpPr>
          <p:grpSpPr>
            <a:xfrm>
              <a:off x="3673080" y="4005360"/>
              <a:ext cx="3795840" cy="1832040"/>
              <a:chOff x="3673080" y="4005360"/>
              <a:chExt cx="3795840" cy="1832040"/>
            </a:xfrm>
          </p:grpSpPr>
          <p:grpSp>
            <p:nvGrpSpPr>
              <p:cNvPr id="931" name=""/>
              <p:cNvGrpSpPr/>
              <p:nvPr/>
            </p:nvGrpSpPr>
            <p:grpSpPr>
              <a:xfrm>
                <a:off x="3673080" y="4005360"/>
                <a:ext cx="3171600" cy="1767240"/>
                <a:chOff x="3673080" y="4005360"/>
                <a:chExt cx="3171600" cy="176724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3685680" y="5245920"/>
                  <a:ext cx="1976760" cy="526680"/>
                </a:xfrm>
                <a:custGeom>
                  <a:avLst/>
                  <a:gdLst/>
                  <a:ahLst/>
                  <a:rect l="l" t="t" r="r" b="b"/>
                  <a:pathLst>
                    <a:path w="3112" h="830">
                      <a:moveTo>
                        <a:pt x="3112" y="830"/>
                      </a:moveTo>
                      <a:lnTo>
                        <a:pt x="2286" y="0"/>
                      </a:lnTo>
                      <a:lnTo>
                        <a:pt x="0" y="1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487120" y="4599360"/>
                  <a:ext cx="1317960" cy="572760"/>
                </a:xfrm>
                <a:custGeom>
                  <a:avLst/>
                  <a:gdLst/>
                  <a:ahLst/>
                  <a:rect l="l" t="t" r="r" b="b"/>
                  <a:pathLst>
                    <a:path w="2075" h="902">
                      <a:moveTo>
                        <a:pt x="0" y="0"/>
                      </a:moveTo>
                      <a:lnTo>
                        <a:pt x="895" y="902"/>
                      </a:lnTo>
                      <a:lnTo>
                        <a:pt x="2075" y="902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229280" y="4180320"/>
                  <a:ext cx="1076040" cy="330480"/>
                </a:xfrm>
                <a:custGeom>
                  <a:avLst/>
                  <a:gdLst/>
                  <a:ahLst/>
                  <a:rect l="l" t="t" r="r" b="b"/>
                  <a:pathLst>
                    <a:path w="1694" h="521">
                      <a:moveTo>
                        <a:pt x="0" y="0"/>
                      </a:moveTo>
                      <a:lnTo>
                        <a:pt x="514" y="521"/>
                      </a:lnTo>
                      <a:lnTo>
                        <a:pt x="1694" y="521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673080" y="4005360"/>
                  <a:ext cx="749520" cy="483120"/>
                </a:xfrm>
                <a:custGeom>
                  <a:avLst/>
                  <a:gdLst/>
                  <a:ahLst/>
                  <a:rect l="l" t="t" r="r" b="b"/>
                  <a:pathLst>
                    <a:path w="1180" h="761">
                      <a:moveTo>
                        <a:pt x="420" y="0"/>
                      </a:moveTo>
                      <a:lnTo>
                        <a:pt x="1180" y="761"/>
                      </a:lnTo>
                      <a:lnTo>
                        <a:pt x="0" y="761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733200" y="4568400"/>
                  <a:ext cx="1343880" cy="592200"/>
                </a:xfrm>
                <a:custGeom>
                  <a:avLst/>
                  <a:gdLst/>
                  <a:ahLst/>
                  <a:rect l="l" t="t" r="r" b="b"/>
                  <a:pathLst>
                    <a:path w="3311" h="1469">
                      <a:moveTo>
                        <a:pt x="3311" y="1469"/>
                      </a:moveTo>
                      <a:lnTo>
                        <a:pt x="184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915440" y="4012920"/>
                  <a:ext cx="1918080" cy="505800"/>
                </a:xfrm>
                <a:custGeom>
                  <a:avLst/>
                  <a:gdLst/>
                  <a:ahLst/>
                  <a:rect l="l" t="t" r="r" b="b"/>
                  <a:pathLst>
                    <a:path w="3020" h="797">
                      <a:moveTo>
                        <a:pt x="0" y="0"/>
                      </a:moveTo>
                      <a:lnTo>
                        <a:pt x="796" y="797"/>
                      </a:lnTo>
                      <a:lnTo>
                        <a:pt x="3020" y="791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rot="10800000">
                  <a:off x="5247360" y="5256000"/>
                  <a:ext cx="1095480" cy="343440"/>
                </a:xfrm>
                <a:custGeom>
                  <a:avLst/>
                  <a:gdLst/>
                  <a:ahLst/>
                  <a:rect l="l" t="t" r="r" b="b"/>
                  <a:pathLst>
                    <a:path w="2698" h="852">
                      <a:moveTo>
                        <a:pt x="0" y="0"/>
                      </a:moveTo>
                      <a:lnTo>
                        <a:pt x="852" y="852"/>
                      </a:lnTo>
                      <a:lnTo>
                        <a:pt x="2698" y="852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095160" y="5244840"/>
                  <a:ext cx="749520" cy="505080"/>
                </a:xfrm>
                <a:custGeom>
                  <a:avLst/>
                  <a:gdLst/>
                  <a:ahLst/>
                  <a:rect l="l" t="t" r="r" b="b"/>
                  <a:pathLst>
                    <a:path w="1180" h="796">
                      <a:moveTo>
                        <a:pt x="795" y="796"/>
                      </a:moveTo>
                      <a:lnTo>
                        <a:pt x="0" y="0"/>
                      </a:lnTo>
                      <a:lnTo>
                        <a:pt x="1180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571000" y="4935240"/>
                  <a:ext cx="381600" cy="243720"/>
                </a:xfrm>
                <a:custGeom>
                  <a:avLst/>
                  <a:gdLst/>
                  <a:ahLst/>
                  <a:rect l="l" t="t" r="r" b="b"/>
                  <a:pathLst>
                    <a:path w="940" h="606">
                      <a:moveTo>
                        <a:pt x="336" y="0"/>
                      </a:moveTo>
                      <a:lnTo>
                        <a:pt x="940" y="606"/>
                      </a:lnTo>
                      <a:lnTo>
                        <a:pt x="0" y="60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rot="10800000">
                  <a:off x="4610520" y="4583160"/>
                  <a:ext cx="381600" cy="244440"/>
                </a:xfrm>
                <a:custGeom>
                  <a:avLst/>
                  <a:gdLst/>
                  <a:ahLst/>
                  <a:rect l="l" t="t" r="r" b="b"/>
                  <a:pathLst>
                    <a:path w="940" h="606">
                      <a:moveTo>
                        <a:pt x="336" y="0"/>
                      </a:moveTo>
                      <a:lnTo>
                        <a:pt x="940" y="606"/>
                      </a:lnTo>
                      <a:lnTo>
                        <a:pt x="0" y="60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06360" y="5163480"/>
                  <a:ext cx="2883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5482080" y="4596840"/>
                  <a:ext cx="287640" cy="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4" name=""/>
              <p:cNvSpPr/>
              <p:nvPr/>
            </p:nvSpPr>
            <p:spPr>
              <a:xfrm>
                <a:off x="5484600" y="4665600"/>
                <a:ext cx="1172520" cy="1171800"/>
              </a:xfrm>
              <a:prstGeom prst="ellipse">
                <a:avLst/>
              </a:prstGeom>
              <a:noFill/>
              <a:ln w="1260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567120" y="4635000"/>
                <a:ext cx="90180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Arial"/>
                  </a:rPr>
                  <a:t>Sap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6477120" y="4755600"/>
                <a:ext cx="360720" cy="900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3132000" y="4807800"/>
              <a:ext cx="12628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uce de v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5003640" y="1989000"/>
            <a:ext cx="20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el empalme de vías se utilizan agu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826920" y="4581360"/>
            <a:ext cx="20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el cruce de vías se utilizan sa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Locomo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672000" cy="233532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4788000" y="3933720"/>
            <a:ext cx="3591000" cy="258156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684360" y="4437000"/>
            <a:ext cx="28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del sistema de ferrocarr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cripción general de compon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rros y sistemas de descarga/des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ias y ri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almes y cru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comot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eño sistema de ferrocarr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matización sistema de ferrocarr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546444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Locomo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locomotoras van equipadas con dos motores eléctricos, cuya posición es paralela a los ejes de las ruedas motrices, efectuándose la transmisión por medio de un sistema de piñones y engranaj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motores se montan en una suspensión elástica, con lo que se consigue un trabajo sin vibr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poner en movimiento el convoy, los motores se acoplan en serie, con lo que se consigue un gran torque de part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vez en marcha, cuando se ha vencido la inercia del reposo, los motores se acoplan en paralelo con lo cual se obtiene una mayor veloc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Tipos de locomo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7" name=""/>
          <p:cNvGraphicFramePr/>
          <p:nvPr/>
        </p:nvGraphicFramePr>
        <p:xfrm>
          <a:off x="611280" y="1413000"/>
          <a:ext cx="8229600" cy="4611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omotoras Diesel-Eléctr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omotoras Eléctr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r poder de arrastre/p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-3600 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lidad 8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r costo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a útil 15-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nen mas poder de arrastre /p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adhe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e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50 kV, 6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 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costo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vida util (do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disponibilidad (9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r costo mantención (1/2 a 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hay almacenaje de Diesel y problemas de congelamient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7d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ón es limpia y sin contamin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Circuito de Corriente y Conducción</a:t>
            </a:r>
            <a:br>
              <a:rPr sz="2800"/>
            </a:b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 de la Electri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irculación de C.C. para accionar los motores de la locomotora se efectúa por dos conductores.  El del polo positivo corresponde a un cable aéreo y el negativo son los rieles que se unen entre ellos por los cables de co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estudiarse la pérdida de voltaje en la transmisión de corr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debe permitirse una pérdida de voltaje superior al 5% en la lí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Toma de Corr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oma de corriente para una locomotora desde el cable aéreo se realiza por medio de un “colector de corriente” o “toma de corrient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olo negativo se hace llegar al motor por medio de las ruedas que lo toma desde los ri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lector toma la corriente desde el trolley por medio de 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ntó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obina desenrroll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6600"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ntógraf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o más gener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paralelógramo articulado que ejerce una presión adecuada sobre el trolley y la parte que va en contacto con el cable aéreo corresponde a dos barras paralelas que corren perpendicular a é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 subir y bajar desde la cabina del condu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60948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 Black"/>
              </a:rPr>
              <a:t>Toma de Corr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7240" y="426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Fuentes de Energía de Corriente Contin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vitar importantes pérdidas de voltaje se lleva corriente alterna trifásica hasta las estaciones de alimentación y allí se transforman en corriente continua, con un rectificador está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3520" algn="just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Monotype Sorts" charset="2"/>
              <a:buChar char="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n ser de mercurio o de sele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60320" y="66168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iesgos del Uso de Tro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150000"/>
              <a:buFont typeface="Arial"/>
              <a:buChar char="•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roducción de chispas es inevi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algn="just">
              <a:lnSpc>
                <a:spcPct val="130000"/>
              </a:lnSpc>
              <a:spcBef>
                <a:spcPts val="575"/>
              </a:spcBef>
              <a:buClr>
                <a:srgbClr val="9999cc"/>
              </a:buClr>
              <a:buSzPct val="80000"/>
              <a:buFont typeface="Monotype Sorts" charset="2"/>
              <a:buChar char="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Inflamación y explosiones de grisú e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s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de carb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33520" algn="just">
              <a:lnSpc>
                <a:spcPct val="130000"/>
              </a:lnSpc>
              <a:spcBef>
                <a:spcPts val="575"/>
              </a:spcBef>
              <a:buClr>
                <a:srgbClr val="9999cc"/>
              </a:buClr>
              <a:buSzPct val="80000"/>
              <a:buFont typeface="Monotype Sorts" charset="2"/>
              <a:buChar char="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Incend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33520" algn="just">
              <a:lnSpc>
                <a:spcPct val="130000"/>
              </a:lnSpc>
              <a:spcBef>
                <a:spcPts val="575"/>
              </a:spcBef>
              <a:buClr>
                <a:srgbClr val="9999cc"/>
              </a:buClr>
              <a:buSzPct val="80000"/>
              <a:buFont typeface="Monotype Sorts" charset="2"/>
              <a:buChar char="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electrocuci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33520" algn="just">
              <a:lnSpc>
                <a:spcPct val="130000"/>
              </a:lnSpc>
              <a:spcBef>
                <a:spcPts val="575"/>
              </a:spcBef>
              <a:buClr>
                <a:srgbClr val="9999cc"/>
              </a:buClr>
              <a:buSzPct val="80000"/>
              <a:buFont typeface="Monotype Sorts" charset="2"/>
              <a:buChar char="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Corriente vagabund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Diseño de locomot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1076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eño de locomotoras esta dado por definir el tonelaje de la locomotora (t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1076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1076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n calcular las fuerzas que estan en contra del movimiento de la locomotora y carros (llenos y vacios) asi como las que estan en fav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1076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istencia a la rodad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istencia a la curv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istencia a la pe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istencia a la aceleración o fre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4"/>
          <p:cNvSpPr/>
          <p:nvPr/>
        </p:nvSpPr>
        <p:spPr>
          <a:xfrm>
            <a:off x="826920" y="836640"/>
            <a:ext cx="7772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 Unicode MS"/>
              </a:rPr>
              <a:t>Esfuerzos a V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esistencia Friccional o de Rodadura (R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3059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73440" indent="0" algn="just">
              <a:spcBef>
                <a:spcPts val="550"/>
              </a:spcBef>
              <a:buNone/>
              <a:tabLst>
                <a:tab algn="l" pos="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resistencia al movimiento de la locomotora y carros debido a las vías depende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440" indent="-73440" algn="just">
              <a:spcBef>
                <a:spcPts val="550"/>
              </a:spcBef>
              <a:buClr>
                <a:srgbClr val="00007d"/>
              </a:buClr>
              <a:buSzPct val="75000"/>
              <a:buFont typeface="Monotype Sorts" charset="2"/>
              <a:buChar char="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diciones de las v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440" indent="-73440" algn="just">
              <a:spcBef>
                <a:spcPts val="550"/>
              </a:spcBef>
              <a:buClr>
                <a:srgbClr val="00007d"/>
              </a:buClr>
              <a:buSzPct val="75000"/>
              <a:buFont typeface="Monotype Sorts" charset="2"/>
              <a:buChar char="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po de rodamiento y ruedas de carr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440" indent="-73440" algn="just">
              <a:spcBef>
                <a:spcPts val="550"/>
              </a:spcBef>
              <a:buClr>
                <a:srgbClr val="00007d"/>
              </a:buClr>
              <a:buSzPct val="75000"/>
              <a:buFont typeface="Monotype Sorts" charset="2"/>
              <a:buChar char="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Velocidad del t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3440" indent="-73440" algn="just">
              <a:spcBef>
                <a:spcPts val="550"/>
              </a:spcBef>
              <a:buClr>
                <a:srgbClr val="00007d"/>
              </a:buClr>
              <a:buSzPct val="75000"/>
              <a:buFont typeface="Monotype Sorts" charset="2"/>
              <a:buChar char=""/>
              <a:tabLst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niones entre ví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611280" y="4292640"/>
                <a:ext cx="396072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,3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num>
                          <m:den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4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WN</m:t>
                            </m:r>
                          </m:den>
                        </m:f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n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s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comotor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je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ons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er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jes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elocida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ph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e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rontal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>
            <a:off x="1547640" y="6308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locomo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4803840" y="4292640"/>
                <a:ext cx="4073400" cy="19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,3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9</m:t>
                            </m:r>
                          </m:num>
                          <m:den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5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WN</m:t>
                            </m:r>
                          </m:den>
                        </m:f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n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s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comotor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je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ons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umer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jes</m:t>
                            </m:r>
                          </m:sub>
                        </m:sSub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elocida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ph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e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rontal</m:t>
                            </m:r>
                          </m:sub>
                        </m:sSub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77" name=""/>
          <p:cNvSpPr/>
          <p:nvPr/>
        </p:nvSpPr>
        <p:spPr>
          <a:xfrm>
            <a:off x="5940360" y="6308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vag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643280" y="4292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Sistema de transporte por ferrocarr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e sistema se emplea para el transporte horizontal  (0-2% pendiente ) en minas de alta capacidad productiva, distancias de transporte consider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diferencia de camiones tiene un camino fi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pite con cor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 ha usado como transporte principal e interme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Ventajas del sistema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 produ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jo costo operacional y de manten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 posible usar el sistema como transporte de mineral y como suplid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a inversión ini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tos costos de insta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 requieren mas talleres de manten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lexi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ipos de ferrocarr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éctrico o Die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istemas automatizables (sin conduc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 de uso de trenes en faenas subterráne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ina El Teniente (Chile) – Esmeralda 400 t- Tte 8 1200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ina LKAB (Sueci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3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Henderson (US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/>
          </p:nvPr>
        </p:nvSpPr>
        <p:spPr>
          <a:xfrm>
            <a:off x="304560" y="1987200"/>
            <a:ext cx="8659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5799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Rf (kg/ton)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     Tipo de carro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99"/>
                </a:solidFill>
                <a:latin typeface="Arial"/>
              </a:rPr>
              <a:t>Condiciones de Ví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0" algn="just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3,0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4,5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Grande (&gt;30 ton) con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  Excelente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descanso de primera ca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0" algn="just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4,5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-  7,0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            15 a 30 ton, buenos descansos                  Bue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0" algn="just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9,0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11,0                     5 a 10 ton, descanso en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  Buena a pas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                         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rodami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0" algn="just">
              <a:lnSpc>
                <a:spcPct val="110000"/>
              </a:lnSpc>
              <a:spcBef>
                <a:spcPts val="275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14,0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- 16,0  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Bajo 5 ton, descansos en bujes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 Pas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de  Bro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80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2800" indent="0" algn="just">
              <a:spcBef>
                <a:spcPts val="550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4"/>
          <p:cNvSpPr/>
          <p:nvPr/>
        </p:nvSpPr>
        <p:spPr>
          <a:xfrm>
            <a:off x="611280" y="69228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 Unicode MS"/>
              </a:rPr>
              <a:t>Resistencia Friccional o de Rodadura (Rr) - 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60320" y="533520"/>
            <a:ext cx="777240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esistencia a Pendiente (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81880" cy="31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6720" indent="-3808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"/>
              <a:tabLst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 componente del peso del convoy, en la dirección contraria al movimiento, por lo que su valor será Rp = P se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n que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ángulo de pendiente y  P el peso del conv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&lt; 5º entonces sen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g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y como generalmente la pendiente se expresa como porcentaje, la formula se puede transformar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Object 10"/>
              <p:cNvSpPr txBox="1"/>
              <p:nvPr/>
            </p:nvSpPr>
            <p:spPr>
              <a:xfrm>
                <a:off x="2916360" y="5013360"/>
                <a:ext cx="35733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n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endien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67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380880" algn="just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"/>
              <a:tabLst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que i es la diferencia de altura de dos puntos distantes en 100 m.  Ahora, si hacemos la pendiente igual a 1% y P = 1 t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p = 10 km por cada 1% de pendiente y por cada 1 ton de p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4"/>
          <p:cNvSpPr/>
          <p:nvPr/>
        </p:nvSpPr>
        <p:spPr>
          <a:xfrm>
            <a:off x="831960" y="533520"/>
            <a:ext cx="77724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 Unicode MS"/>
              </a:rPr>
              <a:t>Resistencia a Pendiente (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60320" y="533520"/>
            <a:ext cx="777240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esistencia a la curvatura (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734364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67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resistencia a la curvatura es debida 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tinaje de las rue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icción entre pestañas y ri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28584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diferencia entre el ancho de carros y tro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Object 10"/>
              <p:cNvSpPr txBox="1"/>
              <p:nvPr/>
            </p:nvSpPr>
            <p:spPr>
              <a:xfrm>
                <a:off x="6300720" y="1700280"/>
                <a:ext cx="252108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5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cho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as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agones</m:t>
                                </m:r>
                              </m:sub>
                            </m:sSub>
                          </m:sub>
                        </m:sSub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rocha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di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rv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4427640" y="3716280"/>
            <a:ext cx="4535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s curvas se pueden medir en grados. Una curva de un grado en una en la cual en 100´ es 1/360° de un circ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radio de una curva que tiene 1° es 5730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971640" y="4149720"/>
                <a:ext cx="30938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730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adi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urv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ie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,8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GC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o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1" name=""/>
          <p:cNvSpPr/>
          <p:nvPr/>
        </p:nvSpPr>
        <p:spPr>
          <a:xfrm>
            <a:off x="104292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Formula empíric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227640" y="1268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Arial"/>
              </a:rPr>
              <a:t>Formula empíric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760320" y="430200"/>
            <a:ext cx="8059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esistencia a la Aceleración y Frenado (Ra ó 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826920" y="155736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fuerza para sobrepasar la inercia: F=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763640" y="2060640"/>
                <a:ext cx="329400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n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lb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ton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ies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ie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755640" y="335772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eleración lineal de 1 Ton a 1m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5003640" y="2852640"/>
                <a:ext cx="331344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lla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80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ie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mill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r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00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hr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ie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b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8" name=""/>
          <p:cNvSpPr/>
          <p:nvPr/>
        </p:nvSpPr>
        <p:spPr>
          <a:xfrm>
            <a:off x="611280" y="4797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aumenta un 5-10% para considerar aceleración por r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2631960" y="5251320"/>
                <a:ext cx="272736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b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s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e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eleració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ph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Fuerza de arrastre locomotora &amp; Ad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adhesion o coeficiente de fricción es el link que existe entre las ruedas de la locomotora y la v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fuerza de arrastre que la locomotora ejerce depende del coeficiente de fricción, el que depe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l material de ruedas y 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dición de las vías: humedo, seco, mo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entro de gravedad de la locomo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Adh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2987640" y="1268280"/>
                <a:ext cx="5329440" cy="248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rPr>
                            <m:lit/>
                            <m:nor/>
                          </m:rPr>
                          <m:t xml:space="preserve">adhesion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uerza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rrastr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sponible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so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otal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oggie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ocomotora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rrastr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dhesio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s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ogie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s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uía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so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ocomotora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04" name=""/>
          <p:cNvGraphicFramePr/>
          <p:nvPr/>
        </p:nvGraphicFramePr>
        <p:xfrm>
          <a:off x="2411280" y="4292640"/>
          <a:ext cx="5256360" cy="1976400"/>
        </p:xfrm>
        <a:graphic>
          <a:graphicData uri="http://schemas.openxmlformats.org/drawingml/2006/table">
            <a:tbl>
              <a:tblPr/>
              <a:tblGrid>
                <a:gridCol w="3678120"/>
                <a:gridCol w="1578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dhe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les secos c/ar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les secos s/ar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les hume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les moj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Adh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5676840" cy="344808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826920" y="4869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urva de fuerza de arrastre efectiva para distintas velo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Formulas utiles para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9" name=""/>
          <p:cNvGraphicFramePr/>
          <p:nvPr/>
        </p:nvGraphicFramePr>
        <p:xfrm>
          <a:off x="395280" y="1557360"/>
          <a:ext cx="8229600" cy="4776840"/>
        </p:xfrm>
        <a:graphic>
          <a:graphicData uri="http://schemas.openxmlformats.org/drawingml/2006/table">
            <a:tbl>
              <a:tblPr/>
              <a:tblGrid>
                <a:gridCol w="3745080"/>
                <a:gridCol w="448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leración (mph/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rza arrastre/100 x peso (l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al cual se asume aceleración c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io velocidad/aceleración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ia viaje (pi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7x vel. Media tren x tiem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rza de empuje convoy (l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erza arrastre/resistencia total)-peso locomot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tren (h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uerza arrastre x velocidad)/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en el gener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otencia tren)/efici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maqu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en el generador + 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 de la c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o de dientes en caja/numero dientes en piñ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(rp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6 x veloc. X GP/diametro de rue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55520" indent="-533160" algn="just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Monotype Sorts" charset="2"/>
              <a:buChar char=""/>
              <a:tabLst>
                <a:tab algn="l" pos="53820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saber la capacidad de la locomotora a fren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533160" algn="just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Monotype Sorts" charset="2"/>
              <a:buChar char=""/>
              <a:tabLst>
                <a:tab algn="l" pos="53820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favorables: toda la energia cinetica es consum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533160" algn="just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Monotype Sorts" charset="2"/>
              <a:buChar char=""/>
              <a:tabLst>
                <a:tab algn="l" pos="53820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desfavorables: baj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533160" algn="just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Monotype Sorts" charset="2"/>
              <a:buChar char=""/>
              <a:tabLst>
                <a:tab algn="l" pos="538200"/>
                <a:tab algn="l" pos="762120"/>
                <a:tab algn="l" pos="123840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valor de la adhesión en frenado es un 80% de la adhesion en aceleración, por lo que la fuerza de frenado es tambien un 80% men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"/>
          <p:cNvSpPr/>
          <p:nvPr/>
        </p:nvSpPr>
        <p:spPr>
          <a:xfrm>
            <a:off x="755640" y="260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Arial Unicode MS"/>
              </a:rPr>
              <a:t>Resistencia al Frenado (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Componentes sistemas de ferrocarr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rros (convoy de carr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stema de descarga de car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almes y cru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como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stemas 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pos de apo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comotora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comotora de limpi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ocomotora de limpieza de v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aller man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Ejemplo de diseño trenes y costos de transpo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lculo tamaño locomo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lculo numero de carros para una determinada locomo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terminación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carros se componen de la caja, chasis y sistema de ro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acterísticas a consider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pacidad- dimensiones (18-50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stema de des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adios de curvatura mini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sos (tara- carg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racterísticas de las rue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529080" cy="2187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08720" y="1484280"/>
            <a:ext cx="30258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construyen de planchas de acero 5-1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randes dimensiones (18-50 ton/car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501336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voy: conjunto de car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56000" y="3860640"/>
            <a:ext cx="10796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ue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989000"/>
            <a:ext cx="107964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2205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067280" y="37159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3573360"/>
            <a:ext cx="1079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692360" y="335772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Dimensiones de 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tura, ancho y longitud de 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ada por capacidades de transporte requer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mensiones determinan radio de curv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ha tendido a mayor capacidad de carros (50 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dad de convoy (320 ton- 1200 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ue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fabrican en acero fun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tancia entre ej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Rue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84720" y="1980720"/>
            <a:ext cx="4402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llanta es cónica para evitar el movimiento lateral del t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rueda se debe mover sobre las lla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estaña debe actuar solo en las curvas, agujas en vias y peligro de descarril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11280" y="2565360"/>
            <a:ext cx="3246480" cy="1998720"/>
            <a:chOff x="611280" y="2565360"/>
            <a:chExt cx="3246480" cy="1998720"/>
          </a:xfrm>
        </p:grpSpPr>
        <p:sp>
          <p:nvSpPr>
            <p:cNvPr id="131" name=""/>
            <p:cNvSpPr/>
            <p:nvPr/>
          </p:nvSpPr>
          <p:spPr>
            <a:xfrm flipV="1">
              <a:off x="1814400" y="2616480"/>
              <a:ext cx="450000" cy="36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34" y="2149"/>
                  </a:moveTo>
                  <a:arcTo wR="10800" hR="10800" stAng="-7606483" swAng="760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4334" y="2149"/>
                  </a:moveTo>
                  <a:arcTo wR="10800" hR="10800" stAng="-7606483" swAng="760648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14040" y="4150080"/>
              <a:ext cx="450000" cy="35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334" y="2149"/>
                  </a:moveTo>
                  <a:arcTo wR="10800" hR="10800" stAng="-7606483" swAng="7606483"/>
                  <a:lnTo>
                    <a:pt x="10800" y="10800"/>
                  </a:lnTo>
                  <a:close/>
                </a:path>
                <a:path fill="none" w="21600" h="21600">
                  <a:moveTo>
                    <a:pt x="4334" y="2149"/>
                  </a:moveTo>
                  <a:arcTo wR="10800" hR="10800" stAng="-7606483" swAng="760648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04400" y="2939760"/>
              <a:ext cx="360" cy="12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64760" y="2580480"/>
              <a:ext cx="90000" cy="1983600"/>
            </a:xfrm>
            <a:custGeom>
              <a:avLst/>
              <a:gdLst/>
              <a:ahLst/>
              <a:rect l="l" t="t" r="r" b="b"/>
              <a:pathLst>
                <a:path w="142" h="3124">
                  <a:moveTo>
                    <a:pt x="0" y="284"/>
                  </a:moveTo>
                  <a:lnTo>
                    <a:pt x="0" y="3124"/>
                  </a:lnTo>
                  <a:lnTo>
                    <a:pt x="142" y="312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42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83440" y="3338640"/>
              <a:ext cx="90000" cy="476280"/>
            </a:xfrm>
            <a:custGeom>
              <a:avLst/>
              <a:gdLst/>
              <a:ahLst/>
              <a:rect l="l" t="t" r="r" b="b"/>
              <a:pathLst>
                <a:path w="142" h="3124">
                  <a:moveTo>
                    <a:pt x="0" y="284"/>
                  </a:moveTo>
                  <a:lnTo>
                    <a:pt x="0" y="3124"/>
                  </a:lnTo>
                  <a:lnTo>
                    <a:pt x="142" y="312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42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52200" y="2910600"/>
              <a:ext cx="53280" cy="1302840"/>
            </a:xfrm>
            <a:custGeom>
              <a:avLst/>
              <a:gdLst/>
              <a:ahLst/>
              <a:rect l="l" t="t" r="r" b="b"/>
              <a:pathLst>
                <a:path w="84" h="2052">
                  <a:moveTo>
                    <a:pt x="36" y="144"/>
                  </a:moveTo>
                  <a:lnTo>
                    <a:pt x="36" y="1932"/>
                  </a:lnTo>
                  <a:lnTo>
                    <a:pt x="0" y="2052"/>
                  </a:lnTo>
                  <a:lnTo>
                    <a:pt x="84" y="2004"/>
                  </a:lnTo>
                  <a:lnTo>
                    <a:pt x="82" y="46"/>
                  </a:lnTo>
                  <a:lnTo>
                    <a:pt x="0" y="0"/>
                  </a:lnTo>
                  <a:lnTo>
                    <a:pt x="36" y="14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5120" y="3343680"/>
              <a:ext cx="1412280" cy="475920"/>
            </a:xfrm>
            <a:custGeom>
              <a:avLst/>
              <a:gdLst/>
              <a:ahLst/>
              <a:rect l="l" t="t" r="r" b="b"/>
              <a:pathLst>
                <a:path w="142" h="3124">
                  <a:moveTo>
                    <a:pt x="0" y="284"/>
                  </a:moveTo>
                  <a:lnTo>
                    <a:pt x="0" y="3124"/>
                  </a:lnTo>
                  <a:lnTo>
                    <a:pt x="142" y="312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42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32000" y="3668760"/>
              <a:ext cx="631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324160" y="2669760"/>
              <a:ext cx="901800" cy="27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41640" y="2760120"/>
              <a:ext cx="631080" cy="27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775240" y="3106080"/>
              <a:ext cx="631080" cy="46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36320" y="2925720"/>
              <a:ext cx="7214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5960" y="2565360"/>
              <a:ext cx="7214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6160" y="3543120"/>
              <a:ext cx="721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lan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1280" y="2580480"/>
              <a:ext cx="7214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estañ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24520" y="3827520"/>
              <a:ext cx="721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ámetro rueda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 a 14 cm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955520" y="3000600"/>
              <a:ext cx="120600" cy="1121400"/>
            </a:xfrm>
            <a:custGeom>
              <a:avLst/>
              <a:gdLst/>
              <a:ahLst/>
              <a:rect l="l" t="t" r="r" b="b"/>
              <a:pathLst>
                <a:path w="1" h="346">
                  <a:moveTo>
                    <a:pt x="0" y="0"/>
                  </a:moveTo>
                  <a:lnTo>
                    <a:pt x="0" y="34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Sistema de descarga de car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2573280"/>
            <a:ext cx="2952720" cy="23702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177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 ríg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859280" y="2637000"/>
            <a:ext cx="366876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23:17:45Z</dcterms:created>
  <dc:creator>Raul Castro</dc:creator>
  <dc:description/>
  <dc:language>en-US</dc:language>
  <cp:lastModifiedBy>Raul Castro</cp:lastModifiedBy>
  <dcterms:modified xsi:type="dcterms:W3CDTF">2007-05-07T14:10:30Z</dcterms:modified>
  <cp:revision>8</cp:revision>
  <dc:subject/>
  <dc:title>Ferrocarriles</dc:title>
</cp:coreProperties>
</file>