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7A4-1A62-408F-AAFA-5F41BAD5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ABD-4E24-4AD9-9C51-176E093F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10E-29FD-4439-B2BE-53B07894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11D-1707-44D4-8966-EA3E1541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4C00-5432-4156-B4D0-40CC3526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FBE8-484E-4DF9-8712-B844EC9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C1A0-9142-4CE1-B288-4D58A72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7221-79EA-427D-87BD-7C7B8005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4A87-0EDF-47EB-B2FA-445AE691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F7E-8083-4376-985A-ADECF2F5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4BD1-08C2-43F0-9690-02DF7D0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F13-5CDC-410A-8C24-0E8B5C55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219D-47D9-4A6D-A96D-3DEB107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820-06B0-4BE0-AF50-E595704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50D-6996-42B4-B9BC-CF5D925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13E-A071-43CF-86B1-F273868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F18-8AC3-440F-9859-D5D74B55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52682-8EB9-4A5D-8BE9-40889EE1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DF57-B5E3-4FEC-B12C-6EADDAD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80A0-9B19-423D-8587-80BCEB28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7918-4AD8-421A-85AE-42A94DE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5AE0-62BC-4534-A3D1-5A9A504A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4E1-05A3-4CC9-98CA-1FF786F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238C-F3ED-4365-A180-D116FE34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CFEF-0AD6-4FA3-80F9-1508553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4B76-3553-44FC-9F6B-BB47422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8E0F-3A6C-46FC-9F46-0B637B9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1068-6F77-4175-BADF-B5BEAD92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7CE2-4E0B-48A3-AB4F-5F5678BE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A5F4-5854-4070-8D8D-7C89CBD9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2746-43DA-44D1-9F16-83EC06BF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6FA90-1A3D-4188-B7F6-273DCC8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2EAF-E832-4BB5-9BA4-80CC432C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58A-17F3-4CBF-A893-61360576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88E8-EDB3-4BE7-B823-4BC1D32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7293-B4A0-4740-A217-01D9A16A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230B-FD1E-4699-A5AC-92F5C71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BA22B-98DA-49FD-AC41-5994AE0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6682-EC6F-4FDA-86D0-5C18212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26A6-008E-4F0E-93FE-D82221C9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3272-BD4D-4F06-9785-B7271A4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6CDB-EEBD-4300-9BAD-22D848DD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13DF-6C37-4BBE-A11F-96CD203E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9A93C-E532-4383-BE1E-A2808FD2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BEA-026F-4354-8909-9345FD3D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FF9F5-94EE-4874-B1B5-D4D2A90C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44D9-ED85-45D5-B1D4-8303FB51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850E-1195-440F-95B3-FC5E6D0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FFD4-847E-458B-8F0D-53E46CE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7628-7220-4EF0-B619-10F793D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909A8-5075-435F-886F-437330E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BC5B1-0F64-4257-89E9-1AC1D05A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F621-6EA1-4CBC-B8E7-5860932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D3B3-7273-4B06-85AA-3B1B077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08185-9049-4B89-BFB0-139E5EEC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368-902C-469B-BEF9-3DA4F848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DA045-C465-4EEC-AB1F-F1A7A7AD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99DA-1DCC-4EE0-BB8F-C0B8EB4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A587-F858-4CA9-958D-CDAA235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B8467-E83C-4307-A05E-2E8244E7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119F-AB74-4D6A-9B44-A5F5099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F468-F0F1-4B40-AC92-4E25DC6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ED3D-81AA-405E-8A2C-25B19D87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C281-0BD2-4A5A-B4C1-C51CF7F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535D-4DA2-48B0-B810-A08F5D4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1C9AD-B384-40BB-824C-99309D3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B10-1D2C-4666-974F-4E65C4A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0FED-0074-46B2-ADE6-31ECFFE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BB013-A4C4-40DE-ACE0-1B65DEE2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DFA0-2632-4506-8EB3-A234A222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5C82B-8F43-43FF-BC17-832C6BC9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F6FC-E8C1-4BEF-842B-A41A4631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9516-5DB6-47D7-9AFF-A39D0823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1F91D-2ACD-43E9-BC43-D2AE863C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7339-BDEF-426B-B1EF-96366E40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C0F1D-57F2-4B41-A84B-27A69D0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A9137-62C4-4464-A800-83F787A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598-CF89-41F8-A05C-85B7A24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3524-76F3-46EC-A6AD-6891AF7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0371-2028-44B6-9CB8-6A29B720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E224-6727-4F03-A044-7CA8570D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7DA7D-9D3B-4363-8B67-8F6F2470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AF37-111C-4F37-966D-D82328F9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3C42E-A984-4F9C-B180-86889CEC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26A2-73FC-4B00-B430-2655CA2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2294-371F-47DC-B1D5-62976C1F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1E9F6-8576-4764-8608-D912308A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B15AE-FB8F-46AE-ADBF-1E5D408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8198-83FC-41CE-B9AC-F2696FB8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2858-000C-45A8-BA88-5434149E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4EE4E-AD6E-4B64-9780-7539014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5C213-4B41-4B73-98AA-D916035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75275-DE09-4357-B517-F49BF947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9AE25-7B29-486D-8E8D-801C1AE8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F4785-EB13-4197-B552-F1ED9435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9B17-0C44-41F5-B939-D3554A2F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2B8-C30C-4B33-8424-A499EA199E99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7B3A-5BC8-481A-87A8-E59E30C0568F}" type="slidenum"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13C-2666-4AE7-8564-C854C6246841}" type="slidenum"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68A-4B3C-4C81-BDCF-F9B8C42F8703}" type="slidenum"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A7E8-DAA1-42A1-AE42-B855BC508568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2767-2E0D-4F52-8C07-971E4E8B32D8}" type="slidenum"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92B-F0BA-4CDB-A922-E9DC4F896FAE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1543-89F7-476D-80F5-3D1F9D76775C}" type="slidenum"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566720"/>
            <a:ext cx="8089920" cy="148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14360" y="4429080"/>
            <a:ext cx="668628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rofesor: Raúl Castr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3 CuadroTexto"/>
          <p:cNvSpPr/>
          <p:nvPr/>
        </p:nvSpPr>
        <p:spPr>
          <a:xfrm>
            <a:off x="1785960" y="32148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MI57 G - Manejo de materiales y ventilación de min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4 CuadroTexto"/>
          <p:cNvSpPr/>
          <p:nvPr/>
        </p:nvSpPr>
        <p:spPr>
          <a:xfrm>
            <a:off x="857160" y="600084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Sans Unicode"/>
              </a:rPr>
              <a:t>Abril 2007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) llega a 80%.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Días año (300 días) – horas hábiles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Se trabaja en la mina en 3 turnos de 8 horas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Horas Hábiles/año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300 x 24 hr = 7.200 hr hábiles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Disponibilidad física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90%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 (dato)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0,1 x 7200 = 720 Horas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Perdidas operacionales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80%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(dato)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Aprovechamiento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(24 x 0.8 x 300)/(7.200) = 80%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Rendimiento efectivo 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(5,5/2,6)*60=127 Ton/hr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Rendimiento efectivo (Ton/hr)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127 x 0,9 x 0,8 = 91 Ton/hr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Rendimiento  (Ton/hr)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91 Ton/hr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Rendimiento anual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657.969 Ton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Supongamos que la capacidad requerida del sistema es de 600.000 ton 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Horas requeridas sistema (Horas hábiles)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  6566 horas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Horas reserva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100" spc="-1" strike="noStrike">
                <a:solidFill>
                  <a:srgbClr val="000000"/>
                </a:solidFill>
                <a:latin typeface="Lucida Sans Unicode"/>
              </a:rPr>
              <a:t>= 7200 – 6566 = 634 hr/año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Definiciones- índ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Tiempos en la operación min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Índices de oper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Ejemplo de aplicació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Los índices (u indicadores) en minería nos ayudan 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dir la capacidad de procesos ya existen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Lucida Sans Unicode"/>
              </a:rPr>
              <a:t>Identificar el estado del sistema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Lucida Sans Unicode"/>
              </a:rPr>
              <a:t>Comparar diseño/operació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Lucida Sans Unicode"/>
              </a:rPr>
              <a:t>Optimizar proces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Ingeniería de proceso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Lucida Sans Unicode"/>
              </a:rPr>
              <a:t>Dimensionamiento de equipo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Índices mecánico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: rendimiento de equipos e instalaciones en el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tiemp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Índices minero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proporción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de producto final (ley y tonelaje) a través de los distintos procesos minero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Índices de insumo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consumo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de elementos por unidades de product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Índices de resultados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resultados por periodo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de tiemp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81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Esta el equipo </a:t>
            </a: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funcionando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Esta el equipo </a:t>
            </a: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disponible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Cuanto es el tiempo medio que el equipo estará fuera de uso por </a:t>
            </a: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reparación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Cuan </a:t>
            </a: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rápido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puede operar en comparación a lo diseñado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Cuan </a:t>
            </a:r>
            <a:r>
              <a:rPr b="0" lang="es-MX" sz="2500" spc="-1" strike="noStrike">
                <a:solidFill>
                  <a:srgbClr val="ff0000"/>
                </a:solidFill>
                <a:latin typeface="Lucida Sans Unicode"/>
              </a:rPr>
              <a:t>preciso</a:t>
            </a:r>
            <a:r>
              <a:rPr b="0" lang="es-MX" sz="2500" spc="-1" strike="noStrike">
                <a:solidFill>
                  <a:srgbClr val="000000"/>
                </a:solidFill>
                <a:latin typeface="Lucida Sans Unicode"/>
              </a:rPr>
              <a:t> esta funcionando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00040" y="157176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Disponibilidad Física=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hábi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1 Título" descr=""/>
          <p:cNvPicPr/>
          <p:nvPr/>
        </p:nvPicPr>
        <p:blipFill>
          <a:blip r:embed="rId1"/>
          <a:stretch/>
        </p:blipFill>
        <p:spPr>
          <a:xfrm>
            <a:off x="311040" y="666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2" name="2 Marcador de contenido"/>
          <p:cNvSpPr/>
          <p:nvPr/>
        </p:nvSpPr>
        <p:spPr>
          <a:xfrm>
            <a:off x="428760" y="321480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mantenimiento=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2 Marcador de contenido"/>
          <p:cNvSpPr/>
          <p:nvPr/>
        </p:nvSpPr>
        <p:spPr>
          <a:xfrm>
            <a:off x="428760" y="48578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365040" y="-7920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99680" y="1571760"/>
            <a:ext cx="53578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Aprovechamiento =</a:t>
            </a: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Habi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2 Marcador de contenido"/>
          <p:cNvSpPr/>
          <p:nvPr/>
        </p:nvSpPr>
        <p:spPr>
          <a:xfrm>
            <a:off x="428760" y="300024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642960" y="342864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24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 =      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iempo Efectivo de Oper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4-11T14:50:03Z</dcterms:modified>
  <cp:revision>5</cp:revision>
  <dc:subject/>
  <dc:title>Índices de Operación</dc:title>
</cp:coreProperties>
</file>