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1F3B-85F1-4054-82ED-52F3E86D3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2EF3-F39F-47C2-AF63-F9475FBB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0C5C-D580-4724-8D2F-987BEF8AC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F365-776F-4F5D-AD08-0FF773EA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F22A-EFCF-4581-B863-C464649D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2086-A0E0-4BEF-8642-13818DBA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3823-90D8-4A65-982C-EF2E635C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10F2-9B8C-46BC-BED5-A211A089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3FA4-03A6-403A-9276-D91B4EF3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3A2B-6999-44A1-8D49-E9437BA1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60F5-06E7-45BE-A124-0D5CDFF5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4C69-3921-4264-A628-1CB6637F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3796-6693-421E-B551-87FE9AF1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B4B1-95D3-4A13-BDED-A16843FC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ED85-C5C5-42AB-9748-961314A7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D20E-0839-4BFC-A861-BD8049213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B916-9161-42CC-8F4E-228A1011D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47CC-04FB-4189-8BFF-FAAA1CFC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CED1-78D1-4237-B0AB-6095EFFD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BAD7-458D-49DB-9574-E80E5F3C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BAEC-5C0A-4AD8-A6F4-92CFC9D1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8188-23C9-47AE-BAFB-5C72A37A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81B2-0643-4D04-8DEC-31EE7E81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EE26-8422-48D5-9711-CEA75A5F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7F1E-9595-4352-8863-3BA172597CDD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73200" y="6680160"/>
            <a:ext cx="779760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MI54A EVALUACIÓN DE YACIMIENTOS – UNIVERSIDAD DE CHI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BBDB-D57B-4F0D-B449-8CC362793A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73200" y="6680160"/>
            <a:ext cx="779760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MI54A EVALUACIÓN DE YACIMIENTOS – UNIVERSIDAD DE CHI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Propiedades del variogram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Modelos básico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Modelos anidado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Anisotropía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990360" y="1720440"/>
            <a:ext cx="746748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ccffff"/>
                </a:solidFill>
                <a:latin typeface="Tahoma"/>
              </a:rPr>
              <a:t>06 – Variograma modelado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030400" y="4992840"/>
            <a:ext cx="4635360" cy="14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Modelo esféric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terminología “variograma esférico” se explica porque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(h) es proporcional al volumen de la intersección de dos esferas de diámetro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, separadas por h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903400" y="3246480"/>
            <a:ext cx="3079800" cy="1744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289240" y="5197320"/>
                <a:ext cx="408780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lumen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π</m:t>
                                </m:r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 </m:t>
                                </m:r>
                                <m:f>
                                  <m:num>
                                    <m:r>
                                      <m:t xml:space="preserve">h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 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</m:sup>
                                    </m:sSup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h</m:t>
                            </m:r>
                            <m:r>
                              <m:t xml:space="preserve">≤</m:t>
                            </m:r>
                            <m:r>
                              <m:t xml:space="preserve">a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Modelo exponencia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14240" y="3367080"/>
            <a:ext cx="7772400" cy="2924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96760" y="2030400"/>
            <a:ext cx="2721240" cy="77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089000" y="2041560"/>
                <a:ext cx="229860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Modelo exponencia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7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Modelo similar al esférico pero asciende más abruptamente, tiene más curvatura y alcanza la meseta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sólo en forma asintót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alcance práctico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está donde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(h) vale 0.95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y corresponde al parámetro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Modelo Gaussi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76440" y="3481560"/>
            <a:ext cx="7772400" cy="2923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11080" y="2049480"/>
            <a:ext cx="2721240" cy="77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954000" y="2022480"/>
                <a:ext cx="23972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17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modelo implica continuidad de corta escala debido a su comportamiento parabólico en el orige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decuado para variables como elevaciones o espes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alcance práctico se define cuando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(h) vale 0.95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y corresponde al parámetro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Modelo Gaussi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Modelo potenci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62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ste modelo se asocia a fractales (movimientos Brownianos fraccionarios). Está definido por una potencia 0&lt;</a:t>
            </a:r>
            <a:r>
              <a:rPr b="0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&lt;2 y una pendiente positiva 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14400" y="3835440"/>
            <a:ext cx="7380360" cy="27763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201680" y="2106720"/>
            <a:ext cx="133056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336680" y="2160720"/>
                <a:ext cx="10414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Modelo seno cardina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8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lcance práctico = 20.4 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, semi-período = 4.5 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, meseta = 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05040" y="3749760"/>
            <a:ext cx="7480080" cy="28144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82640" y="1954080"/>
            <a:ext cx="2654280" cy="76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023840" y="1965240"/>
                <a:ext cx="220032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 </m:t>
                                </m:r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078520" y="4478400"/>
            <a:ext cx="39402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Modelos anidad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43080" y="1981080"/>
            <a:ext cx="856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ara obtener modelos más complejos, se puede sumar varios variogramas elementales. En este caso, se habla de “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variogramas anidados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”.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Permite modelar cambios de pendiente en el variogra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22280" y="3400560"/>
            <a:ext cx="4300560" cy="3028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315040" y="4648320"/>
                <a:ext cx="31654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Modelos anidad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62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a presencia de una micro-estructura se traduce experimentalmente en un efecto pepi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genese pepite espagnol" descr=""/>
          <p:cNvPicPr/>
          <p:nvPr/>
        </p:nvPicPr>
        <p:blipFill>
          <a:blip r:embed="rId1"/>
          <a:stretch/>
        </p:blipFill>
        <p:spPr>
          <a:xfrm>
            <a:off x="1066680" y="3254400"/>
            <a:ext cx="703440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Modelos en 2-D y 3-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Más difícil que modelos 1-D ya que el modelo debe ser legítimo (del punto de vista matemático) en todas las direccion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múnmente calculamos variogramas experimentales en direcciones ortogonales principales: direcciones vertical, horizontal mayor y horizontal men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 modelo de variograma 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isótropo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(que sólo depende de la distancia, no de la orientación de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) es poco frecu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os tipos de anisotropía más comunes son la 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anisotropía geométrica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y la 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anisotropía z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9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variograma experimental requiere ser modelad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s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imperfecto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: los puntos obtenidos están sujetos a imprecis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s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incompleto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: se calculó para un número finito de distancias y de direcciones del espa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e ajusta un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modelo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de variograma, definido en todas las direcciones del espacio y para todas las distancias, en torno al variograma experimental obtenido. Se usará este modelo como si fuera el “verdadero” variograma de la función aleatoria que representa la variable en estud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Anisotropía geométric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3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mapa variográfico dibuja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elipses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(2D) o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elipsoides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(3D). El modelamiento sólo requiere especificar las direcciones principales (ortogonales entre sí) y los alcances correspondientes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152360" y="3613320"/>
            <a:ext cx="7375680" cy="26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Anisotropía geométric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onsejos de modelamient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Seleccionar la pepita de la dirección vertical (o de la dirección mejor informad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scoger una constante pepita baj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Determinar el número y tipo de modelos de variogram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rueba-y-error para establecer los parámetr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Hay software flexible disponi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62640" y="2050920"/>
            <a:ext cx="42447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Anisotropía zona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3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mapa variográfico dibuja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bandas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. Se trata de un caso límite de anisotropía geométrica, donde el alcance en una dirección se vuelve muy grande. A la escala de trabajo, la meseta cambia según la dirección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152360" y="3689280"/>
            <a:ext cx="7218360" cy="26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Anisotropías complej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81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e obtiene formas más complejas de anisotropía al mezclar anisotropías geométricas y/o zonales de orientación y razón diferen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143000" y="3673440"/>
            <a:ext cx="6891480" cy="26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Reglas de ajus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8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l modelo de variograma debe ser consistente en las distintas direcciones, es decir, tener el mismo efecto pepita y el mismo número y tipo de estructuras anidad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or ejemplo, si el variograma fuera de tipo esférico en una dirección y exponencial en otra, ¿cuál sería su expresión en las direcciones diagonales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¿Cómo asegurar un modelo consistent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Tomar un único (el más bajo) efecto pepita isótrop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scoger el mismo número de estructuras anidadas para todas las direcciones, basado en la dirección más complej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Asegurar que el mismo parámetro de meseta se use para todas las estructuras anidadas en todas las direccion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ermitir un alcance diferente en cada direc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Modelar una anisotropía zonal definiendo un alcance muy grande en una o más de las direcciones princip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Reglas de ajus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jemplo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: proponer un modelo para el siguiente variograma suponiendo que las direcciones principales corresponden a los ejes de coordena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838760" y="2200320"/>
            <a:ext cx="3809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Reglas de ajus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Regla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1) Determinar el efecto pepi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2) Determinar los alcances y mesetas en cada dire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3) Determinar la cantidad y los tipos de modelos que se anidarán para el ajust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838760" y="2200320"/>
            <a:ext cx="3809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Reglas de ajus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mpezamos con un efecto pepita de amplitud (meseta) 0.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057640" y="3468600"/>
            <a:ext cx="3746520" cy="2922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057640" y="3468600"/>
            <a:ext cx="3746520" cy="2922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054760" y="3468600"/>
            <a:ext cx="3749400" cy="2922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5054760" y="3473280"/>
            <a:ext cx="3749400" cy="29228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76440" y="2733840"/>
            <a:ext cx="38955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uego se agrega una estructura (exponencial) que llega a la primera meseta, con alcances propios en cada dire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7360" y="3819600"/>
            <a:ext cx="398124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uego se agrega una segunda estructura para llegar a la segunda meseta, dejando infinito el alcance en la dirección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6720" y="5076720"/>
            <a:ext cx="401004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Finalmente se agrega una tercera estructura para llegar a la meseta total, dejando infinitos los alcances en las direcciones 1 y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38560" y="1895400"/>
            <a:ext cx="269568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(h) = 0.1 pep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57640" y="2276640"/>
            <a:ext cx="38577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+ 0.9 exp(200m,120m,50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48280" y="2647800"/>
            <a:ext cx="385776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+ 0.3 exp(</a:t>
            </a:r>
            <a:r>
              <a:rPr b="0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,120m,50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57640" y="3038400"/>
            <a:ext cx="38577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+ 0.2 exp(</a:t>
            </a:r>
            <a:r>
              <a:rPr b="0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,50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onsideraciones práctic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8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Buscar anisotropías simples con 2 ó 3 direcciones principales, ortogonales entre s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identificar la elipse o el elipsoide que mejor se acerca al mapa variográf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variograma experimental es poco confiable para distancias muy gran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No existe un modelo únic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meseta del variograma (varianza</a:t>
            </a: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 teórica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) puede diferir de la varianza del histograma (varianza </a:t>
            </a: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empírica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debe prestar atención a la representatividad de los puntos experimentales, a la información disponible sobre la variable y a la escala de trabaj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sconfiar de los ajustes automático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866960"/>
            <a:ext cx="801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Variograma experiment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Variograma teóric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variograma experimental estima el variograma teórico sin sesg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536920" y="4260960"/>
                <a:ext cx="414324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u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[</m:t>
                            </m:r>
                            <m:r>
                              <m:t xml:space="preserve">Z</m:t>
                            </m:r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2592360" y="2440080"/>
            <a:ext cx="4054680" cy="87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806560" y="2495520"/>
                <a:ext cx="36561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sup>
                      <m:e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44440" y="5230800"/>
            <a:ext cx="6836040" cy="87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Propiedades del variogra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81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 modelo de variograma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ebe satisfacer varias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restricciones matemáticas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Función positiva: </a:t>
            </a:r>
            <a:r>
              <a:rPr b="0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Función par: </a:t>
            </a:r>
            <a:r>
              <a:rPr b="0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) = </a:t>
            </a:r>
            <a:r>
              <a:rPr b="0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(-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Nulidad en el origen: </a:t>
            </a:r>
            <a:r>
              <a:rPr b="0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n el infinito, crece más lentamente que una parábo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Función de tipo negativo condicional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468440" y="5270400"/>
                <a:ext cx="622764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R/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Propiedades del variogra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os rasgos importantes de un variograma son: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comportamiento en el origen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suave / continuo / discontinu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comportamiento al infinit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alcance / meset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comportamiento direccional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: isótropo / anisótrop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tros: ciclicidad, efecto de hoyo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Propiedades del variogra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la práctica, se modela el variograma experimental a partir de funciones básicas preestablecidas que cumplen con las restricciones matemáticas de un variograma: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modelo discontinuo en el origen: efecto pepi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modelos lineales en el origen: esférico, exponencial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modelos parabólicos en el origen: Gaussiano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modelos sin meseta: potencia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modelos cíclicos: seno cardinal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Efecto pepit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71680" y="3559320"/>
            <a:ext cx="8189640" cy="3081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86040"/>
            <a:ext cx="810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ste modelo se traduce en una ausencia total de correlación en el espacio: dos muestras distintas tienen valores independien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116000" y="1839960"/>
            <a:ext cx="329256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370160" y="1965240"/>
                <a:ext cx="25732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r>
                              <m:t xml:space="preserve"> </m:t>
                            </m:r>
                            <m:r>
                              <m:t xml:space="preserve">h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Efecto pepit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1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Las causas del efecto pepita s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esencia de “micro-estructuras”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(variabilidad a escala muy pequeña en comparación con la escala de observació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esencia de errores de medición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(errores fundamental, de segregación, delimitación, extracción, preparación y análisis químic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esencia de errores en la ubicación de los datos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(coordenadas equivocada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Soporte de la medición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es muy pequeño (efecto de soport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Muestreo preferencial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en zonas de altas leyes (y de alta variabilidad debido al efecto proporciona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Modelo esféric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8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Forma de variograma comúnmente encontrada. El alcance corresponde al parámetro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, la meseta al parámetro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95160" y="3701880"/>
            <a:ext cx="7278840" cy="27385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820800" y="1801800"/>
            <a:ext cx="334944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995400" y="1825560"/>
                <a:ext cx="286704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C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f>
                                  <m:num>
                                    <m:r>
                                      <m:t xml:space="preserve">h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</m:sup>
                                    </m:sSup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r>
                              <m:t xml:space="preserve"> </m:t>
                            </m:r>
                            <m:r>
                              <m:t xml:space="preserve">h</m:t>
                            </m:r>
                            <m:r>
                              <m:t xml:space="preserve">≤</m:t>
                            </m:r>
                            <m:r>
                              <m:t xml:space="preserve">a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8:15:29Z</dcterms:created>
  <dc:creator/>
  <dc:description/>
  <dc:language>en-US</dc:language>
  <cp:lastModifiedBy>Julián Ortiz Cabrera</cp:lastModifiedBy>
  <cp:lastPrinted>2000-07-11T19:43:50Z</cp:lastPrinted>
  <dcterms:modified xsi:type="dcterms:W3CDTF">2007-05-03T16:57:06Z</dcterms:modified>
  <cp:revision>227</cp:revision>
  <dc:subject/>
  <dc:title>05 – Herramientas variográficas</dc:title>
</cp:coreProperties>
</file>