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53A-8B28-4F0C-8B6C-0DF15698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1D2-FD73-472D-82C5-87A87338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A43-A509-4D90-8E61-C7B728CF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273-75A1-47F9-AA90-AC0B3CC1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20DC-408A-4313-A6B3-7C030DC3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8E30-C329-4FFA-B5DF-F81920ED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B1F3-C8E7-465B-8491-99B58C1B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C2BA-3CF9-492F-BAB5-66AEA6DB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0AC8-23EA-4B2E-A50E-BF01828B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F895-B696-487B-8443-44A38DD3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65F-210D-42C8-A89B-EA2C26C6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4D2-9546-4470-98D1-8BC2ED23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438-4E79-48E1-A176-B9674BF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43A-5A0F-4D6A-A3D1-21871A83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9D62-4D83-46BF-B112-E42DCC0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2536-7235-4AB0-80FA-07B1914B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7CC4-665D-4B21-A135-C8BA4F8E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458-D445-4392-99CE-0F71C97B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DE5-134E-4091-A845-9568D440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B2A-A650-4883-8D73-56B943BA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CB2-875F-4146-B5EA-5B4F145E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052-1122-4509-8D70-F53900B5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73E-951A-4400-8D56-06EA002F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228-E8A2-40E4-B2E8-3B8C12E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5F46-6AE6-401E-957E-B7B28D80E45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1AF1-2185-4ADA-B41B-7124BFD3D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3200" y="6680160"/>
            <a:ext cx="7797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MI54A EVALUACIÓN DE YACIMIENTOS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117180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03 - </a:t>
            </a: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l Modelo Probabilístico en Geoestadíst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560" y="3886200"/>
            <a:ext cx="6957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Interpretación probabilística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Variables aleatoria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Funciones de distribución y de densidad de probabilidad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Momento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Ejemplos de distribucion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Distribuciones bivariables y multivariabl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509760" indent="-50976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ecff"/>
                </a:solidFill>
                <a:latin typeface="Tahoma"/>
              </a:rPr>
              <a:t>Noción de función aleatoria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Valores extrem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fectan considerablemente las estadísticas bás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¿Qué hacer con ellos?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eclarar los valores extremos como erróneos y eliminarl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lasificarlos en poblaciones estadísticas separad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Usar estadísticas robustas, que son menos sensibles a los valores extremos: mediana, coeficiente de correlación de posi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ransformar los datos para reducir su influenc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jarlos a un máximo “razonable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Outliers: Observaciones que parecen no pertenecer a la misma población constituida por el resto de los datos. Generan considerables problemas al aplicar regresión, debido a que tienen un efecto desproporcionado sobre los valores estimad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Se puede eliminar los datos considerados extremos (outliers) sólo si se ha comprobado que están errados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. En caso de ser datos verdaderos, proveen información que puede ser crítica para la respuesta del model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45320" y="200160"/>
            <a:ext cx="215244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82840" y="4267080"/>
            <a:ext cx="64767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Suavizamiento de distribuciones experimenta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ocos datos: estadísticas y gráficos errá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Suavizamiento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de la distribución experimental permite reducir las fluctuaciones, aumentar la resolución de clases y extender la distribución mas allá de los valores mínimo y máximo de la muest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écnicas de suavizamiento más flexibles (programación cuadrática) se han aplicado para suavizar histogramas y gráficos de dispersión: mantienen las estadísticas de la muestr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4600" y="4375080"/>
            <a:ext cx="2743200" cy="211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76640" y="4308480"/>
            <a:ext cx="2895840" cy="22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men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9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speranza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primer momento) es un promedio ponderado por la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babilidades, si existe. Da una idea del centro de la distribu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aso discreto 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onde: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{Z} = valor esperado o “media” de Z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= probabilidad de ocurrencia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del i-ésimo valo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 = número de d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so continu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00320" y="3579840"/>
                <a:ext cx="1560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86280" y="5359320"/>
                <a:ext cx="29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zd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men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piedades de la esperan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varianz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segundo momento centrado). Nos da una idea de la dispersión de la distribució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la variable aleatoria Z. Se define como la esperanza de la desviación de Z respecto de su media al cuadrad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0" y="5935680"/>
                <a:ext cx="4572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[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52960" y="2498760"/>
                <a:ext cx="26557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men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so discre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so continu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06760" y="2843280"/>
                <a:ext cx="25639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82840" y="4673520"/>
                <a:ext cx="4705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Momen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varianza es una medida de la dispersión de los datos en torno a la med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piedades de la varianz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esviación estándar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     , que es la raíz cuadrada de la varianza, también es una medida de la variabilidad de los datos respecto a la media. Se escribe en las mismas unidades de la variab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coeficiente de varia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CV), que es adimensional, es la razón entre la desviación estándar y la media (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m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116240" y="4221000"/>
                <a:ext cx="9115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519360" y="3062160"/>
                <a:ext cx="210528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265720" y="2041560"/>
            <a:ext cx="2890800" cy="18493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Uniform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d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oment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92360" y="1822320"/>
                <a:ext cx="2357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∀</m:t>
                              </m:r>
                              <m:r>
                                <m:t xml:space="preserve">z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,b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ro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s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654200" y="2919240"/>
                <a:ext cx="28843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  <m:r>
                                <m:t xml:space="preserve">∀</m:t>
                              </m:r>
                              <m:r>
                                <m:t xml:space="preserve">z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z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z </m:t>
                              </m:r>
                              <m:r>
                                <m:t xml:space="preserve">∈</m:t>
                              </m:r>
                              <m:r>
                                <m:t xml:space="preserve">[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,b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</m:t>
                              </m:r>
                              <m:r>
                                <m:t xml:space="preserve">∀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z  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540160" y="4368960"/>
                <a:ext cx="254772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dia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35120" y="5823000"/>
                <a:ext cx="3429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541600" y="5035680"/>
                <a:ext cx="35053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Dira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z = a   (constante, sin incertidumb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mento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Z} = m = 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=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859040" y="2376360"/>
                <a:ext cx="18968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si </m:t>
                              </m:r>
                              <m:r>
                                <m:t xml:space="preserve">z</m:t>
                              </m:r>
                              <m:r>
                                <m:t xml:space="preserve">≥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 si n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847880" y="3613320"/>
                <a:ext cx="2895480" cy="80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∀</m:t>
                              </m:r>
                              <m:r>
                                <m:t xml:space="preserve">z</m:t>
                              </m:r>
                              <m:r>
                                <m:t xml:space="preserve">≠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definida en </m:t>
                              </m:r>
                              <m:r>
                                <m:t xml:space="preserve">z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a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5880" y="3276720"/>
            <a:ext cx="2210040" cy="1495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1447920"/>
            <a:ext cx="221004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832280" y="4464000"/>
            <a:ext cx="2874960" cy="1838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828800" y="4552920"/>
            <a:ext cx="2768760" cy="17924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Normal (Gaussiana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 distribución Gaussiana queda completamente caracterizada por dos parámetros, la media m y la varianza 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 fdp normal </a:t>
            </a: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estándar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tiene una media de cero y una desviación estándar de uno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130400" y="2779560"/>
                <a:ext cx="29080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z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162400" y="2816280"/>
                <a:ext cx="21337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Normal (Gaussiana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fda de la distribución gaussiana G(z) no tiene una expresión analítica simplificada, pero la fda normal estándar G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z) está tabulada en la litera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i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y definimos: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, entonces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distribución gaussiana es simétr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 media y mediana son igu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 fdp g(m+z) = g(m-z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05120" y="2943360"/>
                <a:ext cx="182880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94120" y="2932200"/>
                <a:ext cx="2819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16040" y="4019400"/>
                <a:ext cx="1006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38520" y="3929040"/>
                <a:ext cx="75420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921360" y="4021200"/>
                <a:ext cx="10764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688000" y="4640400"/>
          <a:ext cx="2676600" cy="20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8000" y="4640400"/>
                    <a:ext cx="26766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erpre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fenómenos en Ciencias de la Tierra involucran procesos complejos, luego, parecen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aleatorio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 Sin embargo, los datos verdaderos no son resultado de un proceso aleatorio: se trata solamente de una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interpretación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por nuestro desconocimiento de la realid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valor de la variable regionalizada en un punto z(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se interpreta como la realización (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outcome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de una </a:t>
            </a: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variable aleatori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Z(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lgunos problem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¿Cómo hacer inferencia acerca de la variable aleatoria si sólo disponemos de </a:t>
            </a: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un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realizació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nferencia y Modelamient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i Z es una variable aleatoria cuyo logaritmo está distribuido como una normal, entonces Z tiene distribución lognorm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Muy interesante en Ciencias de la Tier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istribución sesgada hacia la derecha (cola larga de valores altos): asimétr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Lognormal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475000" y="2792520"/>
                <a:ext cx="41925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si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57280" y="3433680"/>
          <a:ext cx="26290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433680"/>
                    <a:ext cx="26290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987800" y="3433680"/>
          <a:ext cx="262908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7800" y="3433680"/>
                    <a:ext cx="26290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Distribución Lognormal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s distribuciones lognormales también se caracterizan por dos parámetros: media y varianza. Sin embargo, pueden caracterizarse ya sea por los parámetros aritméticos (m y 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) o por los parámetros logarítmicos (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ES_tradnl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 fda y fdp lognormal se expresan mas fácilmente en función de sus parámetros logarítmico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as relaciones entre los parámetros aritméticos y logarítmicos s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695680" y="3890880"/>
                <a:ext cx="37494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para todo </m:t>
                    </m:r>
                    <m:r>
                      <m:t xml:space="preserve">z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16400" y="4511520"/>
                <a:ext cx="24764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den>
                    </m:f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57680" y="5592600"/>
                <a:ext cx="34290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mbinación de distribu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2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e la combinación de distribuciones resulta una nueva distribu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(z) =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'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z) es un modelo de distribución si las F'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(z) son funciones de distribución y si los </a:t>
            </a: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k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son positivos y suman 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dificación disyuntiva de un histograma experimental de datos z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, z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… z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17760" y="4113360"/>
                <a:ext cx="1746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380960" y="5014800"/>
            <a:ext cx="216252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na suma de n distribuciones Dirac de parámetros z</a:t>
            </a:r>
            <a:r>
              <a:rPr b="1" lang="es-ES_tradnl" sz="16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 e igual amplitud 1/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50217" b="8010"/>
          <a:stretch/>
        </p:blipFill>
        <p:spPr>
          <a:xfrm>
            <a:off x="5072040" y="3743280"/>
            <a:ext cx="3630600" cy="27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Teorema del Límite Central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suma o la media de un gran número de variables aleatorias estandarizadas independientes igualmente distribuidas (no necesariamente Gaussianas) tiende a distribuirse en forma normal. Es decir, si n variables aleatorias Z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tienen la misma fda y medias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su media tiende hacia una fda normal, cuando n tiende a infini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rolario: el producto de un gran número de variables aleatorias positivas, independientes e idénticamente distribuidas tiende a distribuirse en forma lognor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797200" y="3571920"/>
                <a:ext cx="458316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Normal   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Z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Z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092320" y="5697360"/>
                <a:ext cx="4959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Normal   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E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  <m:r>
                                    <m:t xml:space="preserve">Z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r>
                                <m:t xml:space="preserve">α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acc>
                                    <m:accPr>
                                      <m:chr m:val="^"/>
                                    </m:accPr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</m:acc>
                                </m:e>
                              </m:d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  <m:r>
                                    <m:t xml:space="preserve">Z</m:t>
                                  </m:r>
                                </m:e>
                              </m:d>
                              <m:r>
                                <m:t xml:space="preserve">=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β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istribución b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unción de densidad de probabilidad conjunta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es-ES_tradnl" sz="2000" spc="-1" strike="noStrike" baseline="30000">
                <a:solidFill>
                  <a:srgbClr val="ffffff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s la función de densidad de probabilidad conjunta del vector aleatorio bivariable (Z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Z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) si para cada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184880" y="2079720"/>
                <a:ext cx="69552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327720" y="2674800"/>
                <a:ext cx="7174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156120" y="3203640"/>
                <a:ext cx="34668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32" name=""/>
          <p:cNvGraphicFramePr/>
          <p:nvPr/>
        </p:nvGraphicFramePr>
        <p:xfrm>
          <a:off x="1805040" y="4079880"/>
          <a:ext cx="553392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4079880"/>
                    <a:ext cx="553392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istribución b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6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unciones de distribución acumulada y densidad conjunta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istribuciones marginales (univariables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istribuciones condicionales (Ley de Bayes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253200" y="2465280"/>
                <a:ext cx="2319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311120" y="2459160"/>
                <a:ext cx="46278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897280" y="3919680"/>
                <a:ext cx="2020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221440" y="3930480"/>
                <a:ext cx="212724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368440" y="5307120"/>
                <a:ext cx="479268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istribución b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685656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398680" y="4172040"/>
            <a:ext cx="4643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momento de segundo orden de una distribución bivariable es 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covarianz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, definida com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covarianza entre la variable y ella misma es su </a:t>
            </a:r>
            <a:r>
              <a:rPr b="0" i="1" lang="es-ES_tradnl" sz="2000" spc="-1" strike="noStrike">
                <a:solidFill>
                  <a:srgbClr val="ffff00"/>
                </a:solidFill>
                <a:latin typeface="Tahoma"/>
              </a:rPr>
              <a:t>varianz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v{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} = Var{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}; Cov{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,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} = Var{Z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oeficiente de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correlación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entre dos variables se define como la covarianza estandarizada por las desviaciones estánda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istribución b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44880" y="5649840"/>
                <a:ext cx="3394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781360" y="2610000"/>
                <a:ext cx="461808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 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istribución multivariab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3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unción de distribución acumulada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aracteriza cómo se distribuyen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conjuntamente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as distintas variables aleato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 utiliza para describir la distribución de los valores de la variable regionalizada en el espacio, al considerar el conjunto de las variables aleatorias en el dominio de interé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546280" y="2652840"/>
                <a:ext cx="487044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621480" y="5162400"/>
                <a:ext cx="12128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4560" y="3084480"/>
            <a:ext cx="799488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Noción de función aleator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0020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Función Aleatoria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l conjunto de las variables aleatorias en un domini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La variable regionalizada es un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de una función ale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 importante caracterizar cómo se correlacionan estas variables aleatorias, de modo de modelar la </a:t>
            </a:r>
            <a:r>
              <a:rPr b="1" i="1" lang="es-ES_tradnl" sz="2400" spc="-1" strike="noStrike">
                <a:solidFill>
                  <a:srgbClr val="ffff00"/>
                </a:solidFill>
                <a:latin typeface="Tahoma"/>
              </a:rPr>
              <a:t>continuidad espacia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los valores de la variable regionaliz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→ 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variográfico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640400" y="2401920"/>
                <a:ext cx="1206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Variable aleator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1040" y="1870200"/>
            <a:ext cx="845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Variable aleatori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Una función Z desde un espacio muestreal S en los números real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 Una forma de representar un valor z no muestreado (desconocido). Se denota con letra mayúscu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variable aleatoria Z puede tomar cualquier valor dado por su distribución de probabilidad. Ésta modela la incertidumbre respecto a su realización z. La variable puede ser continua o discret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Variable continu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puede tomar valores en forma continua entre dos valores dados: ley, densidad, concentración, precio,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Variable discreta o categórica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pertenece a una clase.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Ejemplo: códigos de litologí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¿Cómo caracterizar una variable aleatoria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Noción de función aleatori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Ejemplo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mismos conjuntos de valores, pero distribuidos de forma diferente en el espacio. Las variables aleatorias se modelarán con altas correlaciones en el primer caso, y con bajas correlaciones en el segundo ca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285920" y="3406680"/>
            <a:ext cx="2889360" cy="27417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159520" y="3408480"/>
            <a:ext cx="288900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unción de distribución acumul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unción de Distribución Acumulada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(fda)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una variable aleatoria Z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-2300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tá definida para todos los valores de z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-2300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uede ser una función discontinu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-2300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-2300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 una función no-decreciente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-230040">
              <a:lnSpc>
                <a:spcPct val="80000"/>
              </a:lnSpc>
              <a:spcBef>
                <a:spcPts val="4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Esta fórmula entrega el área bajo la función de densidad de probabilidad de la variable aleatoria Z, y equivale a la probabilidad de que la variable aleatoria Z sea menor o igual a un valor de corte z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40080" y="2655720"/>
                <a:ext cx="30384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≤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486080" y="3954600"/>
                <a:ext cx="12906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83040" y="3960720"/>
                <a:ext cx="1174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z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12720" y="4587840"/>
                <a:ext cx="6112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6159600" y="3355200"/>
            <a:ext cx="2414160" cy="1537560"/>
            <a:chOff x="6159600" y="3355200"/>
            <a:chExt cx="2414160" cy="1537560"/>
          </a:xfrm>
        </p:grpSpPr>
        <p:sp>
          <p:nvSpPr>
            <p:cNvPr id="106" name=""/>
            <p:cNvSpPr/>
            <p:nvPr/>
          </p:nvSpPr>
          <p:spPr>
            <a:xfrm>
              <a:off x="6463800" y="3489840"/>
              <a:ext cx="0" cy="140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3800" y="4892760"/>
              <a:ext cx="2109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5574960" y="3939480"/>
              <a:ext cx="141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Times New Roman"/>
                </a:rPr>
                <a:t>Probabilidad acumula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7040" y="3659400"/>
              <a:ext cx="2027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457320" y="3659400"/>
              <a:ext cx="1563840" cy="1232640"/>
              <a:chOff x="6457320" y="3659400"/>
              <a:chExt cx="1563840" cy="123264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6457320" y="4320000"/>
                <a:ext cx="318600" cy="572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5640" y="3659400"/>
                <a:ext cx="1235520" cy="660960"/>
              </a:xfrm>
              <a:custGeom>
                <a:avLst/>
                <a:gdLst/>
                <a:ahLst/>
                <a:rect l="l" t="t" r="r" b="b"/>
                <a:pathLst>
                  <a:path w="768" h="492">
                    <a:moveTo>
                      <a:pt x="0" y="492"/>
                    </a:moveTo>
                    <a:cubicBezTo>
                      <a:pt x="80" y="473"/>
                      <a:pt x="160" y="454"/>
                      <a:pt x="222" y="432"/>
                    </a:cubicBezTo>
                    <a:cubicBezTo>
                      <a:pt x="284" y="410"/>
                      <a:pt x="321" y="410"/>
                      <a:pt x="372" y="360"/>
                    </a:cubicBezTo>
                    <a:cubicBezTo>
                      <a:pt x="423" y="310"/>
                      <a:pt x="481" y="185"/>
                      <a:pt x="528" y="132"/>
                    </a:cubicBezTo>
                    <a:cubicBezTo>
                      <a:pt x="575" y="79"/>
                      <a:pt x="614" y="64"/>
                      <a:pt x="654" y="42"/>
                    </a:cubicBezTo>
                    <a:cubicBezTo>
                      <a:pt x="694" y="20"/>
                      <a:pt x="731" y="10"/>
                      <a:pt x="768" y="0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unción de distribución acumul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babilidad de superar cualquier valor de corte z se escrib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babilidad de que Z pertenezca a un interval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a,b]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(donde b&gt;a) es la diferencia entre los valores de la función de distribución acumulada evaluada en los puntos b y a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08360" y="4840200"/>
                <a:ext cx="35082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435480" y="2727360"/>
                <a:ext cx="25416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unción de distribución acumulad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eorem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: (importante para entender porqué 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simulación de Monte-Carlo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funciona)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Sea Z una variable aleatoria con función de distribución acumulada continua           y definamos la variable aleatoria Y com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 . Entonces Y está distribuida uniformemente entre 0 y 1, es decir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21160" y="3452760"/>
                <a:ext cx="596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63720" y="3772080"/>
                <a:ext cx="1033560" cy="31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44680" y="4716360"/>
                <a:ext cx="27878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unción de densidad de probabilidad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función de densidad de probabilidad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(fdp)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es la derivada de la fda, si es derivable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fda se obtiene integrando la fdp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0040" y="3162240"/>
                <a:ext cx="3657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894120" y="4702320"/>
                <a:ext cx="1882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z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44760" y="2487600"/>
            <a:ext cx="1143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Función de densidad de probabilidad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5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ropiedades de la función de densidad de probabilidad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(z)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-10336" r="0" b="6964"/>
          <a:stretch/>
        </p:blipFill>
        <p:spPr>
          <a:xfrm>
            <a:off x="609480" y="419580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0" y="4197240"/>
            <a:ext cx="4071960" cy="2293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79680" y="3068640"/>
                <a:ext cx="1025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ffff"/>
                </a:solidFill>
                <a:latin typeface="Tahoma"/>
              </a:rPr>
              <a:t>Gráfico de probabilidad acumulativ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70000" y="1871280"/>
            <a:ext cx="43020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ermite ver todos los datos en un gráfico, reconocer y separar poblaciones estadíst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ermite también detectar valores extrem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uede usarse para verificar modelos de distribu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ínea recta en escala aritmética 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distribución norm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ínea recta en escala logarítmica </a:t>
            </a:r>
            <a:r>
              <a:rPr b="0" lang="es-ES_tradn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 distribución lognorm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equeñas divergencias pueden ser importantes (especialmente en los extremo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679400"/>
            <a:ext cx="4572000" cy="331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01160" y="1871640"/>
            <a:ext cx="527040" cy="49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9T20:46:18Z</dcterms:created>
  <dc:creator/>
  <dc:description/>
  <dc:language>en-US</dc:language>
  <cp:lastModifiedBy>Xavier Emery</cp:lastModifiedBy>
  <dcterms:modified xsi:type="dcterms:W3CDTF">2006-08-17T19:50:59Z</dcterms:modified>
  <cp:revision>89</cp:revision>
  <dc:subject/>
  <dc:title>03 - El Modelo Probabilístico en Geoestadística</dc:title>
</cp:coreProperties>
</file>