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34.wmf" ContentType="image/x-wmf"/>
  <Override PartName="/ppt/media/image33.wmf" ContentType="image/x-wmf"/>
  <Override PartName="/ppt/media/image8.wmf" ContentType="image/x-wmf"/>
  <Override PartName="/ppt/media/image5.png" ContentType="image/png"/>
  <Override PartName="/ppt/media/image35.png" ContentType="image/png"/>
  <Override PartName="/ppt/media/image11.png" ContentType="image/png"/>
  <Override PartName="/ppt/media/image12.png" ContentType="image/png"/>
  <Override PartName="/ppt/media/image7.wmf" ContentType="image/x-wmf"/>
  <Override PartName="/ppt/media/image36.png" ContentType="image/png"/>
  <Override PartName="/ppt/media/image37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ACE-63BE-4FE5-95B7-1B97F4E0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505-E8A0-4EFA-91D5-13C0AF9D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5CC-875B-4AAF-ABE5-89D46BD3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55B-8750-40B9-B5B4-12A44FF8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61E9-5698-4D55-A36B-126A95E0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1DAC-431B-4B72-8431-A12925EF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6884-823E-4D3B-AD4C-D05E2D69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CBD0-1F56-4F69-AFB1-5CD7D682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E558-654E-44AE-A36C-02EBA5DE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4143-F8CA-496D-BB93-632E0CC9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4172-4333-4A6A-93E1-96ED71B5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AA1-5780-40C8-B370-229BC7C4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E335-349F-43FD-ADD3-EE588967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4A03-3D39-4C18-936C-F50A1580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CA4B-DF85-4A42-B613-6F2E4EDA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673F-1268-453A-A946-E6017F73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48E6-0AB1-4726-88E6-98458936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B95-8648-4CD5-A4E9-CBAC2D94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5D1-78E5-4C95-AA3F-1D0D776D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8B9-19E3-4B34-93F2-662FB28B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3AB-FCE0-41D8-A9E6-31014FD0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58E-53E8-4BF2-A1FC-ECD0869C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A26-7633-4D58-BC2C-4FDEB3E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9C9-3FE1-465D-8381-B8B6ABE6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A569-08D8-4A49-AD38-AC082939409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73200" y="6680160"/>
            <a:ext cx="7797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MI54A EVALUACIÓN DE YACIMIENTOS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B1E5-03C9-466E-BFCA-DA369AD570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3200" y="6680160"/>
            <a:ext cx="7797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MI54A EVALUACIÓN DE YACIMIENTOS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6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5.wmf"/><Relationship Id="rId3" Type="http://schemas.openxmlformats.org/officeDocument/2006/relationships/image" Target="../media/image23.wmf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02 - Estudio Exploratorio de Datos: Univariable y Multivariab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Despliegue de dato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Tablas de frecuencia e histograma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Estadísticas básica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Distribución normal y lognorma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Gráfico de dispersió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Q-q plo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ahoma"/>
              </a:rPr>
              <a:t>Coeficiente de correlació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01640" y="2090880"/>
            <a:ext cx="5940720" cy="44384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Histogram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381400" y="2955960"/>
            <a:ext cx="2860560" cy="3073320"/>
          </a:xfrm>
          <a:custGeom>
            <a:avLst/>
            <a:gdLst/>
            <a:ahLst/>
            <a:rect l="l" t="t" r="r" b="b"/>
            <a:pathLst>
              <a:path w="1802" h="1936">
                <a:moveTo>
                  <a:pt x="1802" y="1936"/>
                </a:moveTo>
                <a:lnTo>
                  <a:pt x="1802" y="0"/>
                </a:lnTo>
                <a:lnTo>
                  <a:pt x="0" y="0"/>
                </a:lnTo>
              </a:path>
            </a:pathLst>
          </a:custGeom>
          <a:noFill/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adísticas Bás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edidas de pos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oda, mínimo y máx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an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uartil inferior y sup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ciles, percentiles y cuantiles: el cuantil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e la distr. es el valor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al que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p%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e los datos está bajo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24080" y="3200400"/>
                <a:ext cx="3903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z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 n es par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(</m:t>
                                      </m:r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  <m:r>
                                        <m:t xml:space="preserve">)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 n es impar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05320" y="2514600"/>
                <a:ext cx="1261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791320" y="2438280"/>
                <a:ext cx="12985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71800" y="6019920"/>
                <a:ext cx="44197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adísticas Bás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edidas de dispers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Varian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sviación están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ango intercuart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eficiente de vari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267080" y="2819520"/>
                <a:ext cx="213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477120" y="2819520"/>
                <a:ext cx="21304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952880" y="4038480"/>
                <a:ext cx="8510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162920" y="4038480"/>
                <a:ext cx="8506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638680" y="4952880"/>
                <a:ext cx="1498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867280"/>
                <a:ext cx="850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162920" y="5867280"/>
                <a:ext cx="8506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b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1828800"/>
            <a:ext cx="7620120" cy="503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adísticas Bás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00200" y="3660840"/>
            <a:ext cx="2757600" cy="3120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60920" y="2046240"/>
            <a:ext cx="357804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689360" y="4390920"/>
            <a:ext cx="3699000" cy="2467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1828800"/>
            <a:ext cx="3124080" cy="185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tipo pórfido cupríf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V = 0.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cobre de mediana var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V = 1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oro de alta variabi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V = 4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adísticas Bás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edidas de form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eficiente de asimetría (skew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ositivo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ercano a 0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Nega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457360" y="2743200"/>
                <a:ext cx="422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iciente de asimetría 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4591080"/>
            <a:ext cx="2971800" cy="2244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968560" y="4449600"/>
            <a:ext cx="3206880" cy="2408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018120" y="4497480"/>
            <a:ext cx="3125880" cy="23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adísticas Bás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eficiente de aplanamiento (Kurto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a una idea del aplanamiento de la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tribución (relación entre altura y ancho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 la campana).  Su valor es 3 para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tribuciones normales (Gaussian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81240" y="2743200"/>
                <a:ext cx="4781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iciente de aplanamiento 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nary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piedad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letamente definida por su media y varian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iene una descripción matemática conci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avorable para enfoques teóricos de esti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unción de densidad de probabilida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65320" y="5638680"/>
                <a:ext cx="32115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σ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562720" y="457200"/>
            <a:ext cx="160020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andariz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tribución normal estándar N(0,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unción de distribución acumulad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sponde al área bajo la cur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572000" y="1828800"/>
                <a:ext cx="1316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29000" y="3124080"/>
                <a:ext cx="22860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 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465360" y="4876920"/>
                <a:ext cx="22114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y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562720" y="457200"/>
            <a:ext cx="160020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unción de densidad de prob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tribución de probabilidad acumul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93760" y="3660840"/>
            <a:ext cx="4278240" cy="3197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60840" y="3660840"/>
            <a:ext cx="4278240" cy="3193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562720" y="457200"/>
            <a:ext cx="160020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tervalos de confian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68%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9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76120" y="3648240"/>
            <a:ext cx="4295880" cy="3209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572000" y="3648240"/>
            <a:ext cx="4295880" cy="3209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62720" y="457200"/>
            <a:ext cx="1600200" cy="1195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916280" y="3220920"/>
            <a:ext cx="1180800" cy="314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697360" y="3182760"/>
            <a:ext cx="2162520" cy="3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Objetivos del Estudio Exploratorio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plegar los datos en diferentes for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tender los datos: poblaciones estadísticas vs. poblaciones geoló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leccionar poblaciones geoló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cisión de estaciona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dentificar deriva en los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segurar la calidad de los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esumir parte de la información contenida en los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amiliarizarse con los datos y la geolo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agrupar datos para modelamiento geoestadís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7010280" cy="5113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638680" y="4240080"/>
            <a:ext cx="350532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562720" y="457200"/>
            <a:ext cx="160020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Log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a población es lognormal si los logaritmos de los datos están distribuidos como una no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piedad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Ciencias de la Tierra es común encontrar variables cuya distribución es cercana a una lognor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lación con la distribución normal la hace fácil de utiliz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mbién es favorable para enfoques teóricos de estim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nción de densidad de probabilida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80880" y="5410080"/>
                <a:ext cx="3957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β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ζ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β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5410080"/>
            <a:ext cx="44578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87280" y="1803240"/>
            <a:ext cx="56959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tribución Logn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04920" y="3633840"/>
            <a:ext cx="4278240" cy="3224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572000" y="3633840"/>
            <a:ext cx="4278240" cy="3224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400800" y="3808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04920" y="1828800"/>
            <a:ext cx="3686040" cy="866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304920" y="2666880"/>
            <a:ext cx="4962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Gráficos de Probabil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Q-q plot de una distribución normal o lognormal con la distribución de las muest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95680" y="3286080"/>
            <a:ext cx="4648320" cy="3571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3268800"/>
            <a:ext cx="457200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0" y="3527280"/>
            <a:ext cx="4572000" cy="33307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Gráficos de Probabil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útiles para chequear la presencia de dos pobl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28600" y="3527280"/>
            <a:ext cx="4343400" cy="3330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65560" y="3733920"/>
            <a:ext cx="1244520" cy="2819160"/>
          </a:xfrm>
          <a:custGeom>
            <a:avLst/>
            <a:gdLst/>
            <a:ahLst/>
            <a:rect l="l" t="t" r="r" b="b"/>
            <a:pathLst>
              <a:path w="784" h="1776">
                <a:moveTo>
                  <a:pt x="784" y="0"/>
                </a:moveTo>
                <a:cubicBezTo>
                  <a:pt x="392" y="784"/>
                  <a:pt x="0" y="1568"/>
                  <a:pt x="16" y="177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0" y="3527280"/>
            <a:ext cx="4572000" cy="333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Gráficos de Probabil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útiles para chequear la presencia de dos pobl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be confirmarse con información geológ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28600" y="3527280"/>
            <a:ext cx="4343400" cy="3330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165560" y="3733920"/>
            <a:ext cx="1244520" cy="2819160"/>
          </a:xfrm>
          <a:custGeom>
            <a:avLst/>
            <a:gdLst/>
            <a:ahLst/>
            <a:rect l="l" t="t" r="r" b="b"/>
            <a:pathLst>
              <a:path w="784" h="1776">
                <a:moveTo>
                  <a:pt x="784" y="0"/>
                </a:moveTo>
                <a:cubicBezTo>
                  <a:pt x="392" y="784"/>
                  <a:pt x="0" y="1568"/>
                  <a:pt x="16" y="177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81640" y="3757680"/>
            <a:ext cx="3286080" cy="2562120"/>
          </a:xfrm>
          <a:custGeom>
            <a:avLst/>
            <a:gdLst/>
            <a:ahLst/>
            <a:rect l="l" t="t" r="r" b="b"/>
            <a:pathLst>
              <a:path w="1686" h="1605">
                <a:moveTo>
                  <a:pt x="0" y="0"/>
                </a:moveTo>
                <a:cubicBezTo>
                  <a:pt x="11" y="283"/>
                  <a:pt x="23" y="566"/>
                  <a:pt x="33" y="759"/>
                </a:cubicBezTo>
                <a:cubicBezTo>
                  <a:pt x="43" y="952"/>
                  <a:pt x="53" y="1071"/>
                  <a:pt x="63" y="1158"/>
                </a:cubicBezTo>
                <a:cubicBezTo>
                  <a:pt x="73" y="1245"/>
                  <a:pt x="83" y="1249"/>
                  <a:pt x="93" y="1281"/>
                </a:cubicBezTo>
                <a:cubicBezTo>
                  <a:pt x="103" y="1313"/>
                  <a:pt x="113" y="1327"/>
                  <a:pt x="123" y="1353"/>
                </a:cubicBezTo>
                <a:cubicBezTo>
                  <a:pt x="133" y="1379"/>
                  <a:pt x="145" y="1419"/>
                  <a:pt x="156" y="1440"/>
                </a:cubicBezTo>
                <a:cubicBezTo>
                  <a:pt x="167" y="1461"/>
                  <a:pt x="176" y="1468"/>
                  <a:pt x="186" y="1479"/>
                </a:cubicBezTo>
                <a:cubicBezTo>
                  <a:pt x="196" y="1490"/>
                  <a:pt x="196" y="1492"/>
                  <a:pt x="216" y="1503"/>
                </a:cubicBezTo>
                <a:cubicBezTo>
                  <a:pt x="236" y="1514"/>
                  <a:pt x="248" y="1532"/>
                  <a:pt x="309" y="1545"/>
                </a:cubicBezTo>
                <a:cubicBezTo>
                  <a:pt x="370" y="1558"/>
                  <a:pt x="353" y="1571"/>
                  <a:pt x="582" y="1581"/>
                </a:cubicBezTo>
                <a:cubicBezTo>
                  <a:pt x="811" y="1591"/>
                  <a:pt x="1502" y="1601"/>
                  <a:pt x="1686" y="160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76960" y="5192640"/>
            <a:ext cx="3429000" cy="1127160"/>
          </a:xfrm>
          <a:custGeom>
            <a:avLst/>
            <a:gdLst/>
            <a:ahLst/>
            <a:rect l="l" t="t" r="r" b="b"/>
            <a:pathLst>
              <a:path w="2160" h="710">
                <a:moveTo>
                  <a:pt x="0" y="710"/>
                </a:moveTo>
                <a:cubicBezTo>
                  <a:pt x="15" y="679"/>
                  <a:pt x="30" y="649"/>
                  <a:pt x="66" y="590"/>
                </a:cubicBezTo>
                <a:cubicBezTo>
                  <a:pt x="102" y="531"/>
                  <a:pt x="151" y="440"/>
                  <a:pt x="216" y="359"/>
                </a:cubicBezTo>
                <a:cubicBezTo>
                  <a:pt x="281" y="278"/>
                  <a:pt x="394" y="159"/>
                  <a:pt x="456" y="101"/>
                </a:cubicBezTo>
                <a:cubicBezTo>
                  <a:pt x="518" y="43"/>
                  <a:pt x="526" y="0"/>
                  <a:pt x="588" y="8"/>
                </a:cubicBezTo>
                <a:cubicBezTo>
                  <a:pt x="650" y="16"/>
                  <a:pt x="746" y="88"/>
                  <a:pt x="831" y="149"/>
                </a:cubicBezTo>
                <a:cubicBezTo>
                  <a:pt x="916" y="210"/>
                  <a:pt x="1014" y="315"/>
                  <a:pt x="1098" y="374"/>
                </a:cubicBezTo>
                <a:cubicBezTo>
                  <a:pt x="1182" y="433"/>
                  <a:pt x="1243" y="464"/>
                  <a:pt x="1335" y="503"/>
                </a:cubicBezTo>
                <a:cubicBezTo>
                  <a:pt x="1427" y="542"/>
                  <a:pt x="1579" y="585"/>
                  <a:pt x="1653" y="608"/>
                </a:cubicBezTo>
                <a:cubicBezTo>
                  <a:pt x="1727" y="631"/>
                  <a:pt x="1695" y="629"/>
                  <a:pt x="1779" y="644"/>
                </a:cubicBezTo>
                <a:cubicBezTo>
                  <a:pt x="1863" y="659"/>
                  <a:pt x="2011" y="680"/>
                  <a:pt x="2160" y="701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258920" y="5178240"/>
            <a:ext cx="2541600" cy="771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111480" y="3809520"/>
            <a:ext cx="1152720" cy="18068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Gráfico de Dispers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nálisis bivar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ares deben corresponder a la misma ubicación en el espacio (co-localizad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1320" y="3368520"/>
            <a:ext cx="4579920" cy="34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l </a:t>
            </a:r>
            <a:r>
              <a:rPr b="0" i="1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coeficiente de correla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es una medida de la dependencia lineal entre las dos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Una correlación de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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ES_tradnl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XY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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= 1 implica que X e Y están perfectamente correlacionada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ndependencia entre dos variables implica que el coeficiente de correlación es cero: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ES_tradnl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XY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= 0. Sin embargo, la inversa no es siempre cierta. Correlación cero no implica necesariamente independencia entre las dos vari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el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048120" y="2590920"/>
                <a:ext cx="28954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1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orrel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uy sensible a valores aberra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coeficiente de correlación cambia incluso de sig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181160" y="4160880"/>
            <a:ext cx="678168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orrel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ferentes ejemplos de coeficiente de corre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610080" y="466560"/>
            <a:ext cx="5533920" cy="639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spliegue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nálisis utilizando plantas y sec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320" y="2622600"/>
            <a:ext cx="4476600" cy="4159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91080" y="2622600"/>
            <a:ext cx="44766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Gráficos de dispers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pliegue bivariable, estimad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verdader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dos variables, o la misma variable separada por algún vector distancia (h-scatterpl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coeficiente de correlación lineal varía entre -1 y +1 y es sensible a valores extremos (puntos fuera de la nube princip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coeficiente de correlación de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sición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 complemento úti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i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ran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&gt;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entonces unos pocos outliers dañan la que en otro caso sería una buena correl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i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ran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&lt;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entonces unos pocos outliers mejoran la que en otro caso sería una pobre correl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i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ran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= 1 entonces una transformación no lineal de una variable puede hacer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Q-q Plo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Gráfico Q-Q: para comparar dos distribuciones F1 y F2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uantil a cuant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No se utiliza para comparar la relación par a par que hay entre las variab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scoger una serie de valores de probabilidad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      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, k = 1, 2, …, 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Graficar 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) versus 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), k = 1, 2, …, 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210200" y="1419120"/>
            <a:ext cx="4933800" cy="20764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657760" y="3495600"/>
            <a:ext cx="28242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Q-q Plo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 todos los puntos caen en una línea de 4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las dos distribuciones son exactamente igu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 la línea está desplazada de los 4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las dos distribuciones tienen la misma forma pero diferentes med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 la inclinación de la línea no es 4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las dos distribuciones tienen diferentes varianz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 hay un carácter no lineal en el grafico Q-Q, las distribuciones tienen diferentes formas en el histogr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Q-q Plo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Histogramas de ley DDH y ley por R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uestreo preferencial explica la diferencia. No son muestras “pareadas” por lo que no podemos detectar sesgo en las muest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62200" y="2925720"/>
            <a:ext cx="2354040" cy="1619280"/>
            <a:chOff x="1762200" y="2925720"/>
            <a:chExt cx="2354040" cy="1619280"/>
          </a:xfrm>
        </p:grpSpPr>
        <p:sp>
          <p:nvSpPr>
            <p:cNvPr id="286" name=""/>
            <p:cNvSpPr/>
            <p:nvPr/>
          </p:nvSpPr>
          <p:spPr>
            <a:xfrm>
              <a:off x="2109960" y="2925720"/>
              <a:ext cx="0" cy="16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09960" y="4545000"/>
              <a:ext cx="2006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73320" y="3560760"/>
              <a:ext cx="61920" cy="984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55960" y="3743280"/>
              <a:ext cx="49320" cy="801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86120" y="4095720"/>
              <a:ext cx="58680" cy="4492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4200" y="4289400"/>
              <a:ext cx="57240" cy="2556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73440" y="4305240"/>
              <a:ext cx="48960" cy="239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38480" y="3016440"/>
              <a:ext cx="57240" cy="15285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09960" y="3284640"/>
              <a:ext cx="58680" cy="1260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5080" y="3435480"/>
              <a:ext cx="57240" cy="1109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0240" y="3764160"/>
              <a:ext cx="57240" cy="7808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332160" y="3936960"/>
              <a:ext cx="69840" cy="608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701800" y="4295880"/>
              <a:ext cx="61920" cy="249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639160" y="4406760"/>
              <a:ext cx="57240" cy="138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474360" y="4238640"/>
              <a:ext cx="58680" cy="306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409200" y="4086360"/>
              <a:ext cx="57240" cy="4586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602880" y="4470480"/>
              <a:ext cx="57240" cy="74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509200" y="4470480"/>
              <a:ext cx="57240" cy="74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40960" y="4392720"/>
              <a:ext cx="57240" cy="1522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575080" y="4432320"/>
              <a:ext cx="56880" cy="112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666960" y="4503600"/>
              <a:ext cx="59040" cy="414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29760" y="4503600"/>
              <a:ext cx="58680" cy="414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1477080" y="349308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Frecuen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385360" y="4470480"/>
              <a:ext cx="57240" cy="74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451240" y="4432320"/>
              <a:ext cx="56880" cy="112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261520" y="4470480"/>
              <a:ext cx="57240" cy="74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327400" y="4432320"/>
              <a:ext cx="56880" cy="112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195640" y="4470480"/>
              <a:ext cx="56880" cy="74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716120" y="4770360"/>
            <a:ext cx="2476440" cy="1658520"/>
            <a:chOff x="1716120" y="4770360"/>
            <a:chExt cx="2476440" cy="1658520"/>
          </a:xfrm>
        </p:grpSpPr>
        <p:sp>
          <p:nvSpPr>
            <p:cNvPr id="315" name=""/>
            <p:cNvSpPr/>
            <p:nvPr/>
          </p:nvSpPr>
          <p:spPr>
            <a:xfrm>
              <a:off x="2111400" y="4770360"/>
              <a:ext cx="0" cy="165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11400" y="6427800"/>
              <a:ext cx="2081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1082520" y="5518800"/>
              <a:ext cx="154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Frecuencia acumula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35160" y="4975200"/>
              <a:ext cx="1442880" cy="1452600"/>
            </a:xfrm>
            <a:custGeom>
              <a:avLst/>
              <a:gdLst/>
              <a:ahLst/>
              <a:rect l="l" t="t" r="r" b="b"/>
              <a:pathLst>
                <a:path w="876" h="894">
                  <a:moveTo>
                    <a:pt x="0" y="894"/>
                  </a:moveTo>
                  <a:cubicBezTo>
                    <a:pt x="105" y="864"/>
                    <a:pt x="210" y="835"/>
                    <a:pt x="294" y="798"/>
                  </a:cubicBezTo>
                  <a:cubicBezTo>
                    <a:pt x="378" y="761"/>
                    <a:pt x="448" y="735"/>
                    <a:pt x="504" y="672"/>
                  </a:cubicBezTo>
                  <a:cubicBezTo>
                    <a:pt x="560" y="609"/>
                    <a:pt x="590" y="519"/>
                    <a:pt x="630" y="420"/>
                  </a:cubicBezTo>
                  <a:cubicBezTo>
                    <a:pt x="670" y="321"/>
                    <a:pt x="703" y="148"/>
                    <a:pt x="744" y="78"/>
                  </a:cubicBezTo>
                  <a:cubicBezTo>
                    <a:pt x="785" y="8"/>
                    <a:pt x="830" y="4"/>
                    <a:pt x="876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14640" y="4970160"/>
              <a:ext cx="2000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554360" y="2895480"/>
            <a:ext cx="2355840" cy="1621080"/>
            <a:chOff x="4554360" y="2895480"/>
            <a:chExt cx="2355840" cy="1621080"/>
          </a:xfrm>
        </p:grpSpPr>
        <p:sp>
          <p:nvSpPr>
            <p:cNvPr id="321" name=""/>
            <p:cNvSpPr/>
            <p:nvPr/>
          </p:nvSpPr>
          <p:spPr>
            <a:xfrm>
              <a:off x="4903560" y="2897280"/>
              <a:ext cx="0" cy="161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03560" y="4516560"/>
              <a:ext cx="2006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67280" y="3875040"/>
              <a:ext cx="73080" cy="641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49560" y="3992760"/>
              <a:ext cx="57240" cy="5238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79720" y="4222800"/>
              <a:ext cx="68400" cy="293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17800" y="4349880"/>
              <a:ext cx="66960" cy="166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67040" y="4361040"/>
              <a:ext cx="57240" cy="155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32440" y="3521160"/>
              <a:ext cx="66600" cy="9954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03560" y="3693960"/>
              <a:ext cx="68400" cy="8226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99040" y="3795840"/>
              <a:ext cx="66600" cy="720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64200" y="4008600"/>
              <a:ext cx="66600" cy="507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126120" y="4119480"/>
              <a:ext cx="80640" cy="39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95760" y="4375080"/>
              <a:ext cx="61920" cy="141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433120" y="4378320"/>
              <a:ext cx="57240" cy="138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268680" y="4316400"/>
              <a:ext cx="68400" cy="200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203160" y="4218120"/>
              <a:ext cx="66600" cy="298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396840" y="4467240"/>
              <a:ext cx="66600" cy="49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302800" y="4441680"/>
              <a:ext cx="57240" cy="74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334920" y="4417920"/>
              <a:ext cx="66600" cy="986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367960" y="4403880"/>
              <a:ext cx="57240" cy="112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460920" y="4467240"/>
              <a:ext cx="68400" cy="49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924080" y="2895480"/>
              <a:ext cx="68400" cy="1621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4269240" y="346428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Frecuen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169600" y="3098880"/>
              <a:ext cx="57240" cy="1417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244120" y="4403880"/>
              <a:ext cx="57240" cy="112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055120" y="3463920"/>
              <a:ext cx="57240" cy="10526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120280" y="2927520"/>
              <a:ext cx="57240" cy="1589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988520" y="3225960"/>
              <a:ext cx="66600" cy="12906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518000" y="4740120"/>
            <a:ext cx="2475000" cy="1657440"/>
            <a:chOff x="4518000" y="4740120"/>
            <a:chExt cx="2475000" cy="1657440"/>
          </a:xfrm>
        </p:grpSpPr>
        <p:sp>
          <p:nvSpPr>
            <p:cNvPr id="350" name=""/>
            <p:cNvSpPr/>
            <p:nvPr/>
          </p:nvSpPr>
          <p:spPr>
            <a:xfrm>
              <a:off x="4911840" y="4740120"/>
              <a:ext cx="0" cy="165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11840" y="6397560"/>
              <a:ext cx="2081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3863160" y="5465880"/>
              <a:ext cx="15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Frecuencia Acumula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15080" y="4940280"/>
              <a:ext cx="2000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905360" y="5721480"/>
              <a:ext cx="314280" cy="676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9360" y="4940280"/>
              <a:ext cx="1218960" cy="781200"/>
            </a:xfrm>
            <a:custGeom>
              <a:avLst/>
              <a:gdLst/>
              <a:ahLst/>
              <a:rect l="l" t="t" r="r" b="b"/>
              <a:pathLst>
                <a:path w="768" h="492">
                  <a:moveTo>
                    <a:pt x="0" y="492"/>
                  </a:moveTo>
                  <a:cubicBezTo>
                    <a:pt x="80" y="473"/>
                    <a:pt x="160" y="454"/>
                    <a:pt x="222" y="432"/>
                  </a:cubicBezTo>
                  <a:cubicBezTo>
                    <a:pt x="284" y="410"/>
                    <a:pt x="321" y="410"/>
                    <a:pt x="372" y="360"/>
                  </a:cubicBezTo>
                  <a:cubicBezTo>
                    <a:pt x="423" y="310"/>
                    <a:pt x="481" y="185"/>
                    <a:pt x="528" y="132"/>
                  </a:cubicBezTo>
                  <a:cubicBezTo>
                    <a:pt x="575" y="79"/>
                    <a:pt x="614" y="64"/>
                    <a:pt x="654" y="42"/>
                  </a:cubicBezTo>
                  <a:cubicBezTo>
                    <a:pt x="694" y="20"/>
                    <a:pt x="731" y="10"/>
                    <a:pt x="768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V="1">
            <a:off x="3206880" y="5676480"/>
            <a:ext cx="0" cy="739800"/>
          </a:xfrm>
          <a:prstGeom prst="line">
            <a:avLst/>
          </a:prstGeom>
          <a:ln w="28440">
            <a:solidFill>
              <a:srgbClr val="99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147400" y="5618160"/>
            <a:ext cx="34261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146320" y="5618160"/>
            <a:ext cx="1046160" cy="0"/>
          </a:xfrm>
          <a:prstGeom prst="line">
            <a:avLst/>
          </a:prstGeom>
          <a:ln w="28440">
            <a:solidFill>
              <a:srgbClr val="99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573880" y="5660640"/>
            <a:ext cx="0" cy="725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64040" y="6386400"/>
            <a:ext cx="88920" cy="8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22760" y="636588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07480" y="649908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Ley R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45640" y="6507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Ley DD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Q-q Plo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eer los cuantiles correspondientes de los gráficos de distribución de frecuencia acumulada en la página anteri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zar esos cuantiles en el gráf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357720" y="1731960"/>
          <a:ext cx="295560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1731960"/>
                    <a:ext cx="295560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248000" y="444348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Ley 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2720160" y="30999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Ley DD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87920" y="4267080"/>
            <a:ext cx="88920" cy="8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06840" y="28670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732200" y="2975040"/>
            <a:ext cx="0" cy="126216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2120" y="2916360"/>
            <a:ext cx="944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86480" y="2889360"/>
            <a:ext cx="88560" cy="88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spliegue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Visualización en 3-D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nterpre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57440" y="2735280"/>
            <a:ext cx="5829120" cy="412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62520" y="20574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spliegue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tras formas de desplegar los da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pas codificados con co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pas de indicadores (Detección de deriva en la variable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a móv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2895480" cy="2225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798720"/>
            <a:ext cx="3843360" cy="305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92520" y="3471840"/>
            <a:ext cx="469800" cy="185760"/>
          </a:xfrm>
          <a:prstGeom prst="rightArrow">
            <a:avLst>
              <a:gd name="adj1" fmla="val 50000"/>
              <a:gd name="adj2" fmla="val 6322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Histogram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istograma: despliegue de frecuencia de ocurrencia de datos en cl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istograma acumulado: despliegue de la frecuencia acumulada bajo un valor de corte (que define una cl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1663560"/>
            <a:ext cx="3733920" cy="2603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4267080"/>
            <a:ext cx="37339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Histogram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Histogram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mputa el número de muestras en cada cla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nch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de clase suele ser consta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altura de cada barra del histograma es proporcional a la frecuencia de la cl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ntrega </a:t>
            </a:r>
            <a:r>
              <a:rPr b="1" lang="es-CL" sz="1800" spc="-1" strike="noStrike">
                <a:solidFill>
                  <a:srgbClr val="ffff00"/>
                </a:solidFill>
                <a:latin typeface="Tahoma"/>
              </a:rPr>
              <a:t>estadísticas de las muestra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(no de la pobl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cala logarítmica puede ser út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a y varianza son muy sensibles a valores extrem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ana y rango intercuartil son medidas más robus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¿Cómo construirl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ependiendo del número de muestras, escoger un número de cl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esplegar el rango importante de los datos (colas no se ven bie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esplegar estadísticas con un número razonable de decim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543640" y="2649600"/>
            <a:ext cx="525240" cy="274680"/>
          </a:xfrm>
          <a:prstGeom prst="rightArrow">
            <a:avLst>
              <a:gd name="adj1" fmla="val 50000"/>
              <a:gd name="adj2" fmla="val 4780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143600" y="613080"/>
            <a:ext cx="1483920" cy="1035720"/>
            <a:chOff x="4143600" y="613080"/>
            <a:chExt cx="1483920" cy="1035720"/>
          </a:xfrm>
        </p:grpSpPr>
        <p:sp>
          <p:nvSpPr>
            <p:cNvPr id="115" name=""/>
            <p:cNvSpPr/>
            <p:nvPr/>
          </p:nvSpPr>
          <p:spPr>
            <a:xfrm>
              <a:off x="4301640" y="613080"/>
              <a:ext cx="720" cy="103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1640" y="1648080"/>
              <a:ext cx="1325880" cy="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38120" y="793800"/>
              <a:ext cx="38880" cy="8550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3880" y="891720"/>
              <a:ext cx="38880" cy="75672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13920" y="989640"/>
              <a:ext cx="38880" cy="6588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73240" y="1173240"/>
              <a:ext cx="38520" cy="4755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7160" y="1208520"/>
              <a:ext cx="38880" cy="43992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80960" y="865440"/>
              <a:ext cx="38520" cy="7830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95640" y="841680"/>
              <a:ext cx="39600" cy="8067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25600" y="938880"/>
              <a:ext cx="38520" cy="7095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68080" y="1086840"/>
              <a:ext cx="38880" cy="5616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8760" y="990720"/>
              <a:ext cx="47160" cy="65808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82520" y="1354680"/>
              <a:ext cx="38520" cy="2937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38960" y="1559160"/>
              <a:ext cx="38880" cy="8964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04160" y="1451880"/>
              <a:ext cx="38880" cy="1965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60600" y="1354680"/>
              <a:ext cx="38520" cy="2937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88400" y="1599840"/>
              <a:ext cx="38520" cy="489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52920" y="1599840"/>
              <a:ext cx="38880" cy="489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47720" y="1549800"/>
              <a:ext cx="38880" cy="9864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95400" y="1576440"/>
              <a:ext cx="38880" cy="7236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1240" y="1621440"/>
              <a:ext cx="38520" cy="270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10080" y="1621440"/>
              <a:ext cx="38880" cy="27000"/>
            </a:xfrm>
            <a:prstGeom prst="rect">
              <a:avLst/>
            </a:prstGeom>
            <a:solidFill>
              <a:srgbClr val="8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3961080" y="873720"/>
              <a:ext cx="50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00" spc="-1" strike="noStrike">
                  <a:solidFill>
                    <a:srgbClr val="000000"/>
                  </a:solidFill>
                  <a:latin typeface="Times New Roman"/>
                </a:rPr>
                <a:t>Frecu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Histogram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Histograma Acumul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uede servir para distinguir poblaciones estadíst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uede utilizarse para comparar la distribución de datos con modelos paramétricos  (norma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/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ognorm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 utiliza para transformar l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distribución de muestras a cualquier otra distribución dese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uede utilizarse para ver el efecto de compositar a un determinado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¿Cuántas muestras vamos a corta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732120" y="322200"/>
            <a:ext cx="1753920" cy="1500120"/>
            <a:chOff x="3732120" y="322200"/>
            <a:chExt cx="1753920" cy="1500120"/>
          </a:xfrm>
        </p:grpSpPr>
        <p:sp>
          <p:nvSpPr>
            <p:cNvPr id="141" name=""/>
            <p:cNvSpPr/>
            <p:nvPr/>
          </p:nvSpPr>
          <p:spPr>
            <a:xfrm>
              <a:off x="3954600" y="609120"/>
              <a:ext cx="720" cy="10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54600" y="1700640"/>
              <a:ext cx="1531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99440" y="1144440"/>
              <a:ext cx="44640" cy="556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02600" y="1344600"/>
              <a:ext cx="44640" cy="35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56520" y="1406520"/>
              <a:ext cx="44640" cy="295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08640" y="1479600"/>
              <a:ext cx="44640" cy="221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55720" y="1536120"/>
              <a:ext cx="44640" cy="165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48400" y="1059480"/>
              <a:ext cx="44640" cy="64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51560" y="1266840"/>
              <a:ext cx="44640" cy="43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99520" y="1019880"/>
              <a:ext cx="44640" cy="681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49560" y="950760"/>
              <a:ext cx="44640" cy="750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97440" y="893160"/>
              <a:ext cx="44640" cy="808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96320" y="1604160"/>
              <a:ext cx="44640" cy="9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2400" y="1653480"/>
              <a:ext cx="45000" cy="47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6520" y="776880"/>
              <a:ext cx="44640" cy="924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55760" y="830520"/>
              <a:ext cx="44640" cy="871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440" y="740160"/>
              <a:ext cx="44640" cy="961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52320" y="1674360"/>
              <a:ext cx="44640" cy="27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56560" y="755640"/>
              <a:ext cx="44640" cy="945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02360" y="1662840"/>
              <a:ext cx="44640" cy="38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44400" y="731880"/>
              <a:ext cx="44640" cy="96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3720" y="1674360"/>
              <a:ext cx="45720" cy="27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3165480" y="888480"/>
              <a:ext cx="1300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Frecuencia Acumulad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944520" y="728640"/>
              <a:ext cx="1225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1240" y="644760"/>
              <a:ext cx="1580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57400" y="679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98360" y="1620000"/>
              <a:ext cx="15696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52720" y="1654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Histogram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l histograma de frecuencias acumuladas no requiere definir un ancho de clase; pueden crearse a la resolución de los d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na valiosa herramienta descriptiva y usada para infer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uanti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es el valor de la variable que corresponde a una frecuencia acumulada d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imer cuartil = cuantil 0.2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gundo cuartil = mediana = cuantil 0.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ercer cuartil = cuantil 0.7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e puede leer cualquier cuantil del gráfico de frecuencia acumula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e puede también leer los intervalos de probabilidad desde el grafico de frecuencia acumula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02160" y="2673360"/>
            <a:ext cx="19382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20:46:18Z</dcterms:created>
  <dc:creator/>
  <dc:description/>
  <dc:language>en-US</dc:language>
  <cp:lastModifiedBy>Xavier Emery</cp:lastModifiedBy>
  <dcterms:modified xsi:type="dcterms:W3CDTF">2006-08-09T20:46:06Z</dcterms:modified>
  <cp:revision>40</cp:revision>
  <dc:subject/>
  <dc:title>02 - Estudio Exploratorio de Datos: Univariable y Multivariable</dc:title>
</cp:coreProperties>
</file>