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28.png" ContentType="image/png"/>
  <Override PartName="/ppt/media/image13.wmf" ContentType="image/x-wmf"/>
  <Override PartName="/ppt/media/image30.png" ContentType="image/png"/>
  <Override PartName="/ppt/media/image9.wmf" ContentType="image/x-wmf"/>
  <Override PartName="/ppt/media/image34.wmf" ContentType="image/x-wmf"/>
  <Override PartName="/ppt/media/image33.wmf" ContentType="image/x-wmf"/>
  <Override PartName="/ppt/media/image8.wmf" ContentType="image/x-wmf"/>
  <Override PartName="/ppt/media/image5.png" ContentType="image/png"/>
  <Override PartName="/ppt/media/image35.png" ContentType="image/png"/>
  <Override PartName="/ppt/media/image11.png" ContentType="image/png"/>
  <Override PartName="/ppt/media/image12.png" ContentType="image/png"/>
  <Override PartName="/ppt/media/image7.wmf" ContentType="image/x-wmf"/>
  <Override PartName="/ppt/media/image36.png" ContentType="image/png"/>
  <Override PartName="/ppt/media/image37.png" ContentType="image/png"/>
  <Override PartName="/ppt/media/image6.jpeg" ContentType="image/jpeg"/>
  <Override PartName="/ppt/media/image10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14.wmf" ContentType="image/x-wmf"/>
  <Override PartName="/ppt/media/image32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5.wmf" ContentType="image/x-wmf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5A44-22DA-4C8F-A8C4-9FBE9788D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F549-B6BD-43AA-BA99-90D72BE71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0D01-A956-4720-B564-74D3D8AF4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B721-A5FE-4953-B51D-BE8610F50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2D63A-6A34-4F50-944F-ED368A3D6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9D268-2009-40D2-8282-C41B0647A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32C58-9990-485C-840F-DB6DB073B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73EA4-8787-4A13-86E6-30DCF6175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F68E0-0E37-4438-B8CF-0E2AAE931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0EF5E-2603-4D2E-A7B1-297E02A26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29794-5AA8-482F-B6EE-1ED7DE84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5F79-43E0-48AF-B7FA-345B7D128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68B63-D8D8-49F9-8682-E294C04E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033C1-B62B-482B-9BB9-250D8E25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5CD67-9B54-4B6A-B62C-1E1EDE0BA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D42FF-AD77-4410-918F-588AC1A9F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43CE8-83A8-4DEB-A05F-AA7B3967D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7A49-F554-4B03-B29B-5F142D467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D709-41E1-4C24-9480-E6FD161F4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B465-27B3-4C27-9EBB-97D238EE6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758B-3504-42E2-9447-E14540391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AD7E-911F-4A7E-A2C7-9CA7A616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2EE8-94E1-4691-BB87-4C4EF460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357E-2543-47FA-9820-C0B68E1F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69B9B-C693-453E-B681-2C5B41104AC0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8570880" y="49320"/>
            <a:ext cx="484200" cy="9954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673200" y="6680160"/>
            <a:ext cx="779760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99ccff"/>
                </a:solidFill>
                <a:latin typeface="Tahoma"/>
              </a:rPr>
              <a:t>MI54A EVALUACIÓN DE YACIMIENTOS – UNIVERSIDAD DE CHI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A50C0-9D6C-44BB-A0E9-FC47320E15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570880" y="49320"/>
            <a:ext cx="484200" cy="995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73200" y="6680160"/>
            <a:ext cx="779760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99ccff"/>
                </a:solidFill>
                <a:latin typeface="Tahoma"/>
              </a:rPr>
              <a:t>MI54A EVALUACIÓN DE YACIMIENTOS – UNIVERSIDAD DE CHI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9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6.wmf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5.wmf"/><Relationship Id="rId3" Type="http://schemas.openxmlformats.org/officeDocument/2006/relationships/image" Target="../media/image23.wmf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02 - Estudio Exploratorio de Datos: Univariable y Multivariab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lnSpc>
                <a:spcPct val="7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ecff"/>
                </a:solidFill>
                <a:latin typeface="Tahoma"/>
              </a:rPr>
              <a:t>Despliegue de dato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457200" indent="-457200">
              <a:lnSpc>
                <a:spcPct val="7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ecff"/>
                </a:solidFill>
                <a:latin typeface="Tahoma"/>
              </a:rPr>
              <a:t>Tablas de frecuencia e histograma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457200" indent="-457200">
              <a:lnSpc>
                <a:spcPct val="7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ecff"/>
                </a:solidFill>
                <a:latin typeface="Tahoma"/>
              </a:rPr>
              <a:t>Estadísticas básica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457200" indent="-457200">
              <a:lnSpc>
                <a:spcPct val="7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ecff"/>
                </a:solidFill>
                <a:latin typeface="Tahoma"/>
              </a:rPr>
              <a:t>Distribución normal y lognorma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457200" indent="-457200">
              <a:lnSpc>
                <a:spcPct val="7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ecff"/>
                </a:solidFill>
                <a:latin typeface="Tahoma"/>
              </a:rPr>
              <a:t>Gráfico de dispersión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457200" indent="-457200">
              <a:lnSpc>
                <a:spcPct val="7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ecff"/>
                </a:solidFill>
                <a:latin typeface="Tahoma"/>
              </a:rPr>
              <a:t>Q-q plot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457200" indent="-457200">
              <a:lnSpc>
                <a:spcPct val="7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ecff"/>
                </a:solidFill>
                <a:latin typeface="Tahoma"/>
              </a:rPr>
              <a:t>Coeficiente de correlación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601640" y="2090880"/>
            <a:ext cx="5940720" cy="443844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Histograma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2381400" y="2955960"/>
            <a:ext cx="2860560" cy="3073320"/>
          </a:xfrm>
          <a:custGeom>
            <a:avLst/>
            <a:gdLst/>
            <a:ahLst/>
            <a:rect l="l" t="t" r="r" b="b"/>
            <a:pathLst>
              <a:path w="1802" h="1936">
                <a:moveTo>
                  <a:pt x="1802" y="1936"/>
                </a:moveTo>
                <a:lnTo>
                  <a:pt x="1802" y="0"/>
                </a:lnTo>
                <a:lnTo>
                  <a:pt x="0" y="0"/>
                </a:lnTo>
              </a:path>
            </a:pathLst>
          </a:custGeom>
          <a:noFill/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Estadísticas Básica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Medidas de posició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6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Medi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6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Media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6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Moda, mínimo y máxim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Rang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uartil inferior y superi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eciles, percentiles y cuantiles: el cuantil </a:t>
            </a:r>
            <a:r>
              <a:rPr b="0" i="1" lang="es-CL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de la distr. es el valor </a:t>
            </a:r>
            <a:r>
              <a:rPr b="0" i="1" lang="es-CL" sz="24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ahoma"/>
              </a:rPr>
              <a:t>p</a:t>
            </a:r>
            <a:r>
              <a:rPr b="0" i="1" lang="es-C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tal que </a:t>
            </a:r>
            <a:r>
              <a:rPr b="0" i="1" lang="es-CL" sz="2400" spc="-1" strike="noStrike">
                <a:solidFill>
                  <a:srgbClr val="ffffff"/>
                </a:solidFill>
                <a:latin typeface="Tahoma"/>
              </a:rPr>
              <a:t>p%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de los datos está bajo </a:t>
            </a:r>
            <a:r>
              <a:rPr b="0" i="1" lang="es-CL" sz="24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124080" y="3200400"/>
                <a:ext cx="390384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 </m:t>
                              </m:r>
                              <m:r>
                                <m:t xml:space="preserve">z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(</m:t>
                                  </m:r>
                                  <m:r>
                                    <m:t xml:space="preserve">n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)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sub>
                              </m:sSub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 n es par</m:t>
                              </m:r>
                            </m:e>
                          </m:mr>
                          <m:mr>
                            <m:e>
                              <m:r>
                                <m:t xml:space="preserve"> </m:t>
                              </m:r>
                              <m:f>
                                <m:num>
                                  <m:r>
                                    <m:t xml:space="preserve">(</m:t>
                                  </m:r>
                                  <m:r>
                                    <m:t xml:space="preserve">z</m:t>
                                  </m:r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b>
                                      <m:f>
                                        <m:fPr>
                                          <m:type m:val="lin"/>
                                        </m:fPr>
                                        <m:num>
                                          <m:r>
                                            <m:t xml:space="preserve">n</m:t>
                                          </m:r>
                                        </m:num>
                                        <m:den>
                                          <m:r>
                                            <m:t xml:space="preserve">2</m:t>
                                          </m:r>
                                        </m:den>
                                      </m:f>
                                    </m:sub>
                                  </m:sSub>
                                  <m:r>
                                    <m:t xml:space="preserve">)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z</m:t>
                                  </m:r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b>
                                      <m:r>
                                        <m:t xml:space="preserve">(</m:t>
                                      </m:r>
                                      <m:f>
                                        <m:fPr>
                                          <m:type m:val="lin"/>
                                        </m:fPr>
                                        <m:num>
                                          <m:r>
                                            <m:t xml:space="preserve">n</m:t>
                                          </m:r>
                                        </m:num>
                                        <m:den>
                                          <m:r>
                                            <m:t xml:space="preserve">2</m:t>
                                          </m:r>
                                        </m:den>
                                      </m:f>
                                      <m:r>
                                        <m:t xml:space="preserve">)</m:t>
                                      </m:r>
                                      <m:r>
                                        <m:t xml:space="preserve">+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  <m:r>
                                    <m:t xml:space="preserve">)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 n es impar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505320" y="2514600"/>
                <a:ext cx="12618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z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5791320" y="2438280"/>
                <a:ext cx="129852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D</m:t>
                        </m:r>
                      </m:sub>
                      <m:sup/>
                      <m:e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</m:e>
                    </m:nary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u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2971800" y="6019920"/>
                <a:ext cx="441972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rob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[</m:t>
                    </m:r>
                    <m:r>
                      <m:t xml:space="preserve">0,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Estadísticas Básica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Medidas de dispersió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24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Varianz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24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esviación estánd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24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Rango intercuarti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24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oeficiente de vari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4267080" y="2819520"/>
                <a:ext cx="21304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6477120" y="2819520"/>
                <a:ext cx="213048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den>
                    </m:f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D</m:t>
                        </m:r>
                      </m:sub>
                      <m:sup/>
                      <m:e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4952880" y="4038480"/>
                <a:ext cx="85104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7162920" y="4038480"/>
                <a:ext cx="85068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5638680" y="4952880"/>
                <a:ext cx="149868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QR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4876920" y="5867280"/>
                <a:ext cx="8506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7162920" y="5867280"/>
                <a:ext cx="85068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bl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066680" y="1828800"/>
            <a:ext cx="7620120" cy="5035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Estadísticas Básica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600200" y="3660840"/>
            <a:ext cx="2757600" cy="31208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660920" y="2046240"/>
            <a:ext cx="3578040" cy="24382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4689360" y="4390920"/>
            <a:ext cx="3699000" cy="24670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1828800"/>
            <a:ext cx="3124080" cy="185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Yacimiento tipo pórfido cuprífer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CV = 0.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Yacimiento de cobre de mediana var.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CV = 1.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Yacimiento de oro de alta variabilidad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CV = 4.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Estadísticas Básica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Medidas de form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eficiente de asimetría (skewnes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Positivo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ercano a 0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Negativ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2457360" y="2743200"/>
                <a:ext cx="42292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eficiente de asimetría 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α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nary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4591080"/>
            <a:ext cx="2971800" cy="22446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2968560" y="4449600"/>
            <a:ext cx="3206880" cy="24084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6018120" y="4497480"/>
            <a:ext cx="3125880" cy="236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Estadísticas Básica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57200" indent="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eficiente de aplanamiento (Kurtosi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Da una idea del aplanamiento de la 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distribución (relación entre altura y ancho 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de la campana).  Su valor es 3 para 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distribuciones normales (Gaussiana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181240" y="2743200"/>
                <a:ext cx="478152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eficiente de aplanamiento 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α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e>
                        </m:nary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Distribución Norma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Propiedades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mpletamente definida por su media y varianz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Tiene una descripción matemática conci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Favorable para enfoques teóricos de estim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Función de densidad de probabilida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2965320" y="5638680"/>
                <a:ext cx="321156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  <m:r>
                          <m:t xml:space="preserve">⋅</m:t>
                        </m:r>
                        <m:r>
                          <m:t xml:space="preserve">σ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z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μ</m:t>
                                    </m:r>
                                  </m:num>
                                  <m:den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5562720" y="457200"/>
            <a:ext cx="1600200" cy="11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Distribución Norma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standarizació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Distribución normal estándar N(0,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Función de distribución acumulad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corresponde al área bajo la cur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4572000" y="1828800"/>
                <a:ext cx="131616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429000" y="3124080"/>
                <a:ext cx="228600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  <m:r>
                          <m:t xml:space="preserve"> 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f>
                              <m:num>
                                <m:r>
                                  <m:t xml:space="preserve">y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3465360" y="4876920"/>
                <a:ext cx="221148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y</m:t>
                        </m:r>
                      </m:sup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5562720" y="457200"/>
            <a:ext cx="1600200" cy="11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Distribución Norma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Función de densidad de probabil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Distribución de probabilidad acumula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93760" y="3660840"/>
            <a:ext cx="4278240" cy="31971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4560840" y="3660840"/>
            <a:ext cx="4278240" cy="31939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5562720" y="457200"/>
            <a:ext cx="1600200" cy="11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Distribución Norma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Intervalos de confianz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68%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95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76120" y="3648240"/>
            <a:ext cx="4295880" cy="32097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4572000" y="3648240"/>
            <a:ext cx="4295880" cy="32097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5562720" y="457200"/>
            <a:ext cx="1600200" cy="11955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1916280" y="3220920"/>
            <a:ext cx="1180800" cy="3142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5"/>
          <a:stretch/>
        </p:blipFill>
        <p:spPr>
          <a:xfrm>
            <a:off x="5697360" y="3182760"/>
            <a:ext cx="2162520" cy="3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Objetivos del Estudio Exploratorio De Dat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esplegar los datos en diferentes form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ntender los datos: poblaciones estadísticas vs. poblaciones geológ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eleccionar poblaciones geológ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ecisión de estacionarid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Identificar deriva en los da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Asegurar la calidad de los da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Resumir parte de la información contenida en los da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Familiarizarse con los datos y la geologí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esagrupar datos para modelamiento geoestadístic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Distribución Norma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7010280" cy="51134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638680" y="4240080"/>
            <a:ext cx="3505320" cy="2617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5562720" y="457200"/>
            <a:ext cx="1600200" cy="11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Distribución Lognorma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Una población es lognormal si los logaritmos de los datos están distribuidos como una norm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ropiedade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n Ciencias de la Tierra es común encontrar variables cuya distribución es cercana a una lognorm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Relación con la distribución normal la hace fácil de utiliz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También es favorable para enfoques teóricos de estim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Función de densidad de probabilidad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380880" y="5410080"/>
                <a:ext cx="395784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+</m:t>
                            </m:r>
                            <m:r>
                              <m:t xml:space="preserve">β</m:t>
                            </m:r>
                            <m:r>
                              <m:t xml:space="preserve">)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n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z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β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ζ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ln</m:t>
                                        </m:r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z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β</m:t>
                                        </m:r>
                                        <m:r>
                                          <m:t xml:space="preserve">)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400800" y="380880"/>
            <a:ext cx="1905120" cy="14353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4572000" y="5410080"/>
            <a:ext cx="4457880" cy="9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87280" y="1803240"/>
            <a:ext cx="5695920" cy="200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Distribución Lognorma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304920" y="3633840"/>
            <a:ext cx="4278240" cy="32241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4572000" y="3633840"/>
            <a:ext cx="4278240" cy="32241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6400800" y="380880"/>
            <a:ext cx="1905120" cy="14353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304920" y="1828800"/>
            <a:ext cx="3686040" cy="8668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5"/>
          <a:stretch/>
        </p:blipFill>
        <p:spPr>
          <a:xfrm>
            <a:off x="304920" y="2666880"/>
            <a:ext cx="496224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Gráficos de Probabilida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Q-q plot de una distribución normal o lognormal con la distribución de las muest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4495680" y="3286080"/>
            <a:ext cx="4648320" cy="35719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0" y="3268800"/>
            <a:ext cx="4572000" cy="358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4572000" y="3527280"/>
            <a:ext cx="4572000" cy="333072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Gráficos de Probabilida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on útiles para chequear la presencia de dos pobla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228600" y="3527280"/>
            <a:ext cx="4343400" cy="33307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4165560" y="3733920"/>
            <a:ext cx="1244520" cy="2819160"/>
          </a:xfrm>
          <a:custGeom>
            <a:avLst/>
            <a:gdLst/>
            <a:ahLst/>
            <a:rect l="l" t="t" r="r" b="b"/>
            <a:pathLst>
              <a:path w="784" h="1776">
                <a:moveTo>
                  <a:pt x="784" y="0"/>
                </a:moveTo>
                <a:cubicBezTo>
                  <a:pt x="392" y="784"/>
                  <a:pt x="0" y="1568"/>
                  <a:pt x="16" y="1776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4572000" y="3527280"/>
            <a:ext cx="4572000" cy="333072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Gráficos de Probabilida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on útiles para chequear la presencia de dos pobla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Debe confirmarse con información geológ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228600" y="3527280"/>
            <a:ext cx="4343400" cy="33307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4165560" y="3733920"/>
            <a:ext cx="1244520" cy="2819160"/>
          </a:xfrm>
          <a:custGeom>
            <a:avLst/>
            <a:gdLst/>
            <a:ahLst/>
            <a:rect l="l" t="t" r="r" b="b"/>
            <a:pathLst>
              <a:path w="784" h="1776">
                <a:moveTo>
                  <a:pt x="784" y="0"/>
                </a:moveTo>
                <a:cubicBezTo>
                  <a:pt x="392" y="784"/>
                  <a:pt x="0" y="1568"/>
                  <a:pt x="16" y="1776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381640" y="3757680"/>
            <a:ext cx="3286080" cy="2562120"/>
          </a:xfrm>
          <a:custGeom>
            <a:avLst/>
            <a:gdLst/>
            <a:ahLst/>
            <a:rect l="l" t="t" r="r" b="b"/>
            <a:pathLst>
              <a:path w="1686" h="1605">
                <a:moveTo>
                  <a:pt x="0" y="0"/>
                </a:moveTo>
                <a:cubicBezTo>
                  <a:pt x="11" y="283"/>
                  <a:pt x="23" y="566"/>
                  <a:pt x="33" y="759"/>
                </a:cubicBezTo>
                <a:cubicBezTo>
                  <a:pt x="43" y="952"/>
                  <a:pt x="53" y="1071"/>
                  <a:pt x="63" y="1158"/>
                </a:cubicBezTo>
                <a:cubicBezTo>
                  <a:pt x="73" y="1245"/>
                  <a:pt x="83" y="1249"/>
                  <a:pt x="93" y="1281"/>
                </a:cubicBezTo>
                <a:cubicBezTo>
                  <a:pt x="103" y="1313"/>
                  <a:pt x="113" y="1327"/>
                  <a:pt x="123" y="1353"/>
                </a:cubicBezTo>
                <a:cubicBezTo>
                  <a:pt x="133" y="1379"/>
                  <a:pt x="145" y="1419"/>
                  <a:pt x="156" y="1440"/>
                </a:cubicBezTo>
                <a:cubicBezTo>
                  <a:pt x="167" y="1461"/>
                  <a:pt x="176" y="1468"/>
                  <a:pt x="186" y="1479"/>
                </a:cubicBezTo>
                <a:cubicBezTo>
                  <a:pt x="196" y="1490"/>
                  <a:pt x="196" y="1492"/>
                  <a:pt x="216" y="1503"/>
                </a:cubicBezTo>
                <a:cubicBezTo>
                  <a:pt x="236" y="1514"/>
                  <a:pt x="248" y="1532"/>
                  <a:pt x="309" y="1545"/>
                </a:cubicBezTo>
                <a:cubicBezTo>
                  <a:pt x="370" y="1558"/>
                  <a:pt x="353" y="1571"/>
                  <a:pt x="582" y="1581"/>
                </a:cubicBezTo>
                <a:cubicBezTo>
                  <a:pt x="811" y="1591"/>
                  <a:pt x="1502" y="1601"/>
                  <a:pt x="1686" y="1605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76960" y="5192640"/>
            <a:ext cx="3429000" cy="1127160"/>
          </a:xfrm>
          <a:custGeom>
            <a:avLst/>
            <a:gdLst/>
            <a:ahLst/>
            <a:rect l="l" t="t" r="r" b="b"/>
            <a:pathLst>
              <a:path w="2160" h="710">
                <a:moveTo>
                  <a:pt x="0" y="710"/>
                </a:moveTo>
                <a:cubicBezTo>
                  <a:pt x="15" y="679"/>
                  <a:pt x="30" y="649"/>
                  <a:pt x="66" y="590"/>
                </a:cubicBezTo>
                <a:cubicBezTo>
                  <a:pt x="102" y="531"/>
                  <a:pt x="151" y="440"/>
                  <a:pt x="216" y="359"/>
                </a:cubicBezTo>
                <a:cubicBezTo>
                  <a:pt x="281" y="278"/>
                  <a:pt x="394" y="159"/>
                  <a:pt x="456" y="101"/>
                </a:cubicBezTo>
                <a:cubicBezTo>
                  <a:pt x="518" y="43"/>
                  <a:pt x="526" y="0"/>
                  <a:pt x="588" y="8"/>
                </a:cubicBezTo>
                <a:cubicBezTo>
                  <a:pt x="650" y="16"/>
                  <a:pt x="746" y="88"/>
                  <a:pt x="831" y="149"/>
                </a:cubicBezTo>
                <a:cubicBezTo>
                  <a:pt x="916" y="210"/>
                  <a:pt x="1014" y="315"/>
                  <a:pt x="1098" y="374"/>
                </a:cubicBezTo>
                <a:cubicBezTo>
                  <a:pt x="1182" y="433"/>
                  <a:pt x="1243" y="464"/>
                  <a:pt x="1335" y="503"/>
                </a:cubicBezTo>
                <a:cubicBezTo>
                  <a:pt x="1427" y="542"/>
                  <a:pt x="1579" y="585"/>
                  <a:pt x="1653" y="608"/>
                </a:cubicBezTo>
                <a:cubicBezTo>
                  <a:pt x="1727" y="631"/>
                  <a:pt x="1695" y="629"/>
                  <a:pt x="1779" y="644"/>
                </a:cubicBezTo>
                <a:cubicBezTo>
                  <a:pt x="1863" y="659"/>
                  <a:pt x="2011" y="680"/>
                  <a:pt x="2160" y="701"/>
                </a:cubicBezTo>
              </a:path>
            </a:pathLst>
          </a:cu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1258920" y="5178240"/>
            <a:ext cx="2541600" cy="771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3111480" y="3809520"/>
            <a:ext cx="1152720" cy="18068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Gráfico de Dispersió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Análisis bivari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Pares deben corresponder a la misma ubicación en el espacio (co-localizado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2281320" y="3368520"/>
            <a:ext cx="4579920" cy="348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El </a:t>
            </a:r>
            <a:r>
              <a:rPr b="0" i="1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coeficiente de correlación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es una medida de la dependencia lineal entre las dos variab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Una correlación de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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i="1" lang="es-ES_tradnl" sz="2400" spc="-1" strike="noStrike" baseline="-30000">
                <a:solidFill>
                  <a:srgbClr val="ffffff"/>
                </a:solidFill>
                <a:latin typeface="Tahoma"/>
                <a:ea typeface="Times New Roman"/>
              </a:rPr>
              <a:t>XY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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= 1 implica que X e Y están perfectamente correlacionada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Independencia entre dos variables implica que el coeficiente de correlación es cero: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i="1" lang="es-ES_tradnl" sz="2400" spc="-1" strike="noStrike" baseline="-30000">
                <a:solidFill>
                  <a:srgbClr val="ffffff"/>
                </a:solidFill>
                <a:latin typeface="Tahoma"/>
                <a:ea typeface="Times New Roman"/>
              </a:rPr>
              <a:t>XY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= 0. Sin embargo, la inversa no es siempre cierta. Correlación cero no implica necesariamente independencia entre las dos variabl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Correlació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3048120" y="2590920"/>
                <a:ext cx="289548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α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1</m:t>
                                    </m:r>
                                  </m:e>
                                  <m:sub>
                                    <m:r>
                                      <m:t xml:space="preserve">α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2</m:t>
                                    </m:r>
                                  </m:e>
                                  <m:sub>
                                    <m:r>
                                      <m:t xml:space="preserve">α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Correlació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Muy sensible a valores aberrant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l coeficiente de correlación cambia incluso de sig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181160" y="4160880"/>
            <a:ext cx="6781680" cy="269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Correlació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Diferentes ejemplos de coeficiente de correl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3610080" y="466560"/>
            <a:ext cx="5533920" cy="639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Despliegue de Dat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Análisis utilizando plantas y sec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6320" y="2622600"/>
            <a:ext cx="4476600" cy="41590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591080" y="2622600"/>
            <a:ext cx="4476600" cy="415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Gráficos de dispersió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espliegue bivariable, estimad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verdadero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, dos variables, o la misma variable separada por algún vector distancia (h-scatterplo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l coeficiente de correlación lineal varía entre -1 y +1 y es sensible a valores extremos (puntos fuera de la nube principa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l coeficiente de correlación de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osición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s un complemento útil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si </a:t>
            </a:r>
            <a:r>
              <a:rPr b="0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ahoma"/>
              </a:rPr>
              <a:t>rank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&gt; </a:t>
            </a:r>
            <a:r>
              <a:rPr b="0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entonces unos pocos outliers dañan la que en otro caso sería una buena correl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si </a:t>
            </a:r>
            <a:r>
              <a:rPr b="0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ahoma"/>
              </a:rPr>
              <a:t>rank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&lt; </a:t>
            </a:r>
            <a:r>
              <a:rPr b="0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entonces unos pocos outliers mejoran la que en otro caso sería una pobre correlación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si </a:t>
            </a:r>
            <a:r>
              <a:rPr b="0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ahoma"/>
              </a:rPr>
              <a:t>rank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= 1 entonces una transformación no lineal de una variable puede hacer </a:t>
            </a:r>
            <a:r>
              <a:rPr b="0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=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Q-q Plo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Gráfico Q-Q: para comparar dos distribuciones F1 y F2 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cuantil a cuanti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51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No se utiliza para comparar la relación par a par que hay entre las variabl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51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scoger una serie de valores de probabilidad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          p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ahoma"/>
              </a:rPr>
              <a:t>k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, k = 1, 2, …, 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51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Graficar q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(p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ahoma"/>
              </a:rPr>
              <a:t>k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) versus q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(p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ahoma"/>
              </a:rPr>
              <a:t>k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), k = 1, 2, …, 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4210200" y="1419120"/>
            <a:ext cx="4933800" cy="207648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5657760" y="3495600"/>
            <a:ext cx="2824200" cy="27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Q-q Plo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i todos los puntos caen en una línea de 45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ahoma"/>
                <a:ea typeface="Times New Roman"/>
              </a:rPr>
              <a:t>o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, las dos distribuciones son exactamente igu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i la línea está desplazada de los 45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ahoma"/>
                <a:ea typeface="Times New Roman"/>
              </a:rPr>
              <a:t>o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, las dos distribuciones tienen la misma forma pero diferentes med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i la inclinación de la línea no es 45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ahoma"/>
                <a:ea typeface="Times New Roman"/>
              </a:rPr>
              <a:t>o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, las dos distribuciones tienen diferentes varianz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i hay un carácter no lineal en el grafico Q-Q, las distribuciones tienen diferentes formas en el histogra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Q-q Plo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Histogramas de ley DDH y ley por R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Muestreo preferencial explica la diferencia. No son muestras “pareadas” por lo que no podemos detectar sesgo en las muestr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1762200" y="2925720"/>
            <a:ext cx="2354040" cy="1619280"/>
            <a:chOff x="1762200" y="2925720"/>
            <a:chExt cx="2354040" cy="1619280"/>
          </a:xfrm>
        </p:grpSpPr>
        <p:sp>
          <p:nvSpPr>
            <p:cNvPr id="286" name=""/>
            <p:cNvSpPr/>
            <p:nvPr/>
          </p:nvSpPr>
          <p:spPr>
            <a:xfrm>
              <a:off x="2109960" y="2925720"/>
              <a:ext cx="0" cy="161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109960" y="4545000"/>
              <a:ext cx="2006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73320" y="3560760"/>
              <a:ext cx="61920" cy="98424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55960" y="3743280"/>
              <a:ext cx="49320" cy="8017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886120" y="4095720"/>
              <a:ext cx="58680" cy="44928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24200" y="4289400"/>
              <a:ext cx="57240" cy="25560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773440" y="4305240"/>
              <a:ext cx="48960" cy="23976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138480" y="3016440"/>
              <a:ext cx="57240" cy="152856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09960" y="3284640"/>
              <a:ext cx="58680" cy="126036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205080" y="3435480"/>
              <a:ext cx="57240" cy="11095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270240" y="3764160"/>
              <a:ext cx="57240" cy="78084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3332160" y="3936960"/>
              <a:ext cx="69840" cy="60804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2701800" y="4295880"/>
              <a:ext cx="61920" cy="2491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639160" y="4406760"/>
              <a:ext cx="57240" cy="13824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3474360" y="4238640"/>
              <a:ext cx="58680" cy="30636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3409200" y="4086360"/>
              <a:ext cx="57240" cy="45864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3602880" y="4470480"/>
              <a:ext cx="57240" cy="745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2509200" y="4470480"/>
              <a:ext cx="57240" cy="745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3540960" y="4392720"/>
              <a:ext cx="57240" cy="15228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2575080" y="4432320"/>
              <a:ext cx="56880" cy="11268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3666960" y="4503600"/>
              <a:ext cx="59040" cy="4140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2129760" y="4503600"/>
              <a:ext cx="58680" cy="4140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16200000">
              <a:off x="1477080" y="3493080"/>
              <a:ext cx="84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Frecuenci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2385360" y="4470480"/>
              <a:ext cx="57240" cy="745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2451240" y="4432320"/>
              <a:ext cx="56880" cy="11268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261520" y="4470480"/>
              <a:ext cx="57240" cy="745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2327400" y="4432320"/>
              <a:ext cx="56880" cy="11268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2195640" y="4470480"/>
              <a:ext cx="56880" cy="745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1716120" y="4770360"/>
            <a:ext cx="2476440" cy="1658520"/>
            <a:chOff x="1716120" y="4770360"/>
            <a:chExt cx="2476440" cy="1658520"/>
          </a:xfrm>
        </p:grpSpPr>
        <p:sp>
          <p:nvSpPr>
            <p:cNvPr id="315" name=""/>
            <p:cNvSpPr/>
            <p:nvPr/>
          </p:nvSpPr>
          <p:spPr>
            <a:xfrm>
              <a:off x="2111400" y="4770360"/>
              <a:ext cx="0" cy="1657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111400" y="6427800"/>
              <a:ext cx="2081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16200000">
              <a:off x="1082520" y="5518800"/>
              <a:ext cx="154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Frecuencia acumulad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135160" y="4975200"/>
              <a:ext cx="1442880" cy="1452600"/>
            </a:xfrm>
            <a:custGeom>
              <a:avLst/>
              <a:gdLst/>
              <a:ahLst/>
              <a:rect l="l" t="t" r="r" b="b"/>
              <a:pathLst>
                <a:path w="876" h="894">
                  <a:moveTo>
                    <a:pt x="0" y="894"/>
                  </a:moveTo>
                  <a:cubicBezTo>
                    <a:pt x="105" y="864"/>
                    <a:pt x="210" y="835"/>
                    <a:pt x="294" y="798"/>
                  </a:cubicBezTo>
                  <a:cubicBezTo>
                    <a:pt x="378" y="761"/>
                    <a:pt x="448" y="735"/>
                    <a:pt x="504" y="672"/>
                  </a:cubicBezTo>
                  <a:cubicBezTo>
                    <a:pt x="560" y="609"/>
                    <a:pt x="590" y="519"/>
                    <a:pt x="630" y="420"/>
                  </a:cubicBezTo>
                  <a:cubicBezTo>
                    <a:pt x="670" y="321"/>
                    <a:pt x="703" y="148"/>
                    <a:pt x="744" y="78"/>
                  </a:cubicBezTo>
                  <a:cubicBezTo>
                    <a:pt x="785" y="8"/>
                    <a:pt x="830" y="4"/>
                    <a:pt x="876" y="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114640" y="4970160"/>
              <a:ext cx="2000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4554360" y="2895480"/>
            <a:ext cx="2355840" cy="1621080"/>
            <a:chOff x="4554360" y="2895480"/>
            <a:chExt cx="2355840" cy="1621080"/>
          </a:xfrm>
        </p:grpSpPr>
        <p:sp>
          <p:nvSpPr>
            <p:cNvPr id="321" name=""/>
            <p:cNvSpPr/>
            <p:nvPr/>
          </p:nvSpPr>
          <p:spPr>
            <a:xfrm>
              <a:off x="4903560" y="2897280"/>
              <a:ext cx="0" cy="161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903560" y="4516560"/>
              <a:ext cx="2006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67280" y="3875040"/>
              <a:ext cx="73080" cy="6415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749560" y="3992760"/>
              <a:ext cx="57240" cy="52380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679720" y="4222800"/>
              <a:ext cx="68400" cy="29376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617800" y="4349880"/>
              <a:ext cx="66960" cy="16668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567040" y="4361040"/>
              <a:ext cx="57240" cy="1555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32440" y="3521160"/>
              <a:ext cx="66600" cy="99540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803560" y="3693960"/>
              <a:ext cx="68400" cy="82260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99040" y="3795840"/>
              <a:ext cx="66600" cy="7207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64200" y="4008600"/>
              <a:ext cx="66600" cy="50796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6126120" y="4119480"/>
              <a:ext cx="80640" cy="39708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495760" y="4375080"/>
              <a:ext cx="61920" cy="14148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5433120" y="4378320"/>
              <a:ext cx="57240" cy="13824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6268680" y="4316400"/>
              <a:ext cx="68400" cy="20016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6203160" y="4218120"/>
              <a:ext cx="66600" cy="29844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6396840" y="4467240"/>
              <a:ext cx="66600" cy="493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5302800" y="4441680"/>
              <a:ext cx="57240" cy="7488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6334920" y="4417920"/>
              <a:ext cx="66600" cy="9864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5367960" y="4403880"/>
              <a:ext cx="57240" cy="11268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6460920" y="4467240"/>
              <a:ext cx="68400" cy="493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4924080" y="2895480"/>
              <a:ext cx="68400" cy="162108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rot="16200000">
              <a:off x="4269240" y="3464280"/>
              <a:ext cx="84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Frecuenci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5169600" y="3098880"/>
              <a:ext cx="57240" cy="141768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5244120" y="4403880"/>
              <a:ext cx="57240" cy="11268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5055120" y="3463920"/>
              <a:ext cx="57240" cy="105264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5120280" y="2927520"/>
              <a:ext cx="57240" cy="158904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4988520" y="3225960"/>
              <a:ext cx="66600" cy="129060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4518000" y="4740120"/>
            <a:ext cx="2475000" cy="1657440"/>
            <a:chOff x="4518000" y="4740120"/>
            <a:chExt cx="2475000" cy="1657440"/>
          </a:xfrm>
        </p:grpSpPr>
        <p:sp>
          <p:nvSpPr>
            <p:cNvPr id="350" name=""/>
            <p:cNvSpPr/>
            <p:nvPr/>
          </p:nvSpPr>
          <p:spPr>
            <a:xfrm>
              <a:off x="4911840" y="4740120"/>
              <a:ext cx="0" cy="1657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911840" y="6397560"/>
              <a:ext cx="2081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16200000">
              <a:off x="3863160" y="5465880"/>
              <a:ext cx="15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Frecuencia Acumulad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915080" y="4940280"/>
              <a:ext cx="2000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4905360" y="5721480"/>
              <a:ext cx="314280" cy="676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229360" y="4940280"/>
              <a:ext cx="1218960" cy="781200"/>
            </a:xfrm>
            <a:custGeom>
              <a:avLst/>
              <a:gdLst/>
              <a:ahLst/>
              <a:rect l="l" t="t" r="r" b="b"/>
              <a:pathLst>
                <a:path w="768" h="492">
                  <a:moveTo>
                    <a:pt x="0" y="492"/>
                  </a:moveTo>
                  <a:cubicBezTo>
                    <a:pt x="80" y="473"/>
                    <a:pt x="160" y="454"/>
                    <a:pt x="222" y="432"/>
                  </a:cubicBezTo>
                  <a:cubicBezTo>
                    <a:pt x="284" y="410"/>
                    <a:pt x="321" y="410"/>
                    <a:pt x="372" y="360"/>
                  </a:cubicBezTo>
                  <a:cubicBezTo>
                    <a:pt x="423" y="310"/>
                    <a:pt x="481" y="185"/>
                    <a:pt x="528" y="132"/>
                  </a:cubicBezTo>
                  <a:cubicBezTo>
                    <a:pt x="575" y="79"/>
                    <a:pt x="614" y="64"/>
                    <a:pt x="654" y="42"/>
                  </a:cubicBezTo>
                  <a:cubicBezTo>
                    <a:pt x="694" y="20"/>
                    <a:pt x="731" y="10"/>
                    <a:pt x="768" y="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 flipV="1">
            <a:off x="3206880" y="5676480"/>
            <a:ext cx="0" cy="739800"/>
          </a:xfrm>
          <a:prstGeom prst="line">
            <a:avLst/>
          </a:prstGeom>
          <a:ln w="28440">
            <a:solidFill>
              <a:srgbClr val="9999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2147400" y="5618160"/>
            <a:ext cx="342612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2146320" y="5618160"/>
            <a:ext cx="1046160" cy="0"/>
          </a:xfrm>
          <a:prstGeom prst="line">
            <a:avLst/>
          </a:prstGeom>
          <a:ln w="28440">
            <a:solidFill>
              <a:srgbClr val="9999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5573880" y="5660640"/>
            <a:ext cx="0" cy="7254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164040" y="6386400"/>
            <a:ext cx="88920" cy="88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22760" y="636588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307480" y="6499080"/>
            <a:ext cx="65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Ley R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45640" y="6507000"/>
            <a:ext cx="7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Ley DD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Q-q Plo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00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Leer los cuantiles correspondientes de los gráficos de distribución de frecuencia acumulada en la página anterio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Trazar esos cuantiles en el gráfic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3357720" y="1731960"/>
          <a:ext cx="2955600" cy="278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7720" y="1731960"/>
                    <a:ext cx="2955600" cy="27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"/>
          <p:cNvSpPr/>
          <p:nvPr/>
        </p:nvSpPr>
        <p:spPr>
          <a:xfrm>
            <a:off x="4248000" y="4443480"/>
            <a:ext cx="74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Ley R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rot="16200000">
            <a:off x="2720160" y="309996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Ley DD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687920" y="4267080"/>
            <a:ext cx="88920" cy="88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606840" y="286704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4732200" y="2975040"/>
            <a:ext cx="0" cy="1262160"/>
          </a:xfrm>
          <a:prstGeom prst="line">
            <a:avLst/>
          </a:prstGeom>
          <a:ln w="2844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3732120" y="2916360"/>
            <a:ext cx="94464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686480" y="2889360"/>
            <a:ext cx="88560" cy="889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Despliegue de Dat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Visualización en 3-D  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interpret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657440" y="2735280"/>
            <a:ext cx="5829120" cy="4122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962520" y="205740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Despliegue de Dat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Otras formas de desplegar los dat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Mapas codificados con col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Mapas de indicadores (Detección de deriva en la variable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media móvi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19320" y="4038480"/>
            <a:ext cx="2895480" cy="2225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572000" y="3798720"/>
            <a:ext cx="3843360" cy="30592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792520" y="3471840"/>
            <a:ext cx="469800" cy="185760"/>
          </a:xfrm>
          <a:prstGeom prst="rightArrow">
            <a:avLst>
              <a:gd name="adj1" fmla="val 50000"/>
              <a:gd name="adj2" fmla="val 6322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Histograma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Histograma: despliegue de frecuencia de ocurrencia de datos en cla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Histograma acumulado: despliegue de la frecuencia acumulada bajo un valor de corte (que define una clas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0" y="1663560"/>
            <a:ext cx="3733920" cy="26035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572000" y="4267080"/>
            <a:ext cx="373392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Histograma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Tahoma"/>
              </a:rPr>
              <a:t>Histogram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Computa el número de muestras en cada clas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Ancho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”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 de clase suele ser constante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a altura de cada barra del histograma es proporcional a la frecuencia de la cla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Entrega </a:t>
            </a:r>
            <a:r>
              <a:rPr b="1" lang="es-CL" sz="1800" spc="-1" strike="noStrike">
                <a:solidFill>
                  <a:srgbClr val="ffff00"/>
                </a:solidFill>
                <a:latin typeface="Tahoma"/>
              </a:rPr>
              <a:t>estadísticas de las muestras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 (no de la població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Escala logarítmica puede ser úti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Media y varianza son muy sensibles a valores extrem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Mediana y rango intercuartil son medidas más robust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¿Cómo construirlo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Dependiendo del número de muestras, escoger un número de clas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Desplegar el rango importante de los datos (colas no se ven bie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Desplegar estadísticas con un número razonable de decima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543640" y="2649600"/>
            <a:ext cx="525240" cy="274680"/>
          </a:xfrm>
          <a:prstGeom prst="rightArrow">
            <a:avLst>
              <a:gd name="adj1" fmla="val 50000"/>
              <a:gd name="adj2" fmla="val 4780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143600" y="613080"/>
            <a:ext cx="1483920" cy="1035720"/>
            <a:chOff x="4143600" y="613080"/>
            <a:chExt cx="1483920" cy="1035720"/>
          </a:xfrm>
        </p:grpSpPr>
        <p:sp>
          <p:nvSpPr>
            <p:cNvPr id="115" name=""/>
            <p:cNvSpPr/>
            <p:nvPr/>
          </p:nvSpPr>
          <p:spPr>
            <a:xfrm>
              <a:off x="4301640" y="613080"/>
              <a:ext cx="720" cy="1034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301640" y="1648080"/>
              <a:ext cx="1325880" cy="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938120" y="793800"/>
              <a:ext cx="38880" cy="855000"/>
            </a:xfrm>
            <a:prstGeom prst="rect">
              <a:avLst/>
            </a:prstGeom>
            <a:solidFill>
              <a:srgbClr val="80808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853880" y="891720"/>
              <a:ext cx="38880" cy="756720"/>
            </a:xfrm>
            <a:prstGeom prst="rect">
              <a:avLst/>
            </a:prstGeom>
            <a:solidFill>
              <a:srgbClr val="80808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13920" y="989640"/>
              <a:ext cx="38880" cy="658800"/>
            </a:xfrm>
            <a:prstGeom prst="rect">
              <a:avLst/>
            </a:prstGeom>
            <a:solidFill>
              <a:srgbClr val="80808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773240" y="1173240"/>
              <a:ext cx="38520" cy="475560"/>
            </a:xfrm>
            <a:prstGeom prst="rect">
              <a:avLst/>
            </a:prstGeom>
            <a:solidFill>
              <a:srgbClr val="80808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27160" y="1208520"/>
              <a:ext cx="38880" cy="439920"/>
            </a:xfrm>
            <a:prstGeom prst="rect">
              <a:avLst/>
            </a:prstGeom>
            <a:solidFill>
              <a:srgbClr val="80808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980960" y="865440"/>
              <a:ext cx="38520" cy="783000"/>
            </a:xfrm>
            <a:prstGeom prst="rect">
              <a:avLst/>
            </a:prstGeom>
            <a:solidFill>
              <a:srgbClr val="80808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895640" y="841680"/>
              <a:ext cx="39600" cy="806760"/>
            </a:xfrm>
            <a:prstGeom prst="rect">
              <a:avLst/>
            </a:prstGeom>
            <a:solidFill>
              <a:srgbClr val="80808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025600" y="938880"/>
              <a:ext cx="38520" cy="709560"/>
            </a:xfrm>
            <a:prstGeom prst="rect">
              <a:avLst/>
            </a:prstGeom>
            <a:solidFill>
              <a:srgbClr val="80808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68080" y="1086840"/>
              <a:ext cx="38880" cy="561600"/>
            </a:xfrm>
            <a:prstGeom prst="rect">
              <a:avLst/>
            </a:prstGeom>
            <a:solidFill>
              <a:srgbClr val="80808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108760" y="990720"/>
              <a:ext cx="47160" cy="658080"/>
            </a:xfrm>
            <a:prstGeom prst="rect">
              <a:avLst/>
            </a:prstGeom>
            <a:solidFill>
              <a:srgbClr val="80808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82520" y="1354680"/>
              <a:ext cx="38520" cy="293760"/>
            </a:xfrm>
            <a:prstGeom prst="rect">
              <a:avLst/>
            </a:prstGeom>
            <a:solidFill>
              <a:srgbClr val="80808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638960" y="1559160"/>
              <a:ext cx="38880" cy="89640"/>
            </a:xfrm>
            <a:prstGeom prst="rect">
              <a:avLst/>
            </a:prstGeom>
            <a:solidFill>
              <a:srgbClr val="80808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204160" y="1451880"/>
              <a:ext cx="38880" cy="196560"/>
            </a:xfrm>
            <a:prstGeom prst="rect">
              <a:avLst/>
            </a:prstGeom>
            <a:solidFill>
              <a:srgbClr val="80808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60600" y="1354680"/>
              <a:ext cx="38520" cy="293760"/>
            </a:xfrm>
            <a:prstGeom prst="rect">
              <a:avLst/>
            </a:prstGeom>
            <a:solidFill>
              <a:srgbClr val="80808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288400" y="1599840"/>
              <a:ext cx="38520" cy="48960"/>
            </a:xfrm>
            <a:prstGeom prst="rect">
              <a:avLst/>
            </a:prstGeom>
            <a:solidFill>
              <a:srgbClr val="80808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52920" y="1599840"/>
              <a:ext cx="38880" cy="48960"/>
            </a:xfrm>
            <a:prstGeom prst="rect">
              <a:avLst/>
            </a:prstGeom>
            <a:solidFill>
              <a:srgbClr val="80808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247720" y="1549800"/>
              <a:ext cx="38880" cy="98640"/>
            </a:xfrm>
            <a:prstGeom prst="rect">
              <a:avLst/>
            </a:prstGeom>
            <a:solidFill>
              <a:srgbClr val="80808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95400" y="1576440"/>
              <a:ext cx="38880" cy="72360"/>
            </a:xfrm>
            <a:prstGeom prst="rect">
              <a:avLst/>
            </a:prstGeom>
            <a:solidFill>
              <a:srgbClr val="80808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31240" y="1621440"/>
              <a:ext cx="38520" cy="27000"/>
            </a:xfrm>
            <a:prstGeom prst="rect">
              <a:avLst/>
            </a:prstGeom>
            <a:solidFill>
              <a:srgbClr val="80808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510080" y="1621440"/>
              <a:ext cx="38880" cy="27000"/>
            </a:xfrm>
            <a:prstGeom prst="rect">
              <a:avLst/>
            </a:prstGeom>
            <a:solidFill>
              <a:srgbClr val="80808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6200000">
              <a:off x="3961080" y="873720"/>
              <a:ext cx="502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900" spc="-1" strike="noStrike">
                  <a:solidFill>
                    <a:srgbClr val="000000"/>
                  </a:solidFill>
                  <a:latin typeface="Times New Roman"/>
                </a:rPr>
                <a:t>Frecuencia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Histograma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Histograma Acumul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uede servir para distinguir poblaciones estadístic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uede utilizarse para comparar la distribución de datos con modelos paramétricos  (normal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/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lognormal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e utiliza para transformar la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distribución de muestras a cualquier otra distribución desea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uede utilizarse para ver el efecto de compositar a un determinado larg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¿Cuántas muestras vamos a cortar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732120" y="322200"/>
            <a:ext cx="1753920" cy="1500120"/>
            <a:chOff x="3732120" y="322200"/>
            <a:chExt cx="1753920" cy="1500120"/>
          </a:xfrm>
        </p:grpSpPr>
        <p:sp>
          <p:nvSpPr>
            <p:cNvPr id="141" name=""/>
            <p:cNvSpPr/>
            <p:nvPr/>
          </p:nvSpPr>
          <p:spPr>
            <a:xfrm>
              <a:off x="3954600" y="609120"/>
              <a:ext cx="720" cy="109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54600" y="1700640"/>
              <a:ext cx="15314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699440" y="1144440"/>
              <a:ext cx="44640" cy="5569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02600" y="1344600"/>
              <a:ext cx="44640" cy="356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556520" y="1406520"/>
              <a:ext cx="44640" cy="295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08640" y="1479600"/>
              <a:ext cx="44640" cy="221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455720" y="1536120"/>
              <a:ext cx="44640" cy="1652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748400" y="1059480"/>
              <a:ext cx="44640" cy="641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651560" y="1266840"/>
              <a:ext cx="44640" cy="4345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799520" y="1019880"/>
              <a:ext cx="44640" cy="6814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849560" y="950760"/>
              <a:ext cx="44640" cy="7506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897440" y="893160"/>
              <a:ext cx="44640" cy="808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396320" y="1604160"/>
              <a:ext cx="44640" cy="97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352400" y="1653480"/>
              <a:ext cx="45000" cy="47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06520" y="776880"/>
              <a:ext cx="44640" cy="9244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955760" y="830520"/>
              <a:ext cx="44640" cy="871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095440" y="740160"/>
              <a:ext cx="44640" cy="961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252320" y="1674360"/>
              <a:ext cx="44640" cy="27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056560" y="755640"/>
              <a:ext cx="44640" cy="9457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02360" y="1662840"/>
              <a:ext cx="44640" cy="385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44400" y="731880"/>
              <a:ext cx="44640" cy="9694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203720" y="1674360"/>
              <a:ext cx="45720" cy="27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16200000">
              <a:off x="3165480" y="888480"/>
              <a:ext cx="1300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100" spc="-1" strike="noStrike">
                  <a:solidFill>
                    <a:srgbClr val="000000"/>
                  </a:solidFill>
                  <a:latin typeface="Times New Roman"/>
                </a:rPr>
                <a:t>Frecuencia Acumulada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3944520" y="728640"/>
              <a:ext cx="12254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01240" y="644760"/>
              <a:ext cx="15804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857400" y="6796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798360" y="1620000"/>
              <a:ext cx="156960" cy="1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52720" y="16545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1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Histograma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El histograma de frecuencias acumuladas no requiere definir un ancho de clase; pueden crearse a la resolución de los dat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Una valiosa herramienta descriptiva y usada para inferenc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Un </a:t>
            </a: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cuantil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 es el valor de la variable que corresponde a una frecuencia acumulada dad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primer cuartil = cuantil 0.25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segundo cuartil = mediana = cuantil 0.5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tercer cuartil = cuantil 0.75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se puede leer cualquier cuantil del gráfico de frecuencia acumulativ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Se puede también leer los intervalos de probabilidad desde el grafico de frecuencia acumulativ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602160" y="2673360"/>
            <a:ext cx="1938240" cy="1447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9T20:46:18Z</dcterms:created>
  <dc:creator/>
  <dc:description/>
  <dc:language>en-US</dc:language>
  <cp:lastModifiedBy>Xavier Emery</cp:lastModifiedBy>
  <dcterms:modified xsi:type="dcterms:W3CDTF">2006-08-09T20:46:06Z</dcterms:modified>
  <cp:revision>40</cp:revision>
  <dc:subject/>
  <dc:title>02 - Estudio Exploratorio de Datos: Univariable y Multivariable</dc:title>
</cp:coreProperties>
</file>