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B70-86BF-4058-B43F-CF47C77D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F7D-8F2F-40F1-AF3B-9463E6E2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91E-23E2-475D-B970-CFB002C1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B10-B44B-4AEC-AF35-6A7B7CCB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1BE8-388D-4B87-B63B-5E20A532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A00-B0C7-4158-91A2-617596AA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DCB0-C4A9-4A23-BFC0-3D32F209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BED-50E6-4327-A683-01DB0492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D602-35D9-4857-BBB5-7FFBE145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E2D-F66C-4CA6-B176-2760F339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142-3070-474B-A9F8-580BAD8B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11F-3182-4FEA-8364-D9EEAFDF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C345-7738-47B2-B65F-BD91FD110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635040"/>
            <a:ext cx="838224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8:35:06Z</dcterms:created>
  <dc:creator>Aldo Casali</dc:creator>
  <dc:description/>
  <dc:language>en-US</dc:language>
  <cp:lastModifiedBy>Aldo Casali</cp:lastModifiedBy>
  <dcterms:modified xsi:type="dcterms:W3CDTF">2006-10-17T18:37:49Z</dcterms:modified>
  <cp:revision>1</cp:revision>
  <dc:subject/>
  <dc:title>Diapositiva 1</dc:title>
</cp:coreProperties>
</file>