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DB79-2F64-4A54-A8FF-A032CA0D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A6F1-07E5-47EA-8CB4-0F66D4BF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7672-356A-4126-803B-FCB0B3C45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540C-63F4-4593-9157-FA0621DE5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6E27-34A9-4B25-ACA1-B1359B3F0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7005-AFA9-4826-B7E3-5F93F398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ADE0-BC43-4828-848B-37B72305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AE25-4DBB-45EB-94E0-EE53F7E6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FB9E-D1B2-41AA-A3D3-C0DD4C10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4307-0761-4E20-8B90-9C04B14E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A1B5-A8B3-459E-BC4F-D45BCCB1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BE84-6905-463C-A31E-BF104049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1D84-48D3-411A-AFCD-8C64940C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AB28-2019-497D-9787-F9626B1D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D3E5-4025-4944-B829-2FA3087D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D0DB-851A-450F-8350-9C0EBD079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9233-C395-4EED-9A8B-C722A7E5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7D0B-726E-4FB0-A957-DC5CADCC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A6E0-0AD8-49EE-80B2-2965C04C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E105-B6C5-4E27-A9D0-9A24092F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FC18-7679-41A5-A56F-071B3ADB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CB9C-CCC8-4AEE-985E-12F4AD74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EABA-6DDF-490E-A30A-5C60C4BB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710B-FEC7-46AD-943A-59A8AFAA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F644-18EF-4AC5-94B2-DBC10B5BAE39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F7CB-2564-4276-8F92-51DD883144F0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9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5.pct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482400"/>
                </a:solidFill>
                <a:latin typeface="Times New Roman"/>
              </a:rPr>
              <a:t>Métodos estadísticos de exploración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CP: Análisis de componentes princip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fesor: Rodrigo Assar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482400"/>
                </a:solidFill>
                <a:latin typeface="Times New Roman"/>
              </a:rPr>
              <a:t>Dato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triz de da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triz de covarianzas (emp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ricas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105520" y="1523880"/>
                <a:ext cx="304308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</m:e>
                        <m:e>
                          <m:r>
                            <m:t xml:space="preserve">⋯</m:t>
                          </m:r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  <m:r>
                                <m:t xml:space="preserve">p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</m:e>
                        <m:e>
                          <m:r>
                            <m:t xml:space="preserve">⋯</m:t>
                          </m:r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  <m:r>
                                <m:t xml:space="preserve">p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⋮</m:t>
                          </m:r>
                        </m:e>
                        <m:e>
                          <m:r>
                            <m:t xml:space="preserve">⋮</m:t>
                          </m:r>
                        </m:e>
                        <m:e>
                          <m:r>
                            <m:t xml:space="preserve">⋱</m:t>
                          </m:r>
                        </m:e>
                        <m:e>
                          <m:r>
                            <m:t xml:space="preserve">⋮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⋯</m:t>
                          </m:r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np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313240" y="3359160"/>
                <a:ext cx="31654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</m:e>
                        <m:e>
                          <m:r>
                            <m:t xml:space="preserve">⋯</m:t>
                          </m:r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  <m:r>
                                <m:t xml:space="preserve">p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</m:e>
                        <m:e>
                          <m:r>
                            <m:t xml:space="preserve">⋯</m:t>
                          </m:r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  <m:r>
                                <m:t xml:space="preserve">p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⋮</m:t>
                          </m:r>
                        </m:e>
                        <m:e>
                          <m:r>
                            <m:t xml:space="preserve">⋮</m:t>
                          </m:r>
                        </m:e>
                        <m:e>
                          <m:r>
                            <m:t xml:space="preserve">⋱</m:t>
                          </m:r>
                        </m:e>
                        <m:e>
                          <m:r>
                            <m:t xml:space="preserve">⋮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⋯</m:t>
                          </m:r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p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066680" y="5105520"/>
                <a:ext cx="22860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i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nary>
                    <m:limUpp>
                      <m:e/>
                      <m:lim>
                        <m:r>
                          <m:t xml:space="preserve">2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495680" y="5105520"/>
                <a:ext cx="35053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ij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482400"/>
                </a:solidFill>
                <a:latin typeface="Times New Roman"/>
              </a:rPr>
              <a:t>Las componentes principales 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as variables: combinaciones lineales de origin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eficientes elegidos para maximizar la varianza empírica, con norma igual a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varianza entre ejes principales distintos es c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370320" y="2030400"/>
                <a:ext cx="47498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658880" y="4246560"/>
                <a:ext cx="622944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¹</m:t>
                                </m:r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p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</m:e>
                            </m:nary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</m:e>
                            </m:acc>
                          </m:e>
                        </m:nary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600200" y="5334120"/>
                <a:ext cx="4114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acc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482400"/>
                </a:solidFill>
                <a:latin typeface="Times New Roman"/>
              </a:rPr>
              <a:t>Elección de coeficiente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0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alores propios de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ectores propios asocia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legidos ortonorma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ara i de 1 a 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ar(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v(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e denominan componentes principales a las proyecciones de los datos en los ejes princip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888160" y="2236680"/>
                <a:ext cx="16556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886200" y="3200400"/>
                <a:ext cx="12222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609560" y="1828800"/>
                <a:ext cx="28576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…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82400"/>
                </a:solidFill>
                <a:latin typeface="Times New Roman"/>
              </a:rPr>
              <a:t>Información aportada por componentes</a:t>
            </a:r>
            <a:endParaRPr b="0" i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rción de la varianza total explicada por la j-ésima compon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rción explicada por las primeras m compone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675320" y="2743200"/>
                <a:ext cx="35258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429000" y="5029200"/>
                <a:ext cx="3657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ι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82400"/>
                </a:solidFill>
                <a:latin typeface="Times New Roman"/>
              </a:rPr>
              <a:t>Relación: variables nuevas, originales</a:t>
            </a:r>
            <a:endParaRPr b="0" i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228600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ualmente, antes de realizar el ACP se modifica X restando a cada valor en la j-ésima columna el promedio en dicha columna y dividiendo por         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 este modo var(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=1,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írculo de correlacion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505320" y="1371600"/>
                <a:ext cx="3276360" cy="14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κ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r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κ</m:t>
                                </m:r>
                              </m:sub>
                            </m:sSub>
                          </m:e>
                        </m:rad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j</m:t>
                                </m:r>
                              </m:sub>
                            </m:sSub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791320" y="3429000"/>
                <a:ext cx="6094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j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447920" y="4419720"/>
                <a:ext cx="2743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r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κ</m:t>
                            </m:r>
                          </m:sub>
                        </m:sSub>
                      </m:e>
                    </m:rad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Círculo de correlaciones: Ejemplo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88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eje horizontal corresponde al valor de la correlación con la primera componente principal, el vertical respecto a la segunda compon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observa por ejemplo que corr(e,F1) es cercana a 1, corr(e,F2) es positiva pero cercana a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66680" y="1905120"/>
          <a:ext cx="4038840" cy="38829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6680" y="1905120"/>
                    <a:ext cx="4038840" cy="38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P Milenio</cp:lastModifiedBy>
  <cp:lastPrinted>2009-04-22T19:24:48Z</cp:lastPrinted>
  <dcterms:modified xsi:type="dcterms:W3CDTF">2007-06-11T17:14:47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