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DC3-0AF3-413A-B2F8-34116804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B66-231A-487D-B477-C8303C9E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A3A-7C6A-4BA9-959D-494799F5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68F-18BD-49C2-B77D-E06740BD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B0FB-3970-43DE-9896-9494D632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4C75-1B3D-4367-85EF-74A7A8F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7CBB-3C87-48DA-AC88-05D56DEC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408E-E4DD-4ECD-BD4A-3A67784D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C81A-C4E3-4FA9-BF58-89C9C076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0B2A-882B-4E6B-A488-5E554CE1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9FA7-69FB-4D14-B951-B165904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0F6-1F8E-48BC-9165-7A9E1E25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AA2A-8F17-4073-994F-AB1ACCC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D973-8EC8-46B1-A768-69465A65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4865-B9A4-4CB8-BE0B-9FA50681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A6F-F8C1-426F-B68C-847043CC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1723-4404-4AF2-B6BC-95BE69FF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DD2-55A6-47BB-80D1-904D757D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525-939B-4771-A224-F00DB55A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6AA-055C-4819-A49E-5565F0D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C44-2202-4CD2-BC86-AF18CEFA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D9F-BAF3-436F-B3DC-98F5C69A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912-5477-4ED5-A3E7-E22329B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C26-4203-4ED8-95B9-68015669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AC08-3D04-43FB-9B9A-CD9FED422F4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763C-3D81-45F8-9CA7-D4E8B5BE1993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Métodos estadísticos de exploració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P: Análisis de componentes princip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fesor: Rodrigo Assar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Dato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da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riz de covarianzas (em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ricas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105520" y="1523880"/>
                <a:ext cx="30430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13240" y="3359160"/>
                <a:ext cx="3165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5105520"/>
                <a:ext cx="2286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limUpp>
                      <m:e/>
                      <m:lim>
                        <m:r>
                          <m:t xml:space="preserve">2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495680" y="5105520"/>
                <a:ext cx="35053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i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Las componentes principales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variables: combinaciones lineales de orig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eficientes elegidos para maximizar la varianza empírica, con norma igual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varianza entre ejes principales distintos es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70320" y="2030400"/>
                <a:ext cx="4749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58880" y="4246560"/>
                <a:ext cx="62294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¹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acc>
                          </m:e>
                        </m:nary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5334120"/>
                <a:ext cx="4114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482400"/>
                </a:solidFill>
                <a:latin typeface="Times New Roman"/>
              </a:rPr>
              <a:t>Elección de coeficient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lores propios de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ectores propios asoci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gidos ortonor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ara i de 1 a 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v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denominan componentes principales a las proyecciones de los datos en los ejes princip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88160" y="2236680"/>
                <a:ext cx="1655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86200" y="3200400"/>
                <a:ext cx="1222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09560" y="1828800"/>
                <a:ext cx="28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…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Información aportada por component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de la varianza total explicada por la j-ésima compon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ción explicada por las primeras m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75320" y="2743200"/>
                <a:ext cx="3525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29000" y="5029200"/>
                <a:ext cx="365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ι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2400"/>
                </a:solidFill>
                <a:latin typeface="Times New Roman"/>
              </a:rPr>
              <a:t>Relación: variables nuevas, originale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sualmente, antes de realizar el ACP se modifica X restando a cada valor en la j-ésima columna el promedio en dicha columna y dividiendo por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este modo var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=1,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írculo de correlacio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505320" y="1371600"/>
                <a:ext cx="3276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κ</m:t>
                                </m:r>
                              </m:sub>
                            </m:sSub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91320" y="3429000"/>
                <a:ext cx="609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47920" y="4419720"/>
                <a:ext cx="274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κ</m:t>
                            </m:r>
                          </m:sub>
                        </m:sSub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Círculo de correlaciones: Ejemplo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 horizontal corresponde al valor de la correlación con la primera componente principal, el vertical respecto a la segun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observa por ejemplo que corr(e,F1) es cercana a 1, corr(e,F2) es positiva pero cercana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1905120"/>
          <a:ext cx="4038840" cy="3882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905120"/>
                    <a:ext cx="403884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P Milenio</cp:lastModifiedBy>
  <cp:lastPrinted>2009-04-22T19:24:48Z</cp:lastPrinted>
  <dcterms:modified xsi:type="dcterms:W3CDTF">2007-06-11T17:14:4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